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17D-60EB-497F-A499-FFC2B9B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6C3-3057-4995-9B2C-91D20D70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693C4-6890-485B-BC18-F10C2DA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868DE-79B4-415D-90E3-EC14092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A6F4D-9700-4B81-AB5D-B2EA8E12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00ABE-20E6-462F-9E61-912AA43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923D8-92C4-4076-865A-7151FFE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DDFE1-6984-41E5-BA9C-37D1A25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91BEE-C47D-4150-8BA1-7799017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2482-8E23-4825-BF9E-15A2BDB1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9031-2B4C-4859-A1D7-55E4F5B8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96376-4536-4908-BD3E-0541C11D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038-3DCD-46F2-987C-EDC933A6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B33E-FB6B-4013-A2E4-F753050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E84A2-9B26-4D8B-BA61-F6D0C93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EA29-8E2E-49E1-8B09-AB298C2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201E-A075-4DF1-8B08-A0B8994D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4C2CA-3E8A-4935-951D-65A9196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3910A-F41B-447F-92E0-3F9989B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56A81-D010-402D-A457-87119AD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6F6FF-8929-4BB7-9703-818578F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6AB3C-96D7-4BF8-AF4F-491071E0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28666-0E6F-49B3-9D9B-B1CD33BC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8CE-F621-44C8-A9E8-CD474A8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CE117-051C-4E41-9C08-51C90F9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E345B-6438-4FDE-8D35-8DD94760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D4C47-1D1F-4FEA-BD22-7BF315F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1AFC-FD11-47BA-970A-BD5FAB00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825D-ED44-4821-A8F5-E8053264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11A4E-B975-445F-8B9E-449C4B4C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C7E77-8C1B-4E5D-8BFB-79D4D331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19687-D431-4B7F-9621-6CDF866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4593-20CB-4F51-8DFB-5135EDC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98337-8C71-4D78-AFEE-4B6BFE9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902-ADBE-4F65-99B4-CA00B358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69F7-180C-43A1-BF4A-8E657894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79EC-CCF3-47A5-AFEC-32B4E269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3E41B-AABE-4F06-94CE-BAE02A2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535E7-7D5B-4D9F-B527-E6EAD07E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B352A-A558-4661-980B-12E3956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1E0E9-D6CE-4CB2-A920-0F2A258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10AA3-6FAA-43EF-AEC4-8AFF955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8632E-E0FD-4128-BADC-7F61455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98613-1E4D-4465-9332-99AEE90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5C026-AC7C-44AD-A2EB-ACE05CD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3524-3379-42B1-B5D8-F6450C7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79941-DD9C-4FA8-8DA0-9190DB7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B3F9F-8F6F-4A42-A5D3-FE26D2C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A54D8-B150-4707-B6A2-8EA0C76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57C4F-E16A-41FF-80F7-9E228E91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232A-FFED-417B-B998-1FC50B00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BD770-B9E6-4180-9F78-034D621C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5BC05-FAA2-4ACB-8FFF-EA20727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EC495-DC11-486B-8D6D-581D686B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CBA42-B2D4-4FB2-82CE-A74FCD7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68953-5921-4FBF-A726-AFEDA13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658-DE63-4793-9970-B65F439F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FEC28-7657-4C1A-87D7-0824A3B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96434-E515-4DAE-9CD3-AEABEFF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B656A-EAF3-4BB4-82DD-E4C9D6DA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D69C7-DE80-413D-A3F1-EC71F74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592CF-B964-4ABA-99CE-E787675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E2FE6-F739-49DD-A616-F7BF35EA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E6A9C-1F02-4967-9394-D4904139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AE4F8-02DC-4A93-8B00-6B58D2B1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23EE1-39A4-4842-9BF2-D348966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B4AAD-EF7F-487B-9CE7-862A2C5E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BD0-DDE1-4307-B555-B77846D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D1E2D-3104-4685-9160-731F97E5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3224D-3239-4590-A112-114AC60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A85EF-B24B-4379-B79B-2452F19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F0C8A-658F-47DB-94F4-48E6EDC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8DAE0-6AA3-4B41-8D82-D8C3981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E264D-8865-4115-B1A3-54FFFCBA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9E8D-F9EC-4362-BDAB-010D284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6BE88-C59E-411A-816B-C3BE920B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FB12B-A923-48D9-9B73-28EF923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B8AE0-6180-4C57-8FB7-7FC63EE7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063-CC4E-4BD5-B8A1-3C02D05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37337-0682-4AD5-8992-8A126175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6E874-F717-4593-BE8E-00B76B68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AE82E-A09D-40AC-ACFC-BB7E79B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54E52-49FF-430B-BAA3-CF064019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72E0E-8408-48B9-9AE5-FFDA680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F4957-1D66-4D4F-9BFE-6610493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9A82D-771C-4CC9-BA48-B5B37E2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747DA-9B20-44AE-BCE5-07980DA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B96F6-06E3-447B-B1A6-4C52A25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21940-09CA-470E-85ED-FFF021B5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B07-FC01-478A-9CEB-55EC53D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6D05E-CD3D-435E-8A28-F1EFAAD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50FB2-C207-45CB-9959-611D6725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9A392-C0D1-4669-AE3A-57FF3A1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83211-89BF-4259-97BC-5CC6D9B8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4039A-56E5-4603-A432-8298C81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D624F-4995-4CF6-8097-6710B352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2E721-D6DD-4CDE-9FF8-3188EA6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E9565-B8ED-4B85-9A31-31A1411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A93FB-327D-47EC-85CD-54D2CCFB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21829-7229-489C-92BA-1714D1F2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66A-D38D-46E8-BDB4-3110A1F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83ABF-8846-49BC-8248-729AC60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D8358-C401-4955-8283-ACB2237B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02925-1BCA-4ECA-919D-CA132E52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7A87F-F2F2-4D67-924A-07E5EB6C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A577F-6592-4B32-95E3-2E516561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077D8-F61A-4D4B-B781-B8335C7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E312E-6C5E-4E12-A0DF-D83869FB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EE6BE-EA5E-4410-B08C-C2B0578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1998F-E717-4F80-9591-892AE6F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DA244-C18A-4CF8-B39A-FF5D833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40E-395A-4CD0-9C66-2498747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1970-F293-4AA8-9BE3-8AC97E9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4795A-432F-4141-965B-8CC6786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09100-4AD8-4805-B6FA-F9A1433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38E21-9F8B-443C-A858-E2A6F22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2BD36-C17F-4B2A-850D-BDB384A1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A2654-E237-423A-B258-E60C23A0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3B7-CBFC-472F-BB67-3FFA1A2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389-5960-4C71-973F-8DFD0491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9FD2-198F-4767-BD29-2B5A68FD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64F-D09F-4544-82B1-951BD86C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A55-1D14-4BD7-982F-8651F42E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020A-B029-4B17-A666-FCB9D6D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38F2-8D5E-4BA0-9A61-B5EE2DB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AB81-C3A1-460B-824F-A459C4C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07C0-62DC-46FE-839B-6FD2D64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80E-7E9F-4BEA-AFB6-536A0E78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00E5-9564-4EBD-A05F-9C33CB3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15A2-89A8-4696-A771-8935F28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27B0-BC27-47E6-8F81-6738E905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CE81-408C-4039-9FC1-255FFB9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1834-3F5D-4747-8A9B-44DA8FC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4A0D-CB14-4A24-BB7D-5A9894F8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011A-71B5-4D6B-99BD-1A3CBE02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C215-F8C9-48FC-850D-1F91AC7B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0FD9-846A-4602-8F78-05D1A74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AAB1-BEFA-4C69-AC02-BCA1D10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1BF-6AFD-4F27-B0F0-40C78941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3672-734D-48F3-AF99-DA7FD937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9B2B-2D52-462A-8350-9E3FE365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85C3-ABBB-44CB-AF95-509220C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14B0-6FDB-46F8-8204-3C34FF5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CAB0-FCEF-4213-8AFE-95DD447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13F8-A47F-4F8D-AF92-4637EBB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771C-6542-4BC9-B9F6-FDCFF38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FAC4-64D2-42C3-9D0E-3C5EF963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00A4-D407-41B7-9BBB-6C4E6A4D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7EFB-7369-4308-9B95-038554A8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2C4-A049-44ED-90C4-09457D5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0A38-008C-43B9-9B1B-6C53FF2F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3BB1-41B1-45E3-9DD8-B67200C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71FA-497C-464C-B9E7-A0722F24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E239-452B-4195-AA52-A1770678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DF32-4295-466D-93E3-06448ECD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9CA0-83AA-4B67-BB33-4A5BB4D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C508-E6A2-4D4D-BC08-BE80C5A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3F92-1825-4065-90A7-BF57E85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8F38-CEDD-41D9-9B91-A8ED3EF7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4C81-27CC-4E53-8A84-14CB58B0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98A-E69C-4A87-88A6-9DC2DA14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A30D-BBAA-4F9A-BBC5-9C58CE19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A384-79A5-4138-8342-EAA3C2D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442AD-5797-4D1E-99D2-B161E101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D155-F191-4891-833D-814148F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E00C2-5A6C-42D8-89B0-F7D7EAD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F68B-A215-4CDB-8729-15B5C40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DD22-6974-4A49-A0F9-E9291303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450A-365B-4CC6-9594-C045052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0116-B6F0-4EB1-A541-574E76B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9F08-A4AF-48F9-B7AA-DB064D2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71C-AEEF-4A6D-A78A-18BA6815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6A2E7-A6F9-46F3-AC74-0524462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F968-08A4-4DCA-8107-3853C61A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8082C-DA2F-4479-B2B3-D22B6B20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7533-5684-4F9B-92FF-28D50F8B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08E4-10C3-4E07-889D-37F77737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31FE-5072-4801-9248-35E0560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B1AD-4BE3-4AB5-BADA-64CD2EE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DA0D-BE36-4293-8642-54AC340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DFDF-D632-43FE-8994-EE080387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BBE1-BD23-42C4-A049-52725658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A5A-90F5-481D-A9F8-237A79D9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E25D-2AD7-4130-B0B0-B6970C0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3C4D1-1139-4D8D-B47E-27AD1E5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CACD0-E523-4BA0-A9AE-5A1DEEB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1220-A5D9-46B1-B829-9A7A5E06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277F-523A-4576-A413-E3EEA803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F19C-4E25-4291-AA9E-C9F4298A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E28A-D713-491C-B3D6-20D34FC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EC2A-6947-4B66-AFAE-C99CF246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5179B-0033-4ACC-85D2-4C139E58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0776-819B-48F4-831C-AED8C13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BCF-129F-4766-BC2A-4021F0E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1B5C-6E5B-42C9-862F-24D396EA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A10B-35EF-463F-97DE-38F114FA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7C312-F32E-4CAF-BC23-B913AFE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5E80-0272-4572-8393-84B752C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337B-3468-4195-A9A8-54DD6F6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52C9-FEFC-4296-86AC-FF207306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76DD-B92F-43BF-AF42-ACCBE65C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32DCD-53C4-4949-B26A-ABE38C40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B5680-7CC2-4754-BEEA-E8CDDAD1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BC5DB-6E66-4099-8E50-3332762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DFAB-6614-424E-B8C5-898970A0061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4F7-2569-45D2-8451-DAF574546DC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AED-AA75-462F-9048-5789B1EBA36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F7AB-F11E-47C6-B259-41E5229AB05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6D4-F212-452F-A0C4-B4D182D44BA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4D7-21AB-43DB-80A8-CCBA89EFA0D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3F97-B7E0-4CC9-83A6-655AB7E8A5F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69A8-B4C7-4DF3-B17A-04204A26343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438-B132-41D4-8555-937115A1D52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62E-FA20-47E2-96F9-7ED7C6681FC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980-9E06-47BE-91F2-AAD4EAFA5F7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ACA-8C40-4CD4-9D92-E70BAA5CC0B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D42-E44A-45BA-939B-8D8AC329ECA4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AA5-1704-41A4-B4B7-58126443F14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4C41-F681-4ADA-BC23-2BB5DBE2727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04DF-8C44-46A2-A179-5EB6A693A34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431E-4FC6-41F4-AA34-7122B8038D7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8134200" cy="658800"/>
          </a:xfrm>
          <a:prstGeom prst="rect">
            <a:avLst/>
          </a:prstGeom>
          <a:solidFill>
            <a:srgbClr val="a6cdb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  <a:ea typeface="Trebuchet MS"/>
              </a:rPr>
              <a:t>Наша </a:t>
            </a:r>
            <a:r>
              <a:rPr b="1" lang="ru-RU" sz="4000" spc="-1" strike="noStrike">
                <a:solidFill>
                  <a:srgbClr val="0000ff"/>
                </a:solidFill>
                <a:latin typeface="Century Gothic"/>
                <a:ea typeface="Trebuchet MS"/>
              </a:rPr>
              <a:t>Родина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  <a:ea typeface="Trebuchet MS"/>
              </a:rPr>
              <a:t> - 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  <a:ea typeface="Trebuchet MS"/>
              </a:rPr>
              <a:t>Росс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7" name="Picture 2" descr=""/>
          <p:cNvPicPr/>
          <p:nvPr/>
        </p:nvPicPr>
        <p:blipFill>
          <a:blip r:embed="rId1"/>
          <a:stretch/>
        </p:blipFill>
        <p:spPr>
          <a:xfrm>
            <a:off x="297000" y="4508640"/>
            <a:ext cx="2865240" cy="21492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3" descr=""/>
          <p:cNvPicPr/>
          <p:nvPr/>
        </p:nvPicPr>
        <p:blipFill>
          <a:blip r:embed="rId2"/>
          <a:stretch/>
        </p:blipFill>
        <p:spPr>
          <a:xfrm>
            <a:off x="5875200" y="443700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4" descr=""/>
          <p:cNvPicPr/>
          <p:nvPr/>
        </p:nvPicPr>
        <p:blipFill>
          <a:blip r:embed="rId3"/>
          <a:stretch/>
        </p:blipFill>
        <p:spPr>
          <a:xfrm>
            <a:off x="2916360" y="2133720"/>
            <a:ext cx="3340080" cy="2087280"/>
          </a:xfrm>
          <a:prstGeom prst="rect">
            <a:avLst/>
          </a:prstGeom>
          <a:ln w="0">
            <a:noFill/>
          </a:ln>
        </p:spPr>
      </p:pic>
      <p:pic>
        <p:nvPicPr>
          <p:cNvPr id="1180" name="Валерия - С Чего Начинается Родина  (audiopoisk.com).mp3" descr=""/>
          <p:cNvPicPr/>
          <p:nvPr/>
        </p:nvPicPr>
        <p:blipFill>
          <a:blip r:embed="rId4"/>
          <a:stretch/>
        </p:blipFill>
        <p:spPr>
          <a:xfrm>
            <a:off x="297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975" fill="hold"/>
                                        <p:tgtEl>
                                          <p:spTgt spid="1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3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834920" y="277920"/>
            <a:ext cx="5616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Викторина</a:t>
            </a:r>
            <a:r>
              <a:rPr b="0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468000" y="14126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ee6e4b"/>
                </a:solidFill>
                <a:latin typeface="Century Gothic"/>
              </a:rPr>
              <a:t>Главная песня стран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ee6e4b"/>
                </a:solidFill>
                <a:latin typeface="Century Gothic"/>
              </a:rPr>
              <a:t>Птица, изображённая на гербе Росс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ee6e4b"/>
                </a:solidFill>
                <a:latin typeface="Century Gothic"/>
              </a:rPr>
              <a:t>Глава государства Росс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1808"/>
                </a:solidFill>
                <a:latin typeface="Century Gothic"/>
              </a:rPr>
              <a:t>Гимн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1808"/>
                </a:solidFill>
                <a:latin typeface="Century Gothic"/>
              </a:rPr>
              <a:t>Орёл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1808"/>
                </a:solidFill>
                <a:latin typeface="Century Gothic"/>
              </a:rPr>
              <a:t>Президент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1808"/>
                </a:solidFill>
                <a:latin typeface="Century Gothic"/>
              </a:rPr>
              <a:t>Путин Владимир Владимирович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WordArt 9"/>
          <p:cNvSpPr txBox="1"/>
          <p:nvPr/>
        </p:nvSpPr>
        <p:spPr>
          <a:xfrm>
            <a:off x="657360" y="404640"/>
            <a:ext cx="7772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ы России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2" name="Picture 7" descr="герб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826920" y="3500280"/>
            <a:ext cx="207360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3" name="Picture 7" descr="rus_anim"/>
          <p:cNvPicPr/>
          <p:nvPr/>
        </p:nvPicPr>
        <p:blipFill>
          <a:blip r:embed="rId2"/>
          <a:stretch/>
        </p:blipFill>
        <p:spPr>
          <a:xfrm>
            <a:off x="6659640" y="2776680"/>
            <a:ext cx="1925640" cy="172872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7" descr="констит"/>
          <p:cNvPicPr/>
          <p:nvPr/>
        </p:nvPicPr>
        <p:blipFill>
          <a:blip r:embed="rId3"/>
          <a:stretch/>
        </p:blipFill>
        <p:spPr>
          <a:xfrm>
            <a:off x="3492360" y="2924280"/>
            <a:ext cx="2589480" cy="273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62472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  <a:ea typeface="Trebuchet MS"/>
              </a:rPr>
              <a:t>Карта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6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519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Century Gothic"/>
                <a:ea typeface="Trebuchet MS"/>
              </a:rPr>
              <a:t>Найди флаг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219320" y="1647360"/>
            <a:ext cx="542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Century Gothic"/>
              </a:rPr>
              <a:t>1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39640" y="4817880"/>
            <a:ext cx="165600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Герман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Picture 2" descr=""/>
          <p:cNvPicPr/>
          <p:nvPr/>
        </p:nvPicPr>
        <p:blipFill>
          <a:blip r:embed="rId1"/>
          <a:stretch/>
        </p:blipFill>
        <p:spPr>
          <a:xfrm>
            <a:off x="3355920" y="2676600"/>
            <a:ext cx="2360520" cy="1573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3" descr=""/>
          <p:cNvPicPr/>
          <p:nvPr/>
        </p:nvPicPr>
        <p:blipFill>
          <a:blip r:embed="rId2"/>
          <a:stretch/>
        </p:blipFill>
        <p:spPr>
          <a:xfrm>
            <a:off x="6257880" y="2643120"/>
            <a:ext cx="2405160" cy="160668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4" descr=""/>
          <p:cNvPicPr/>
          <p:nvPr/>
        </p:nvPicPr>
        <p:blipFill>
          <a:blip r:embed="rId3"/>
          <a:stretch/>
        </p:blipFill>
        <p:spPr>
          <a:xfrm>
            <a:off x="179280" y="2676600"/>
            <a:ext cx="2622600" cy="1573200"/>
          </a:xfrm>
          <a:prstGeom prst="rect">
            <a:avLst/>
          </a:prstGeom>
          <a:ln w="0">
            <a:noFill/>
          </a:ln>
        </p:spPr>
      </p:pic>
      <p:sp>
        <p:nvSpPr>
          <p:cNvPr id="1193" name="Объект 2"/>
          <p:cNvSpPr/>
          <p:nvPr/>
        </p:nvSpPr>
        <p:spPr>
          <a:xfrm>
            <a:off x="4264200" y="1647720"/>
            <a:ext cx="5428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Объект 2"/>
          <p:cNvSpPr/>
          <p:nvPr/>
        </p:nvSpPr>
        <p:spPr>
          <a:xfrm>
            <a:off x="7188120" y="1647720"/>
            <a:ext cx="5428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Текст 3"/>
          <p:cNvSpPr/>
          <p:nvPr/>
        </p:nvSpPr>
        <p:spPr>
          <a:xfrm>
            <a:off x="3786120" y="4869000"/>
            <a:ext cx="15001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Текст 3"/>
          <p:cNvSpPr/>
          <p:nvPr/>
        </p:nvSpPr>
        <p:spPr>
          <a:xfrm>
            <a:off x="6710400" y="4809960"/>
            <a:ext cx="15001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Франция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Флаг Российской Федерац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Picture 7" descr="rus_anim"/>
          <p:cNvPicPr/>
          <p:nvPr/>
        </p:nvPicPr>
        <p:blipFill>
          <a:blip r:embed="rId1"/>
          <a:stretch/>
        </p:blipFill>
        <p:spPr>
          <a:xfrm>
            <a:off x="0" y="1916280"/>
            <a:ext cx="4572000" cy="410508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64292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Государственный флаг Российской Федерации является официальным символом РФ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Во все времена цвету придавали особый смысл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Белый цвет означает мир и чистоту, синий - небо, верность и правду, красный - огонь и отвагу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22 августа мы отмечаем День Государственного флага Росс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</a:rPr>
              <a:t>Герб Российской Федерац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На красном щите золотой орёл с поднятыми вверх крыльями увенчан двумя малыми коронами и над ним большой короной. В правой лапе орла- скипетр, в левой – держава. В красном щите помещён серебряный всадник, поражающий копьём дракона. Это святой Георгий Победоносец, который считается покровителем Москв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Содержимое 4" descr="Картинки по запросу государственные символы россии картинки"/>
          <p:cNvPicPr/>
          <p:nvPr/>
        </p:nvPicPr>
        <p:blipFill>
          <a:blip r:embed="rId1"/>
          <a:stretch/>
        </p:blipFill>
        <p:spPr>
          <a:xfrm>
            <a:off x="588960" y="160020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Герб Российской Федерац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4" name="Picture 7" descr="герб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84360" y="2060640"/>
            <a:ext cx="34304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Государственный герб России - официальный государственный символ, утвержденный законом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Его изображают на печатях, бланках государственных организаций и учреждений, денежных знаках, документах, удостоверяющих личность гражданина РФ, на пограничных знаках, государственных наградах, боевых знаменах воинских частей и т. 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Гимн Российской Федерац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610920" y="1809720"/>
            <a:ext cx="38703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Century Gothic"/>
              </a:rPr>
              <a:t>Гимн – это торжественная песня или мелодия, которая исполняется в особых, торжественных случаях: во время национальных праздников, подъема Государственного флага РФ, торжественных собраний, во время проведения воинских ритуалов и спортивных соревнований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Century Gothic"/>
              </a:rPr>
              <a:t>При исполнении гимна любой страны люди, слушающие его, встают, мужчины снимают головные уборы. Так проявляется уважение к стране, чей гимн звучит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4648320" y="1483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a53010"/>
                </a:solidFill>
                <a:latin typeface="Century Gothic"/>
              </a:rPr>
              <a:t>            </a:t>
            </a:r>
            <a:r>
              <a:rPr b="1" lang="ru-RU" sz="1500" spc="-1" strike="noStrike">
                <a:solidFill>
                  <a:srgbClr val="a53010"/>
                </a:solidFill>
                <a:latin typeface="Century Gothic"/>
              </a:rPr>
              <a:t>(слова С.Михалкова)</a:t>
            </a:r>
            <a:br>
              <a:rPr sz="1500"/>
            </a:b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Century Gothic"/>
              </a:rPr>
              <a:t>1-й куплет:</a:t>
            </a:r>
            <a:br>
              <a:rPr sz="1300"/>
            </a:b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Россия - священная наша держав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Россия - любимая наша стран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Могучая воля, великая слава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Твое достоянье на все времена!</a:t>
            </a:r>
            <a:br>
              <a:rPr sz="1300"/>
            </a:br>
            <a:br>
              <a:rPr sz="1300"/>
            </a:br>
            <a:r>
              <a:rPr b="1" lang="ru-RU" sz="1300" spc="-1" strike="noStrike" u="sng">
                <a:solidFill>
                  <a:srgbClr val="000000"/>
                </a:solidFill>
                <a:uFillTx/>
                <a:latin typeface="Century Gothic"/>
              </a:rPr>
              <a:t>Припев:</a:t>
            </a:r>
            <a:br>
              <a:rPr sz="1300"/>
            </a:b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Славься, Отечество наше свободное,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Братских народов союз вековой,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Предками данная мудрость народная!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Славься, страна! Мы гордимся тобой!</a:t>
            </a:r>
            <a:br>
              <a:rPr sz="1300"/>
            </a:br>
            <a:br>
              <a:rPr sz="1300"/>
            </a:br>
            <a:r>
              <a:rPr b="1" lang="ru-RU" sz="1300" spc="-1" strike="noStrike" u="sng">
                <a:solidFill>
                  <a:srgbClr val="000000"/>
                </a:solidFill>
                <a:uFillTx/>
                <a:latin typeface="Century Gothic"/>
              </a:rPr>
              <a:t>2-й куплет:</a:t>
            </a:r>
            <a:br>
              <a:rPr sz="1300"/>
            </a:b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От южных морей до полярного края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Раскинулись наши леса и поля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Одна ты на свете! Одна ты такая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Хранимая Богом родная земля!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Century Gothic"/>
              </a:rPr>
              <a:t>3 куплет:                                              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300" spc="-1" strike="noStrike">
                <a:solidFill>
                  <a:srgbClr val="000000"/>
                </a:solidFill>
                <a:latin typeface="Century Gothic"/>
              </a:rPr>
              <a:t>Широкий простор для мечты и для жизни                                                                              Грядущие нам открывают года.                                                  Нам силу даёт наша верность к Отчизне-                                                                                     Так было, так есть и так будет всегда!</a:t>
            </a:r>
            <a:br>
              <a:rPr sz="1500"/>
            </a:br>
            <a:br>
              <a:rPr sz="1500"/>
            </a:b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124000" y="277920"/>
            <a:ext cx="41767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Викторина</a:t>
            </a:r>
            <a:r>
              <a:rPr b="0" lang="ru-RU" sz="3600" spc="-1" strike="noStrike">
                <a:solidFill>
                  <a:srgbClr val="a53010"/>
                </a:solidFill>
                <a:latin typeface="Century Gothic"/>
                <a:ea typeface="Trebuchet MS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94920" y="1341360"/>
            <a:ext cx="604836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 называется наша страна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 называют людей, живущих в нашей стране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лавный закон нашей стран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Что называют символикой России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ие цвета имеет флаг нашей страны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Объект 2"/>
          <p:cNvSpPr/>
          <p:nvPr/>
        </p:nvSpPr>
        <p:spPr>
          <a:xfrm>
            <a:off x="6230880" y="765000"/>
            <a:ext cx="281772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Century Gothic"/>
              </a:rPr>
              <a:t>Россия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Граждане России, россия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entury Gothic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entury Gothic"/>
              </a:rPr>
              <a:t>Герб, флаг, гим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ый,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синий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b4a1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6:19:51Z</dcterms:created>
  <dc:creator>Александр</dc:creator>
  <dc:description/>
  <dc:language>en-US</dc:language>
  <cp:lastModifiedBy>User</cp:lastModifiedBy>
  <dcterms:modified xsi:type="dcterms:W3CDTF">2019-10-15T10:07:41Z</dcterms:modified>
  <cp:revision>62</cp:revision>
  <dc:subject/>
  <dc:title>Слайд 1</dc:title>
</cp:coreProperties>
</file>