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4EF-BBE9-421E-8541-89440597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1A78-A4EE-4EE0-8C02-8E54B298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DC1-44DC-45E7-B02B-E5E240F1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969-2014-459E-B182-9F60CCEF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F6D-8EBE-449D-8829-B7804A66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BB5-F5BE-4602-B8DD-A50A1515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696-D6E6-42C9-84B2-47672696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A84-2F27-4882-B857-80C173C9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D31-15DC-46CE-8F17-A9082D1D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3F1-7E4A-45AF-B70F-85036F8E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30C-71FF-4D19-B68D-87FF3848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2F8-B5A2-4F6F-BA53-41BF4257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1C5D-F7F2-484B-B269-5BD8E28FCF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22"/>
          <p:cNvPicPr/>
          <p:nvPr/>
        </p:nvPicPr>
        <p:blipFill>
          <a:blip r:embed="rId1"/>
          <a:stretch/>
        </p:blipFill>
        <p:spPr>
          <a:xfrm>
            <a:off x="0" y="76320"/>
            <a:ext cx="9067680" cy="464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960" y="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Times New Roman"/>
              </a:rPr>
              <a:t>Солнечная система</a:t>
            </a:r>
            <a:br>
              <a:rPr sz="5400"/>
            </a:b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Окружающий мир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 класс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Учитель начальных классов Колтунова С. 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Содержание урока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4952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ла живой прир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ла неживой прир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лнце — звез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мля — ша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колай Копер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341800" y="893520"/>
            <a:ext cx="4460400" cy="103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Природа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2760" y="4715280"/>
            <a:ext cx="7638480" cy="1237680"/>
          </a:xfrm>
          <a:prstGeom prst="rect">
            <a:avLst/>
          </a:prstGeom>
          <a:noFill/>
          <a:ln w="9360">
            <a:solidFill>
              <a:srgbClr val="000066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, что нас окружает в природе, называют тел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1066680" y="1981080"/>
            <a:ext cx="2743200" cy="2133720"/>
            <a:chOff x="1066680" y="1981080"/>
            <a:chExt cx="2743200" cy="2133720"/>
          </a:xfrm>
        </p:grpSpPr>
        <p:sp>
          <p:nvSpPr>
            <p:cNvPr id="49" name="AutoShape 4"/>
            <p:cNvSpPr/>
            <p:nvPr/>
          </p:nvSpPr>
          <p:spPr>
            <a:xfrm>
              <a:off x="1066680" y="3048120"/>
              <a:ext cx="2743200" cy="1066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ела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живой приро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6"/>
            <p:cNvSpPr/>
            <p:nvPr/>
          </p:nvSpPr>
          <p:spPr>
            <a:xfrm flipH="1">
              <a:off x="2514240" y="1981080"/>
              <a:ext cx="114300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9"/>
          <p:cNvGrpSpPr/>
          <p:nvPr/>
        </p:nvGrpSpPr>
        <p:grpSpPr>
          <a:xfrm>
            <a:off x="5181480" y="1981080"/>
            <a:ext cx="2743200" cy="2133720"/>
            <a:chOff x="5181480" y="1981080"/>
            <a:chExt cx="2743200" cy="2133720"/>
          </a:xfrm>
        </p:grpSpPr>
        <p:sp>
          <p:nvSpPr>
            <p:cNvPr id="52" name="AutoShape 5"/>
            <p:cNvSpPr/>
            <p:nvPr/>
          </p:nvSpPr>
          <p:spPr>
            <a:xfrm>
              <a:off x="5181480" y="2971800"/>
              <a:ext cx="2743200" cy="11430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ела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живой приро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7"/>
            <p:cNvSpPr/>
            <p:nvPr/>
          </p:nvSpPr>
          <p:spPr>
            <a:xfrm>
              <a:off x="5638680" y="1981080"/>
              <a:ext cx="106704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Тела неживой природ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5" name="Picture 3" descr="butef%20sat"/>
          <p:cNvPicPr/>
          <p:nvPr/>
        </p:nvPicPr>
        <p:blipFill>
          <a:blip r:embed="rId1"/>
          <a:stretch/>
        </p:blipFill>
        <p:spPr>
          <a:xfrm>
            <a:off x="228600" y="2400480"/>
            <a:ext cx="27432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Picture 4" descr="облака2"/>
          <p:cNvPicPr/>
          <p:nvPr/>
        </p:nvPicPr>
        <p:blipFill>
          <a:blip r:embed="rId2"/>
          <a:stretch/>
        </p:blipFill>
        <p:spPr>
          <a:xfrm>
            <a:off x="3200400" y="2441520"/>
            <a:ext cx="274320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6" descr="гора"/>
          <p:cNvPicPr/>
          <p:nvPr/>
        </p:nvPicPr>
        <p:blipFill>
          <a:blip r:embed="rId3"/>
          <a:stretch/>
        </p:blipFill>
        <p:spPr>
          <a:xfrm>
            <a:off x="6248520" y="2467080"/>
            <a:ext cx="2666880" cy="186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 Box 7"/>
          <p:cNvSpPr/>
          <p:nvPr/>
        </p:nvSpPr>
        <p:spPr>
          <a:xfrm>
            <a:off x="304920" y="4572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нце, звез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314880" y="4648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6400800" y="4648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4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Солнце </a:t>
            </a:r>
            <a:r>
              <a:rPr b="0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—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 звезда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нц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везда, раскаленный светящийся ша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нц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амое большое тело в солнечной систе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круг Солнца вращаются плане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меньше Сол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800px-Solar_sys"/>
          <p:cNvPicPr/>
          <p:nvPr/>
        </p:nvPicPr>
        <p:blipFill>
          <a:blip r:embed="rId1"/>
          <a:stretch/>
        </p:blipFill>
        <p:spPr>
          <a:xfrm>
            <a:off x="380880" y="2276640"/>
            <a:ext cx="4191120" cy="26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Земля 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—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 шар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16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выше поднимаешься, тем дальше видно. Это происходит потому, что Земл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а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изон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то воображаемая линия, где небо ка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ы сходится с зем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планета"/>
          <p:cNvPicPr/>
          <p:nvPr/>
        </p:nvPicPr>
        <p:blipFill>
          <a:blip r:embed="rId1"/>
          <a:stretch/>
        </p:blipFill>
        <p:spPr>
          <a:xfrm>
            <a:off x="990720" y="1447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горизонт"/>
          <p:cNvPicPr/>
          <p:nvPr/>
        </p:nvPicPr>
        <p:blipFill>
          <a:blip r:embed="rId2"/>
          <a:stretch/>
        </p:blipFill>
        <p:spPr>
          <a:xfrm>
            <a:off x="914400" y="41911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Николай Коперник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6 веке, 450 лет назад, польский учены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астроном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. Коперник, первым правильно описал строение Солнечной сис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Коперник"/>
          <p:cNvPicPr/>
          <p:nvPr/>
        </p:nvPicPr>
        <p:blipFill>
          <a:blip r:embed="rId1"/>
          <a:stretch/>
        </p:blipFill>
        <p:spPr>
          <a:xfrm>
            <a:off x="900000" y="1981080"/>
            <a:ext cx="3381480" cy="411480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Тела живой природ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2" name="Group 27"/>
          <p:cNvGrpSpPr/>
          <p:nvPr/>
        </p:nvGrpSpPr>
        <p:grpSpPr>
          <a:xfrm>
            <a:off x="533520" y="1657440"/>
            <a:ext cx="8254800" cy="4661640"/>
            <a:chOff x="533520" y="1657440"/>
            <a:chExt cx="8254800" cy="4661640"/>
          </a:xfrm>
        </p:grpSpPr>
        <p:pic>
          <p:nvPicPr>
            <p:cNvPr id="73" name="Picture 3" descr="человек"/>
            <p:cNvPicPr/>
            <p:nvPr/>
          </p:nvPicPr>
          <p:blipFill>
            <a:blip r:embed="rId1"/>
            <a:stretch/>
          </p:blipFill>
          <p:spPr>
            <a:xfrm>
              <a:off x="533520" y="1660680"/>
              <a:ext cx="22096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5"/>
            <p:cNvSpPr/>
            <p:nvPr/>
          </p:nvSpPr>
          <p:spPr>
            <a:xfrm>
              <a:off x="609480" y="419112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Picture 6" descr="тигр"/>
            <p:cNvPicPr/>
            <p:nvPr/>
          </p:nvPicPr>
          <p:blipFill>
            <a:blip r:embed="rId2"/>
            <a:stretch/>
          </p:blipFill>
          <p:spPr>
            <a:xfrm>
              <a:off x="3352680" y="1657440"/>
              <a:ext cx="2362320" cy="17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8" descr="деревья"/>
            <p:cNvPicPr/>
            <p:nvPr/>
          </p:nvPicPr>
          <p:blipFill>
            <a:blip r:embed="rId3"/>
            <a:stretch/>
          </p:blipFill>
          <p:spPr>
            <a:xfrm>
              <a:off x="533520" y="3962520"/>
              <a:ext cx="229068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7"/>
            <p:cNvSpPr/>
            <p:nvPr/>
          </p:nvSpPr>
          <p:spPr>
            <a:xfrm>
              <a:off x="609480" y="34290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челове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18"/>
            <p:cNvSpPr/>
            <p:nvPr/>
          </p:nvSpPr>
          <p:spPr>
            <a:xfrm>
              <a:off x="3352680" y="3429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живот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0"/>
            <p:cNvSpPr/>
            <p:nvPr/>
          </p:nvSpPr>
          <p:spPr>
            <a:xfrm>
              <a:off x="609480" y="585936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ст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Picture 21" descr="лебедь"/>
            <p:cNvPicPr/>
            <p:nvPr/>
          </p:nvPicPr>
          <p:blipFill>
            <a:blip r:embed="rId4"/>
            <a:stretch/>
          </p:blipFill>
          <p:spPr>
            <a:xfrm>
              <a:off x="3352680" y="3962520"/>
              <a:ext cx="251460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2"/>
            <p:cNvSpPr/>
            <p:nvPr/>
          </p:nvSpPr>
          <p:spPr>
            <a:xfrm>
              <a:off x="3581280" y="56386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тиц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Picture 23" descr="грибы"/>
            <p:cNvPicPr/>
            <p:nvPr/>
          </p:nvPicPr>
          <p:blipFill>
            <a:blip r:embed="rId5"/>
            <a:stretch/>
          </p:blipFill>
          <p:spPr>
            <a:xfrm>
              <a:off x="6858000" y="1676520"/>
              <a:ext cx="15336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24"/>
            <p:cNvSpPr/>
            <p:nvPr/>
          </p:nvSpPr>
          <p:spPr>
            <a:xfrm>
              <a:off x="6934320" y="3429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гриб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Picture 25" descr="бактерии"/>
            <p:cNvPicPr/>
            <p:nvPr/>
          </p:nvPicPr>
          <p:blipFill>
            <a:blip r:embed="rId6"/>
            <a:stretch/>
          </p:blipFill>
          <p:spPr>
            <a:xfrm>
              <a:off x="6705720" y="3962520"/>
              <a:ext cx="2082600" cy="15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6"/>
            <p:cNvSpPr/>
            <p:nvPr/>
          </p:nvSpPr>
          <p:spPr>
            <a:xfrm>
              <a:off x="6781680" y="56386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актер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2:16:28Z</dcterms:created>
  <dc:creator>Администратор</dc:creator>
  <dc:description/>
  <dc:language>en-US</dc:language>
  <cp:lastModifiedBy>Admin</cp:lastModifiedBy>
  <dcterms:modified xsi:type="dcterms:W3CDTF">2019-10-15T18:48:22Z</dcterms:modified>
  <cp:revision>37</cp:revision>
  <dc:subject/>
  <dc:title>Солнечная система Окружающий мир  3класс</dc:title>
</cp:coreProperties>
</file>