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25.gif" ContentType="image/gif"/>
  <Override PartName="/ppt/media/image6.gif" ContentType="image/gif"/>
  <Override PartName="/ppt/media/image4.png" ContentType="image/png"/>
  <Override PartName="/ppt/media/image2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drumroll.wav" ContentType="audio/x-wav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763-D5DB-4BB4-B2C6-05ABD7C8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6C3-3814-4E52-A211-6AC0C92F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C6C-0F1C-4E68-812F-B75B5D27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568-1138-4598-8934-549D43CD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C63-631A-4CCB-9425-1DE2BA78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8A6-44AC-4CCD-AF1E-2B2AB123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484-76EB-44CB-92F9-38434739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680-C05D-4A6D-B608-81A03C47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1A5-981B-4110-909D-873AD7E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953-C3D9-4DA9-A3A3-B968F84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52D-DC68-4EB3-A966-6802200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2E3-0119-47F0-BB62-FB8E548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0FD-F21C-4576-B612-059509AC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9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gi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3.gif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contrast="18000"/>
          </a:blip>
          <a:srcRect l="6132" t="0" r="4088" b="17032"/>
          <a:stretch/>
        </p:blipFill>
        <p:spPr>
          <a:xfrm>
            <a:off x="0" y="0"/>
            <a:ext cx="533520" cy="2133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>
            <a:lum contrast="18000"/>
          </a:blip>
          <a:srcRect l="6132" t="11867" r="4088" b="17032"/>
          <a:stretch/>
        </p:blipFill>
        <p:spPr>
          <a:xfrm>
            <a:off x="0" y="21337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>
            <a:lum contrast="18000"/>
          </a:blip>
          <a:srcRect l="6132" t="11867" r="4088" b="17032"/>
          <a:stretch/>
        </p:blipFill>
        <p:spPr>
          <a:xfrm>
            <a:off x="0" y="39625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>
            <a:lum contrast="18000"/>
          </a:blip>
          <a:srcRect l="6132" t="11867" r="4088" b="46662"/>
          <a:stretch/>
        </p:blipFill>
        <p:spPr>
          <a:xfrm>
            <a:off x="0" y="57913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429000" y="2514600"/>
            <a:ext cx="2819520" cy="1879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20005" t="0" r="5341" b="0"/>
          <a:stretch/>
        </p:blipFill>
        <p:spPr>
          <a:xfrm>
            <a:off x="6629400" y="2438280"/>
            <a:ext cx="158904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rcRect l="0" t="0" r="29630" b="37155"/>
          <a:stretch/>
        </p:blipFill>
        <p:spPr>
          <a:xfrm>
            <a:off x="3809880" y="152280"/>
            <a:ext cx="1524240" cy="112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601400">
            <a:off x="8153280" y="1447560"/>
            <a:ext cx="533520" cy="49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219320" y="457200"/>
            <a:ext cx="6629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КОНЦЕРТ СОСТОИТСЯ...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4724280"/>
            <a:ext cx="81532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latin typeface="Bookman Old Style"/>
              </a:rPr>
              <a:t>Ансамбль "АккСи+"</a:t>
            </a:r>
            <a:endParaRPr b="1" lang="en-US" sz="1800" spc="1" strike="noStrike">
              <a:ln w="38160">
                <a:solidFill>
                  <a:srgbClr val="660066"/>
                </a:solidFill>
                <a:miter/>
              </a:ln>
              <a:solidFill>
                <a:srgbClr val="0066cc"/>
              </a:solidFill>
              <a:latin typeface="Bookman Old Style"/>
              <a:ea typeface="Bookman Old Styl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0"/>
          <a:srcRect l="5341" t="0" r="20005" b="0"/>
          <a:stretch/>
        </p:blipFill>
        <p:spPr>
          <a:xfrm>
            <a:off x="1143000" y="228600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 rot="1601400">
            <a:off x="7772040" y="22824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 rot="1601400">
            <a:off x="6705360" y="380880"/>
            <a:ext cx="6858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contrast="18000"/>
          </a:blip>
          <a:srcRect l="6132" t="0" r="4088" b="17032"/>
          <a:stretch/>
        </p:blipFill>
        <p:spPr>
          <a:xfrm>
            <a:off x="0" y="0"/>
            <a:ext cx="53352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>
            <a:lum contrast="18000"/>
          </a:blip>
          <a:srcRect l="6132" t="11867" r="4088" b="17032"/>
          <a:stretch/>
        </p:blipFill>
        <p:spPr>
          <a:xfrm>
            <a:off x="0" y="21337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>
            <a:lum contrast="18000"/>
          </a:blip>
          <a:srcRect l="6132" t="11867" r="4088" b="17032"/>
          <a:stretch/>
        </p:blipFill>
        <p:spPr>
          <a:xfrm>
            <a:off x="0" y="39625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>
            <a:lum contrast="18000"/>
          </a:blip>
          <a:srcRect l="6132" t="11867" r="4088" b="46662"/>
          <a:stretch/>
        </p:blipFill>
        <p:spPr>
          <a:xfrm>
            <a:off x="0" y="57913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429000" y="2514600"/>
            <a:ext cx="2819520" cy="187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rcRect l="20005" t="0" r="5341" b="0"/>
          <a:stretch/>
        </p:blipFill>
        <p:spPr>
          <a:xfrm>
            <a:off x="6629400" y="2438280"/>
            <a:ext cx="158904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rcRect l="0" t="0" r="29630" b="37155"/>
          <a:stretch/>
        </p:blipFill>
        <p:spPr>
          <a:xfrm>
            <a:off x="3809880" y="152280"/>
            <a:ext cx="1524240" cy="112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 rot="1601400">
            <a:off x="8153280" y="1447560"/>
            <a:ext cx="533520" cy="495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19320" y="457200"/>
            <a:ext cx="6629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КОНЦЕРТ СОСТОИТСЯ...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4724280"/>
            <a:ext cx="81532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latin typeface="Bookman Old Style"/>
              </a:rPr>
              <a:t>Ансамбль "АккСи+"</a:t>
            </a:r>
            <a:endParaRPr b="1" lang="en-US" sz="1800" spc="1" strike="noStrike">
              <a:ln w="38160">
                <a:solidFill>
                  <a:srgbClr val="660066"/>
                </a:solidFill>
                <a:miter/>
              </a:ln>
              <a:solidFill>
                <a:srgbClr val="0066cc"/>
              </a:solidFill>
              <a:latin typeface="Bookman Old Style"/>
              <a:ea typeface="Bookman Old Style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0"/>
          <a:srcRect l="5341" t="0" r="20005" b="0"/>
          <a:stretch/>
        </p:blipFill>
        <p:spPr>
          <a:xfrm>
            <a:off x="1143000" y="228600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 rot="1601400">
            <a:off x="7772040" y="22824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 rot="1601400">
            <a:off x="6705360" y="3808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>
            <a:lum bright="-6000"/>
          </a:blip>
          <a:srcRect l="54723" t="12891" r="0" b="273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>
            <a:lum contrast="18000"/>
          </a:blip>
          <a:srcRect l="6132" t="0" r="4088" b="17032"/>
          <a:stretch/>
        </p:blipFill>
        <p:spPr>
          <a:xfrm>
            <a:off x="0" y="0"/>
            <a:ext cx="53352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>
            <a:lum contrast="18000"/>
          </a:blip>
          <a:srcRect l="6132" t="11867" r="4088" b="17032"/>
          <a:stretch/>
        </p:blipFill>
        <p:spPr>
          <a:xfrm>
            <a:off x="0" y="21337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>
            <a:lum contrast="18000"/>
          </a:blip>
          <a:srcRect l="6132" t="11867" r="4088" b="17032"/>
          <a:stretch/>
        </p:blipFill>
        <p:spPr>
          <a:xfrm>
            <a:off x="0" y="39625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>
            <a:lum contrast="18000"/>
          </a:blip>
          <a:srcRect l="6132" t="11867" r="4088" b="46662"/>
          <a:stretch/>
        </p:blipFill>
        <p:spPr>
          <a:xfrm>
            <a:off x="0" y="57913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62120" y="914400"/>
            <a:ext cx="8001000" cy="34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447920" y="48769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СИНТЕЗАТОР</a:t>
            </a:r>
            <a:endParaRPr b="1" lang="en-US" sz="1800" spc="1" strike="noStrike">
              <a:ln w="2844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p:transition spd="slow">
    <p:wheel spokes="8"/>
    <p:sndAc>
      <p:stSnd>
        <p:snd r:embed="rId7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contrast="18000"/>
          </a:blip>
          <a:srcRect l="6132" t="0" r="4088" b="17032"/>
          <a:stretch/>
        </p:blipFill>
        <p:spPr>
          <a:xfrm>
            <a:off x="0" y="0"/>
            <a:ext cx="53352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>
            <a:lum contrast="18000"/>
          </a:blip>
          <a:srcRect l="6132" t="11867" r="4088" b="17032"/>
          <a:stretch/>
        </p:blipFill>
        <p:spPr>
          <a:xfrm>
            <a:off x="0" y="21337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rcRect l="6132" t="11867" r="4088" b="17032"/>
          <a:stretch/>
        </p:blipFill>
        <p:spPr>
          <a:xfrm>
            <a:off x="0" y="39625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rcRect l="6132" t="11867" r="4088" b="46662"/>
          <a:stretch/>
        </p:blipFill>
        <p:spPr>
          <a:xfrm>
            <a:off x="0" y="57913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0" y="38088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143000" y="0"/>
            <a:ext cx="3886200" cy="196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3962520" y="4191120"/>
            <a:ext cx="5181480" cy="2117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9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iскрипка.jpeg"/>
          <p:cNvPicPr/>
          <p:nvPr/>
        </p:nvPicPr>
        <p:blipFill>
          <a:blip r:embed="rId2"/>
          <a:stretch/>
        </p:blipFill>
        <p:spPr>
          <a:xfrm>
            <a:off x="228600" y="228600"/>
            <a:ext cx="209700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iтруба.jpeg"/>
          <p:cNvPicPr/>
          <p:nvPr/>
        </p:nvPicPr>
        <p:blipFill>
          <a:blip r:embed="rId3"/>
          <a:stretch/>
        </p:blipFill>
        <p:spPr>
          <a:xfrm>
            <a:off x="2362320" y="838080"/>
            <a:ext cx="220644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iмаракасы.jpeg"/>
          <p:cNvPicPr/>
          <p:nvPr/>
        </p:nvPicPr>
        <p:blipFill>
          <a:blip r:embed="rId4"/>
          <a:stretch/>
        </p:blipFill>
        <p:spPr>
          <a:xfrm>
            <a:off x="4495680" y="457200"/>
            <a:ext cx="222588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iбаян.jpeg"/>
          <p:cNvPicPr/>
          <p:nvPr/>
        </p:nvPicPr>
        <p:blipFill>
          <a:blip r:embed="rId5"/>
          <a:stretch/>
        </p:blipFill>
        <p:spPr>
          <a:xfrm>
            <a:off x="228600" y="4191120"/>
            <a:ext cx="2828880" cy="250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\\Denis\общая папка\Елена Викторовна\сакс.jpeg"/>
          <p:cNvPicPr/>
          <p:nvPr/>
        </p:nvPicPr>
        <p:blipFill>
          <a:blip r:embed="rId6"/>
          <a:stretch/>
        </p:blipFill>
        <p:spPr>
          <a:xfrm>
            <a:off x="6324480" y="0"/>
            <a:ext cx="271944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\\Denis\общая папка\Елена Викторовна\iпи.jpeg"/>
          <p:cNvPicPr/>
          <p:nvPr/>
        </p:nvPicPr>
        <p:blipFill>
          <a:blip r:embed="rId7"/>
          <a:stretch/>
        </p:blipFill>
        <p:spPr>
          <a:xfrm>
            <a:off x="6400800" y="41911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1" descr=""/>
          <p:cNvPicPr/>
          <p:nvPr/>
        </p:nvPicPr>
        <p:blipFill>
          <a:blip r:embed="rId8"/>
          <a:srcRect l="18334" t="35313" r="18334" b="0"/>
          <a:stretch/>
        </p:blipFill>
        <p:spPr>
          <a:xfrm>
            <a:off x="152280" y="2971800"/>
            <a:ext cx="320040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9"/>
          <a:stretch/>
        </p:blipFill>
        <p:spPr>
          <a:xfrm>
            <a:off x="5105520" y="2743200"/>
            <a:ext cx="403848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3276720" y="4648320"/>
            <a:ext cx="243828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muzika-735.gif"/>
          <p:cNvPicPr/>
          <p:nvPr/>
        </p:nvPicPr>
        <p:blipFill>
          <a:blip r:embed="rId11">
            <a:lum contrast="12000"/>
          </a:blip>
          <a:stretch/>
        </p:blipFill>
        <p:spPr>
          <a:xfrm>
            <a:off x="3352680" y="266688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1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>
            <a:lum contrast="18000"/>
          </a:blip>
          <a:srcRect l="6132" t="0" r="4088" b="17032"/>
          <a:stretch/>
        </p:blipFill>
        <p:spPr>
          <a:xfrm>
            <a:off x="0" y="0"/>
            <a:ext cx="5335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contrast="18000"/>
          </a:blip>
          <a:srcRect l="6132" t="11867" r="4088" b="17032"/>
          <a:stretch/>
        </p:blipFill>
        <p:spPr>
          <a:xfrm>
            <a:off x="0" y="21337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>
            <a:lum contrast="18000"/>
          </a:blip>
          <a:srcRect l="6132" t="11867" r="4088" b="17032"/>
          <a:stretch/>
        </p:blipFill>
        <p:spPr>
          <a:xfrm>
            <a:off x="0" y="39625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>
            <a:lum contrast="18000"/>
          </a:blip>
          <a:srcRect l="6132" t="11867" r="4088" b="46662"/>
          <a:stretch/>
        </p:blipFill>
        <p:spPr>
          <a:xfrm>
            <a:off x="0" y="57913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838080" y="1562040"/>
            <a:ext cx="8077320" cy="4942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3962520" y="762120"/>
            <a:ext cx="761760" cy="15238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9320" y="152280"/>
            <a:ext cx="6476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VOICE - "ВОЙС"</a:t>
            </a:r>
            <a:endParaRPr b="0" lang="en-US" sz="1800" spc="1" strike="noStrike">
              <a:ln w="19080">
                <a:solidFill>
                  <a:srgbClr val="660066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>
            <a:lum contrast="18000"/>
          </a:blip>
          <a:srcRect l="6132" t="0" r="4088" b="17032"/>
          <a:stretch/>
        </p:blipFill>
        <p:spPr>
          <a:xfrm>
            <a:off x="0" y="0"/>
            <a:ext cx="53352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>
            <a:lum contrast="18000"/>
          </a:blip>
          <a:srcRect l="6132" t="11867" r="4088" b="17032"/>
          <a:stretch/>
        </p:blipFill>
        <p:spPr>
          <a:xfrm>
            <a:off x="0" y="21337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>
            <a:lum contrast="18000"/>
          </a:blip>
          <a:srcRect l="6132" t="11867" r="4088" b="17032"/>
          <a:stretch/>
        </p:blipFill>
        <p:spPr>
          <a:xfrm>
            <a:off x="0" y="39625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>
            <a:lum contrast="18000"/>
          </a:blip>
          <a:srcRect l="6132" t="11867" r="4088" b="46662"/>
          <a:stretch/>
        </p:blipFill>
        <p:spPr>
          <a:xfrm>
            <a:off x="0" y="57913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" descr="1.gif"/>
          <p:cNvPicPr/>
          <p:nvPr/>
        </p:nvPicPr>
        <p:blipFill>
          <a:blip r:embed="rId6"/>
          <a:stretch/>
        </p:blipFill>
        <p:spPr>
          <a:xfrm>
            <a:off x="380880" y="152280"/>
            <a:ext cx="1474920" cy="2586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505320" y="533520"/>
            <a:ext cx="5410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 </a:t>
            </a:r>
            <a:r>
              <a:rPr b="1" lang="en-US" sz="1800" spc="1" strike="noStrike">
                <a:ln w="2844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СТИЛИ</a:t>
            </a:r>
            <a:endParaRPr b="1" lang="en-US" sz="1800" spc="1" strike="noStrike">
              <a:ln w="2844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111" name="Рисунок 2" descr="1.gif"/>
          <p:cNvPicPr/>
          <p:nvPr/>
        </p:nvPicPr>
        <p:blipFill>
          <a:blip r:embed="rId7"/>
          <a:stretch/>
        </p:blipFill>
        <p:spPr>
          <a:xfrm>
            <a:off x="1371600" y="0"/>
            <a:ext cx="1474920" cy="2585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1.gif"/>
          <p:cNvPicPr/>
          <p:nvPr/>
        </p:nvPicPr>
        <p:blipFill>
          <a:blip r:embed="rId8"/>
          <a:stretch/>
        </p:blipFill>
        <p:spPr>
          <a:xfrm>
            <a:off x="914400" y="990720"/>
            <a:ext cx="1474920" cy="2585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1.gif"/>
          <p:cNvPicPr/>
          <p:nvPr/>
        </p:nvPicPr>
        <p:blipFill>
          <a:blip r:embed="rId9"/>
          <a:stretch/>
        </p:blipFill>
        <p:spPr>
          <a:xfrm>
            <a:off x="1828800" y="914400"/>
            <a:ext cx="1474920" cy="2585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66680" y="3962520"/>
            <a:ext cx="190512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МАР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257800"/>
            <a:ext cx="129528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486400"/>
            <a:ext cx="220968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2895480"/>
            <a:ext cx="243828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ПОЛЬ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" descr="muzika-735.gif"/>
          <p:cNvPicPr/>
          <p:nvPr/>
        </p:nvPicPr>
        <p:blipFill>
          <a:blip r:embed="rId10">
            <a:lum contrast="12000"/>
          </a:blip>
          <a:stretch/>
        </p:blipFill>
        <p:spPr>
          <a:xfrm>
            <a:off x="3962520" y="34290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11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>
            <a:lum contrast="18000"/>
          </a:blip>
          <a:srcRect l="6132" t="0" r="4088" b="17032"/>
          <a:stretch/>
        </p:blipFill>
        <p:spPr>
          <a:xfrm>
            <a:off x="0" y="0"/>
            <a:ext cx="533520" cy="2133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>
            <a:lum contrast="18000"/>
          </a:blip>
          <a:srcRect l="6132" t="11867" r="4088" b="17032"/>
          <a:stretch/>
        </p:blipFill>
        <p:spPr>
          <a:xfrm>
            <a:off x="0" y="21337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>
            <a:lum contrast="18000"/>
          </a:blip>
          <a:srcRect l="6132" t="11867" r="4088" b="17032"/>
          <a:stretch/>
        </p:blipFill>
        <p:spPr>
          <a:xfrm>
            <a:off x="0" y="39625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>
            <a:lum contrast="18000"/>
          </a:blip>
          <a:srcRect l="6132" t="11867" r="4088" b="46662"/>
          <a:stretch/>
        </p:blipFill>
        <p:spPr>
          <a:xfrm>
            <a:off x="0" y="57913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429000" y="2514600"/>
            <a:ext cx="2819520" cy="18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rcRect l="20005" t="0" r="5341" b="0"/>
          <a:stretch/>
        </p:blipFill>
        <p:spPr>
          <a:xfrm>
            <a:off x="6629400" y="2438280"/>
            <a:ext cx="158904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rcRect l="0" t="0" r="29630" b="37155"/>
          <a:stretch/>
        </p:blipFill>
        <p:spPr>
          <a:xfrm>
            <a:off x="3809880" y="152280"/>
            <a:ext cx="1524240" cy="1125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 rot="1601400">
            <a:off x="8153280" y="1447560"/>
            <a:ext cx="53352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19320" y="457200"/>
            <a:ext cx="6629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КОНЦЕРТ СОСТОИТСЯ...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4724280"/>
            <a:ext cx="81532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latin typeface="Bookman Old Style"/>
              </a:rPr>
              <a:t>Ансамбль "АккСи+"</a:t>
            </a:r>
            <a:endParaRPr b="1" lang="en-US" sz="1800" spc="1" strike="noStrike">
              <a:ln w="38160">
                <a:solidFill>
                  <a:srgbClr val="660066"/>
                </a:solidFill>
                <a:miter/>
              </a:ln>
              <a:solidFill>
                <a:srgbClr val="0066cc"/>
              </a:solidFill>
              <a:latin typeface="Bookman Old Style"/>
              <a:ea typeface="Bookman Old Styl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rcRect l="5341" t="0" r="20005" b="0"/>
          <a:stretch/>
        </p:blipFill>
        <p:spPr>
          <a:xfrm>
            <a:off x="1143000" y="228600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 rot="1601400">
            <a:off x="7772040" y="22824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 rot="1601400">
            <a:off x="6705360" y="3808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">
            <a:lum bright="-6000"/>
          </a:blip>
          <a:srcRect l="54723" t="12891" r="0" b="273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>
            <a:lum contrast="18000"/>
          </a:blip>
          <a:srcRect l="6132" t="0" r="4088" b="17032"/>
          <a:stretch/>
        </p:blipFill>
        <p:spPr>
          <a:xfrm>
            <a:off x="0" y="0"/>
            <a:ext cx="5335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>
            <a:lum contrast="18000"/>
          </a:blip>
          <a:srcRect l="6132" t="11867" r="4088" b="17032"/>
          <a:stretch/>
        </p:blipFill>
        <p:spPr>
          <a:xfrm>
            <a:off x="0" y="21337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>
            <a:lum contrast="18000"/>
          </a:blip>
          <a:srcRect l="6132" t="11867" r="4088" b="17032"/>
          <a:stretch/>
        </p:blipFill>
        <p:spPr>
          <a:xfrm>
            <a:off x="0" y="3962520"/>
            <a:ext cx="5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>
            <a:lum contrast="18000"/>
          </a:blip>
          <a:srcRect l="6132" t="11867" r="4088" b="46662"/>
          <a:stretch/>
        </p:blipFill>
        <p:spPr>
          <a:xfrm>
            <a:off x="0" y="57913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429000" y="2514600"/>
            <a:ext cx="2819520" cy="1879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rcRect l="20005" t="0" r="5341" b="0"/>
          <a:stretch/>
        </p:blipFill>
        <p:spPr>
          <a:xfrm>
            <a:off x="6629400" y="2438280"/>
            <a:ext cx="1589040" cy="2362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rcRect l="0" t="0" r="29630" b="37155"/>
          <a:stretch/>
        </p:blipFill>
        <p:spPr>
          <a:xfrm>
            <a:off x="3809880" y="152280"/>
            <a:ext cx="1524240" cy="1125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 rot="1601400">
            <a:off x="8153280" y="1447560"/>
            <a:ext cx="533520" cy="495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9320" y="457200"/>
            <a:ext cx="6629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КОНЦЕРТ СОСТОИТСЯ...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4724280"/>
            <a:ext cx="81532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latin typeface="Bookman Old Style"/>
              </a:rPr>
              <a:t>Ансамбль "АккСи+"</a:t>
            </a:r>
            <a:endParaRPr b="1" lang="en-US" sz="1800" spc="1" strike="noStrike">
              <a:ln w="38160">
                <a:solidFill>
                  <a:srgbClr val="660066"/>
                </a:solidFill>
                <a:miter/>
              </a:ln>
              <a:solidFill>
                <a:srgbClr val="0066cc"/>
              </a:solidFill>
              <a:latin typeface="Bookman Old Style"/>
              <a:ea typeface="Bookman Old Sty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0"/>
          <a:srcRect l="5341" t="0" r="20005" b="0"/>
          <a:stretch/>
        </p:blipFill>
        <p:spPr>
          <a:xfrm>
            <a:off x="1143000" y="228600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 rot="1601400">
            <a:off x="7772040" y="22824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 rot="1601400">
            <a:off x="6705360" y="380880"/>
            <a:ext cx="6858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5:47:48Z</dcterms:created>
  <dc:creator>Андрей</dc:creator>
  <dc:description/>
  <dc:language>en-US</dc:language>
  <cp:lastModifiedBy>Microsoft Office</cp:lastModifiedBy>
  <dcterms:modified xsi:type="dcterms:W3CDTF">2019-10-15T18:05:53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