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1.png" ContentType="image/png"/>
  <Override PartName="/ppt/media/image14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3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B0E1-44F4-4EB1-85AD-9FE0D2D5A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05B0-E9DD-48CC-99A6-42C978C1B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E5F898-2E8D-479F-B757-385D14B01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03FAD3-4CE7-415F-BC6E-51F05E2A5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380880" y="355680"/>
            <a:ext cx="838224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50E284-69D6-4521-B2B5-2E77921E5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24EAEA-46F1-477B-96A5-7871F203C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5D0310-A80C-49AE-ACED-EAE3CC37A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3A2B6C-4188-4189-A2CB-DECC75E24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580F21-F311-4F6F-8B93-A1B46F2B9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552195-7307-4785-ADDC-97895C94C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22344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06600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22344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06600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CA440C-A780-422D-888E-36C8034CE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4708C5-0F57-4CAC-AC76-E1E72E94B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DB7F-6FA9-4885-A23E-C7D1DA3CA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99992A-2669-47E6-AA06-CDD200B8E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9592C1-F41B-41B5-8873-3BB624792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81726B-AF92-4F3F-979A-C4D643F00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B8EB6C-1CED-43D7-84DA-48712EA9A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380880" y="355680"/>
            <a:ext cx="838224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82CFA7-CC41-4162-992D-E1AA2991D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1B2717-FB1F-4B8D-9FA9-D9D39D130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8B31AA-5E31-49A7-886D-73B0F5CF4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DE2848-A8C1-49FA-B692-A47C1BE01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0A9ECD-D345-468E-AFD4-B90D86A30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3A13B4-0CB9-4635-9EE6-95D75E494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2344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6600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2344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6600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DBF3-A078-444E-BF10-874778387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2344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6600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2344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6600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759B7E-D708-4EB8-BC2F-C1E615497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32CEEC-D3C5-4F40-8EAC-7322D9CA1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FE010E-6B05-419B-9370-2ED44C98C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C7D910-041D-462E-9827-FC0DB84C1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ECD3CC-B0E4-4948-AEE7-6BDDDA1E4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495670-2687-4822-8B98-93F7BC7E3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80880" y="355680"/>
            <a:ext cx="838224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FF0D81-F4BF-4D73-A530-DD1D49072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265D60-C2CC-4006-B2D7-750D0935A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C90C-DA09-4E68-A263-1A790DDF3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DD87BD-C531-4624-8EC0-D01A4C542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1E699F-3857-4C59-9249-4864F52FB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2FDDE7-3C29-47B9-8FB5-34CBCFD8D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01EA46-BD0C-41CD-91CB-FDB17FF13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2344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6600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2344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6600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B4C5C8-28BD-42AB-8A3D-3A3ED8A23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CB695B-A4FF-4008-BB89-56F4C780C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05BA36-603E-4372-9E86-BABE1E028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091C98-6906-4950-BBC3-6361DF353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263AA8-897C-46B6-8E40-F568F6228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2E0B7D-CB5C-43EF-B999-FBD5B1F0A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78CB-1FD2-4DF6-8337-564EE2BCA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380880" y="355680"/>
            <a:ext cx="838224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C72004-AC47-43F7-82B7-F3311345C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F4B73F-E369-44BD-A6CA-4826DEA2F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593D94-12D0-4F8A-920B-B84A4131B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45935A-25BF-4042-B6D3-29D4AC672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6BC4EE-6A75-4EDF-B135-8F478D5FC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C5387F-BB50-4D37-89EE-27E4BF240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2344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6600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2344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6600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198C6D-D0E1-40AF-A901-E0B047293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80C1EB-9CB7-44D3-B384-AF60930BC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3BEA7C-4148-4B05-A485-15D2F05D0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E26129-07DC-418C-8111-D8A4B81C5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DB7F-A837-4257-9EA7-2C26B2A57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76B9BB-4F86-4530-A63C-901E73C43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E8AB60-3A95-43FD-A3A0-444560905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380880" y="355680"/>
            <a:ext cx="838224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A3FFEA-0978-469B-8B4B-D98807644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9992E4-E98E-425B-853D-0F7782411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419906-3C4C-4C06-834A-33488C246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A9BB2A-58E2-4F97-B053-6BCF91B52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E29C77-2A2A-4703-A755-7AFC06409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CF9C7E-A3FD-43C5-B5D8-463B7911B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2344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6600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2344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6600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16C311-EADD-43B5-9EDA-5F43381B0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98D61D-34F5-439E-BFE1-ED86B25AF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C177-91E6-4EFB-83E6-B97569EB4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495FFF-D529-49F4-8D13-25AA4FAED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A9804B-50CE-495A-ADF5-675D5F0F5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41BE83-8D1D-4249-8DDC-9980D9C55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FA767C-F410-440B-9943-9F350EF63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380880" y="355680"/>
            <a:ext cx="838224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6099A1-EA76-4B57-9103-4F9376190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DB5B69-0722-4DDA-BC70-38873BE6B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0C23F3-8054-4471-B714-E9C86E548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1F35D6-D679-47E1-95C1-EB0BC6EA4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6CCA45-3251-422E-85A6-CF5891EEF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F3C9C9-AB2F-4F91-8ECF-E047B3564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355680"/>
            <a:ext cx="838224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29A8-0FE9-4E5C-9531-016287894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2344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6600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2344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6600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E6A4F1-9FB1-47A2-B67A-FCCA4FFE2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15B047-9E50-4B78-93CD-08ED8C1C4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31201F-CA5D-47E7-8119-318FA0DA9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3185BF-FD2B-492A-B11D-9C29E8DA6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848833-EDC7-453F-ACE7-9784157E6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9D1A95-1516-407D-A15A-69AAE2D13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380880" y="355680"/>
            <a:ext cx="838224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BC9BBA-D37A-4403-94AC-82A316B54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EB082D-849D-4F1F-B8AB-F1D0414AA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6B72A6-9C77-4CB4-9E0A-6F5F508D4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C3B634-19A0-469D-8A20-EBDC3CF48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AA7A-FC39-41CF-A22B-E14C7C0E9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17738F-7C4F-4E0E-B54F-D2B36C776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2B460C-18CC-4CB3-9735-DAD39BA85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2344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6600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2344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6600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3883EB-E16A-4626-9C4D-5F2CA0F1C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2AC618-9D7D-45A5-895E-B8364ABF0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CE6D93-73D6-4F1A-9A1F-7B3B9D5E1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785A38-B202-4F49-8958-D5B2A01DF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8BF409-F3CC-4F63-BF54-E8638BC37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07BF22-735B-4B37-9BDE-C3B096064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380880" y="355680"/>
            <a:ext cx="838224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98FD1B-9458-4EB8-A39C-1AFC9C0AE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7024D8-F6B4-418C-8FEA-EBFDDECAC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ED93-4260-41AD-8F26-87DC98F66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F58B9A-5C60-402D-8E7C-312DA95DA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378DC2-2F3F-439D-A463-E9C8BFBE4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2A2919-BA6E-4137-A395-E548D7ECB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DDA08C-8D97-4292-9CCA-92DC048D2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2344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6600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2344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6600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78FE75-1913-4EC9-A8AB-DE4575638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751B2D-49FD-4DA8-925C-FB02D6D1B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EB60BC-EE03-4066-8D2A-64FA02994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DF61D6-9299-4293-8CD8-5CB7D2001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9FB1BB-192D-46E5-B722-2CD1C6DA9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28E23B-6FAE-404E-B8E8-9ABB6221E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3D11-071F-45CC-AD8B-E50896705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380880" y="355680"/>
            <a:ext cx="838224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EF4A37-118E-4077-91CB-7AF88FD9D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262018-B2FF-4793-8658-57F31E806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5C75DE-08E1-494F-A9A1-764C07193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B37321-3CD1-4CA6-AF16-7421DE147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4E9E05-37F6-4547-9875-572784342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86A08A-EC04-4056-A0A2-582BA240A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2344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6600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2344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6600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EA95A0-1EE8-4FE6-B8DC-D1BB78276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EDAA3C-F7AE-43DD-85FC-2CCC18B92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B7A2AB-1632-4DE2-8DAB-B448B42CC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CB60C3-0390-455C-AD43-5210E9893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152280" y="1635120"/>
            <a:ext cx="8831520" cy="5045040"/>
          </a:xfrm>
          <a:prstGeom prst="rect">
            <a:avLst/>
          </a:prstGeom>
          <a:solidFill>
            <a:srgbClr val="ccd1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152280" y="152280"/>
            <a:ext cx="8813880" cy="1346400"/>
          </a:xfrm>
          <a:prstGeom prst="rect">
            <a:avLst/>
          </a:prstGeom>
          <a:solidFill>
            <a:srgbClr val="5349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499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99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3" marL="1096920" indent="-182520">
              <a:spcBef>
                <a:spcPts val="499"/>
              </a:spcBef>
              <a:buClr>
                <a:srgbClr val="8770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4" marL="1279440" indent="-182520">
              <a:spcBef>
                <a:spcPts val="499"/>
              </a:spcBef>
              <a:buClr>
                <a:srgbClr val="6f77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5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6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71160" y="6356520"/>
            <a:ext cx="213372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33920" y="6354360"/>
            <a:ext cx="582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53494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1A1F1-0F20-4C65-A6F1-9A5DA8083059}" type="slidenum">
              <a:rPr b="0" lang="ru-RU" sz="1100" spc="-1" strike="noStrike">
                <a:solidFill>
                  <a:srgbClr val="53494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8"/>
          <p:cNvSpPr/>
          <p:nvPr/>
        </p:nvSpPr>
        <p:spPr>
          <a:xfrm>
            <a:off x="152280" y="1635120"/>
            <a:ext cx="8831520" cy="5045040"/>
          </a:xfrm>
          <a:prstGeom prst="rect">
            <a:avLst/>
          </a:prstGeom>
          <a:solidFill>
            <a:srgbClr val="ccd1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Rectangle 7"/>
          <p:cNvSpPr/>
          <p:nvPr/>
        </p:nvSpPr>
        <p:spPr>
          <a:xfrm>
            <a:off x="152280" y="152280"/>
            <a:ext cx="8813880" cy="1346400"/>
          </a:xfrm>
          <a:prstGeom prst="rect">
            <a:avLst/>
          </a:prstGeom>
          <a:solidFill>
            <a:srgbClr val="5349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499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99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3" marL="1096920" indent="-182520">
              <a:spcBef>
                <a:spcPts val="499"/>
              </a:spcBef>
              <a:buClr>
                <a:srgbClr val="8770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4" marL="1279440" indent="-182520">
              <a:spcBef>
                <a:spcPts val="499"/>
              </a:spcBef>
              <a:buClr>
                <a:srgbClr val="6f77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5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6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371160" y="6356520"/>
            <a:ext cx="213372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04776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8233920" y="6354360"/>
            <a:ext cx="582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53494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D919B-BCF1-4442-BE18-2A0E30D12063}" type="slidenum">
              <a:rPr b="0" lang="ru-RU" sz="1100" spc="-1" strike="noStrike">
                <a:solidFill>
                  <a:srgbClr val="53494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6"/>
          <p:cNvSpPr/>
          <p:nvPr/>
        </p:nvSpPr>
        <p:spPr>
          <a:xfrm>
            <a:off x="7010280" y="152280"/>
            <a:ext cx="1981440" cy="6556320"/>
          </a:xfrm>
          <a:prstGeom prst="rect">
            <a:avLst/>
          </a:prstGeom>
          <a:solidFill>
            <a:srgbClr val="c669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152280" y="154080"/>
            <a:ext cx="6705720" cy="6553080"/>
          </a:xfrm>
          <a:prstGeom prst="rect">
            <a:avLst/>
          </a:prstGeom>
          <a:solidFill>
            <a:srgbClr val="5349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499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99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3" marL="1096920" indent="-182520">
              <a:spcBef>
                <a:spcPts val="499"/>
              </a:spcBef>
              <a:buClr>
                <a:srgbClr val="8770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4" marL="1279440" indent="-182520">
              <a:spcBef>
                <a:spcPts val="499"/>
              </a:spcBef>
              <a:buClr>
                <a:srgbClr val="6f77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5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6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71160" y="6356520"/>
            <a:ext cx="213372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5"/>
          </p:nvPr>
        </p:nvSpPr>
        <p:spPr>
          <a:xfrm>
            <a:off x="8233920" y="6354360"/>
            <a:ext cx="582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3B47A-181C-46F6-9C57-A5E783DCC3FD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6"/>
          </p:nvPr>
        </p:nvSpPr>
        <p:spPr>
          <a:xfrm>
            <a:off x="304776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7010280" y="152280"/>
            <a:ext cx="1981440" cy="6556320"/>
          </a:xfrm>
          <a:prstGeom prst="rect">
            <a:avLst/>
          </a:prstGeom>
          <a:solidFill>
            <a:srgbClr val="5349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152280" y="154080"/>
            <a:ext cx="6705720" cy="6553080"/>
          </a:xfrm>
          <a:prstGeom prst="rect">
            <a:avLst/>
          </a:prstGeom>
          <a:solidFill>
            <a:srgbClr val="c669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499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99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3" marL="1096920" indent="-182520">
              <a:spcBef>
                <a:spcPts val="499"/>
              </a:spcBef>
              <a:buClr>
                <a:srgbClr val="8770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4" marL="1279440" indent="-182520">
              <a:spcBef>
                <a:spcPts val="499"/>
              </a:spcBef>
              <a:buClr>
                <a:srgbClr val="6f77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5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6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371160" y="6356520"/>
            <a:ext cx="213372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8"/>
          </p:nvPr>
        </p:nvSpPr>
        <p:spPr>
          <a:xfrm>
            <a:off x="8233920" y="6354360"/>
            <a:ext cx="582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ccd1b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8BC12-CF59-4A6F-9857-05566368A01F}" type="slidenum">
              <a:rPr b="0" lang="ru-RU" sz="1100" spc="-1" strike="noStrike">
                <a:solidFill>
                  <a:srgbClr val="ccd1b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9"/>
          </p:nvPr>
        </p:nvSpPr>
        <p:spPr>
          <a:xfrm>
            <a:off x="304776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4"/>
          <p:cNvSpPr/>
          <p:nvPr/>
        </p:nvSpPr>
        <p:spPr>
          <a:xfrm>
            <a:off x="152280" y="150840"/>
            <a:ext cx="8831520" cy="6556320"/>
          </a:xfrm>
          <a:prstGeom prst="rect">
            <a:avLst/>
          </a:prstGeom>
          <a:solidFill>
            <a:srgbClr val="ccd1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499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99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3" marL="1096920" indent="-182520">
              <a:spcBef>
                <a:spcPts val="499"/>
              </a:spcBef>
              <a:buClr>
                <a:srgbClr val="8770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4" marL="1279440" indent="-182520">
              <a:spcBef>
                <a:spcPts val="499"/>
              </a:spcBef>
              <a:buClr>
                <a:srgbClr val="6f77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5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6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371160" y="6356520"/>
            <a:ext cx="213372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304776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8233920" y="6354360"/>
            <a:ext cx="582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53494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35358-3DE0-41D9-9917-74E9DF4D66C3}" type="slidenum">
              <a:rPr b="0" lang="ru-RU" sz="1100" spc="-1" strike="noStrike">
                <a:solidFill>
                  <a:srgbClr val="53494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7010280" y="150840"/>
            <a:ext cx="1981440" cy="6556320"/>
          </a:xfrm>
          <a:prstGeom prst="rect">
            <a:avLst/>
          </a:prstGeom>
          <a:solidFill>
            <a:srgbClr val="c669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Rectangle 8"/>
          <p:cNvSpPr/>
          <p:nvPr/>
        </p:nvSpPr>
        <p:spPr>
          <a:xfrm>
            <a:off x="152280" y="152280"/>
            <a:ext cx="6705720" cy="655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499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99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3" marL="1096920" indent="-182520">
              <a:spcBef>
                <a:spcPts val="499"/>
              </a:spcBef>
              <a:buClr>
                <a:srgbClr val="8770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4" marL="1279440" indent="-182520">
              <a:spcBef>
                <a:spcPts val="499"/>
              </a:spcBef>
              <a:buClr>
                <a:srgbClr val="6f77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5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6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371160" y="6356520"/>
            <a:ext cx="213372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04776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33920" y="6354360"/>
            <a:ext cx="582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3B516-245C-4A62-B106-5D79A6CDEE12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49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Rectangle 8"/>
          <p:cNvSpPr/>
          <p:nvPr/>
        </p:nvSpPr>
        <p:spPr>
          <a:xfrm>
            <a:off x="7010280" y="150840"/>
            <a:ext cx="1981440" cy="65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d1b9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ccd1b9"/>
              </a:solidFill>
              <a:latin typeface="Franklin Gothic Medium"/>
            </a:endParaRPr>
          </a:p>
          <a:p>
            <a:pPr lvl="1" marL="547560" indent="-182520">
              <a:spcBef>
                <a:spcPts val="499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d1b9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ccd1b9"/>
              </a:solidFill>
              <a:latin typeface="Franklin Gothic Medium"/>
            </a:endParaRPr>
          </a:p>
          <a:p>
            <a:pPr lvl="2" marL="822240" indent="-182520">
              <a:spcBef>
                <a:spcPts val="499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d1b9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ccd1b9"/>
              </a:solidFill>
              <a:latin typeface="Franklin Gothic Medium"/>
            </a:endParaRPr>
          </a:p>
          <a:p>
            <a:pPr lvl="3" marL="1096920" indent="-182520">
              <a:spcBef>
                <a:spcPts val="499"/>
              </a:spcBef>
              <a:buClr>
                <a:srgbClr val="8770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d1b9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ccd1b9"/>
              </a:solidFill>
              <a:latin typeface="Franklin Gothic Medium"/>
            </a:endParaRPr>
          </a:p>
          <a:p>
            <a:pPr lvl="4" marL="1279440" indent="-182520">
              <a:spcBef>
                <a:spcPts val="499"/>
              </a:spcBef>
              <a:buClr>
                <a:srgbClr val="6f77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d1b9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ccd1b9"/>
              </a:solidFill>
              <a:latin typeface="Franklin Gothic Medium"/>
            </a:endParaRPr>
          </a:p>
          <a:p>
            <a:pPr lvl="5" marL="1279440" indent="-18252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d1b9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ccd1b9"/>
              </a:solidFill>
              <a:latin typeface="Franklin Gothic Medium"/>
            </a:endParaRPr>
          </a:p>
          <a:p>
            <a:pPr lvl="6" marL="1279440" indent="-18252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d1b9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ccd1b9"/>
              </a:solidFill>
              <a:latin typeface="Franklin Gothic Medium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371160" y="6356520"/>
            <a:ext cx="213372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4776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8233920" y="6354360"/>
            <a:ext cx="582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ccd1b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547D2-1DDD-4ADC-8CFA-204CB9195C5C}" type="slidenum">
              <a:rPr b="0" lang="ru-RU" sz="1100" spc="-1" strike="noStrike">
                <a:solidFill>
                  <a:srgbClr val="ccd1b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6"/>
          <p:cNvSpPr/>
          <p:nvPr/>
        </p:nvSpPr>
        <p:spPr>
          <a:xfrm>
            <a:off x="152280" y="147600"/>
            <a:ext cx="6705720" cy="6556320"/>
          </a:xfrm>
          <a:prstGeom prst="rect">
            <a:avLst/>
          </a:prstGeom>
          <a:solidFill>
            <a:srgbClr val="ccd1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Rectangle 7"/>
          <p:cNvSpPr/>
          <p:nvPr/>
        </p:nvSpPr>
        <p:spPr>
          <a:xfrm>
            <a:off x="7010280" y="147600"/>
            <a:ext cx="1955880" cy="6556320"/>
          </a:xfrm>
          <a:prstGeom prst="rect">
            <a:avLst/>
          </a:prstGeom>
          <a:solidFill>
            <a:srgbClr val="5349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499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99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3" marL="1096920" indent="-182520">
              <a:spcBef>
                <a:spcPts val="499"/>
              </a:spcBef>
              <a:buClr>
                <a:srgbClr val="8770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4" marL="1279440" indent="-182520">
              <a:spcBef>
                <a:spcPts val="499"/>
              </a:spcBef>
              <a:buClr>
                <a:srgbClr val="6f77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5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6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371160" y="6356520"/>
            <a:ext cx="213372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04776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33920" y="6354360"/>
            <a:ext cx="582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ccd1b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5F0BE-513F-4570-96DB-D79A23CE2B4B}" type="slidenum">
              <a:rPr b="0" lang="ru-RU" sz="1100" spc="-1" strike="noStrike">
                <a:solidFill>
                  <a:srgbClr val="ccd1b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8"/>
          <p:cNvSpPr/>
          <p:nvPr/>
        </p:nvSpPr>
        <p:spPr>
          <a:xfrm>
            <a:off x="152280" y="1635120"/>
            <a:ext cx="8831520" cy="5045040"/>
          </a:xfrm>
          <a:prstGeom prst="rect">
            <a:avLst/>
          </a:prstGeom>
          <a:solidFill>
            <a:srgbClr val="ccd1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Rectangle 7"/>
          <p:cNvSpPr/>
          <p:nvPr/>
        </p:nvSpPr>
        <p:spPr>
          <a:xfrm>
            <a:off x="152280" y="152280"/>
            <a:ext cx="8813880" cy="1346400"/>
          </a:xfrm>
          <a:prstGeom prst="rect">
            <a:avLst/>
          </a:prstGeom>
          <a:solidFill>
            <a:srgbClr val="5349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499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99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3" marL="1096920" indent="-182520">
              <a:spcBef>
                <a:spcPts val="499"/>
              </a:spcBef>
              <a:buClr>
                <a:srgbClr val="8770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4" marL="1279440" indent="-182520">
              <a:spcBef>
                <a:spcPts val="499"/>
              </a:spcBef>
              <a:buClr>
                <a:srgbClr val="6f77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5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6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>
            <a:off x="371160" y="6356520"/>
            <a:ext cx="213372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304776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8233920" y="6354360"/>
            <a:ext cx="582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53494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87D78-DFE5-4004-88C2-A1786FB64E06}" type="slidenum">
              <a:rPr b="0" lang="ru-RU" sz="1100" spc="-1" strike="noStrike">
                <a:solidFill>
                  <a:srgbClr val="53494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8"/>
          <p:cNvSpPr/>
          <p:nvPr/>
        </p:nvSpPr>
        <p:spPr>
          <a:xfrm>
            <a:off x="152280" y="1635120"/>
            <a:ext cx="8831520" cy="5045040"/>
          </a:xfrm>
          <a:prstGeom prst="rect">
            <a:avLst/>
          </a:prstGeom>
          <a:solidFill>
            <a:srgbClr val="ccd1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Rectangle 7"/>
          <p:cNvSpPr/>
          <p:nvPr/>
        </p:nvSpPr>
        <p:spPr>
          <a:xfrm>
            <a:off x="152280" y="152280"/>
            <a:ext cx="8813880" cy="1346400"/>
          </a:xfrm>
          <a:prstGeom prst="rect">
            <a:avLst/>
          </a:prstGeom>
          <a:solidFill>
            <a:srgbClr val="5349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499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99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3" marL="1096920" indent="-182520">
              <a:spcBef>
                <a:spcPts val="499"/>
              </a:spcBef>
              <a:buClr>
                <a:srgbClr val="8770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4" marL="1279440" indent="-182520">
              <a:spcBef>
                <a:spcPts val="499"/>
              </a:spcBef>
              <a:buClr>
                <a:srgbClr val="6f77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5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6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5"/>
          </p:nvPr>
        </p:nvSpPr>
        <p:spPr>
          <a:xfrm>
            <a:off x="371160" y="6356520"/>
            <a:ext cx="213372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6"/>
          </p:nvPr>
        </p:nvSpPr>
        <p:spPr>
          <a:xfrm>
            <a:off x="304776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27"/>
          </p:nvPr>
        </p:nvSpPr>
        <p:spPr>
          <a:xfrm>
            <a:off x="8233920" y="6354360"/>
            <a:ext cx="582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53494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AD5C0-C5E1-4DE6-A591-6ABEE2284483}" type="slidenum">
              <a:rPr b="0" lang="ru-RU" sz="1100" spc="-1" strike="noStrike">
                <a:solidFill>
                  <a:srgbClr val="53494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hyperlink" Target="http://www.tryphonov.ru/tryphonov6/terms6/form.htm" TargetMode="External"/><Relationship Id="rId3" Type="http://schemas.openxmlformats.org/officeDocument/2006/relationships/hyperlink" Target="http://www.tryphonov.ru/tryphonov2/terms2/cellm.htm" TargetMode="External"/><Relationship Id="rId4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9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trinitas.ru/rus/doc/0209/004a/pic/0010/0010-129.gif" TargetMode="External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bgl.ru/images/gallery/17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booksite.ru/fulltext/1/001/010/001/282533001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5" descr="клетки под микроскопом"/>
          <p:cNvPicPr/>
          <p:nvPr/>
        </p:nvPicPr>
        <p:blipFill>
          <a:blip r:embed="rId1"/>
          <a:stretch/>
        </p:blipFill>
        <p:spPr>
          <a:xfrm>
            <a:off x="7010280" y="2225520"/>
            <a:ext cx="1981440" cy="1482840"/>
          </a:xfrm>
          <a:prstGeom prst="rect">
            <a:avLst/>
          </a:prstGeom>
          <a:ln w="0">
            <a:noFill/>
          </a:ln>
        </p:spPr>
      </p:pic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052720"/>
            <a:ext cx="632448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800" spc="-1" strike="noStrike">
                <a:solidFill>
                  <a:srgbClr val="ffffff"/>
                </a:solidFill>
                <a:latin typeface="Franklin Gothic Medium"/>
              </a:rPr>
              <a:t>КЛЕТОЧНОЕ</a:t>
            </a:r>
            <a:r>
              <a:rPr b="0" lang="ru-RU" sz="4600" spc="-1" strike="noStrike">
                <a:solidFill>
                  <a:srgbClr val="ffffff"/>
                </a:solidFill>
                <a:latin typeface="Franklin Gothic Medium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Franklin Gothic Medium"/>
              </a:rPr>
              <a:t>СТРОЕНИЕ ОРГАНИЗМА</a:t>
            </a:r>
            <a:endParaRPr b="0" lang="en-US" sz="54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p:transition spd="med">
    <p:plus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Franklin Gothic Medium"/>
              </a:rPr>
              <a:t>РИБОСОМЫ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395280" y="206676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Medium"/>
              </a:rPr>
              <a:t>Рибосома</a:t>
            </a:r>
            <a:r>
              <a:rPr b="0" lang="ru-RU" sz="2800" spc="-1" strike="noStrike">
                <a:solidFill>
                  <a:srgbClr val="000000"/>
                </a:solidFill>
                <a:latin typeface="Franklin Gothic Medium"/>
              </a:rPr>
              <a:t> состоит из двух субчастиц большой справа и малой слева Обе они состоят из длинных цепочек рнк зеленые и белков красные</a:t>
            </a: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.</a:t>
            </a:r>
            <a:endParaRPr b="0" lang="en-US" sz="2800" spc="-1" strike="noStrike">
              <a:solidFill>
                <a:srgbClr val="534949"/>
              </a:solidFill>
              <a:latin typeface="Franklin Gothic Medium"/>
            </a:endParaRPr>
          </a:p>
        </p:txBody>
      </p:sp>
      <p:pic>
        <p:nvPicPr>
          <p:cNvPr id="475" name="Picture 6" descr="ribosome_structure_300"/>
          <p:cNvPicPr/>
          <p:nvPr/>
        </p:nvPicPr>
        <p:blipFill>
          <a:blip r:embed="rId1"/>
          <a:stretch/>
        </p:blipFill>
        <p:spPr>
          <a:xfrm>
            <a:off x="4500720" y="1987560"/>
            <a:ext cx="4248000" cy="4249800"/>
          </a:xfrm>
          <a:prstGeom prst="rect">
            <a:avLst/>
          </a:prstGeom>
          <a:ln w="0">
            <a:noFill/>
          </a:ln>
        </p:spPr>
      </p:pic>
    </p:spTree>
  </p:cSld>
  <p:transition spd="med">
    <p:plus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Franklin Gothic Medium"/>
              </a:rPr>
              <a:t>ЛИЗОСОМЫ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pic>
        <p:nvPicPr>
          <p:cNvPr id="477" name="Picture 4" descr="Lysoma"/>
          <p:cNvPicPr/>
          <p:nvPr/>
        </p:nvPicPr>
        <p:blipFill>
          <a:blip r:embed="rId1"/>
          <a:stretch/>
        </p:blipFill>
        <p:spPr>
          <a:xfrm>
            <a:off x="250920" y="1773360"/>
            <a:ext cx="4392360" cy="46083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710240" y="192240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lnSpc>
                <a:spcPct val="90000"/>
              </a:lnSpc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34949"/>
                </a:solidFill>
                <a:latin typeface="Franklin Gothic Medium"/>
              </a:rPr>
              <a:t>Лизосомы представляют собой простые мембранные мешочки округлой </a:t>
            </a:r>
            <a:r>
              <a:rPr b="0" lang="ru-RU" sz="2000" spc="-1" strike="noStrike" u="sng">
                <a:solidFill>
                  <a:srgbClr val="cc9900"/>
                </a:solidFill>
                <a:uFillTx/>
                <a:latin typeface="Franklin Gothic Medium"/>
                <a:hlinkClick r:id="rId2"/>
              </a:rPr>
              <a:t>формы</a:t>
            </a:r>
            <a:r>
              <a:rPr b="0" lang="ru-RU" sz="2000" spc="-1" strike="noStrike">
                <a:solidFill>
                  <a:srgbClr val="534949"/>
                </a:solidFill>
                <a:latin typeface="Franklin Gothic Medium"/>
              </a:rPr>
              <a:t> диаметром ~0,2 ¸0,5 </a:t>
            </a:r>
            <a:r>
              <a:rPr b="0" i="1" lang="ru-RU" sz="2000" spc="-1" strike="noStrike">
                <a:solidFill>
                  <a:srgbClr val="534949"/>
                </a:solidFill>
                <a:latin typeface="Franklin Gothic Medium"/>
              </a:rPr>
              <a:t>мкм</a:t>
            </a:r>
            <a:r>
              <a:rPr b="0" lang="ru-RU" sz="2000" spc="-1" strike="noStrike">
                <a:solidFill>
                  <a:srgbClr val="534949"/>
                </a:solidFill>
                <a:latin typeface="Franklin Gothic Medium"/>
              </a:rPr>
              <a:t>, стенки которых состоят из одинарной </a:t>
            </a:r>
            <a:r>
              <a:rPr b="0" lang="ru-RU" sz="2000" spc="-1" strike="noStrike" u="sng">
                <a:solidFill>
                  <a:srgbClr val="cc9900"/>
                </a:solidFill>
                <a:uFillTx/>
                <a:latin typeface="Franklin Gothic Medium"/>
                <a:hlinkClick r:id="rId3"/>
              </a:rPr>
              <a:t>мембраны</a:t>
            </a:r>
            <a:r>
              <a:rPr b="0" lang="ru-RU" sz="2000" spc="-1" strike="noStrike">
                <a:solidFill>
                  <a:srgbClr val="534949"/>
                </a:solidFill>
                <a:latin typeface="Franklin Gothic Medium"/>
              </a:rPr>
              <a:t>. Мешочки, наполненны пищеварительными </a:t>
            </a:r>
            <a:r>
              <a:rPr b="0" i="1" lang="ru-RU" sz="2000" spc="-1" strike="noStrike">
                <a:solidFill>
                  <a:srgbClr val="534949"/>
                </a:solidFill>
                <a:latin typeface="Franklin Gothic Medium"/>
              </a:rPr>
              <a:t>гидролитическими</a:t>
            </a:r>
            <a:r>
              <a:rPr b="0" lang="ru-RU" sz="2000" spc="-1" strike="noStrike">
                <a:solidFill>
                  <a:srgbClr val="534949"/>
                </a:solidFill>
                <a:latin typeface="Franklin Gothic Medium"/>
              </a:rPr>
              <a:t> </a:t>
            </a:r>
            <a:r>
              <a:rPr b="0" i="1" lang="ru-RU" sz="2000" spc="-1" strike="noStrike">
                <a:solidFill>
                  <a:srgbClr val="534949"/>
                </a:solidFill>
                <a:latin typeface="Franklin Gothic Medium"/>
              </a:rPr>
              <a:t>ферментами</a:t>
            </a:r>
            <a:r>
              <a:rPr b="0" lang="ru-RU" sz="2000" spc="-1" strike="noStrike">
                <a:solidFill>
                  <a:srgbClr val="534949"/>
                </a:solidFill>
                <a:latin typeface="Franklin Gothic Medium"/>
              </a:rPr>
              <a:t>: </a:t>
            </a:r>
            <a:r>
              <a:rPr b="0" i="1" lang="ru-RU" sz="2000" spc="-1" strike="noStrike">
                <a:solidFill>
                  <a:srgbClr val="534949"/>
                </a:solidFill>
                <a:latin typeface="Franklin Gothic Medium"/>
              </a:rPr>
              <a:t>протеазами</a:t>
            </a:r>
            <a:r>
              <a:rPr b="0" lang="ru-RU" sz="2000" spc="-1" strike="noStrike">
                <a:solidFill>
                  <a:srgbClr val="534949"/>
                </a:solidFill>
                <a:latin typeface="Franklin Gothic Medium"/>
              </a:rPr>
              <a:t>, </a:t>
            </a:r>
            <a:r>
              <a:rPr b="0" i="1" lang="ru-RU" sz="2000" spc="-1" strike="noStrike">
                <a:solidFill>
                  <a:srgbClr val="534949"/>
                </a:solidFill>
                <a:latin typeface="Franklin Gothic Medium"/>
              </a:rPr>
              <a:t>нуклеазами</a:t>
            </a:r>
            <a:r>
              <a:rPr b="0" lang="ru-RU" sz="2000" spc="-1" strike="noStrike">
                <a:solidFill>
                  <a:srgbClr val="534949"/>
                </a:solidFill>
                <a:latin typeface="Franklin Gothic Medium"/>
              </a:rPr>
              <a:t>, </a:t>
            </a:r>
            <a:r>
              <a:rPr b="0" i="1" lang="ru-RU" sz="2000" spc="-1" strike="noStrike">
                <a:solidFill>
                  <a:srgbClr val="534949"/>
                </a:solidFill>
                <a:latin typeface="Franklin Gothic Medium"/>
              </a:rPr>
              <a:t>липазами</a:t>
            </a:r>
            <a:r>
              <a:rPr b="0" lang="ru-RU" sz="2000" spc="-1" strike="noStrike">
                <a:solidFill>
                  <a:srgbClr val="534949"/>
                </a:solidFill>
                <a:latin typeface="Franklin Gothic Medium"/>
              </a:rPr>
              <a:t> и </a:t>
            </a:r>
            <a:r>
              <a:rPr b="0" i="1" lang="ru-RU" sz="2000" spc="-1" strike="noStrike">
                <a:solidFill>
                  <a:srgbClr val="534949"/>
                </a:solidFill>
                <a:latin typeface="Franklin Gothic Medium"/>
              </a:rPr>
              <a:t>кислыми фосфатазами</a:t>
            </a:r>
            <a:r>
              <a:rPr b="0" lang="ru-RU" sz="2000" spc="-1" strike="noStrike">
                <a:solidFill>
                  <a:srgbClr val="534949"/>
                </a:solidFill>
                <a:latin typeface="Franklin Gothic Medium"/>
              </a:rPr>
              <a:t> 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</p:spTree>
  </p:cSld>
  <p:transition spd="med">
    <p:plus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Franklin Gothic Medium"/>
              </a:rPr>
              <a:t>КЛЕТОЧНЫЙ ЦЕНТР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pic>
        <p:nvPicPr>
          <p:cNvPr id="480" name="Picture 4" descr="47163"/>
          <p:cNvPicPr/>
          <p:nvPr/>
        </p:nvPicPr>
        <p:blipFill>
          <a:blip r:embed="rId1"/>
          <a:stretch/>
        </p:blipFill>
        <p:spPr>
          <a:xfrm>
            <a:off x="324000" y="1773360"/>
            <a:ext cx="4402080" cy="4680000"/>
          </a:xfrm>
          <a:prstGeom prst="rect">
            <a:avLst/>
          </a:prstGeom>
          <a:ln w="0">
            <a:noFill/>
          </a:ln>
        </p:spPr>
      </p:pic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710240" y="192240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lnSpc>
                <a:spcPct val="90000"/>
              </a:lnSpc>
              <a:spcBef>
                <a:spcPts val="601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34949"/>
                </a:solidFill>
                <a:latin typeface="Franklin Gothic Medium"/>
              </a:rPr>
              <a:t>Центросфера клеточного центра — место роста всех микротрубочек клетки. Центриоли определяют плоскость деления клетки, от них растут микротрубочки веретена деления и образуются базальные тельца ресничек и жгутиков </a:t>
            </a:r>
            <a:endParaRPr b="0" lang="en-US" sz="2400" spc="-1" strike="noStrike">
              <a:solidFill>
                <a:srgbClr val="534949"/>
              </a:solidFill>
              <a:latin typeface="Franklin Gothic Medium"/>
            </a:endParaRPr>
          </a:p>
        </p:txBody>
      </p:sp>
    </p:spTree>
  </p:cSld>
  <p:transition spd="med">
    <p:plus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34949"/>
                </a:solidFill>
                <a:latin typeface="Franklin Gothic Medium"/>
              </a:rPr>
              <a:t>	</a:t>
            </a:r>
            <a:r>
              <a:rPr b="0" lang="ru-RU" sz="1600" spc="-1" strike="noStrike">
                <a:solidFill>
                  <a:srgbClr val="534949"/>
                </a:solidFill>
                <a:latin typeface="Franklin Gothic Medium"/>
              </a:rPr>
              <a:t>одно из крупных биологических обобщений, утверждающее общность происхождения, а также единство принципа строения и развития организмов; согласно клеточной теории, их основной структурный элемент — клетка. Клеточная теория впервые сформулирована Т. Шванном (1838-39). Современная биология рассматривает многоклеточный организм в его расчлененности на клетки и целостности, основанной на межклеточных взаимодействиях.</a:t>
            </a:r>
            <a:endParaRPr b="0" lang="en-US" sz="16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lnSpc>
                <a:spcPct val="80000"/>
              </a:lnSpc>
              <a:spcBef>
                <a:spcPts val="400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34949"/>
                </a:solidFill>
                <a:latin typeface="Franklin Gothic Medium"/>
              </a:rPr>
              <a:t>Клетка - основная единица строения и развития всех живых организмов, наименьшая единица живого.</a:t>
            </a:r>
            <a:endParaRPr b="0" lang="en-US" sz="16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lnSpc>
                <a:spcPct val="80000"/>
              </a:lnSpc>
              <a:spcBef>
                <a:spcPts val="400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34949"/>
                </a:solidFill>
                <a:latin typeface="Franklin Gothic Medium"/>
              </a:rPr>
              <a:t>Клетки всех одноклеточных и многоклеточных организмов сходны (гомологичны) по своему строению, химическому составу, основным проявлениям жизнедеятельности и обмену веществ.</a:t>
            </a:r>
            <a:endParaRPr b="0" lang="en-US" sz="16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lnSpc>
                <a:spcPct val="80000"/>
              </a:lnSpc>
              <a:spcBef>
                <a:spcPts val="400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34949"/>
                </a:solidFill>
                <a:latin typeface="Franklin Gothic Medium"/>
              </a:rPr>
              <a:t>Размножение клеток происходит путем их деления, и каждая новая клетка образуется в результате деления исходной (материнской) клетки.</a:t>
            </a:r>
            <a:endParaRPr b="0" lang="en-US" sz="16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lnSpc>
                <a:spcPct val="80000"/>
              </a:lnSpc>
              <a:spcBef>
                <a:spcPts val="400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34949"/>
                </a:solidFill>
                <a:latin typeface="Franklin Gothic Medium"/>
              </a:rPr>
              <a:t>В сложных многоклеточных организмах клетки специализированы по выполняемой ими функции и образуют ткани; из тканей состоят органы, которые тесно связаны между собой и подчинены нервным и гуморальным системам их регуляции.</a:t>
            </a:r>
            <a:endParaRPr b="0" lang="en-US" sz="16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Franklin Gothic Medium"/>
              </a:rPr>
              <a:t>КЛЕТОЧНАЯ ТЕОРИЯ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p:transition spd="med">
    <p:plus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Franklin Gothic Medium"/>
              </a:rPr>
              <a:t>Домашнее задание </a:t>
            </a:r>
            <a:endParaRPr b="0" lang="en-US" sz="48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Franklin Gothic Medium"/>
              </a:rPr>
              <a:t>с. 143 - 154</a:t>
            </a:r>
            <a:endParaRPr b="0" lang="en-US" sz="48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Franklin Gothic Medium"/>
              </a:rPr>
              <a:t>Таблица. </a:t>
            </a:r>
            <a:endParaRPr b="0" lang="en-US" sz="48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Franklin Gothic Medium"/>
              </a:rPr>
              <a:t>В словарик: органоид, ген, хромосома</a:t>
            </a:r>
            <a:endParaRPr b="0" lang="en-US" sz="4800" spc="-1" strike="noStrike">
              <a:solidFill>
                <a:srgbClr val="534949"/>
              </a:solidFill>
              <a:latin typeface="Franklin Gothic Medium"/>
            </a:endParaRPr>
          </a:p>
        </p:txBody>
      </p:sp>
    </p:spTree>
  </p:cSld>
  <p:transition spd="med">
    <p:plus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 txBox="1"/>
          <p:nvPr/>
        </p:nvSpPr>
        <p:spPr>
          <a:xfrm>
            <a:off x="457200" y="1719000"/>
            <a:ext cx="40384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700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700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744480" y="333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Franklin Gothic Medium"/>
              </a:rPr>
              <a:t>ПРОКАРИОТИЧЕСКАЯ КЛЕТКА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pic>
        <p:nvPicPr>
          <p:cNvPr id="434" name="Picture 7" descr="Картинка 18 из 4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580000" y="1792440"/>
            <a:ext cx="3095640" cy="465264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9" descr="06_prokariot_kletka"/>
          <p:cNvPicPr/>
          <p:nvPr/>
        </p:nvPicPr>
        <p:blipFill>
          <a:blip r:embed="rId4"/>
          <a:stretch/>
        </p:blipFill>
        <p:spPr>
          <a:xfrm>
            <a:off x="468360" y="1773360"/>
            <a:ext cx="3819600" cy="4535280"/>
          </a:xfrm>
          <a:prstGeom prst="rect">
            <a:avLst/>
          </a:prstGeom>
          <a:ln w="0">
            <a:noFill/>
          </a:ln>
        </p:spPr>
      </p:pic>
    </p:spTree>
  </p:cSld>
  <p:transition spd="med">
    <p:plus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Picture 7" descr="Картинка 33 из 14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59280" y="1700280"/>
            <a:ext cx="3001680" cy="4770360"/>
          </a:xfrm>
          <a:prstGeom prst="rect">
            <a:avLst/>
          </a:prstGeom>
          <a:ln w="0">
            <a:noFill/>
          </a:ln>
        </p:spPr>
      </p:pic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Franklin Gothic Medium"/>
              </a:rPr>
              <a:t>СТРОЕНИЕ ЖИВОТНОЙ КЛЕТКИ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p:transition spd="med">
    <p:plus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Picture 7" descr="Картинка 18 из 191"/>
          <p:cNvPicPr/>
          <p:nvPr/>
        </p:nvPicPr>
        <p:blipFill>
          <a:blip r:embed="rId1"/>
          <a:stretch/>
        </p:blipFill>
        <p:spPr>
          <a:xfrm>
            <a:off x="299880" y="1773360"/>
            <a:ext cx="4343400" cy="475128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8" descr="Картинка 1 из 146"/>
          <p:cNvPicPr/>
          <p:nvPr/>
        </p:nvPicPr>
        <p:blipFill>
          <a:blip r:embed="rId2"/>
          <a:stretch/>
        </p:blipFill>
        <p:spPr>
          <a:xfrm>
            <a:off x="4859280" y="2565360"/>
            <a:ext cx="4038480" cy="2678040"/>
          </a:xfrm>
          <a:prstGeom prst="rect">
            <a:avLst/>
          </a:prstGeom>
          <a:ln w="0">
            <a:noFill/>
          </a:ln>
        </p:spPr>
      </p:pic>
    </p:spTree>
  </p:cSld>
  <p:transition spd="med">
    <p:plus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Picture 7" descr="Картинка 27 из 4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79640" y="1773360"/>
            <a:ext cx="4896000" cy="4681440"/>
          </a:xfrm>
          <a:prstGeom prst="rect">
            <a:avLst/>
          </a:prstGeom>
          <a:ln w="0">
            <a:noFill/>
          </a:ln>
        </p:spPr>
      </p:pic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578800" cy="84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Franklin Gothic Medium"/>
              </a:rPr>
              <a:t>ФОРМЫ ЭУКАРИОТИЧЕСКИХ КЛЕТОК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p:transition spd="med">
    <p:plus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2" name="Organization Chart 6"/>
          <p:cNvGrpSpPr/>
          <p:nvPr/>
        </p:nvGrpSpPr>
        <p:grpSpPr>
          <a:xfrm>
            <a:off x="1274040" y="1877400"/>
            <a:ext cx="6775920" cy="3917880"/>
            <a:chOff x="1274040" y="1877400"/>
            <a:chExt cx="6775920" cy="3917880"/>
          </a:xfrm>
        </p:grpSpPr>
        <p:cxnSp>
          <p:nvCxnSpPr>
            <p:cNvPr id="443" name="_s1028"/>
            <p:cNvCxnSpPr>
              <a:stCxn id="444" idx="1"/>
              <a:endCxn id="445" idx="2"/>
            </p:cNvCxnSpPr>
            <p:nvPr/>
          </p:nvCxnSpPr>
          <p:spPr>
            <a:xfrm rot="10800000">
              <a:off x="6228720" y="3601440"/>
              <a:ext cx="261000" cy="4734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46" name="_s1029"/>
            <p:cNvCxnSpPr>
              <a:stCxn id="445" idx="0"/>
              <a:endCxn id="447" idx="2"/>
            </p:cNvCxnSpPr>
            <p:nvPr/>
          </p:nvCxnSpPr>
          <p:spPr>
            <a:xfrm flipH="1" flipV="1" rot="5400000">
              <a:off x="6641640" y="2542320"/>
              <a:ext cx="216720" cy="1041840"/>
            </a:xfrm>
            <a:prstGeom prst="bentConnector3">
              <a:avLst>
                <a:gd name="adj1" fmla="val 4958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48" name="_s1030"/>
            <p:cNvCxnSpPr>
              <a:stCxn id="449" idx="1"/>
              <a:endCxn id="450" idx="2"/>
            </p:cNvCxnSpPr>
            <p:nvPr/>
          </p:nvCxnSpPr>
          <p:spPr>
            <a:xfrm rot="10800000">
              <a:off x="4148280" y="3601440"/>
              <a:ext cx="261000" cy="4734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51" name="_s1031"/>
            <p:cNvCxnSpPr>
              <a:stCxn id="450" idx="0"/>
              <a:endCxn id="452" idx="2"/>
            </p:cNvCxnSpPr>
            <p:nvPr/>
          </p:nvCxnSpPr>
          <p:spPr>
            <a:xfrm flipV="1" rot="16200000">
              <a:off x="3777120" y="2799720"/>
              <a:ext cx="216720" cy="526680"/>
            </a:xfrm>
            <a:prstGeom prst="bentConnector3">
              <a:avLst>
                <a:gd name="adj1" fmla="val 4958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53" name="_s1032"/>
            <p:cNvCxnSpPr>
              <a:stCxn id="454" idx="1"/>
              <a:endCxn id="455" idx="2"/>
            </p:cNvCxnSpPr>
            <p:nvPr/>
          </p:nvCxnSpPr>
          <p:spPr>
            <a:xfrm rot="10800000">
              <a:off x="2067120" y="3601440"/>
              <a:ext cx="261000" cy="1937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56" name="_s1033"/>
            <p:cNvCxnSpPr>
              <a:stCxn id="457" idx="1"/>
              <a:endCxn id="455" idx="2"/>
            </p:cNvCxnSpPr>
            <p:nvPr/>
          </p:nvCxnSpPr>
          <p:spPr>
            <a:xfrm rot="10800000">
              <a:off x="2067120" y="3601440"/>
              <a:ext cx="261000" cy="12060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58" name="_s1034"/>
            <p:cNvCxnSpPr>
              <a:stCxn id="459" idx="1"/>
              <a:endCxn id="455" idx="2"/>
            </p:cNvCxnSpPr>
            <p:nvPr/>
          </p:nvCxnSpPr>
          <p:spPr>
            <a:xfrm rot="10800000">
              <a:off x="2067120" y="3601440"/>
              <a:ext cx="261000" cy="4734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60" name="_s1035"/>
            <p:cNvCxnSpPr>
              <a:stCxn id="455" idx="0"/>
              <a:endCxn id="452" idx="2"/>
            </p:cNvCxnSpPr>
            <p:nvPr/>
          </p:nvCxnSpPr>
          <p:spPr>
            <a:xfrm flipH="1" flipV="1" rot="5400000">
              <a:off x="2736720" y="2285280"/>
              <a:ext cx="216720" cy="1555560"/>
            </a:xfrm>
            <a:prstGeom prst="bentConnector3">
              <a:avLst>
                <a:gd name="adj1" fmla="val 4958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61" name="_s1036"/>
            <p:cNvCxnSpPr>
              <a:stCxn id="447" idx="0"/>
              <a:endCxn id="462" idx="2"/>
            </p:cNvCxnSpPr>
            <p:nvPr/>
          </p:nvCxnSpPr>
          <p:spPr>
            <a:xfrm flipV="1" rot="16200000">
              <a:off x="5857920" y="1110960"/>
              <a:ext cx="216720" cy="2609280"/>
            </a:xfrm>
            <a:prstGeom prst="bentConnector3">
              <a:avLst>
                <a:gd name="adj1" fmla="val 4958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63" name="_s1037"/>
            <p:cNvCxnSpPr>
              <a:stCxn id="452" idx="0"/>
              <a:endCxn id="462" idx="2"/>
            </p:cNvCxnSpPr>
            <p:nvPr/>
          </p:nvCxnSpPr>
          <p:spPr>
            <a:xfrm flipH="1" flipV="1" rot="5400000">
              <a:off x="4033800" y="1895760"/>
              <a:ext cx="216720" cy="1040040"/>
            </a:xfrm>
            <a:prstGeom prst="bentConnector3">
              <a:avLst>
                <a:gd name="adj1" fmla="val 49584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462" name="_s1038"/>
            <p:cNvSpPr/>
            <p:nvPr/>
          </p:nvSpPr>
          <p:spPr>
            <a:xfrm>
              <a:off x="3883320" y="1877400"/>
              <a:ext cx="1559880" cy="430560"/>
            </a:xfrm>
            <a:prstGeom prst="roundRect">
              <a:avLst>
                <a:gd name="adj" fmla="val 16667"/>
              </a:avLst>
            </a:prstGeom>
            <a:solidFill>
              <a:srgbClr val="c6695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800" bIns="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Органоиды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2" name="_s1039"/>
            <p:cNvSpPr/>
            <p:nvPr/>
          </p:nvSpPr>
          <p:spPr>
            <a:xfrm>
              <a:off x="2841840" y="2524320"/>
              <a:ext cx="1559880" cy="430920"/>
            </a:xfrm>
            <a:prstGeom prst="roundRect">
              <a:avLst>
                <a:gd name="adj" fmla="val 16667"/>
              </a:avLst>
            </a:prstGeom>
            <a:solidFill>
              <a:srgbClr val="c6695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800" bIns="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Мембранные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7" name="_s1040"/>
            <p:cNvSpPr/>
            <p:nvPr/>
          </p:nvSpPr>
          <p:spPr>
            <a:xfrm>
              <a:off x="6489720" y="2524320"/>
              <a:ext cx="1560240" cy="430920"/>
            </a:xfrm>
            <a:prstGeom prst="roundRect">
              <a:avLst>
                <a:gd name="adj" fmla="val 16667"/>
              </a:avLst>
            </a:prstGeom>
            <a:solidFill>
              <a:srgbClr val="c6695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800" bIns="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Verdana"/>
                </a:rPr>
                <a:t>Немембранные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5" name="_s1041"/>
            <p:cNvSpPr/>
            <p:nvPr/>
          </p:nvSpPr>
          <p:spPr>
            <a:xfrm>
              <a:off x="1274040" y="3171600"/>
              <a:ext cx="1587240" cy="430560"/>
            </a:xfrm>
            <a:prstGeom prst="roundRect">
              <a:avLst>
                <a:gd name="adj" fmla="val 16667"/>
              </a:avLst>
            </a:prstGeom>
            <a:solidFill>
              <a:srgbClr val="c6695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800" bIns="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Verdana"/>
                </a:rPr>
                <a:t>Одномембранные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9" name="_s1042"/>
            <p:cNvSpPr/>
            <p:nvPr/>
          </p:nvSpPr>
          <p:spPr>
            <a:xfrm>
              <a:off x="2328120" y="3818160"/>
              <a:ext cx="1560240" cy="514800"/>
            </a:xfrm>
            <a:prstGeom prst="roundRect">
              <a:avLst>
                <a:gd name="adj" fmla="val 16667"/>
              </a:avLst>
            </a:prstGeom>
            <a:solidFill>
              <a:srgbClr val="c6695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800" bIns="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ЭПС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7" name="_s1043"/>
            <p:cNvSpPr/>
            <p:nvPr/>
          </p:nvSpPr>
          <p:spPr>
            <a:xfrm>
              <a:off x="2328120" y="4549680"/>
              <a:ext cx="1560240" cy="514440"/>
            </a:xfrm>
            <a:prstGeom prst="roundRect">
              <a:avLst>
                <a:gd name="adj" fmla="val 16667"/>
              </a:avLst>
            </a:prstGeom>
            <a:solidFill>
              <a:srgbClr val="c6695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800" bIns="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Verdana"/>
                </a:rPr>
                <a:t>Комплекс 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Verdana"/>
                </a:rPr>
                <a:t>Гольджи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4" name="_s1044"/>
            <p:cNvSpPr/>
            <p:nvPr/>
          </p:nvSpPr>
          <p:spPr>
            <a:xfrm>
              <a:off x="2328120" y="5280480"/>
              <a:ext cx="1560240" cy="514800"/>
            </a:xfrm>
            <a:prstGeom prst="roundRect">
              <a:avLst>
                <a:gd name="adj" fmla="val 16667"/>
              </a:avLst>
            </a:prstGeom>
            <a:solidFill>
              <a:srgbClr val="c6695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800" bIns="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Лизосомы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0" name="_s1045"/>
            <p:cNvSpPr/>
            <p:nvPr/>
          </p:nvSpPr>
          <p:spPr>
            <a:xfrm>
              <a:off x="3355200" y="3171600"/>
              <a:ext cx="1587240" cy="430560"/>
            </a:xfrm>
            <a:prstGeom prst="roundRect">
              <a:avLst>
                <a:gd name="adj" fmla="val 16667"/>
              </a:avLst>
            </a:prstGeom>
            <a:solidFill>
              <a:srgbClr val="c6695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800" bIns="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Verdana"/>
                </a:rPr>
                <a:t>двумембранные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9" name="_s1046"/>
            <p:cNvSpPr/>
            <p:nvPr/>
          </p:nvSpPr>
          <p:spPr>
            <a:xfrm>
              <a:off x="4409280" y="3818160"/>
              <a:ext cx="1559880" cy="514800"/>
            </a:xfrm>
            <a:prstGeom prst="roundRect">
              <a:avLst>
                <a:gd name="adj" fmla="val 16667"/>
              </a:avLst>
            </a:prstGeom>
            <a:solidFill>
              <a:srgbClr val="c6695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800" bIns="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Митохондрии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5" name="_s1047"/>
            <p:cNvSpPr/>
            <p:nvPr/>
          </p:nvSpPr>
          <p:spPr>
            <a:xfrm>
              <a:off x="5436360" y="3171600"/>
              <a:ext cx="1586880" cy="430560"/>
            </a:xfrm>
            <a:prstGeom prst="roundRect">
              <a:avLst>
                <a:gd name="adj" fmla="val 16667"/>
              </a:avLst>
            </a:prstGeom>
            <a:solidFill>
              <a:srgbClr val="c6695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880" rIns="65880" tIns="32760" bIns="32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Рибосомы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4" name="_s1048"/>
            <p:cNvSpPr/>
            <p:nvPr/>
          </p:nvSpPr>
          <p:spPr>
            <a:xfrm>
              <a:off x="6489720" y="3818160"/>
              <a:ext cx="1560240" cy="514800"/>
            </a:xfrm>
            <a:prstGeom prst="roundRect">
              <a:avLst>
                <a:gd name="adj" fmla="val 16667"/>
              </a:avLst>
            </a:prstGeom>
            <a:solidFill>
              <a:srgbClr val="c6695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Клеточный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центр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ransition spd="med">
    <p:plus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Picture 6" descr="строение митохондрии"/>
          <p:cNvPicPr/>
          <p:nvPr/>
        </p:nvPicPr>
        <p:blipFill>
          <a:blip r:embed="rId1"/>
          <a:stretch/>
        </p:blipFill>
        <p:spPr>
          <a:xfrm>
            <a:off x="324000" y="1989000"/>
            <a:ext cx="4176720" cy="3888000"/>
          </a:xfrm>
          <a:prstGeom prst="rect">
            <a:avLst/>
          </a:prstGeom>
          <a:ln w="0">
            <a:noFill/>
          </a:ln>
        </p:spPr>
      </p:pic>
      <p:sp>
        <p:nvSpPr>
          <p:cNvPr id="465" name=""/>
          <p:cNvSpPr txBox="1"/>
          <p:nvPr/>
        </p:nvSpPr>
        <p:spPr>
          <a:xfrm>
            <a:off x="4648320" y="1719000"/>
            <a:ext cx="40384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451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Medium"/>
              </a:rPr>
              <a:t>от греч. mitos — нить и chondrion — зернышко, крупинка), органеллы животных и растительных клеток. В митохондрии протекают окислительно-восстановительные реакции, обеспечивающие клетки энергией. Число митохондрий в одной клетке от единиц до нескольких тысяч. У прокариот отсутствуют (их функцию выполняет клеточная мембрана).</a:t>
            </a:r>
            <a:endParaRPr b="0" lang="en-US" sz="18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Franklin Gothic Medium"/>
              </a:rPr>
              <a:t>МИТОХОНДРИИ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p:transition spd="med">
    <p:plus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Franklin Gothic Medium"/>
              </a:rPr>
              <a:t>ЭНДОПЛАЗМАТИЧЕСКАЯ СЕТЬ</a:t>
            </a:r>
            <a:endParaRPr b="0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  <p:pic>
        <p:nvPicPr>
          <p:cNvPr id="468" name="Picture 4" descr="Endoplaz_set"/>
          <p:cNvPicPr/>
          <p:nvPr/>
        </p:nvPicPr>
        <p:blipFill>
          <a:blip r:embed="rId1"/>
          <a:stretch/>
        </p:blipFill>
        <p:spPr>
          <a:xfrm>
            <a:off x="216000" y="1700280"/>
            <a:ext cx="4427280" cy="4897440"/>
          </a:xfrm>
          <a:prstGeom prst="rect">
            <a:avLst/>
          </a:prstGeom>
          <a:ln w="0">
            <a:noFill/>
          </a:ln>
        </p:spPr>
      </p:pic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710240" y="1557360"/>
            <a:ext cx="40384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Franklin Gothic Medium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Franklin Gothic Medium"/>
              </a:rPr>
              <a:t>Функции зернистой эндоплазматической сети:</a:t>
            </a:r>
            <a:endParaRPr b="0" lang="en-US" sz="16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lnSpc>
                <a:spcPct val="80000"/>
              </a:lnSpc>
              <a:spcBef>
                <a:spcPts val="400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Franklin Gothic Medium"/>
              </a:rPr>
              <a:t>синтез белков, предназначенных для выведения из клетки ("на экспорт");</a:t>
            </a:r>
            <a:endParaRPr b="0" lang="en-US" sz="16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lnSpc>
                <a:spcPct val="80000"/>
              </a:lnSpc>
              <a:spcBef>
                <a:spcPts val="400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Franklin Gothic Medium"/>
              </a:rPr>
              <a:t>отделение (сегрегация) синтезированного продукта от гиалоплазмы;</a:t>
            </a:r>
            <a:endParaRPr b="0" lang="en-US" sz="16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lnSpc>
                <a:spcPct val="80000"/>
              </a:lnSpc>
              <a:spcBef>
                <a:spcPts val="400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Franklin Gothic Medium"/>
              </a:rPr>
              <a:t>конденсация и модификация синтезированного белка;</a:t>
            </a:r>
            <a:endParaRPr b="0" lang="en-US" sz="16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lnSpc>
                <a:spcPct val="80000"/>
              </a:lnSpc>
              <a:spcBef>
                <a:spcPts val="400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Franklin Gothic Medium"/>
              </a:rPr>
              <a:t>транспорт синтезированных продуктов в цистерны пластинчатого комплекса или непосредственно из клетки;</a:t>
            </a:r>
            <a:endParaRPr b="0" lang="en-US" sz="16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lnSpc>
                <a:spcPct val="80000"/>
              </a:lnSpc>
              <a:spcBef>
                <a:spcPts val="400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Franklin Gothic Medium"/>
              </a:rPr>
              <a:t>синтез билипидных мембран.</a:t>
            </a:r>
            <a:endParaRPr b="0" lang="en-US" sz="16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Franklin Gothic Medium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Franklin Gothic Medium"/>
              </a:rPr>
              <a:t>Функции гладкой эндоплазматической сети:</a:t>
            </a:r>
            <a:endParaRPr b="0" lang="en-US" sz="16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lnSpc>
                <a:spcPct val="80000"/>
              </a:lnSpc>
              <a:spcBef>
                <a:spcPts val="400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Franklin Gothic Medium"/>
              </a:rPr>
              <a:t>участие в синтезе гликогена;</a:t>
            </a:r>
            <a:endParaRPr b="0" lang="en-US" sz="16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lnSpc>
                <a:spcPct val="80000"/>
              </a:lnSpc>
              <a:spcBef>
                <a:spcPts val="400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Franklin Gothic Medium"/>
              </a:rPr>
              <a:t>синтез липидов;</a:t>
            </a:r>
            <a:endParaRPr b="0" lang="en-US" sz="16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lnSpc>
                <a:spcPct val="80000"/>
              </a:lnSpc>
              <a:spcBef>
                <a:spcPts val="34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Franklin Gothic Medium"/>
              </a:rPr>
              <a:t>дезинтоксикационная функция - нейтрализация токсических веществ, посредством соединения их с другими веществами</a:t>
            </a:r>
            <a:r>
              <a:rPr b="0" lang="ru-RU" sz="1400" spc="-1" strike="noStrike">
                <a:solidFill>
                  <a:srgbClr val="000000"/>
                </a:solidFill>
                <a:latin typeface="Franklin Gothic Medium"/>
              </a:rPr>
              <a:t>.</a:t>
            </a:r>
            <a:endParaRPr b="0" lang="en-US" sz="14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34949"/>
              </a:solidFill>
              <a:latin typeface="Franklin Gothic Medium"/>
            </a:endParaRPr>
          </a:p>
        </p:txBody>
      </p:sp>
    </p:spTree>
  </p:cSld>
  <p:transition spd="med">
    <p:plus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Picture 4" descr="golgi"/>
          <p:cNvPicPr/>
          <p:nvPr/>
        </p:nvPicPr>
        <p:blipFill>
          <a:blip r:embed="rId1"/>
          <a:stretch/>
        </p:blipFill>
        <p:spPr>
          <a:xfrm>
            <a:off x="457200" y="2101680"/>
            <a:ext cx="4038480" cy="3641760"/>
          </a:xfrm>
          <a:prstGeom prst="rect">
            <a:avLst/>
          </a:prstGeom>
          <a:ln w="0">
            <a:noFill/>
          </a:ln>
        </p:spPr>
      </p:pic>
      <p:sp>
        <p:nvSpPr>
          <p:cNvPr id="471" name=""/>
          <p:cNvSpPr txBox="1"/>
          <p:nvPr/>
        </p:nvSpPr>
        <p:spPr>
          <a:xfrm>
            <a:off x="4648320" y="1719000"/>
            <a:ext cx="40384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lnSpc>
                <a:spcPct val="90000"/>
              </a:lnSpc>
              <a:spcBef>
                <a:spcPts val="34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Franklin Gothic Medium"/>
              </a:rPr>
              <a:t>Функции пластинчатого комплекса:</a:t>
            </a:r>
            <a:endParaRPr b="0" lang="en-US" sz="14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lnSpc>
                <a:spcPct val="90000"/>
              </a:lnSpc>
              <a:spcBef>
                <a:spcPts val="34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Franklin Gothic Medium"/>
              </a:rPr>
              <a:t>транспортная - выводит из клетки синтезированные в ней продукты;</a:t>
            </a:r>
            <a:endParaRPr b="0" lang="en-US" sz="14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lnSpc>
                <a:spcPct val="90000"/>
              </a:lnSpc>
              <a:spcBef>
                <a:spcPts val="34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Franklin Gothic Medium"/>
              </a:rPr>
              <a:t>конденсация и модификация веществ, синтезированных в зернистой эндоплазматической сети;</a:t>
            </a:r>
            <a:endParaRPr b="0" lang="en-US" sz="14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lnSpc>
                <a:spcPct val="90000"/>
              </a:lnSpc>
              <a:spcBef>
                <a:spcPts val="34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Franklin Gothic Medium"/>
              </a:rPr>
              <a:t>образование лизосом (совместно с зернистой эндоплазматической сетью);</a:t>
            </a:r>
            <a:endParaRPr b="0" lang="en-US" sz="14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lnSpc>
                <a:spcPct val="90000"/>
              </a:lnSpc>
              <a:spcBef>
                <a:spcPts val="34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Franklin Gothic Medium"/>
              </a:rPr>
              <a:t>участие в обмене углеводов;</a:t>
            </a:r>
            <a:endParaRPr b="0" lang="en-US" sz="14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lnSpc>
                <a:spcPct val="90000"/>
              </a:lnSpc>
              <a:spcBef>
                <a:spcPts val="34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Franklin Gothic Medium"/>
              </a:rPr>
              <a:t>синтез молекул, образующих гликокаликс цитолеммы;</a:t>
            </a:r>
            <a:endParaRPr b="0" lang="en-US" sz="14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lnSpc>
                <a:spcPct val="90000"/>
              </a:lnSpc>
              <a:spcBef>
                <a:spcPts val="34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Franklin Gothic Medium"/>
              </a:rPr>
              <a:t>синтез, накопление и выведение муцина (слизи);</a:t>
            </a:r>
            <a:endParaRPr b="0" lang="en-US" sz="14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lnSpc>
                <a:spcPct val="90000"/>
              </a:lnSpc>
              <a:spcBef>
                <a:spcPts val="34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Franklin Gothic Medium"/>
              </a:rPr>
              <a:t>модификация мембран, синтезированных в эндоплазматической сети и превращение их в мембраны плазмолеммы.</a:t>
            </a:r>
            <a:endParaRPr b="0" lang="en-US" sz="14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Franklin Gothic Medium"/>
              </a:rPr>
              <a:t>КОМПЛЕКС ГОЛЬДЖИ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p:transition spd="med">
    <p:plus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33 E">
                                      <p:cBhvr>
                                        <p:cTn id="6" dur="2000" fill="hold"/>
                                        <p:tgtEl>
                                          <p:spTgt spid="4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8T13:24:01Z</dcterms:created>
  <dc:creator>Войтенко</dc:creator>
  <dc:description/>
  <dc:language>en-US</dc:language>
  <cp:lastModifiedBy>user</cp:lastModifiedBy>
  <dcterms:modified xsi:type="dcterms:W3CDTF">2019-10-15T06:08:22Z</dcterms:modified>
  <cp:revision>14</cp:revision>
  <dc:subject/>
  <dc:title>Клеточное строение организма</dc:title>
</cp:coreProperties>
</file>