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24A-F03A-4E5E-A66D-1384AAD8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7E8-ADEB-409A-A176-938613B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47F-9AA6-4A30-BFC4-019153EA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0AD-D1DA-439D-9E84-2C1F74B7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ACF-5D4C-4115-8DAB-361BACF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28F-3BA7-4F00-BFC4-2201DD4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28F-B42B-4379-8387-90E49DE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BAD-E83E-411C-8869-6E3D8F51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77F-934C-4070-BF4A-752874D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AE1-52B7-405E-9ACF-D0DE5E2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501-45B9-4289-BBFF-7802044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078-B9DE-4A9F-BFA2-1CCF529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DAF-7A8E-47F4-A1D0-5492DA2C4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558200" cy="27637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ПРОЕКТ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на тему: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«Развитие логического мышления детей дошкольного возраста посредством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логико - математических иг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6200" y="3714840"/>
            <a:ext cx="45338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Выполнили:</a:t>
            </a:r>
            <a:br>
              <a:rPr sz="2000"/>
            </a:b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Тараскина О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Кавалжи Н.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Дидактическая игра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«Цвет и фор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6800" y="1500120"/>
            <a:ext cx="29005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тие мышления, внимания, памяти, вооб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Администратор\Рабочий стол\Новая папка (5)\P1020645.JPG"/>
          <p:cNvPicPr/>
          <p:nvPr/>
        </p:nvPicPr>
        <p:blipFill>
          <a:blip r:embed="rId1"/>
          <a:stretch/>
        </p:blipFill>
        <p:spPr>
          <a:xfrm>
            <a:off x="3924360" y="1484280"/>
            <a:ext cx="4316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Дидактическая игра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«Что перепутал художник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6800" y="1928520"/>
            <a:ext cx="3328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тие речи, лог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нимания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образ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Documents and Settings\Администратор\Рабочий стол\Новая папка (5)\P1020646.JPG"/>
          <p:cNvPicPr/>
          <p:nvPr/>
        </p:nvPicPr>
        <p:blipFill>
          <a:blip r:embed="rId1"/>
          <a:stretch/>
        </p:blipFill>
        <p:spPr>
          <a:xfrm>
            <a:off x="3981600" y="1474920"/>
            <a:ext cx="425448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Лото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 «Мои любимые сказ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3857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звивать речь детей, мышление, память. Ребенку  необходимо по силуэту узнать персонажа сказки, назвать его и те сказки, в которых он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13112008(010).jpg"/>
          <p:cNvPicPr/>
          <p:nvPr/>
        </p:nvPicPr>
        <p:blipFill>
          <a:blip r:embed="rId1"/>
          <a:stretch/>
        </p:blipFill>
        <p:spPr>
          <a:xfrm>
            <a:off x="4284720" y="1557360"/>
            <a:ext cx="425448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0438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Домино</a:t>
            </a:r>
            <a:br>
              <a:rPr sz="4400"/>
            </a:b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«Герои мультфильм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3500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Ц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звитие внимания, зрительного восприятия, комбинаторных и логических  способностей, учит находить одинаковые картинки и соединять их в це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Рабочий стол\Новая папка (5)\P1020643.JPG"/>
          <p:cNvPicPr/>
          <p:nvPr/>
        </p:nvPicPr>
        <p:blipFill>
          <a:blip r:embed="rId1"/>
          <a:stretch/>
        </p:blipFill>
        <p:spPr>
          <a:xfrm>
            <a:off x="3924360" y="1773360"/>
            <a:ext cx="445608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накомство родителей с содержанием работы по програм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работка консультаций для родителей по 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екомендации для родителей по использованию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звитие логического мышления происходит постепенно. Для одного ребенка больше характерно наглядно-образное мышление, для другого – наглядно-действенное, а третий с легкостью оперирует поня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Дидактическая игра одна из форм развития логического мышления. В процессе игры активизируются разнообразные умственные процессы и принимают произволь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именение дидактических игр повышает эффективность педагогического процесса, кроме того, они способны развитию памяти, мышления, внимания, воображения у детей, оказывая огромное влияние на умственное развитие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роанализировать развитие логического мышления детей старшего дошкольного возраста посредством логико-математически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пособствовать развитию познавательной активност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вать творческие и интеллектуальные   способности детей;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вать  воображение детей;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вать  логическое мышление детей;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высить уровень знаний детей по развитию элементарных математических представлений;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вать умственные способности детей через логико-математически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Актуальность темы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менно с логического мышления начинается формирование мировоззр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процессе развития логического мышления у ребенка формируются умения рассуждать, делать умозаключения в соответствии с законами логики, построение причинно-следственных свя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акже развиваются такие качества как: любознательность, сообразительность, смекалка, наблюдательность, самостоятельность, память,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428480"/>
            <a:ext cx="829152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вивается речь ребенка, так как он высказывается посредством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владение логическими формами мышления в дошкольном возрасте способствует развитию умственных способностей, что необходимо для успешного  перехода детей к школьному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Формы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у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Истинное и лож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Общее, частичное и едини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Утвердительное и отрица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оня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Житейск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Нау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моза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Индуктив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Дедуктив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Умозаключение по ана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Средства развивающие логическое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0012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тихотворные тексты на развитие операций обобщения, классификации и конкре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гры и упражнения на установление причинно-следственных связей в природных и социальных я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нятия, игры и упражнение на развитие операций сравнения и установления причи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гадки. Задачи – ш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гры-головолом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гры с счетными пало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гадывание реб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Развив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327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 группе создана предметно - развивающая среда, выделен специальный стеллаж с наличием дидактических игр по развитию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1020655"/>
          <p:cNvPicPr/>
          <p:nvPr/>
        </p:nvPicPr>
        <p:blipFill>
          <a:blip r:embed="rId1"/>
          <a:stretch/>
        </p:blipFill>
        <p:spPr>
          <a:xfrm>
            <a:off x="4500720" y="1557360"/>
            <a:ext cx="347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Дидактическая игра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«Врем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36147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чить детей определять время по механическим и   электронным часам, так же ориентироваться во времени суток. Развивать логическое мышление, усидчивость и вним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Администратор\Рабочий стол\Новая папка (5)\P1020644.JPG"/>
          <p:cNvPicPr/>
          <p:nvPr/>
        </p:nvPicPr>
        <p:blipFill>
          <a:blip r:embed="rId1"/>
          <a:stretch/>
        </p:blipFill>
        <p:spPr>
          <a:xfrm>
            <a:off x="4067280" y="1484280"/>
            <a:ext cx="43830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5:28:49Z</dcterms:created>
  <dc:creator>Катерина</dc:creator>
  <dc:description/>
  <dc:language>en-US</dc:language>
  <cp:lastModifiedBy>Oksana</cp:lastModifiedBy>
  <dcterms:modified xsi:type="dcterms:W3CDTF">2019-09-22T09:54:31Z</dcterms:modified>
  <cp:revision>32</cp:revision>
  <dc:subject/>
  <dc:title>ПРОЕКТ  на тему: «Развитие логического мышления детей дошкольного возраста по средствам  логико - математических игр»</dc:title>
</cp:coreProperties>
</file>