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1B8-7BED-4CDD-9F32-820FDA80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78D-B4E0-41C7-8090-2A9ACAD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FCD-F159-4549-A3EF-D7E5AC3B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E27-CBCF-4F20-8B65-3AA57FDF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98D6-6662-401C-B88C-2534C5BC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AF05-0DC2-4035-96FC-38E6ED8E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49C-30F3-419C-B6A5-0FDC10D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9E6E-4849-4189-906E-9A0EFC6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2E76-6E3D-48C9-864E-E0B0271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094-98ED-4F21-A4FD-1F0BC65B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08B8-DF28-40D6-A98A-0CDE754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9FE-765A-44FE-AA6F-7B8242F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942-8957-4D21-B324-E7E6CEC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180-D282-4296-A60D-07ACD6C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7AE-169F-481C-BF4E-191666C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7B7-99AD-427F-A995-2955201A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C0A3-88BD-4784-BEA6-D410B9E0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8AF-9F29-46EA-AD97-504666FD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78E-D647-4A30-AB89-F53E806D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8FB-A876-4600-B54C-B92A5367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AF4-0CD9-46EC-8372-1E67979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B83-8E46-43FC-896C-D42C03A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6CF-7DEA-463D-9873-8E05026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404-8A3E-43DD-BE8F-B3DAF7F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CC7-87D7-43C7-8C65-D16448E4EB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5A4-2095-43C2-A27C-8C76317AC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Verdana"/>
              </a:rPr>
              <a:t>История моего посел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у выполнили: учащиеся 8-б класс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итель: Григорьева Л.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временный поселок Берегово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256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асть муниципального образования «Ладушкинский городской округ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ители п. Береговое пожелали стать городскими жителями и присоединиться к г. Ладушки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P1040776"/>
          <p:cNvPicPr/>
          <p:nvPr/>
        </p:nvPicPr>
        <p:blipFill>
          <a:blip r:embed="rId1"/>
          <a:stretch/>
        </p:blipFill>
        <p:spPr>
          <a:xfrm>
            <a:off x="1743120" y="2928960"/>
            <a:ext cx="5648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годня в Береговом в 302 домах и квартирах приписано (зарегистрировано) 1390 человек, но ещё около 100 семей снимают в нем жилье, имея паспортную регистрацию в других населенных пунктах. Не мало в нем как после военных переселенцев из Беларуси, так и тех, кто переехал сюда с белорусской Гомельщины после чернобыльской катастрофы. Жители работают на звероферме, разводят норок. Здесь же находится пошивочный цех Прекрасно чувствуют себя в курортном месте взрослые и дети. В абсолютно всех домах или квартирах природный газ, канализация, центральное отопление, горячая вода, водопров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P1040778"/>
          <p:cNvPicPr/>
          <p:nvPr/>
        </p:nvPicPr>
        <p:blipFill>
          <a:blip r:embed="rId1"/>
          <a:stretch/>
        </p:blipFill>
        <p:spPr>
          <a:xfrm>
            <a:off x="4500720" y="1928880"/>
            <a:ext cx="420984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, что природой вокруг Берегового отличается высокой экологической стабильностью подтверждается ещё и 14-ю крупными базами курортного профиля и лечебно-оздоровительного назначения, построенными в советские времена. На север от поселка тянется по берегу залива сосновый лес длинной 6,5 ,а на юг- в сторону Бальги- 17,5 км., и шириной до 5 км. В Калининградском заливе очень богато кормовая база для рыбы, поэтому она здесь намного жирнее и вкуснее, чем в Куршском заливе. Запросто поймать с лодки крупного судака, леща, угря, чехонь, плотву тут не считается уделом только рыболовов-мастер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4643280" y="2419200"/>
            <a:ext cx="39243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деревянного храма в поселке население восприняло с воодушевлением. После объявления о сборе средств на колокола, иконостас, церковное убранство и благоустройство церковной территории, в списке пожертвовавших средства вскоре уже было около 150 фамилий. Женатые уже по пять, десять и более лет береговчане или ладушкинцы устанавливают между собой негласную очередь на венчание в своей церкви, другие –намечают даты крещения детише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говое, в принципе, обычный населенный пункт, в котором живут обычные россияне со своими заботами, радостями и трудностями, как и во всей Святой Рус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P1040777"/>
          <p:cNvPicPr/>
          <p:nvPr/>
        </p:nvPicPr>
        <p:blipFill>
          <a:blip r:embed="rId1"/>
          <a:stretch/>
        </p:blipFill>
        <p:spPr>
          <a:xfrm>
            <a:off x="4857840" y="178596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Церковь-одно из достопримечательностей Берегового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3"/>
          <p:cNvPicPr/>
          <p:nvPr/>
        </p:nvPicPr>
        <p:blipFill>
          <a:blip r:embed="rId1"/>
          <a:stretch/>
        </p:blipFill>
        <p:spPr>
          <a:xfrm>
            <a:off x="971640" y="2133720"/>
            <a:ext cx="301464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1040777"/>
          <p:cNvPicPr/>
          <p:nvPr/>
        </p:nvPicPr>
        <p:blipFill>
          <a:blip r:embed="rId2"/>
          <a:stretch/>
        </p:blipFill>
        <p:spPr>
          <a:xfrm>
            <a:off x="5234040" y="1911240"/>
            <a:ext cx="2719440" cy="2054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P1040779"/>
          <p:cNvPicPr/>
          <p:nvPr/>
        </p:nvPicPr>
        <p:blipFill>
          <a:blip r:embed="rId3"/>
          <a:stretch/>
        </p:blipFill>
        <p:spPr>
          <a:xfrm>
            <a:off x="5292720" y="4365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6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рта г. Ладушкина и Берегов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img001"/>
          <p:cNvPicPr/>
          <p:nvPr/>
        </p:nvPicPr>
        <p:blipFill>
          <a:blip r:embed="rId1"/>
          <a:stretch/>
        </p:blipFill>
        <p:spPr>
          <a:xfrm>
            <a:off x="3068640" y="1752480"/>
            <a:ext cx="2997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83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ни защищали Родину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Содержимое 4" descr="5.jpg"/>
          <p:cNvPicPr/>
          <p:nvPr/>
        </p:nvPicPr>
        <p:blipFill>
          <a:blip r:embed="rId1"/>
          <a:stretch/>
        </p:blipFill>
        <p:spPr>
          <a:xfrm>
            <a:off x="5292720" y="1557360"/>
            <a:ext cx="3494160" cy="4629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546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Verdana"/>
              </a:rPr>
              <a:t>Корнешенков  Егор Иванович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одился в 1924г. В Калининградскую обл. приехал в 1947г. Прошел всю войну с честью и доблестью. В области восстанавливал хутора, город. Был секретарем партийной организации.  С 1961г. был направлен в Береговое. После работы обязательно все встречались на собраниях. Егор Иванович имеет множество награ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86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ни защищали Родин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Содержимое 10" descr="1.jpg"/>
          <p:cNvPicPr/>
          <p:nvPr/>
        </p:nvPicPr>
        <p:blipFill>
          <a:blip r:embed="rId1"/>
          <a:stretch/>
        </p:blipFill>
        <p:spPr>
          <a:xfrm>
            <a:off x="5219640" y="1557360"/>
            <a:ext cx="3086280" cy="4556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475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Verdana"/>
              </a:rPr>
              <a:t>Бобков Николай Иванови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одился 30.04.1922г. В 19 лет отправился на фронт. В 1948 году приехал в поселок Корнево. В 1950 году он женился на местной девушке, и жили в п. Сосновка. Досуг у них был один: танцы. С 1964г. переехали в п. Береговое. Николай Иванович- ветеран труда, имеет множество наград. К сожалению, недавно он ушел из жизни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елок Береговое – история и жизнь в нескольких веках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4" descr="4"/>
          <p:cNvPicPr/>
          <p:nvPr/>
        </p:nvPicPr>
        <p:blipFill>
          <a:blip r:embed="rId1"/>
          <a:stretch/>
        </p:blipFill>
        <p:spPr>
          <a:xfrm>
            <a:off x="428760" y="1752480"/>
            <a:ext cx="835812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ь связь времен п. Береговое от Тевтонского ордена до наших д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4" descr="n62n-s10.jpg"/>
          <p:cNvPicPr/>
          <p:nvPr/>
        </p:nvPicPr>
        <p:blipFill>
          <a:blip r:embed="rId1"/>
          <a:stretch/>
        </p:blipFill>
        <p:spPr>
          <a:xfrm>
            <a:off x="2214720" y="3286080"/>
            <a:ext cx="4929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Сбор исторических данных о п. Береговое 2. Определение рубежей исторического развития п. Берегов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Составления материала, описывающего историю п. Береговое, начиная с 1410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erso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img00j1"/>
          <p:cNvPicPr/>
          <p:nvPr/>
        </p:nvPicPr>
        <p:blipFill>
          <a:blip r:embed="rId1"/>
          <a:stretch/>
        </p:blipFill>
        <p:spPr>
          <a:xfrm>
            <a:off x="1031760" y="1752480"/>
            <a:ext cx="2995560" cy="426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g004"/>
          <p:cNvPicPr/>
          <p:nvPr/>
        </p:nvPicPr>
        <p:blipFill>
          <a:blip r:embed="rId2"/>
          <a:stretch/>
        </p:blipFill>
        <p:spPr>
          <a:xfrm>
            <a:off x="5106960" y="1752480"/>
            <a:ext cx="2997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4" descr="img002.jpg"/>
          <p:cNvPicPr/>
          <p:nvPr/>
        </p:nvPicPr>
        <p:blipFill>
          <a:blip r:embed="rId1"/>
          <a:stretch/>
        </p:blipFill>
        <p:spPr>
          <a:xfrm>
            <a:off x="108000" y="0"/>
            <a:ext cx="4214880" cy="664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53578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сня 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ersort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Рисунок 4" descr="4236-173x130n.jpg"/>
          <p:cNvPicPr/>
          <p:nvPr/>
        </p:nvPicPr>
        <p:blipFill>
          <a:blip r:embed="rId2"/>
          <a:stretch/>
        </p:blipFill>
        <p:spPr>
          <a:xfrm>
            <a:off x="5143680" y="3000240"/>
            <a:ext cx="31478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ория Патерсорта(Берегово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Содержимое 5" descr="169.gif"/>
          <p:cNvPicPr/>
          <p:nvPr/>
        </p:nvPicPr>
        <p:blipFill>
          <a:blip r:embed="rId1"/>
          <a:stretch/>
        </p:blipFill>
        <p:spPr>
          <a:xfrm>
            <a:off x="3995640" y="1204920"/>
            <a:ext cx="4691160" cy="5032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первые Патерсорт упомянут в летописях Тевтонского Ордена крестоносцев от 1352 года. Наука о топонимике считает, что отсчет времени появления населения с данным названием начинается с наиболее раннего упоминания о нем в письменных источниках. Археологи не всегда с этим согласны. Их раскопки подтверждают нахождение многих поселений в тех же местах задолго до упоминания в документах. То же самое произошло и с древним Патерсортом, а по- современному - поселком Береговым под Ладушкиным. Раскопанная на его окраине стоянка первобытныхлюдей с найденными каменными орудиями, и находки в кургане украшений более позднего бронзового века подтверждают, что народ тут живет с незапамятных време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-33552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мае 1697 года в наших краях охотился Пётр 1(под именем Петра Михайлова), уже начавший «прорубать окно в Европу». В составе Великого посольства русский царь инкогнито побывал в Пиллау (Балтийск), где от души поплясал на свадьбе шкипера Лянге. Потом он на парусной лодке переплыл залив, и, как свидетельствуют документы, заночевал на берегу между Бранденбургом (Ушаково) и Патерсортом (Береговое). С утра он поохотился там, на оленей, которых ему выгоняли из леса местные жители, и уплыл в Кёнигсберг. Да и позднее, в ноябре 1711 года царь с женой Екатериной ехал в карете через Патерсорт из Эльбинга в Кёнигсберг по пути в Ригу. Ещё через 5 лет, в феврале и апреле 1716 года, он дважды с женой был в Патерсорте по пути из Риги в Германию, и обратно - из Данцига в Митаву. Здесь  всегда все останавливались перекусить и размять ноги, так что не исключено, что медом его обязательно угощали. Патерсорт издревле славился бортниками, добывающими мед, как диких пчел, так и переселенных колоды на деревьях в окрестных лес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Рисунок 4" descr="9.jpg"/>
          <p:cNvPicPr/>
          <p:nvPr/>
        </p:nvPicPr>
        <p:blipFill>
          <a:blip r:embed="rId1"/>
          <a:stretch/>
        </p:blipFill>
        <p:spPr>
          <a:xfrm>
            <a:off x="571680" y="3213000"/>
            <a:ext cx="2487600" cy="32371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e2port.jpg"/>
          <p:cNvPicPr/>
          <p:nvPr/>
        </p:nvPicPr>
        <p:blipFill>
          <a:blip r:embed="rId2"/>
          <a:stretch/>
        </p:blipFill>
        <p:spPr>
          <a:xfrm>
            <a:off x="5003640" y="3233880"/>
            <a:ext cx="2743200" cy="31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-6732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013 году через поселок проследовала траурная процессия войск на иссиня-черных вороных конях, в середине колонны которых запряженная цугом шестерка лошадей тащила лафет артиллерийской пушки. Покрытый российскими знаменами на лофете стоял гроб с телом победителя в войне 1812 года, командующего русскими войсками генерала-фельдмаршала М.Кутузова, почившего 16 апреля этого же года в немецком городе Бунцлау. «Славная смерть лучше, чем бесславная жизнь»,- это кажется его выражени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огда французы задержались в Патерсорте недолго, едва успев похоронить умерших в дороге на берегу речушки, протекавшей через поселок, и посадить у могилы 3 дуба, как было всегда, когда они хоронили своих на чужбине.(2 из тех 3 дубов, кстати, растут и сейчас). К слову, в Патерсорте рядом с дубом Наполеона стоял каштан с табличкой, который посадил соратник императора герцог фон Ауерштадт, проезжавший и ночевавший здесь чуть раньше, а именно 10 июня 1812 год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Рисунок 5" descr="1392.jpg"/>
          <p:cNvPicPr/>
          <p:nvPr/>
        </p:nvPicPr>
        <p:blipFill>
          <a:blip r:embed="rId1"/>
          <a:stretch/>
        </p:blipFill>
        <p:spPr>
          <a:xfrm>
            <a:off x="571680" y="3357720"/>
            <a:ext cx="3047760" cy="2806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napoleon_01.jpg"/>
          <p:cNvPicPr/>
          <p:nvPr/>
        </p:nvPicPr>
        <p:blipFill>
          <a:blip r:embed="rId2"/>
          <a:stretch/>
        </p:blipFill>
        <p:spPr>
          <a:xfrm>
            <a:off x="5572080" y="3286080"/>
            <a:ext cx="2095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2:18:07Z</dcterms:created>
  <dc:creator>Настёна</dc:creator>
  <dc:description/>
  <dc:language>en-US</dc:language>
  <cp:lastModifiedBy>User</cp:lastModifiedBy>
  <dcterms:modified xsi:type="dcterms:W3CDTF">2019-10-16T09:22:21Z</dcterms:modified>
  <cp:revision>22</cp:revision>
  <dc:subject/>
  <dc:title>PowerPoint Presentation</dc:title>
</cp:coreProperties>
</file>