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2.gif" ContentType="image/gif"/>
  <Override PartName="/ppt/media/image11.jpeg" ContentType="image/jpeg"/>
  <Override PartName="/ppt/media/image17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2.jpeg" ContentType="image/jpeg"/>
  <Override PartName="/ppt/media/image3.gif" ContentType="image/gif"/>
  <Override PartName="/ppt/media/image7.png" ContentType="image/png"/>
  <Override PartName="/ppt/media/image1.jpeg" ContentType="image/jpeg"/>
  <Override PartName="/ppt/media/image4.jpeg" ContentType="image/jpeg"/>
  <Override PartName="/ppt/media/image5.gif" ContentType="image/gif"/>
  <Override PartName="/ppt/media/image14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9BEE-408A-46F9-8C00-A66B6691A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C170-6BB6-4DF5-AD7B-0C6D49B2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F528-CC4C-44F7-8FAA-08182CFD9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52F1-F0F4-4B45-A48D-EAD90B7C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3D37-8DE1-4353-B04F-FE373F32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3F6B-3EC1-4BF0-8A08-4C3BCA23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F1A0-CFDB-4811-8537-C4A3EDC0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8149-663A-49A4-AC39-DEFB8328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8300-2950-4F41-96E2-0554FB32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0FC3-96A1-45A0-9934-6BB91101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1A14-5A33-4D34-9597-9971539F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2B16-CB93-473D-8305-BEC2B3A9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A4F4-F132-44F8-8C6E-BBE6939770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8"/>
          <p:cNvSpPr/>
          <p:nvPr/>
        </p:nvSpPr>
        <p:spPr>
          <a:xfrm>
            <a:off x="571680" y="500040"/>
            <a:ext cx="8001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7030a0"/>
                </a:solidFill>
                <a:latin typeface="Comic Sans MS"/>
              </a:rPr>
              <a:t>День яблочного настроен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yabloko-animatsionnaya-kartinka-0024"/>
          <p:cNvPicPr/>
          <p:nvPr/>
        </p:nvPicPr>
        <p:blipFill>
          <a:blip r:embed="rId2"/>
          <a:stretch/>
        </p:blipFill>
        <p:spPr>
          <a:xfrm>
            <a:off x="2786040" y="4572000"/>
            <a:ext cx="1928880" cy="1905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yabloko-animatsionnaya-kartinka-0011"/>
          <p:cNvPicPr/>
          <p:nvPr/>
        </p:nvPicPr>
        <p:blipFill>
          <a:blip r:embed="rId3"/>
          <a:stretch/>
        </p:blipFill>
        <p:spPr>
          <a:xfrm>
            <a:off x="5500800" y="4572000"/>
            <a:ext cx="1357200" cy="177156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320040" y="6357960"/>
            <a:ext cx="66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, воспитатель ГПД Морозова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6858000" y="635796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-2019 уч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Картинки по запросу яблочные фоны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285840" y="500040"/>
            <a:ext cx="1315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какой сказке царь хотел помолоде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 помощью яблок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1714680" y="1857240"/>
            <a:ext cx="5786280" cy="434052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Картинки по запросу яблочные фоны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2"/>
          <p:cNvSpPr/>
          <p:nvPr/>
        </p:nvSpPr>
        <p:spPr>
          <a:xfrm>
            <a:off x="285840" y="57168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какой сказке царевна съела кусочек отравленного яблока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Картинки по запросу сказка о мертвой царевне и о семи богатырях"/>
          <p:cNvPicPr/>
          <p:nvPr/>
        </p:nvPicPr>
        <p:blipFill>
          <a:blip r:embed="rId2"/>
          <a:stretch/>
        </p:blipFill>
        <p:spPr>
          <a:xfrm>
            <a:off x="2357280" y="1928880"/>
            <a:ext cx="4286520" cy="405288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Картинки по запросу яблочные фоны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3"/>
          <p:cNvSpPr/>
          <p:nvPr/>
        </p:nvSpPr>
        <p:spPr>
          <a:xfrm>
            <a:off x="357120" y="428760"/>
            <a:ext cx="842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какой сказке яблоня спасла детей  от преследовавших их гусей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2"/>
          <a:stretch/>
        </p:blipFill>
        <p:spPr>
          <a:xfrm>
            <a:off x="2576520" y="1714680"/>
            <a:ext cx="313848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Картинки по запросу яблочные фоны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Картинки по запросу яблоки в саду"/>
          <p:cNvPicPr/>
          <p:nvPr/>
        </p:nvPicPr>
        <p:blipFill>
          <a:blip r:embed="rId2"/>
          <a:stretch/>
        </p:blipFill>
        <p:spPr>
          <a:xfrm>
            <a:off x="928800" y="428760"/>
            <a:ext cx="7334280" cy="550044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Картинки по запросу яблочные фоны для презентаций"/>
          <p:cNvPicPr/>
          <p:nvPr/>
        </p:nvPicPr>
        <p:blipFill>
          <a:blip r:embed="rId1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G:\День яблочного настроения\фото Юля\YQ9DPAf-jtw.jpg"/>
          <p:cNvPicPr/>
          <p:nvPr/>
        </p:nvPicPr>
        <p:blipFill>
          <a:blip r:embed="rId2"/>
          <a:stretch/>
        </p:blipFill>
        <p:spPr>
          <a:xfrm>
            <a:off x="428760" y="428760"/>
            <a:ext cx="8381880" cy="56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Картинки по запросу яблочные фоны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Картинки по запросу яблочный спас"/>
          <p:cNvPicPr/>
          <p:nvPr/>
        </p:nvPicPr>
        <p:blipFill>
          <a:blip r:embed="rId2"/>
          <a:stretch/>
        </p:blipFill>
        <p:spPr>
          <a:xfrm>
            <a:off x="2071800" y="42876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2071800" y="5429160"/>
            <a:ext cx="421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19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авгус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Картинки по запросу яблочные фоны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1000080" y="357120"/>
            <a:ext cx="7215120" cy="569916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Картинки по запросу яблочные фоны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571680" y="357120"/>
            <a:ext cx="792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Яблоку негде упасть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russievirtuelle.com/locutions/23/bildoj/589.gif"/>
          <p:cNvPicPr/>
          <p:nvPr/>
        </p:nvPicPr>
        <p:blipFill>
          <a:blip r:embed="rId2"/>
          <a:stretch/>
        </p:blipFill>
        <p:spPr>
          <a:xfrm>
            <a:off x="1643040" y="1428840"/>
            <a:ext cx="5902200" cy="456732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Картинки по запросу яблочные фоны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500040" y="357120"/>
            <a:ext cx="82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Яблоко от яблони недалеко падает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2214720" y="2000160"/>
            <a:ext cx="4894200" cy="39672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Картинки по запросу яблочные фоны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642960" y="500040"/>
            <a:ext cx="792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Попасть в яблочко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Картинки по запросу 3. Попасть в яблочко"/>
          <p:cNvPicPr/>
          <p:nvPr/>
        </p:nvPicPr>
        <p:blipFill>
          <a:blip r:embed="rId2"/>
          <a:stretch/>
        </p:blipFill>
        <p:spPr>
          <a:xfrm>
            <a:off x="1428840" y="1071720"/>
            <a:ext cx="4876560" cy="487656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Картинки по запросу яблочные фоны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642960" y="500040"/>
            <a:ext cx="792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Яблоко раздора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Картинки по запросу Яблоко раздора миф"/>
          <p:cNvPicPr/>
          <p:nvPr/>
        </p:nvPicPr>
        <p:blipFill>
          <a:blip r:embed="rId2"/>
          <a:stretch/>
        </p:blipFill>
        <p:spPr>
          <a:xfrm>
            <a:off x="1714680" y="1714680"/>
            <a:ext cx="5643360" cy="427032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Картинки по запросу яблочные фоны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2428920" y="1571760"/>
            <a:ext cx="4214880" cy="451008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642960" y="500040"/>
            <a:ext cx="792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Яблоко Ньютона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Картинки по запросу яблочные фоны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1500120" y="35712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Comic Sans MS"/>
              </a:rPr>
              <a:t>Викторин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357120" y="142884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 какому блюдечку катится наливное яблочко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Картинки по запросу серебряное блюдечко и наливное яблочко картинки"/>
          <p:cNvPicPr/>
          <p:nvPr/>
        </p:nvPicPr>
        <p:blipFill>
          <a:blip r:embed="rId2"/>
          <a:stretch/>
        </p:blipFill>
        <p:spPr>
          <a:xfrm>
            <a:off x="2857680" y="2428920"/>
            <a:ext cx="3786120" cy="3786120"/>
          </a:xfrm>
          <a:prstGeom prst="rect">
            <a:avLst/>
          </a:prstGeom>
          <a:ln w="0">
            <a:noFill/>
          </a:ln>
        </p:spPr>
      </p:pic>
      <p:sp>
        <p:nvSpPr>
          <p:cNvPr id="78" name="TextBox 5"/>
          <p:cNvSpPr/>
          <p:nvPr/>
        </p:nvSpPr>
        <p:spPr>
          <a:xfrm>
            <a:off x="1500120" y="35712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Comic Sans MS"/>
              </a:rPr>
              <a:t>Викторин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5T09:26:02Z</dcterms:created>
  <dc:creator>Юра</dc:creator>
  <dc:description/>
  <dc:language>en-US</dc:language>
  <cp:lastModifiedBy>operator</cp:lastModifiedBy>
  <dcterms:modified xsi:type="dcterms:W3CDTF">2019-10-16T13:57:41Z</dcterms:modified>
  <cp:revision>65</cp:revision>
  <dc:subject/>
  <dc:title>Слайд 1</dc:title>
</cp:coreProperties>
</file>