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640" y="836640"/>
            <a:ext cx="8677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atreshka"/>
                <a:ea typeface="Arial Unicode MS"/>
              </a:rPr>
              <a:t>Муниципальное дошкольное образовательное учреждение «Детский сад комбинированного вида «Звездочка» г.Балашова Саратовской области»</a:t>
            </a:r>
            <a:endParaRPr b="1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94920" y="2097000"/>
            <a:ext cx="817236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 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абытые традиции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: 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итатель МДОУ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/с «Звездочка» г.Балашова 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линкова Татьяна Петровна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1640" y="728640"/>
            <a:ext cx="8172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Очень часто за событиями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И за сутолокою дней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Старины своей не помним,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Забываем мы о ней.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Стали более привычны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Нам полёты на Луну.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Вспомним старые обычаи!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 Вспомним нашу старину!</a:t>
            </a:r>
            <a:br>
              <a:rPr sz="3200"/>
            </a:br>
            <a:br>
              <a:rPr sz="1800"/>
            </a:b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87280" y="657360"/>
            <a:ext cx="853272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астоящий человек начинается там, 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есть святыни души» 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.А.Сухомлинский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блему духовно- нравственного воспитания необходимо решать уже в дошкольном возрасте, как самом эмоциональном и восприимчивом периоде детства, когда “сердца открыты для добродетели”. Известно, что основой духовно- нравственного воспитания является культура общества, семьи и образовательного учреждения - той среды, в которой живет ребенок, в которой происходит становление и развитие. </a:t>
            </a:r>
            <a:endParaRPr b="0" lang="en-US" sz="22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ультура - это прежде всего система ценностей, закрепленная в традициях. Удивительное и загадочное явление народной культуры - праздники и традиции. </a:t>
            </a:r>
            <a:endParaRPr b="0" lang="en-US" sz="22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5"/>
          <p:cNvSpPr/>
          <p:nvPr/>
        </p:nvSpPr>
        <p:spPr>
          <a:xfrm>
            <a:off x="4211640" y="765000"/>
            <a:ext cx="453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– поистине уникальная страна, которая наряду с высокоразвитой современной культурой бережно хранит традиции своей нации, глубоко уходящие корнями в историю. Многие праздники и традиции, на которых строился образ жизни  человека, стерлись из нашей исторической памяти или свернулись до простейших и безынтересных дей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D:\Desktop\просмотр\фото\конкурс\DSCN6344.JPG"/>
          <p:cNvPicPr/>
          <p:nvPr/>
        </p:nvPicPr>
        <p:blipFill>
          <a:blip r:embed="rId1"/>
          <a:stretch/>
        </p:blipFill>
        <p:spPr>
          <a:xfrm>
            <a:off x="216000" y="907920"/>
            <a:ext cx="3924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016000" y="654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ждество Христово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4896000" y="1197000"/>
            <a:ext cx="39481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ый праздник Рождества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счастливей  торжеств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чь рождения Хрис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землей зажглась Звезда.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:\Desktop\просмотр\фото\Фото 8 марта\3V3A0767 копия.jpg"/>
          <p:cNvPicPr/>
          <p:nvPr/>
        </p:nvPicPr>
        <p:blipFill>
          <a:blip r:embed="rId1"/>
          <a:stretch/>
        </p:blipFill>
        <p:spPr>
          <a:xfrm>
            <a:off x="4500720" y="2889360"/>
            <a:ext cx="4228920" cy="33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:\Desktop\просмотр\фото\Фото 8 марта\3V3A0792 копия.jpg"/>
          <p:cNvPicPr/>
          <p:nvPr/>
        </p:nvPicPr>
        <p:blipFill>
          <a:blip r:embed="rId2"/>
          <a:stretch/>
        </p:blipFill>
        <p:spPr>
          <a:xfrm>
            <a:off x="539640" y="1521000"/>
            <a:ext cx="32590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5724360" y="1628640"/>
            <a:ext cx="30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еница! Маслениц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е бока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 солнце ластится 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весна близ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D:\Desktop\просмотр\фото\масленица\SDC10986.JPG"/>
          <p:cNvPicPr/>
          <p:nvPr/>
        </p:nvPicPr>
        <p:blipFill>
          <a:blip r:embed="rId1"/>
          <a:stretch/>
        </p:blipFill>
        <p:spPr>
          <a:xfrm>
            <a:off x="-13033440" y="-9833040"/>
            <a:ext cx="5261040" cy="406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D:\Desktop\просмотр\фото\масленица\SDC10986.JPG"/>
          <p:cNvPicPr/>
          <p:nvPr/>
        </p:nvPicPr>
        <p:blipFill>
          <a:blip r:embed="rId2"/>
          <a:stretch/>
        </p:blipFill>
        <p:spPr>
          <a:xfrm>
            <a:off x="250920" y="1341360"/>
            <a:ext cx="4787640" cy="3167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332000" y="728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ирокая Масл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E:\DCIM\100SSCAM\SDC10973.JPG"/>
          <p:cNvPicPr/>
          <p:nvPr/>
        </p:nvPicPr>
        <p:blipFill>
          <a:blip r:embed="rId3"/>
          <a:stretch/>
        </p:blipFill>
        <p:spPr>
          <a:xfrm>
            <a:off x="4748040" y="3687840"/>
            <a:ext cx="4395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622880" y="654120"/>
            <a:ext cx="671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сха Пасх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светлый праздник воскресения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5148360" y="1700280"/>
            <a:ext cx="36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яркая раскраск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м домой, явилась пасх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ла в своём лукошк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йца, булочки, лепёш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, блины и ча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ху весело встреч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E:\DCIM\100SSCAM\SDC11064.JPG"/>
          <p:cNvPicPr/>
          <p:nvPr/>
        </p:nvPicPr>
        <p:blipFill>
          <a:blip r:embed="rId1"/>
          <a:stretch/>
        </p:blipFill>
        <p:spPr>
          <a:xfrm>
            <a:off x="250920" y="1773360"/>
            <a:ext cx="4800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3959280" y="137628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белым крылом у тебя за плечами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й ангел-хранитель следит за тобой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будет он сильным, от бед защищает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ведь праздник – День Ангела тв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3059280" y="728640"/>
            <a:ext cx="476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нины, а не день рожде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C:\Users\админ\Desktop\садик 015.jpg"/>
          <p:cNvPicPr/>
          <p:nvPr/>
        </p:nvPicPr>
        <p:blipFill>
          <a:blip r:embed="rId1"/>
          <a:stretch/>
        </p:blipFill>
        <p:spPr>
          <a:xfrm>
            <a:off x="358920" y="2852640"/>
            <a:ext cx="44989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503280" y="83664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егодня много говорим о возрождении семь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смыслить духовное значение нашей жизни, вернуть благодатный смысл нашим именам. И возрождение традиции праздновать людям именины — прекрасный повод, идеальный праздник для укрепления семьи, замечательная традиция, которую надо вспомнить и насаж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 поздравляем наших родных и знакомых с Днем Ангела. Так не будем же забывать об этой прекрасной, способствующей укреплению семьи  старинной традиции - праздновать имен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RePack by Diakov</cp:lastModifiedBy>
  <dcterms:modified xsi:type="dcterms:W3CDTF">2019-10-04T16:59:58Z</dcterms:modified>
  <cp:revision>90</cp:revision>
  <dc:subject/>
  <dc:title>Слайд 1</dc:title>
</cp:coreProperties>
</file>