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27F-CE56-42AE-88C9-A4EF3FCF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02A-495C-4668-A563-90334509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149-05CF-46C2-B9A2-CBD748F7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9D6-E040-46DD-B5B2-B51AAFC3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A25F-586B-434D-BFC0-811778ED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894E-1BB7-4B32-8E08-980DE750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7741-5F8E-4271-B203-CFFAFDED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8E42-9809-4D04-AF0D-E67AD163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C44D-A4BA-450F-8C29-19C05D62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D99C-5DD1-4C0D-89D1-178AA806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B0F4-F844-4096-92D0-533F906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B15-4326-4D0F-88C8-942E1B53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336A-4615-4C96-9283-0C1E25B8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03CE-8C5A-4F22-A031-7504FA6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9548-DB9D-4CBF-B5E6-799256E9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2709-7C26-4AFC-A785-846ED418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4BE3-A395-4327-9FDA-9B299411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E844-AD3C-4C77-BB3D-A35B843A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68CA-A66B-4431-89C4-78FBC4D2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7FCC-29D9-49AD-A642-79F845E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493B-4372-412A-B83F-F8EAB9C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2160-A619-4912-8110-83E238D3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AF7-9E05-40A6-B716-A54E5024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D1364-8E38-46D9-8F2A-2CFE49D5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5B4C-E469-43D4-A1EB-1D326C24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13B4-1B8F-43E5-A93F-62C41D9E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12B9-5C18-4952-9940-63E2990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5D1B-3020-4B49-83D5-0A6BCFEC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CE21F-86B6-4871-9A01-E3E9F09A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87E4-4A88-4563-8798-47A0D54C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78D-4466-4553-94C4-9452376D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30C-B21F-47E5-BBBD-9DBB11D2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424-1DD1-4C9F-A97C-28BFD101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95F-40F6-4D8E-81E3-9A83A5D1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25C-AC13-425B-A0A3-3FF6D327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3AD-7B5F-4F9B-90EC-D9F97995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ab886d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6593-BC63-446E-9B99-AD00E6544A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5E5A-2F51-42E9-91EF-58CAE1BA8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ab886d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2793-402F-4DD4-8341-8759EB759E0C}" type="slidenum"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5040360" cy="247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История часов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5364000" y="5229360"/>
            <a:ext cx="29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ыполнила: Шаповаленко Ирина,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10 с класс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пншн"/>
          <p:cNvPicPr/>
          <p:nvPr/>
        </p:nvPicPr>
        <p:blipFill>
          <a:blip r:embed="rId1"/>
          <a:stretch/>
        </p:blipFill>
        <p:spPr>
          <a:xfrm>
            <a:off x="1547640" y="189000"/>
            <a:ext cx="490716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Comic Sans MS"/>
              </a:rPr>
              <a:t>Песочные часы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35280" y="1268280"/>
            <a:ext cx="5183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mic Sans MS"/>
              </a:rPr>
              <a:t>Дата возникновения первых песочных часов неизвестна. Однако по сохранившимся данным можно полагать, что принцип песочных часов был известен в Азии значительно раньше начала нашего летоисчисления Упоминания песочных часах , имеются уже со времен Архимеда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6" name="Picture 4" descr="Песочные часы"/>
          <p:cNvPicPr/>
          <p:nvPr/>
        </p:nvPicPr>
        <p:blipFill>
          <a:blip r:embed="rId1"/>
          <a:stretch/>
        </p:blipFill>
        <p:spPr>
          <a:xfrm>
            <a:off x="324000" y="1557360"/>
            <a:ext cx="35337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525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Западноевропейские страны стали иметь дело с песочными часами лишь в конце средневековья. Одним из самых старых упоминаний о таких часах является сообщение от 1339 г., обнаруженное в Париже, содержащее указание по приготовлению тонкого песка из просеянного порошка черного мрамора, прокипяченного в вине и высушенного на солнце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8" name="Picture 7" descr="Песочные часы3"/>
          <p:cNvPicPr/>
          <p:nvPr/>
        </p:nvPicPr>
        <p:blipFill>
          <a:blip r:embed="rId1"/>
          <a:stretch/>
        </p:blipFill>
        <p:spPr>
          <a:xfrm>
            <a:off x="5651640" y="620640"/>
            <a:ext cx="3294000" cy="56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69796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Но были у песочных часов и недостатки. Самым существенным «минусом» песочных часов считалось то, что интервал времени, который можно было измерить, не переворачивая эти часы , был сравнительно короткий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Традиционные песочные часы рассчитывались на работу в течение получаса или часа . Реже встречались песочные часы , рассчитанные на непрерывное измерение времени в течение 3 ч, и лишь в совершенно редких случаях строили огромные песочные часы , рассчитанные на 12 ч хода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22" name="Picture 5" descr="10"/>
          <p:cNvPicPr/>
          <p:nvPr/>
        </p:nvPicPr>
        <p:blipFill>
          <a:blip r:embed="rId1"/>
          <a:stretch/>
        </p:blipFill>
        <p:spPr>
          <a:xfrm>
            <a:off x="179280" y="260280"/>
            <a:ext cx="5472360" cy="5472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2foto"/>
          <p:cNvPicPr/>
          <p:nvPr/>
        </p:nvPicPr>
        <p:blipFill>
          <a:blip r:embed="rId2"/>
          <a:stretch/>
        </p:blipFill>
        <p:spPr>
          <a:xfrm>
            <a:off x="1258920" y="1700280"/>
            <a:ext cx="4824360" cy="482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Песочные часы 2"/>
          <p:cNvPicPr/>
          <p:nvPr/>
        </p:nvPicPr>
        <p:blipFill>
          <a:blip r:embed="rId3"/>
          <a:stretch/>
        </p:blipFill>
        <p:spPr>
          <a:xfrm>
            <a:off x="4643280" y="260280"/>
            <a:ext cx="4262760" cy="62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Comic Sans MS"/>
              </a:rPr>
              <a:t>Огневые часы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mic Sans MS"/>
              </a:rPr>
              <a:t>Помимо солнечных и водяных часов, с начала XIII в. появились и первые огневые – свечные часы. Эти очень простые часы в виде длинной тонкой свечи с нанесенной по ее длине шкалой, сравнительно удовлетворительно показывали время, а в ночные часы они еще и освещали жилища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27" name="Picture 4" descr="чм"/>
          <p:cNvPicPr/>
          <p:nvPr/>
        </p:nvPicPr>
        <p:blipFill>
          <a:blip r:embed="rId1"/>
          <a:stretch/>
        </p:blipFill>
        <p:spPr>
          <a:xfrm>
            <a:off x="6227640" y="333360"/>
            <a:ext cx="2608560" cy="62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347640" y="549000"/>
            <a:ext cx="54817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omic Sans MS"/>
              </a:rPr>
              <a:t>Известны огненные часы - будильник. В этих часах к спирали или палочке в определенных местах подвешивались металлические шарики, которые при сгорании спирали (палочки) падали в фарфоровую вазу, производя громкий звон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29" name="Picture 4" descr="чвпвк"/>
          <p:cNvPicPr/>
          <p:nvPr/>
        </p:nvPicPr>
        <p:blipFill>
          <a:blip r:embed="rId1"/>
          <a:stretch/>
        </p:blipFill>
        <p:spPr>
          <a:xfrm>
            <a:off x="468360" y="260280"/>
            <a:ext cx="302400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Comic Sans MS"/>
              </a:rPr>
              <a:t>Водяные часы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mic Sans MS"/>
              </a:rPr>
              <a:t>Эта группа простейших часов прошла долгий путь развития, сопровождавшийся возникновением интересных принципов действия и конструктивных элементов. Некоторые из них, например зубчатые передачи, ролики, цепные подвески и гири, нашли применение в последующей эре хронометрии – эре механических часов. Это относится главным образом к водяным часам, которые после солнечных часов занимали второе место по количеству и были самыми важными в этой группе простейших часов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����-��������� ������"/>
          <p:cNvPicPr/>
          <p:nvPr/>
        </p:nvPicPr>
        <p:blipFill>
          <a:blip r:embed="rId1"/>
          <a:stretch/>
        </p:blipFill>
        <p:spPr>
          <a:xfrm>
            <a:off x="4460760" y="907920"/>
            <a:ext cx="4432320" cy="5545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519444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omic Sans MS"/>
              </a:rPr>
              <a:t>.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Самая интересная эра водяных часов связана с Грецией. Легендарной фигурой в области изготовления «клепсидр» стал известный греческий механик Ктезибий Александрийский, живший примерно 150 лет до н.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10237606"/>
          <p:cNvPicPr/>
          <p:nvPr/>
        </p:nvPicPr>
        <p:blipFill>
          <a:blip r:embed="rId1"/>
          <a:stretch/>
        </p:blipFill>
        <p:spPr>
          <a:xfrm>
            <a:off x="4427640" y="260280"/>
            <a:ext cx="4716360" cy="61642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5796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omic Sans MS"/>
              </a:rPr>
              <a:t>Сохранились сообщения о двух приборах – часах Ктезибия. В часах, приводимых водяным колесом, Ктезибий осуществил идею передачи сил и движения зубчатым механизмом, проект которого еще в IV в. до н.э. теоретически наметил Аристотель, но практически использовал лишь Ктезибий.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Comic Sans MS"/>
              </a:rPr>
              <a:t>Солнечные часы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Появление солнечных часов связано с моментом, когда человек осознал взаимосвязь между длиной и положением солнечной тени от тех или иных предметов и положением Солнца на небе.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89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2"/>
          <p:cNvPicPr/>
          <p:nvPr/>
        </p:nvPicPr>
        <p:blipFill>
          <a:blip r:embed="rId1"/>
          <a:stretch/>
        </p:blipFill>
        <p:spPr>
          <a:xfrm>
            <a:off x="4572000" y="0"/>
            <a:ext cx="4336920" cy="6202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94036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одяные часы были важной вехой в историческом развитии хронометрических приборов. Выражение «aquam perdo» (теряю воду), которое было крылатым в эпоху Цицерона, подтверждает, какую важную роль играли водяные часы при ораторских выступлениях, судебных заседаниях и в общественной жизни вообще. Исключительно большая заслуга греков в совершенствовании этих часов удивительно контрастирует с пассивным отношением к этим техническим новинкам со стороны римлян, которые ознакомились с первыми водяными часами лишь по сообщениям Плиния, в 172 г. до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8"/>
          <p:cNvPicPr/>
          <p:nvPr/>
        </p:nvPicPr>
        <p:blipFill>
          <a:blip r:embed="rId1"/>
          <a:stretch/>
        </p:blipFill>
        <p:spPr>
          <a:xfrm>
            <a:off x="4500720" y="907920"/>
            <a:ext cx="4378320" cy="5616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Comic Sans MS"/>
              </a:rPr>
              <a:t>Механические час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568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ервое упоминание о механических часах содержится в византийской антологии конец 6 в. Одни историки приписывают изобретение механических часов Пацификусу из Вероны (начало 9 в.), другие - монаху Герберту (впоследствии папа Сильвестр II), якобы в 996 сделавшему гиревые башенные часы для г. Магдебурга, которые не были механическими часами в современном понимании. Достоверно известно, что простые по конструкции механические башенные часы были построены в Милане в 1335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4"/>
          <p:cNvPicPr/>
          <p:nvPr/>
        </p:nvPicPr>
        <p:blipFill>
          <a:blip r:embed="rId1"/>
          <a:stretch/>
        </p:blipFill>
        <p:spPr>
          <a:xfrm>
            <a:off x="5435640" y="1268280"/>
            <a:ext cx="3708360" cy="4537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5627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mic Sans MS"/>
              </a:rPr>
              <a:t>В 14 в. появились первые механические часы со шпиндельным спуском. Около 1510 нюрнбергский механик П. Хенлейн впервые применил вместо гирь стальную пружину и создал карманные часы со шпиндельным механизмом. Из-за несовершенства пружин и самого шпиндельного механизма, не имеющего собственного периода колебаний, показания этих часов сильно зависели от степени заводки пружины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5"/>
          <p:cNvPicPr/>
          <p:nvPr/>
        </p:nvPicPr>
        <p:blipFill>
          <a:blip r:embed="rId1"/>
          <a:stretch/>
        </p:blipFill>
        <p:spPr>
          <a:xfrm>
            <a:off x="0" y="549360"/>
            <a:ext cx="5651640" cy="568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516480" y="476280"/>
            <a:ext cx="5627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</a:rPr>
              <a:t>В России в 18 в. над совершенствованием часов, в частности спускового механизма и способов температурной компенсации, работали выдающиеся механики Кулибин, Т. И. Волосков, инженер Л. Сабакин.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45"/>
          <p:cNvPicPr/>
          <p:nvPr/>
        </p:nvPicPr>
        <p:blipFill>
          <a:blip r:embed="rId1"/>
          <a:stretch/>
        </p:blipFill>
        <p:spPr>
          <a:xfrm>
            <a:off x="4284720" y="1949400"/>
            <a:ext cx="4859280" cy="4287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5256000" cy="58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mic Sans MS"/>
              </a:rPr>
              <a:t>Кулибин создал ряд уникальных часов, в том числе хранящиеся в Эрмитаже часы в форме яйца, с фигурами, автоматически выполняющими во время боя сложные движения; карманные планетарные часы с семью стрелками, показывающими часы, минуты, секунды, дни недели, месяцы, фазы Луны, восход и заход Солнца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780000" y="449280"/>
            <a:ext cx="536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omic Sans MS"/>
              </a:rPr>
              <a:t>Наиболее распространены механические часы с механическим (пружинным, гиревым) приводом. Основные узлы современных механических часов  - двигатель, система колёс, ход или спусковой механизм, регулятор, стрелочный механизм и механизм заводки часов.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49" name="Picture 5" descr="укк"/>
          <p:cNvPicPr/>
          <p:nvPr/>
        </p:nvPicPr>
        <p:blipFill>
          <a:blip r:embed="rId1"/>
          <a:stretch/>
        </p:blipFill>
        <p:spPr>
          <a:xfrm>
            <a:off x="0" y="1341360"/>
            <a:ext cx="3684600" cy="50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9" name="Picture 5" descr="ыап"/>
          <p:cNvPicPr/>
          <p:nvPr/>
        </p:nvPicPr>
        <p:blipFill>
          <a:blip r:embed="rId1"/>
          <a:stretch/>
        </p:blipFill>
        <p:spPr>
          <a:xfrm>
            <a:off x="1979640" y="260280"/>
            <a:ext cx="5607000" cy="6408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енкне"/>
          <p:cNvPicPr/>
          <p:nvPr/>
        </p:nvPicPr>
        <p:blipFill>
          <a:blip r:embed="rId2"/>
          <a:stretch/>
        </p:blipFill>
        <p:spPr>
          <a:xfrm>
            <a:off x="324000" y="404640"/>
            <a:ext cx="8605800" cy="5816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нг"/>
          <p:cNvPicPr/>
          <p:nvPr/>
        </p:nvPicPr>
        <p:blipFill>
          <a:blip r:embed="rId3"/>
          <a:stretch/>
        </p:blipFill>
        <p:spPr>
          <a:xfrm>
            <a:off x="324000" y="260280"/>
            <a:ext cx="864072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4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7" nodeType="afterEffect" fill="hold" presetClass="exit" presetID="5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4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5" nodeType="afterEffect" fill="hold" presetClass="exit" presetID="5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4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Гномон, вертикальный обелиск со шкалой, нанесенной на земле, был первыми солнечными часами, измерявшими время по длине отбрасываемой т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gnomon"/>
          <p:cNvPicPr/>
          <p:nvPr/>
        </p:nvPicPr>
        <p:blipFill>
          <a:blip r:embed="rId1"/>
          <a:stretch/>
        </p:blipFill>
        <p:spPr>
          <a:xfrm>
            <a:off x="1403280" y="1844640"/>
            <a:ext cx="576108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5" name="Picture 4" descr="мингшн"/>
          <p:cNvPicPr/>
          <p:nvPr/>
        </p:nvPicPr>
        <p:blipFill>
          <a:blip r:embed="rId1"/>
          <a:stretch/>
        </p:blipFill>
        <p:spPr>
          <a:xfrm>
            <a:off x="324000" y="333360"/>
            <a:ext cx="4405320" cy="3319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кекн"/>
          <p:cNvPicPr/>
          <p:nvPr/>
        </p:nvPicPr>
        <p:blipFill>
          <a:blip r:embed="rId2"/>
          <a:stretch/>
        </p:blipFill>
        <p:spPr>
          <a:xfrm>
            <a:off x="4643280" y="1125360"/>
            <a:ext cx="4321440" cy="3248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епвкн"/>
          <p:cNvPicPr/>
          <p:nvPr/>
        </p:nvPicPr>
        <p:blipFill>
          <a:blip r:embed="rId3"/>
          <a:stretch/>
        </p:blipFill>
        <p:spPr>
          <a:xfrm>
            <a:off x="1187280" y="3429000"/>
            <a:ext cx="4753080" cy="31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omic Sans MS"/>
              </a:rPr>
              <a:t>Египтянам эти обелиски служили одновременно для почитания культа бога Солнца. Эти священные обелиски стояли перед входами в храмы. Первые обелиски предназначавшиеся в Египте для измерения времени, были построены, по всей вероятности, уже в XIV в. до н.э. До сих пор сохранился такой обелиск высотой в 35,5 м на площади св. Петра в Риме.</a:t>
            </a:r>
            <a:r>
              <a:rPr b="0" i="1" lang="ru-RU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omic Sans MS"/>
              </a:rPr>
              <a:t>Разновидности солнечных часов были весьма многообразны. Интересны кольцевые солнечные часы – один из вариантов дорожных солнечных часов, – которые очень часто одновременно служили и в качестве декоративной подвески, описание часов подобного рода в виде перстня с печатью содержится в книге «De compositione annuli astronomici», написанной врачом Боне и изданной в Париже в 1500 г.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18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Comic Sans MS"/>
              </a:rPr>
              <a:t>Кольцевые солнечные часы: высотные(слева);экваториальные (спра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kolcevееgif"/>
          <p:cNvPicPr/>
          <p:nvPr/>
        </p:nvPicPr>
        <p:blipFill>
          <a:blip r:embed="rId1"/>
          <a:stretch/>
        </p:blipFill>
        <p:spPr>
          <a:xfrm>
            <a:off x="1403280" y="1197000"/>
            <a:ext cx="65534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древности солнечные часы имели широкое распространение. Но и сегодня солнечные часы можно увидеть в Санкт-Петербурге. В музее Арктики и Антарктики хранятся трое солнечных часов, обнаруженных при раскопках в Сибири. Солнечные часы сохранились на Московском проспекте и на Васильевском острове в Санкт-Петербурге, а также в городе Пушкине у Орловских ворот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4:40:43Z</dcterms:created>
  <dc:creator>Собака Ярик</dc:creator>
  <dc:description/>
  <dc:language>en-US</dc:language>
  <cp:lastModifiedBy>Наталья Юрьева Борисовна</cp:lastModifiedBy>
  <dcterms:modified xsi:type="dcterms:W3CDTF">2019-10-16T13:31:13Z</dcterms:modified>
  <cp:revision>8</cp:revision>
  <dc:subject/>
  <dc:title>История часов.</dc:title>
</cp:coreProperties>
</file>