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489-9C4C-44F9-B1F4-02CB2F93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B90-94E8-440D-B34A-885C4C80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8AD-62AC-42CF-B0D6-39CA6BE3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F20-4212-49C5-BC49-CFBA6079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BBD3-82EC-46DB-B99D-9E76D61F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C1D5-D148-4D44-948B-8250A956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FDAC-2CF6-46F7-935F-F99AA708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9B65-6AA4-4811-9CD9-6C5A0ADC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2E85-012A-4351-ACD3-E5739F54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B896-905B-4134-AFDF-740230AF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A674-3684-4CCD-9449-712B4462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08D-99F6-4891-9185-9882CB88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361A-2EE4-40FA-872E-DB6F5217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77DA-1E60-40F3-BDBD-AF0AA677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951E-814E-472D-8C8E-031E8C02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2276-5D6A-45DF-8DEA-D4ABEEA9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B892-CAC9-4F21-B309-83C8D30D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FB1-F259-4099-A6F6-4251AAA4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7A3-4D0A-43D1-A23A-6824768D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913-DD7D-4148-8D9A-1DED674A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61E-47D0-4B4C-9EB0-41F768A5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932-E02B-4D29-864B-3E29D951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770-88CF-4C08-9AC2-90BEC510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8FB-D97E-4982-B263-E266C7B3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14CA-3B18-4725-AB65-B757981C98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E37D-4993-4CF6-A5BD-DC2FF78F95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000080" y="1285920"/>
            <a:ext cx="71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5560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</a:rPr>
              <a:t>«Влияние художественной литературы на духовное  развитие подрост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560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Урок-исслед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3320" y="4076640"/>
            <a:ext cx="32446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 подготови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 Тихонова зав. школьной библиоте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02b"/>
                </a:solidFill>
                <a:latin typeface="Times New Roman"/>
              </a:rPr>
              <a:t>Исследование имени Насти и Митраши </a:t>
            </a:r>
            <a:br>
              <a:rPr sz="3200"/>
            </a:br>
            <a:r>
              <a:rPr b="0" lang="ru-RU" sz="3200" spc="-1" strike="noStrike">
                <a:solidFill>
                  <a:srgbClr val="00602b"/>
                </a:solidFill>
                <a:latin typeface="Times New Roman"/>
              </a:rPr>
              <a:t>(таблица Класт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28880" y="1811160"/>
          <a:ext cx="7043400" cy="3992760"/>
        </p:xfrm>
        <a:graphic>
          <a:graphicData uri="http://schemas.openxmlformats.org/drawingml/2006/table">
            <a:tbl>
              <a:tblPr/>
              <a:tblGrid>
                <a:gridCol w="1757160"/>
                <a:gridCol w="600120"/>
                <a:gridCol w="2357280"/>
                <a:gridCol w="757440"/>
                <a:gridCol w="1571400"/>
              </a:tblGrid>
              <a:tr h="3967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скресш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стя и Митра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митр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лотая куроч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огиня Диме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фликт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Выбор своего пут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лнеч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еделияплодоро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зяй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зяин зем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cxnSp>
        <p:nvCxnSpPr>
          <p:cNvPr id="100" name="Прямая со стрелкой 5"/>
          <p:cNvCxnSpPr/>
          <p:nvPr/>
        </p:nvCxnSpPr>
        <p:spPr>
          <a:xfrm flipH="1" flipV="1">
            <a:off x="2785680" y="2141280"/>
            <a:ext cx="5724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Прямая со стрелкой 7"/>
          <p:cNvCxnSpPr/>
          <p:nvPr/>
        </p:nvCxnSpPr>
        <p:spPr>
          <a:xfrm>
            <a:off x="5785920" y="2142720"/>
            <a:ext cx="7153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Прямая со стрелкой 11"/>
          <p:cNvCxnSpPr/>
          <p:nvPr/>
        </p:nvCxnSpPr>
        <p:spPr>
          <a:xfrm flipH="1">
            <a:off x="4570200" y="2428560"/>
            <a:ext cx="21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Прямая со стрелкой 12"/>
          <p:cNvCxnSpPr/>
          <p:nvPr/>
        </p:nvCxnSpPr>
        <p:spPr>
          <a:xfrm flipH="1">
            <a:off x="7214400" y="2571840"/>
            <a:ext cx="25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Прямая со стрелкой 16"/>
          <p:cNvCxnSpPr/>
          <p:nvPr/>
        </p:nvCxnSpPr>
        <p:spPr>
          <a:xfrm flipH="1">
            <a:off x="7214400" y="3642840"/>
            <a:ext cx="2520" cy="3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Прямая со стрелкой 17"/>
          <p:cNvCxnSpPr/>
          <p:nvPr/>
        </p:nvCxnSpPr>
        <p:spPr>
          <a:xfrm flipH="1">
            <a:off x="7286400" y="500076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Прямая со стрелкой 18"/>
          <p:cNvCxnSpPr/>
          <p:nvPr/>
        </p:nvCxnSpPr>
        <p:spPr>
          <a:xfrm flipH="1">
            <a:off x="1856520" y="2499840"/>
            <a:ext cx="2520" cy="3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Прямая со стрелкой 19"/>
          <p:cNvCxnSpPr/>
          <p:nvPr/>
        </p:nvCxnSpPr>
        <p:spPr>
          <a:xfrm flipH="1">
            <a:off x="-3500640" y="2858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>
            <a:off x="1856520" y="3642840"/>
            <a:ext cx="2520" cy="3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Прямая со стрелкой 21"/>
          <p:cNvCxnSpPr/>
          <p:nvPr/>
        </p:nvCxnSpPr>
        <p:spPr>
          <a:xfrm flipH="1">
            <a:off x="1856520" y="4714920"/>
            <a:ext cx="25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02b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примере главных героев писатель показывает силу, красоту человека, его могуществ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мысл произведения заключается в единении человека и природ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02b"/>
                </a:solidFill>
                <a:latin typeface="Times New Roman"/>
              </a:rPr>
              <a:t>Виктор Петрович Астаф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5" descr="111825_640.jpg"/>
          <p:cNvPicPr/>
          <p:nvPr/>
        </p:nvPicPr>
        <p:blipFill>
          <a:blip r:embed="rId1"/>
          <a:stretch/>
        </p:blipFill>
        <p:spPr>
          <a:xfrm>
            <a:off x="1603440" y="1500120"/>
            <a:ext cx="59371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02b"/>
                </a:solidFill>
                <a:latin typeface="Times New Roman"/>
              </a:rPr>
              <a:t>Метод исследования:</a:t>
            </a:r>
            <a:br>
              <a:rPr sz="4000"/>
            </a:br>
            <a:r>
              <a:rPr b="1" lang="ru-RU" sz="4000" spc="-1" strike="noStrike">
                <a:solidFill>
                  <a:srgbClr val="00602b"/>
                </a:solidFill>
                <a:latin typeface="Times New Roman"/>
              </a:rPr>
              <a:t>таблица П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5640" y="1531800"/>
          <a:ext cx="8229600" cy="4969080"/>
        </p:xfrm>
        <a:graphic>
          <a:graphicData uri="http://schemas.openxmlformats.org/drawingml/2006/table">
            <a:tbl>
              <a:tblPr/>
              <a:tblGrid>
                <a:gridCol w="2257560"/>
                <a:gridCol w="5972040"/>
              </a:tblGrid>
              <a:tr h="1768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 (плю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исание пряника конем, то что у Вити есть бабушка, то что семья Левонтия не была жадной, описание природы, доброта бабушки ее великодушие, доброта дедуш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76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 (мину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 вели себя дети Левонтия,  как жили их родители, описание избы этой семьи, то  что мальчик обманул бабушку, то что соседские мальчишки лазали в чужой огор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4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 (интерес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знать больше о реке Енисее, о жизни  в Сибири в послевоенное время, узнать  о пряниках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02b"/>
                </a:solidFill>
                <a:latin typeface="Times New Roman"/>
              </a:rPr>
              <a:t>Диалог с текс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воспитывали  Вит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Бабушка – внуку: «Повезу свои ягоды в город, твои тоже продам и куплю тебе пряник конем»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чит зарабатывать день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Бабушка никогда не позволяла таскаться с кусками хлеба: «Ешь за столом, иначе худо будет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Дисциплинирует вну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Бабушка корила Левонтия за безделье, перечисляла работу. которую он должен был сделать в доме и вокруг дом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равнодушие желание помоч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воспитывали детей в семье Левон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«Когда даешь левонтьевскому Саньке или Таньке откусывать, надо держать пальцами то место, по которое откусит положено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ровят цапнуть побольш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«Какая-то неспокойность. Лихорадка, что ли, охватывали в день получки не только левонтьевский   дом, но и всех соседей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ета и нестабильность не сулят ничего хорошег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02b"/>
                </a:solidFill>
                <a:latin typeface="Times New Roman"/>
              </a:rPr>
              <a:t>Работа со слова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ловарь сибирских слов  В.Астафье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Конь с розовой гривой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ишь и не запнешша             -бежишь и не зацепишь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-от                                     - дол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дь отсюдова                          - выйди отсю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мовниху                                 -домо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тятко                                       -дит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ски выглядывать                    - попрошайни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бода                                       -своб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й малой                                  -мой мальч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ачил                                       -потак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02b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 Не всегда  нужно наказывать физичес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рощение -это не награда, а освобождение от напряжения вины прощаемог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рощение облагораживает человека, заставляет задуматься над своим поступк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02b"/>
                </a:solidFill>
                <a:latin typeface="Times New Roman"/>
              </a:rPr>
              <a:t>Валентин Григорьевич Распу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одержимое 4" descr="file7cd7872b9804075043116cb95b47a56d.jpg"/>
          <p:cNvPicPr/>
          <p:nvPr/>
        </p:nvPicPr>
        <p:blipFill>
          <a:blip r:embed="rId1"/>
          <a:stretch/>
        </p:blipFill>
        <p:spPr>
          <a:xfrm>
            <a:off x="2643120" y="1257480"/>
            <a:ext cx="3857760" cy="5211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02b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602b"/>
                </a:solidFill>
                <a:latin typeface="Times New Roman"/>
              </a:rPr>
              <a:t>Простой и  цитатный план по рассказу Распутина « Уроки французско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сто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3360" y="1857240"/>
            <a:ext cx="4039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Одиночество мальч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Дра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Снова изби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Занятия французским язы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Игра в «замеряш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Лидия Михайл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1458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татны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14880" y="1857240"/>
            <a:ext cx="44719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6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«Но едва я оставался один, сразу навалилась тоск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6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«Не было в тот день и не могло быть во всем белом свете человека несчастнее мен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6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«Но больше всего подгонял голод. Мне нужен был рубль - уже на молоко, а не на хлеб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6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«Я шел туда как на пытку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6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«Что ж давайте играть по-настоящему, Лидия Михайловна, если хотит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6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«Раньше я видел яблоки только на картинках, но догадался, что это он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02b"/>
                </a:solidFill>
                <a:latin typeface="Times New Roman"/>
              </a:rPr>
              <a:t>Уроки добр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. Настоящая мать всю жизнь заботится о своих детях, и дети должны быть благодарны ей за это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. Будь самостоятельным, гордым. Заботься о себе сам. Не надейся на окружающи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 Будь добрым и отзывчивым, люби люде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. Не горячись, уступи тем, кому все равно не докажешь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.  Будь принципиальным. Не пресмыкайс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539640" y="10526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71680" y="713880"/>
            <a:ext cx="81151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02b"/>
                </a:solidFill>
                <a:latin typeface="Times New Roman"/>
              </a:rPr>
              <a:t>Цель: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лияние художественной литературы на духовно-нравственное   развитие подростк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02b"/>
                </a:solidFill>
                <a:latin typeface="Times New Roman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вести анализ посещения библиоте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вести опрос в классе на тему: «Значение книги в жизни современного школьника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анализировать проблематику произведений и выяснить, какие уроки они несут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крыть духовные ценности, нравственные законы в жизни героев произведен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ть коммуникативные навыки и сценические ум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ывать любовь к природе, окружающей сред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готовить проектный продукт « Музей трех произведений»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готовить презентацию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02b"/>
                </a:solidFill>
                <a:latin typeface="Times New Roman"/>
              </a:rPr>
              <a:t>Алфавит эмо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22440" y="1571760"/>
          <a:ext cx="8021520" cy="3749400"/>
        </p:xfrm>
        <a:graphic>
          <a:graphicData uri="http://schemas.openxmlformats.org/drawingml/2006/table">
            <a:tbl>
              <a:tblPr/>
              <a:tblGrid>
                <a:gridCol w="1520640"/>
                <a:gridCol w="1500120"/>
                <a:gridCol w="1857600"/>
                <a:gridCol w="1714320"/>
                <a:gridCol w="14288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фавит  эмо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схи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е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бр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ал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юбо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2626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и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д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част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2626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пл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02b"/>
                </a:solidFill>
                <a:latin typeface="Times New Roman"/>
              </a:rPr>
              <a:t>Упражнение «Синквей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равственные, духо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гают, направляю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и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м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285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ьч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85840" y="2143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ный , настойчив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ся, выживае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игры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ет уче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рех произ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00040" y="1481040"/>
          <a:ext cx="8858160" cy="4552920"/>
        </p:xfrm>
        <a:graphic>
          <a:graphicData uri="http://schemas.openxmlformats.org/drawingml/2006/table">
            <a:tbl>
              <a:tblPr/>
              <a:tblGrid>
                <a:gridCol w="1528920"/>
                <a:gridCol w="1377720"/>
                <a:gridCol w="1592280"/>
                <a:gridCol w="1314360"/>
                <a:gridCol w="1452600"/>
                <a:gridCol w="1592280"/>
              </a:tblGrid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ласть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енные рам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е геро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е гер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зросл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36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шв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тафь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у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ытия после В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 действия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би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ре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тр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тя, Витя, Санька, Танька, Птаха, Владик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пы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катерина Петров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вонти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д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хай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ховно-нравственное воспитание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ловек и при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каз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бр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02b"/>
                </a:solidFill>
                <a:latin typeface="Times New Roman"/>
              </a:rPr>
              <a:t>Анализ посещения школьной библиотеки 7В класса в конце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02b"/>
                </a:solidFill>
                <a:latin typeface="Times New Roman"/>
              </a:rPr>
              <a:t>Для чего нужны книг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одержимое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8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02b"/>
                </a:solidFill>
                <a:latin typeface="Times New Roman"/>
              </a:rPr>
              <a:t>Спасибо, </a:t>
            </a:r>
            <a:br>
              <a:rPr sz="5400"/>
            </a:br>
            <a:r>
              <a:rPr b="1" lang="ru-RU" sz="5400" spc="-1" strike="noStrike">
                <a:solidFill>
                  <a:srgbClr val="00602b"/>
                </a:solidFill>
                <a:latin typeface="Times New Roman"/>
              </a:rPr>
              <a:t>за внимание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02b"/>
                </a:solidFill>
                <a:latin typeface="Times New Roman"/>
              </a:rPr>
              <a:t>Методы исследования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бота с таблицей ПМИ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бота  по методу ОВОД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бота с упражнением «Алфавит эмоций»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бота с упражнением  «Синквейн»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бота со схемой «Кластер»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бота с простым и цитатным планом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бота с вопросами по тексту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бота с вопросами открытого диалога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бота со словарем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02b"/>
                </a:solidFill>
                <a:latin typeface="Times New Roman"/>
              </a:rPr>
              <a:t>Анализ посещения школьной библиотеки 7В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02b"/>
                </a:solidFill>
                <a:latin typeface="Times New Roman"/>
              </a:rPr>
              <a:t>Время, потраченное на ч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50328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02b"/>
                </a:solidFill>
                <a:latin typeface="Times New Roman"/>
              </a:rPr>
              <a:t>Предпочитаемый источник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8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02b"/>
                </a:solidFill>
                <a:latin typeface="Times New Roman"/>
              </a:rPr>
              <a:t>Любимый пис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963720" y="662040"/>
            <a:ext cx="7466040" cy="555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02b"/>
                </a:solidFill>
                <a:latin typeface="Times New Roman"/>
              </a:rPr>
              <a:t>Метод О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306440"/>
          <a:ext cx="8229600" cy="5006880"/>
        </p:xfrm>
        <a:graphic>
          <a:graphicData uri="http://schemas.openxmlformats.org/drawingml/2006/table">
            <a:tbl>
              <a:tblPr/>
              <a:tblGrid>
                <a:gridCol w="2057400"/>
                <a:gridCol w="2760840"/>
                <a:gridCol w="1500120"/>
                <a:gridCol w="1911240"/>
              </a:tblGrid>
              <a:tr h="55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новные мыс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матель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з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во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ь силу, красоту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пыча, Наст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траша, родител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пыч-  настоящий ох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сказ текста по памя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8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а выбора своего пу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ликт между Митрашей и На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товлю отрывок на памя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лкновение двух начал: добра и з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ый помещик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вк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удово боло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инение человека и прир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к зайца, журавли встречают солнце, ель и сосна сплелись корнями, крик тетерева- косача, елочки стару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итываю изображения прир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5:10:05Z</dcterms:created>
  <dc:creator>Елена</dc:creator>
  <dc:description/>
  <dc:language>en-US</dc:language>
  <cp:lastModifiedBy>Home</cp:lastModifiedBy>
  <dcterms:modified xsi:type="dcterms:W3CDTF">2015-04-07T19:52:14Z</dcterms:modified>
  <cp:revision>104</cp:revision>
  <dc:subject/>
  <dc:title>Слайд 1</dc:title>
</cp:coreProperties>
</file>