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1583B-5036-45AB-BFA3-976F13D01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16CAA-820F-41CB-ADC1-21CC98CB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4F7B8-89B5-4AC4-A5BC-8B329092B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4DF6B-A0EA-4307-8C01-DBD079AD5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190D-8439-420E-9117-6FBBBCBA2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6F22-C449-4DA0-A383-CAD02532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A9C8-09F9-4256-B7D0-BCAE652A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39E1-27AB-4086-96F8-D12FECF5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B70B9-842C-4790-B3F2-269D9C86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5D71-8AEA-429F-9E81-390B449E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AC4A-BB53-4621-A05B-887A3F6D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0C06F-3235-41A0-8133-F05B285E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2012-2150-4118-94CE-48D12864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E373-0C0F-4A7C-A25D-F6F68687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331E-450F-409D-A3E2-B8350388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550D2-23C4-4563-B9F4-6BFA5CE6E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ECD8A-1890-4E75-BAE6-0045424BF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A62E9-08A9-4B8A-AE0B-4CA3758A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5DFD9-6344-4041-BF82-E5872FD1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90EE8-FFE1-49D2-8360-5D617F03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6C9FF-6FAC-405E-BF2E-7AA55BC8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95BC9-0D1B-476F-83F0-98FA8614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58C4D-3003-439A-BFE5-602AD14E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33149-9291-4E6F-AD8C-70446925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3EDC-0D34-4CB8-A23D-07D7C405DC9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9325-E68B-4B5E-AA6D-DF5F5C2D1A3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71640" y="1828800"/>
            <a:ext cx="62200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АПОУ СПО ТЮМЕНСКИЙ МЕДИЦИНСКИЙ КОЛЛЕДЖ</a:t>
            </a:r>
            <a:r>
              <a:rPr b="1" lang="ru-RU" sz="4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РАКТИЧЕСКОЕ ЗАНЯТИЕ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О ДИСЦИПЛИНЕ ОСНОВЫ СЕСТРИНСКОГО ДЕЛА ТЕМА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:«КИШЕЧНЫЕ</a:t>
            </a:r>
            <a:r>
              <a:rPr b="1" lang="ru-RU" sz="4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АНИПУЛЯЦИИ</a:t>
            </a:r>
            <a:r>
              <a:rPr b="1" lang="ru-RU" sz="4900" spc="-1" strike="noStrike">
                <a:solidFill>
                  <a:srgbClr val="ffffff"/>
                </a:solidFill>
                <a:latin typeface="Times New Roman"/>
              </a:rPr>
              <a:t>»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78920" y="5084640"/>
            <a:ext cx="881244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7d"/>
                </a:solidFill>
                <a:uFillTx/>
                <a:latin typeface="Times New Roman"/>
              </a:rPr>
              <a:t>ПРЕПОДАВАТЕЛЬ</a:t>
            </a:r>
            <a:r>
              <a:rPr b="1" lang="ru-RU" sz="3400" spc="-1" strike="noStrike" u="sng">
                <a:solidFill>
                  <a:srgbClr val="00007d"/>
                </a:solidFill>
                <a:uFillTx/>
                <a:latin typeface="Times New Roman"/>
              </a:rPr>
              <a:t> </a:t>
            </a:r>
            <a:r>
              <a:rPr b="1" lang="ru-RU" sz="2000" spc="-1" strike="noStrike" u="sng">
                <a:solidFill>
                  <a:srgbClr val="00007d"/>
                </a:solidFill>
                <a:uFillTx/>
                <a:latin typeface="Times New Roman"/>
              </a:rPr>
              <a:t>СУХОРУКОВА</a:t>
            </a:r>
            <a:r>
              <a:rPr b="1" lang="ru-RU" sz="3400" spc="-1" strike="noStrike" u="sng">
                <a:solidFill>
                  <a:srgbClr val="00007d"/>
                </a:solidFill>
                <a:uFillTx/>
                <a:latin typeface="Times New Roman"/>
              </a:rPr>
              <a:t> </a:t>
            </a:r>
            <a:r>
              <a:rPr b="1" lang="ru-RU" sz="2000" spc="-1" strike="noStrike" u="sng">
                <a:solidFill>
                  <a:srgbClr val="00007d"/>
                </a:solidFill>
                <a:uFillTx/>
                <a:latin typeface="Times New Roman"/>
              </a:rPr>
              <a:t>М.Р</a:t>
            </a:r>
            <a:r>
              <a:rPr b="1" lang="ru-RU" sz="3400" spc="-1" strike="noStrike" u="sng">
                <a:solidFill>
                  <a:srgbClr val="00007d"/>
                </a:solidFill>
                <a:uFillTx/>
                <a:latin typeface="Times New Roman"/>
              </a:rPr>
              <a:t>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8920" y="2204640"/>
            <a:ext cx="871380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7d"/>
                </a:solidFill>
                <a:latin typeface="Times New Roman"/>
              </a:rPr>
              <a:t>НЕМЫЕ СХЕМ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456840"/>
            <a:ext cx="821844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7d"/>
                </a:solidFill>
                <a:latin typeface="Times New Roman"/>
              </a:rPr>
              <a:t>Послабляющие клиз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Organization Chart 5"/>
          <p:cNvGrpSpPr/>
          <p:nvPr/>
        </p:nvGrpSpPr>
        <p:grpSpPr>
          <a:xfrm>
            <a:off x="472320" y="1341360"/>
            <a:ext cx="8347320" cy="5039640"/>
            <a:chOff x="472320" y="1341360"/>
            <a:chExt cx="8347320" cy="5039640"/>
          </a:xfrm>
        </p:grpSpPr>
        <p:cxnSp>
          <p:nvCxnSpPr>
            <p:cNvPr id="128" name="_s1028"/>
            <p:cNvCxnSpPr>
              <a:stCxn id="129" idx="0"/>
              <a:endCxn id="130" idx="2"/>
            </p:cNvCxnSpPr>
            <p:nvPr/>
          </p:nvCxnSpPr>
          <p:spPr>
            <a:xfrm flipV="1">
              <a:off x="6956640" y="5335920"/>
              <a:ext cx="1440" cy="382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1029"/>
            <p:cNvCxnSpPr>
              <a:stCxn id="130" idx="0"/>
              <a:endCxn id="132" idx="2"/>
            </p:cNvCxnSpPr>
            <p:nvPr/>
          </p:nvCxnSpPr>
          <p:spPr>
            <a:xfrm flipV="1">
              <a:off x="6956640" y="4430160"/>
              <a:ext cx="1440" cy="240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3" name="_s1030"/>
            <p:cNvCxnSpPr>
              <a:stCxn id="132" idx="0"/>
              <a:endCxn id="134" idx="2"/>
            </p:cNvCxnSpPr>
            <p:nvPr/>
          </p:nvCxnSpPr>
          <p:spPr>
            <a:xfrm flipV="1">
              <a:off x="6956640" y="3578400"/>
              <a:ext cx="1440" cy="21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1031"/>
            <p:cNvCxnSpPr>
              <a:stCxn id="134" idx="0"/>
              <a:endCxn id="136" idx="2"/>
            </p:cNvCxnSpPr>
            <p:nvPr/>
          </p:nvCxnSpPr>
          <p:spPr>
            <a:xfrm flipV="1">
              <a:off x="6956640" y="2725920"/>
              <a:ext cx="1440" cy="21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_s1032"/>
            <p:cNvCxnSpPr>
              <a:stCxn id="136" idx="0"/>
              <a:endCxn id="138" idx="2"/>
            </p:cNvCxnSpPr>
            <p:nvPr/>
          </p:nvCxnSpPr>
          <p:spPr>
            <a:xfrm flipV="1">
              <a:off x="6956640" y="1873800"/>
              <a:ext cx="1440" cy="21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9" name="_s1033"/>
            <p:cNvCxnSpPr>
              <a:stCxn id="140" idx="0"/>
              <a:endCxn id="141" idx="2"/>
            </p:cNvCxnSpPr>
            <p:nvPr/>
          </p:nvCxnSpPr>
          <p:spPr>
            <a:xfrm flipV="1">
              <a:off x="2335320" y="4430520"/>
              <a:ext cx="1800" cy="21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2" name="_s1034"/>
            <p:cNvCxnSpPr>
              <a:stCxn id="141" idx="0"/>
              <a:endCxn id="143" idx="2"/>
            </p:cNvCxnSpPr>
            <p:nvPr/>
          </p:nvCxnSpPr>
          <p:spPr>
            <a:xfrm flipV="1">
              <a:off x="2335320" y="3578400"/>
              <a:ext cx="1800" cy="21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1035"/>
            <p:cNvCxnSpPr>
              <a:stCxn id="145" idx="0"/>
              <a:endCxn id="146" idx="2"/>
            </p:cNvCxnSpPr>
            <p:nvPr/>
          </p:nvCxnSpPr>
          <p:spPr>
            <a:xfrm flipV="1">
              <a:off x="2335320" y="1873800"/>
              <a:ext cx="1800" cy="21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7" name="_s1036"/>
            <p:cNvCxnSpPr>
              <a:stCxn id="145" idx="0"/>
              <a:endCxn id="146" idx="2"/>
            </p:cNvCxnSpPr>
            <p:nvPr/>
          </p:nvCxnSpPr>
          <p:spPr>
            <a:xfrm flipV="1">
              <a:off x="2335320" y="1873800"/>
              <a:ext cx="1800" cy="21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8" name="_s1037"/>
            <p:cNvCxnSpPr>
              <a:stCxn id="143" idx="0"/>
              <a:endCxn id="145" idx="2"/>
            </p:cNvCxnSpPr>
            <p:nvPr/>
          </p:nvCxnSpPr>
          <p:spPr>
            <a:xfrm flipV="1">
              <a:off x="2335320" y="2725920"/>
              <a:ext cx="1800" cy="21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6" name="_s1038"/>
            <p:cNvSpPr/>
            <p:nvPr/>
          </p:nvSpPr>
          <p:spPr>
            <a:xfrm>
              <a:off x="472320" y="1341360"/>
              <a:ext cx="3726360" cy="532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ПОКАЗ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39"/>
            <p:cNvSpPr/>
            <p:nvPr/>
          </p:nvSpPr>
          <p:spPr>
            <a:xfrm>
              <a:off x="5093280" y="1341360"/>
              <a:ext cx="3726360" cy="532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ПРОТИВОПОКАЗ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040"/>
            <p:cNvSpPr/>
            <p:nvPr/>
          </p:nvSpPr>
          <p:spPr>
            <a:xfrm>
              <a:off x="472320" y="2086920"/>
              <a:ext cx="3726360" cy="63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041"/>
            <p:cNvSpPr/>
            <p:nvPr/>
          </p:nvSpPr>
          <p:spPr>
            <a:xfrm>
              <a:off x="472320" y="2939040"/>
              <a:ext cx="3726360" cy="63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42"/>
            <p:cNvSpPr/>
            <p:nvPr/>
          </p:nvSpPr>
          <p:spPr>
            <a:xfrm>
              <a:off x="472320" y="3791520"/>
              <a:ext cx="3726360" cy="63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1043"/>
            <p:cNvSpPr/>
            <p:nvPr/>
          </p:nvSpPr>
          <p:spPr>
            <a:xfrm>
              <a:off x="472320" y="4643640"/>
              <a:ext cx="3726360" cy="63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044"/>
            <p:cNvSpPr/>
            <p:nvPr/>
          </p:nvSpPr>
          <p:spPr>
            <a:xfrm>
              <a:off x="5093280" y="2086920"/>
              <a:ext cx="3726360" cy="63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045"/>
            <p:cNvSpPr/>
            <p:nvPr/>
          </p:nvSpPr>
          <p:spPr>
            <a:xfrm>
              <a:off x="5093280" y="2939040"/>
              <a:ext cx="3726360" cy="63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1046"/>
            <p:cNvSpPr/>
            <p:nvPr/>
          </p:nvSpPr>
          <p:spPr>
            <a:xfrm>
              <a:off x="5093280" y="3791520"/>
              <a:ext cx="3726360" cy="63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047"/>
            <p:cNvSpPr/>
            <p:nvPr/>
          </p:nvSpPr>
          <p:spPr>
            <a:xfrm>
              <a:off x="5093280" y="4670640"/>
              <a:ext cx="3726360" cy="66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048"/>
            <p:cNvSpPr/>
            <p:nvPr/>
          </p:nvSpPr>
          <p:spPr>
            <a:xfrm>
              <a:off x="5093280" y="5718240"/>
              <a:ext cx="3724920" cy="662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7d"/>
                </a:solidFill>
                <a:latin typeface="Times New Roman"/>
              </a:rPr>
              <a:t>Очистительная клизма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Organization Chart 4"/>
          <p:cNvGrpSpPr/>
          <p:nvPr/>
        </p:nvGrpSpPr>
        <p:grpSpPr>
          <a:xfrm>
            <a:off x="332640" y="1197000"/>
            <a:ext cx="8632080" cy="5255640"/>
            <a:chOff x="332640" y="1197000"/>
            <a:chExt cx="8632080" cy="5255640"/>
          </a:xfrm>
        </p:grpSpPr>
        <p:cxnSp>
          <p:nvCxnSpPr>
            <p:cNvPr id="151" name="_s2052"/>
            <p:cNvCxnSpPr>
              <a:stCxn id="152" idx="0"/>
              <a:endCxn id="153" idx="2"/>
            </p:cNvCxnSpPr>
            <p:nvPr/>
          </p:nvCxnSpPr>
          <p:spPr>
            <a:xfrm flipV="1">
              <a:off x="7037640" y="5826240"/>
              <a:ext cx="1800" cy="235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4" name="_s2053"/>
            <p:cNvCxnSpPr>
              <a:stCxn id="155" idx="0"/>
              <a:endCxn id="156" idx="2"/>
            </p:cNvCxnSpPr>
            <p:nvPr/>
          </p:nvCxnSpPr>
          <p:spPr>
            <a:xfrm flipV="1">
              <a:off x="2260440" y="5855760"/>
              <a:ext cx="1800" cy="280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7" name="_s2054"/>
            <p:cNvCxnSpPr>
              <a:stCxn id="156" idx="0"/>
              <a:endCxn id="158" idx="2"/>
            </p:cNvCxnSpPr>
            <p:nvPr/>
          </p:nvCxnSpPr>
          <p:spPr>
            <a:xfrm flipV="1">
              <a:off x="2259000" y="5057640"/>
              <a:ext cx="1800" cy="238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9" name="_s2055"/>
            <p:cNvCxnSpPr>
              <a:stCxn id="153" idx="0"/>
              <a:endCxn id="160" idx="2"/>
            </p:cNvCxnSpPr>
            <p:nvPr/>
          </p:nvCxnSpPr>
          <p:spPr>
            <a:xfrm flipV="1">
              <a:off x="7037640" y="5110200"/>
              <a:ext cx="1800" cy="166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1" name="_s2056"/>
            <p:cNvCxnSpPr>
              <a:stCxn id="160" idx="0"/>
              <a:endCxn id="162" idx="2"/>
            </p:cNvCxnSpPr>
            <p:nvPr/>
          </p:nvCxnSpPr>
          <p:spPr>
            <a:xfrm flipV="1">
              <a:off x="7037640" y="4222800"/>
              <a:ext cx="1800" cy="235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3" name="_s2057"/>
            <p:cNvCxnSpPr>
              <a:stCxn id="162" idx="0"/>
              <a:endCxn id="164" idx="2"/>
            </p:cNvCxnSpPr>
            <p:nvPr/>
          </p:nvCxnSpPr>
          <p:spPr>
            <a:xfrm flipV="1">
              <a:off x="7037640" y="3388320"/>
              <a:ext cx="1800" cy="208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2058"/>
            <p:cNvCxnSpPr>
              <a:stCxn id="164" idx="0"/>
              <a:endCxn id="166" idx="2"/>
            </p:cNvCxnSpPr>
            <p:nvPr/>
          </p:nvCxnSpPr>
          <p:spPr>
            <a:xfrm flipV="1">
              <a:off x="7037640" y="2553480"/>
              <a:ext cx="1800" cy="208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2059"/>
            <p:cNvCxnSpPr>
              <a:stCxn id="166" idx="0"/>
              <a:endCxn id="168" idx="2"/>
            </p:cNvCxnSpPr>
            <p:nvPr/>
          </p:nvCxnSpPr>
          <p:spPr>
            <a:xfrm flipV="1">
              <a:off x="7037640" y="1718280"/>
              <a:ext cx="1800" cy="208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2060"/>
            <p:cNvCxnSpPr>
              <a:stCxn id="158" idx="0"/>
              <a:endCxn id="170" idx="2"/>
            </p:cNvCxnSpPr>
            <p:nvPr/>
          </p:nvCxnSpPr>
          <p:spPr>
            <a:xfrm flipV="1">
              <a:off x="2259000" y="4223160"/>
              <a:ext cx="1800" cy="208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1" name="_s2061"/>
            <p:cNvCxnSpPr>
              <a:stCxn id="170" idx="0"/>
              <a:endCxn id="172" idx="2"/>
            </p:cNvCxnSpPr>
            <p:nvPr/>
          </p:nvCxnSpPr>
          <p:spPr>
            <a:xfrm flipV="1">
              <a:off x="2259000" y="3388320"/>
              <a:ext cx="1800" cy="208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3" name="_s2062"/>
            <p:cNvCxnSpPr>
              <a:stCxn id="174" idx="0"/>
              <a:endCxn id="175" idx="2"/>
            </p:cNvCxnSpPr>
            <p:nvPr/>
          </p:nvCxnSpPr>
          <p:spPr>
            <a:xfrm flipV="1">
              <a:off x="2259000" y="1718280"/>
              <a:ext cx="1800" cy="208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6" name="_s2063"/>
            <p:cNvCxnSpPr>
              <a:stCxn id="174" idx="0"/>
              <a:endCxn id="175" idx="2"/>
            </p:cNvCxnSpPr>
            <p:nvPr/>
          </p:nvCxnSpPr>
          <p:spPr>
            <a:xfrm flipV="1">
              <a:off x="2259000" y="1718280"/>
              <a:ext cx="1800" cy="208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7" name="_s2064"/>
            <p:cNvCxnSpPr>
              <a:stCxn id="172" idx="0"/>
              <a:endCxn id="174" idx="2"/>
            </p:cNvCxnSpPr>
            <p:nvPr/>
          </p:nvCxnSpPr>
          <p:spPr>
            <a:xfrm flipV="1">
              <a:off x="2259000" y="2553480"/>
              <a:ext cx="1800" cy="208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5" name="_s2065"/>
            <p:cNvSpPr/>
            <p:nvPr/>
          </p:nvSpPr>
          <p:spPr>
            <a:xfrm>
              <a:off x="332640" y="1197000"/>
              <a:ext cx="3853440" cy="52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ПОКАЗ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2066"/>
            <p:cNvSpPr/>
            <p:nvPr/>
          </p:nvSpPr>
          <p:spPr>
            <a:xfrm>
              <a:off x="5111280" y="1197000"/>
              <a:ext cx="3853440" cy="52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ПРОТИВОПОКАЗ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2067"/>
            <p:cNvSpPr/>
            <p:nvPr/>
          </p:nvSpPr>
          <p:spPr>
            <a:xfrm>
              <a:off x="332640" y="1927080"/>
              <a:ext cx="3853440" cy="62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2068"/>
            <p:cNvSpPr/>
            <p:nvPr/>
          </p:nvSpPr>
          <p:spPr>
            <a:xfrm>
              <a:off x="332640" y="2762280"/>
              <a:ext cx="3853440" cy="62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2069"/>
            <p:cNvSpPr/>
            <p:nvPr/>
          </p:nvSpPr>
          <p:spPr>
            <a:xfrm>
              <a:off x="332640" y="3597120"/>
              <a:ext cx="3853440" cy="62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2070"/>
            <p:cNvSpPr/>
            <p:nvPr/>
          </p:nvSpPr>
          <p:spPr>
            <a:xfrm>
              <a:off x="332640" y="4431960"/>
              <a:ext cx="3853440" cy="62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2071"/>
            <p:cNvSpPr/>
            <p:nvPr/>
          </p:nvSpPr>
          <p:spPr>
            <a:xfrm>
              <a:off x="5111280" y="1927080"/>
              <a:ext cx="3853440" cy="62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2072"/>
            <p:cNvSpPr/>
            <p:nvPr/>
          </p:nvSpPr>
          <p:spPr>
            <a:xfrm>
              <a:off x="5111280" y="2762280"/>
              <a:ext cx="3853440" cy="62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2073"/>
            <p:cNvSpPr/>
            <p:nvPr/>
          </p:nvSpPr>
          <p:spPr>
            <a:xfrm>
              <a:off x="5111280" y="3597120"/>
              <a:ext cx="3853440" cy="62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2074"/>
            <p:cNvSpPr/>
            <p:nvPr/>
          </p:nvSpPr>
          <p:spPr>
            <a:xfrm>
              <a:off x="5111280" y="4458240"/>
              <a:ext cx="3853440" cy="651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2075"/>
            <p:cNvSpPr/>
            <p:nvPr/>
          </p:nvSpPr>
          <p:spPr>
            <a:xfrm>
              <a:off x="5111280" y="5276160"/>
              <a:ext cx="3852000" cy="55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2076"/>
            <p:cNvSpPr/>
            <p:nvPr/>
          </p:nvSpPr>
          <p:spPr>
            <a:xfrm>
              <a:off x="332640" y="5296320"/>
              <a:ext cx="3853440" cy="55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2077"/>
            <p:cNvSpPr/>
            <p:nvPr/>
          </p:nvSpPr>
          <p:spPr>
            <a:xfrm>
              <a:off x="332640" y="6136560"/>
              <a:ext cx="3853440" cy="316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2078"/>
            <p:cNvSpPr/>
            <p:nvPr/>
          </p:nvSpPr>
          <p:spPr>
            <a:xfrm>
              <a:off x="5111280" y="6061680"/>
              <a:ext cx="3853440" cy="35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7d"/>
                </a:solidFill>
                <a:latin typeface="Times New Roman"/>
              </a:rPr>
              <a:t>Сифонная клиз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3"/>
          <p:cNvSpPr/>
          <p:nvPr/>
        </p:nvSpPr>
        <p:spPr>
          <a:xfrm>
            <a:off x="343080" y="-39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8"/>
          <p:cNvSpPr/>
          <p:nvPr/>
        </p:nvSpPr>
        <p:spPr>
          <a:xfrm>
            <a:off x="-343080" y="725796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0"/>
          <p:cNvSpPr/>
          <p:nvPr/>
        </p:nvSpPr>
        <p:spPr>
          <a:xfrm>
            <a:off x="343080" y="-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Organization Chart 49"/>
          <p:cNvGrpSpPr/>
          <p:nvPr/>
        </p:nvGrpSpPr>
        <p:grpSpPr>
          <a:xfrm>
            <a:off x="156600" y="1341360"/>
            <a:ext cx="8807760" cy="4909320"/>
            <a:chOff x="156600" y="1341360"/>
            <a:chExt cx="8807760" cy="4909320"/>
          </a:xfrm>
        </p:grpSpPr>
        <p:cxnSp>
          <p:nvCxnSpPr>
            <p:cNvPr id="183" name="_s3076"/>
            <p:cNvCxnSpPr>
              <a:stCxn id="184" idx="0"/>
              <a:endCxn id="185" idx="2"/>
            </p:cNvCxnSpPr>
            <p:nvPr/>
          </p:nvCxnSpPr>
          <p:spPr>
            <a:xfrm flipV="1">
              <a:off x="6998040" y="5490720"/>
              <a:ext cx="1800" cy="175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6" name="_s3077"/>
            <p:cNvCxnSpPr>
              <a:stCxn id="187" idx="0"/>
              <a:endCxn id="185" idx="2"/>
            </p:cNvCxnSpPr>
            <p:nvPr/>
          </p:nvCxnSpPr>
          <p:spPr>
            <a:xfrm flipV="1">
              <a:off x="6998040" y="4550040"/>
              <a:ext cx="1800" cy="249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8" name="_s3078"/>
            <p:cNvCxnSpPr>
              <a:stCxn id="189" idx="0"/>
              <a:endCxn id="185" idx="2"/>
            </p:cNvCxnSpPr>
            <p:nvPr/>
          </p:nvCxnSpPr>
          <p:spPr>
            <a:xfrm flipV="1">
              <a:off x="6998040" y="3664800"/>
              <a:ext cx="1800" cy="221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0" name="_s3079"/>
            <p:cNvCxnSpPr>
              <a:stCxn id="191" idx="0"/>
              <a:endCxn id="185" idx="2"/>
            </p:cNvCxnSpPr>
            <p:nvPr/>
          </p:nvCxnSpPr>
          <p:spPr>
            <a:xfrm flipV="1">
              <a:off x="6998040" y="2779200"/>
              <a:ext cx="1800" cy="221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2" name="_s3080"/>
            <p:cNvCxnSpPr>
              <a:stCxn id="193" idx="0"/>
              <a:endCxn id="185" idx="2"/>
            </p:cNvCxnSpPr>
            <p:nvPr/>
          </p:nvCxnSpPr>
          <p:spPr>
            <a:xfrm flipV="1">
              <a:off x="6998040" y="1893960"/>
              <a:ext cx="1800" cy="221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3081"/>
            <p:cNvCxnSpPr>
              <a:stCxn id="195" idx="0"/>
              <a:endCxn id="196" idx="2"/>
            </p:cNvCxnSpPr>
            <p:nvPr/>
          </p:nvCxnSpPr>
          <p:spPr>
            <a:xfrm flipV="1">
              <a:off x="2122200" y="3664800"/>
              <a:ext cx="1800" cy="221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7" name="_s3082"/>
            <p:cNvCxnSpPr>
              <a:stCxn id="196" idx="0"/>
              <a:endCxn id="185" idx="2"/>
            </p:cNvCxnSpPr>
            <p:nvPr/>
          </p:nvCxnSpPr>
          <p:spPr>
            <a:xfrm flipV="1">
              <a:off x="2122200" y="1893960"/>
              <a:ext cx="1800" cy="221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8" name="_s3083"/>
            <p:cNvCxnSpPr>
              <a:stCxn id="199" idx="0"/>
              <a:endCxn id="185" idx="2"/>
            </p:cNvCxnSpPr>
            <p:nvPr/>
          </p:nvCxnSpPr>
          <p:spPr>
            <a:xfrm flipV="1">
              <a:off x="2122200" y="1893960"/>
              <a:ext cx="1800" cy="221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0" name="_s3084"/>
            <p:cNvCxnSpPr>
              <a:stCxn id="201" idx="0"/>
              <a:endCxn id="185" idx="2"/>
            </p:cNvCxnSpPr>
            <p:nvPr/>
          </p:nvCxnSpPr>
          <p:spPr>
            <a:xfrm flipV="1">
              <a:off x="2122200" y="2779200"/>
              <a:ext cx="1800" cy="221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5" name="_s3085"/>
            <p:cNvSpPr/>
            <p:nvPr/>
          </p:nvSpPr>
          <p:spPr>
            <a:xfrm>
              <a:off x="156600" y="1341360"/>
              <a:ext cx="3931920" cy="55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ПОКАЗ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3086"/>
            <p:cNvSpPr/>
            <p:nvPr/>
          </p:nvSpPr>
          <p:spPr>
            <a:xfrm>
              <a:off x="5032440" y="1341360"/>
              <a:ext cx="3931920" cy="55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ПРОТИВОПОКАЗ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3087"/>
            <p:cNvSpPr/>
            <p:nvPr/>
          </p:nvSpPr>
          <p:spPr>
            <a:xfrm>
              <a:off x="156600" y="2115720"/>
              <a:ext cx="3931920" cy="664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3088"/>
            <p:cNvSpPr/>
            <p:nvPr/>
          </p:nvSpPr>
          <p:spPr>
            <a:xfrm>
              <a:off x="156600" y="3000960"/>
              <a:ext cx="3931920" cy="664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3089"/>
            <p:cNvSpPr/>
            <p:nvPr/>
          </p:nvSpPr>
          <p:spPr>
            <a:xfrm>
              <a:off x="156600" y="3886560"/>
              <a:ext cx="3931920" cy="664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3090"/>
            <p:cNvSpPr/>
            <p:nvPr/>
          </p:nvSpPr>
          <p:spPr>
            <a:xfrm>
              <a:off x="5032440" y="2115720"/>
              <a:ext cx="3931920" cy="664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3091"/>
            <p:cNvSpPr/>
            <p:nvPr/>
          </p:nvSpPr>
          <p:spPr>
            <a:xfrm>
              <a:off x="5032440" y="3000960"/>
              <a:ext cx="3931920" cy="664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3092"/>
            <p:cNvSpPr/>
            <p:nvPr/>
          </p:nvSpPr>
          <p:spPr>
            <a:xfrm>
              <a:off x="5032440" y="3886560"/>
              <a:ext cx="3931920" cy="664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3093"/>
            <p:cNvSpPr/>
            <p:nvPr/>
          </p:nvSpPr>
          <p:spPr>
            <a:xfrm>
              <a:off x="5032440" y="4799520"/>
              <a:ext cx="3931920" cy="691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3094"/>
            <p:cNvSpPr/>
            <p:nvPr/>
          </p:nvSpPr>
          <p:spPr>
            <a:xfrm>
              <a:off x="5032440" y="5666760"/>
              <a:ext cx="3930480" cy="583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Rectangle 81"/>
          <p:cNvSpPr/>
          <p:nvPr/>
        </p:nvSpPr>
        <p:spPr>
          <a:xfrm>
            <a:off x="-343080" y="691524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9280" y="457200"/>
            <a:ext cx="8785440" cy="26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1" lang="ru-RU" sz="2000" spc="-1" strike="noStrike">
                <a:solidFill>
                  <a:srgbClr val="00007d"/>
                </a:solidFill>
                <a:latin typeface="Times New Roman"/>
              </a:rPr>
              <a:t>ЦИФРОВОЙ ДИКТАНТ</a:t>
            </a:r>
            <a:br>
              <a:rPr sz="2000"/>
            </a:br>
            <a:r>
              <a:rPr b="1" lang="ru-RU" sz="2000" spc="-1" strike="noStrike">
                <a:solidFill>
                  <a:srgbClr val="00007d"/>
                </a:solidFill>
                <a:latin typeface="Times New Roman"/>
              </a:rPr>
              <a:t>                    по оснащению и особенностям проведения клизм</a:t>
            </a:r>
            <a:br>
              <a:rPr sz="20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тудентам предлагается 4 варианта: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1. Очистительная клизм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9900"/>
                </a:solidFill>
                <a:latin typeface="Times New Roman"/>
              </a:rPr>
              <a:t>2. Сифонная клизм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3. Масляная клизм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9900cc"/>
                </a:solidFill>
                <a:latin typeface="Times New Roman"/>
              </a:rPr>
              <a:t>4. Гипертоническая клизма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Оснащение и особеннос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360" y="3141360"/>
            <a:ext cx="345600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чат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леенчатый фарту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конечни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ружка Эсмарх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азоотводная труб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да 10 лит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да 1-1,5 лит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00-200 мл. раств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лее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ро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рушевидный балло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50-100 мл. раств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водят на 20 с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ле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780000" y="3141360"/>
            <a:ext cx="518472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Times New Roman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водят на 3-4 см. к пупку и 8-10 см. параллельно позвоночни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Times New Roman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азелин или глицер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Times New Roman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Шпате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Times New Roman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Times New Roman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водят на глубину 30-40 с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Times New Roman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ва толстых желудочных зонда, соединенных стеклянной труб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Times New Roman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увшин или круж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Times New Roman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держать раствор в кишечнике на 20-30 м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Times New Roman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держать раствор в кишечнике на 10-12 ча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Times New Roman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мкость для промывных в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Times New Roman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порожнение наступает сраз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Times New Roman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лают через 20-30 минут после очистительн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Times New Roman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держать раствор в кишечнике на 3-5 мину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Эталон ответов к цифровому диктант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1. 1,2,3,4,7,9,14,15,16,17,2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2.1,2,6,9,10,16,17,18,19,20,21,24,2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3.1,2,5,9,11,12,13,14,16,17,2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Arial"/>
              </a:rPr>
              <a:t>4.1,2,5,8,9,11,13,14,16,17,22,2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30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1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800" spc="-1" strike="noStrike">
                <a:solidFill>
                  <a:srgbClr val="00007d"/>
                </a:solidFill>
                <a:latin typeface="Times New Roman"/>
              </a:rPr>
              <a:t>ПЕДАГОГИЧЕСКИЙ ПОКАЗ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7d"/>
                </a:solidFill>
                <a:latin typeface="Times New Roman"/>
              </a:rPr>
              <a:t>ЭТИКО-ДЕОНТОЛОГИЧЕСКОЕ ОБЕСПЕЧЕНИ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дицинская сестра, которая постоянно находится среди больных, непосредственно общается с ними и на которую ложиться основная нагрузка по выхаживанию больного, должна всегда учитывать психические особенности, чувства, переживания и суждения своих пациентов, их психосоматическое состояние. Ведь болезни различного клинического профиля вызывают свойственные только им опасения и переживания, так как каждый болезненный процесс имеет свою специфику, течение и исх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выполнении манипуляций по постановке клизм возникает множество проблем интимного, психологического, социального и этического характера, что существенно осложняет деятельность медицинской сест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постановке клизмы совершенно естественно проявление стыдливости у пациента, и к этому психологическому явлению нужно относиться с должным уважением. Для установления хорошего контакта с больным необходима тактичность и осторожность. Если больной проявляет ярко выраженное беспокойство по поводу предстоящей манипуляции, с ним должна проводиться психотерапевтическая беседа. Важно объяснить пациенту сущность предстоящей манипуляции и вселить в него уверенность в благополучный исх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9280" y="457200"/>
            <a:ext cx="878544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7d"/>
                </a:solidFill>
                <a:latin typeface="Times New Roman"/>
              </a:rPr>
              <a:t>УНИВЕРСАЛЬНЫЕ МЕРЫ ПРЕДОСТОРОЖНОСТИ ПРИ ПОСТАНОВКЕ ГАЗООТВОДНОЙ ТРУБКИ И КЛИЗМЫ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785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полняя процедуры, связанные с введением в прямую кишку клизменного наконечника, газоотводной трубки следует принимать универсальные меры предосторож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девать латексные перчатки при выполнении и завершении процеду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стилать под пациента на кровать (кушетку) клеенку или впитывающую пеленку однократного примен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вергать дезинфекции и/или последующему уничтожению все предметы однократного использования (пеленки, перчатки и т.п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вергать дезинфекции, предстерилизационной очистке и стерилизации все предметы многократного использования (наконечник, газоотводную трубку, фартук и т.п.) в соответствии с действующими нормативными документами (при использовании дезинфицирующих средств, обладающих фиксирующим действием, перед дезинфекцией проводится предварительное мытье изделия с его механической очисткой и последующей дезинфекцией воды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ытье рук после снятия перча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7d"/>
                </a:solidFill>
                <a:latin typeface="Times New Roman"/>
              </a:rPr>
              <a:t>ИСТОРИЯ КЛИЗМ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лизма как лечебный метод применяется очень давно. В древнейших индуистских книгах говориться о промывательных клизмах, о них же упоминают и древнеегипетские памятники. Гиппократом был тщательно разработан метод очищения организма от вредных соков путем применения рвотных, слабительных и очистительных клизм. Для «отца медицины» Гиппократа промывание кишечника – хорошо известный способ лечения, а в Древнем Риме клизма была такой же будничной, бытовой ветошью, как у нас. Римская клизма представляла собой кожаный баллончик с двумя трубками из камыша. Лечение клизмой осуществляли и в Африке. В средневековой Европе клизма делалась таким же популярным методом врачевания, как и кровопускание. В 17 веке при французском дворе, клизма вошла в моду. Ее ставили королям (приборы, представляли собой роскошные фарфоровые клистиры, отделанные серебром и перламутром). Особенно широкое применение нашли промывательные клизмы в средние века вплоть до конца 18 века, когда больному ставили несколько десятков клизм подряд. Профессор Гатенарио в Болонье в 15 веке изобрел специальный клистирный шприц. Накопленный и обобщенный опыт применения очистительных клизм позволяет утверждать, что очистительная клизма не является безобидной процедурой. Эта процедура является существенным вмешательством в функционирование толстой кишки и всего организма. Неоправданное бесконтрольное использование таких клизм может приводить к серьезным заболеван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ели занятия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7850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7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 изучения темы студент должен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ть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виды клизм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механизм действия различных видов клизм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оказания, противопоказания, возможные осложнения при постановке различных видов клизм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ть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существлять наблюдение за деятельностью кишечника пациента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существлять постановку всех видов клизм (на фантоме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9280" y="456840"/>
            <a:ext cx="8785440" cy="15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ru-RU" sz="2000" spc="-1" strike="noStrike">
                <a:solidFill>
                  <a:srgbClr val="00007d"/>
                </a:solidFill>
                <a:latin typeface="Times New Roman"/>
              </a:rPr>
              <a:t>ОРГАНИЗАЦИЯ РАБОТЫ КЛИЗМЕННОЙ</a:t>
            </a:r>
            <a:br>
              <a:rPr sz="2000"/>
            </a:br>
            <a:br>
              <a:rPr sz="10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лизменная - это помещение для проведения различных видов клизм, имеющее кафельные стены, высотой не менее 2 метров, канализацию.</a:t>
            </a:r>
            <a:br>
              <a:rPr sz="1600"/>
            </a:br>
            <a:br>
              <a:rPr sz="1000"/>
            </a:br>
            <a:r>
              <a:rPr b="1" i="1" lang="ru-RU" sz="1600" spc="-1" strike="noStrike">
                <a:solidFill>
                  <a:srgbClr val="00007d"/>
                </a:solidFill>
                <a:latin typeface="Times New Roman"/>
              </a:rPr>
              <a:t>Оснаще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4495680" cy="33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1) Уборочный инвентарь, предназначенный только для данного помещения с четкой маркировкой «Клизменная»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швабра без щетины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3 оцинкованных ведра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чистая ветошь (окна, стены, пол, кушетка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дезинфекционные средств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2) Спецодежда для медсестры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халат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фартук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маска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колпак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перчатк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316400" cy="33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3) Вешалка для халата пациента и медсестры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4) Шкафчик для хранения стерильного материала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клизменных наконечник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газоотводных трубо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грушевидных баллон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резиновых трубок для сифонных клиз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биксов со стерильным материалом (салфетки, пеленки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5) Шкафчик для нестерильного материала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кружек Эсмарх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емкостей для набора вод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емкостей для чистой воды и промывных во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флаконов с лекарственными средствам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179280" y="5013360"/>
            <a:ext cx="878544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ле каждого пациента медсестра обязана проводить дез.обработку рабочего места и унитаз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Клизмы выполняют палатные медицинские сестры, им необходимо уметь правильно общаться с пациентами, настроить их на выполнение процедуры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Текущая уборка помещения проводится ежедневно, но не реже двух раз в день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Генеральная уборка проводится один раз в неделю с соблюдением всех правил санитарно-эпидемического режи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7d"/>
                </a:solidFill>
                <a:latin typeface="Times New Roman"/>
              </a:rPr>
              <a:t>ВИДЫ ЗАПОР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just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тонический запор – запор вследствие снижения двигательной функции кишечника (способствует сидячий образ жизни, употребление пищи с малым количеством клетчатк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астический запор – запор вследствие усиления тонуса мышц кишечника. Является следствием тонических сокращений круговых мышц, что приводит прекращению перистальтики в соответствующем отделе кишечника. В развитии спазмов кишечника большую роль играет перевозбуждение нервной системы. Спастическим запорам способствует грубая пища, богатая клетчат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ханический запор – возникает при перегибах кишечника, закупорке разных отделов кишечника геморроидальными узлами, опухолями, каловыми камн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вычный запор – встречается при постоянном подавлении нормального рефлекса на дефекацию вследствие спешки, занятости, застенчивости, в связи с чем кишечник привыкает к редкому опорожнению. При привычных запорах назначают диету, содержащей много растительной клетчатки – свеклу, капусту, чернослив, черный хле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запорах следует выработать ежедневный рефлекс на дефекацию и устранить причину, вызывающую зап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7d"/>
                </a:solidFill>
                <a:latin typeface="Times New Roman"/>
              </a:rPr>
              <a:t>ЦЕЛИ КЛИЗ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7d"/>
                </a:solidFill>
                <a:latin typeface="Times New Roman"/>
              </a:rPr>
              <a:t>Лечебные клизмы применяются с цель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чищения кишечника - очистительная, сифонная, послабляющ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ведения в толстую кишку лекарственных веществ, как для местного, так и для общего (резорбтивного) воздействия на организм - лекарственная микроклизма, капельная кл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16000" y="1412640"/>
            <a:ext cx="4038840" cy="39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7d"/>
                </a:solidFill>
                <a:latin typeface="Times New Roman"/>
              </a:rPr>
              <a:t>С диагностической целью клизмы ставя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подготовке к рентгенологическому исследованию органов пищеварения, мочеотделения и органов малого таз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подготовке к эндоскопическому исследованию толстой ки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д проведением манипуляции медсестра должна подготовить пациента психологически и физиологичес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4038480" cy="46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7d"/>
                </a:solidFill>
                <a:latin typeface="Times New Roman"/>
              </a:rPr>
              <a:t>Психологическая подготовка проводится в виде беседы с пациент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явление противопоказаний на момент проведения манипуля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 характере предстоящей манипуля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 необходимости данной манипуля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 ощущениях пациента во время манипуля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 поведении пациента во время манипуля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 поведении пациента после манипуля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0" y="16999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7d"/>
                </a:solidFill>
                <a:latin typeface="Times New Roman"/>
              </a:rPr>
              <a:t>Физиологическая подготов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ациент укладывается на кушетку на правый бок с согнутыми в коленях ног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тановка клизм также возможна в положении лежа на спине и коленно-локтевом положении пацие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8920" y="476280"/>
            <a:ext cx="482436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7d"/>
                </a:solidFill>
                <a:latin typeface="Times New Roman"/>
              </a:rPr>
              <a:t>Очистительная </a:t>
            </a:r>
            <a:br>
              <a:rPr sz="4800"/>
            </a:br>
            <a:r>
              <a:rPr b="1" lang="ru-RU" sz="4800" spc="-1" strike="noStrike">
                <a:solidFill>
                  <a:srgbClr val="00007d"/>
                </a:solidFill>
                <a:latin typeface="Times New Roman"/>
              </a:rPr>
              <a:t>клиз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>
            <a:grayscl/>
            <a:lum bright="6000"/>
          </a:blip>
          <a:stretch/>
        </p:blipFill>
        <p:spPr>
          <a:xfrm>
            <a:off x="5211720" y="476280"/>
            <a:ext cx="3776760" cy="6192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>
            <a:grayscl/>
            <a:lum bright="6000"/>
          </a:blip>
          <a:srcRect l="4046" t="0" r="5159" b="8944"/>
          <a:stretch/>
        </p:blipFill>
        <p:spPr>
          <a:xfrm>
            <a:off x="1187280" y="549360"/>
            <a:ext cx="6840720" cy="60786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>
            <a:grayscl/>
            <a:lum bright="6000"/>
          </a:blip>
          <a:srcRect l="2454" t="2376" r="4325" b="3131"/>
          <a:stretch/>
        </p:blipFill>
        <p:spPr>
          <a:xfrm>
            <a:off x="1692360" y="549360"/>
            <a:ext cx="5844960" cy="6048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>
            <a:grayscl/>
            <a:lum bright="6000"/>
          </a:blip>
          <a:srcRect l="2272" t="2264" r="3933" b="6197"/>
          <a:stretch/>
        </p:blipFill>
        <p:spPr>
          <a:xfrm>
            <a:off x="1403280" y="549360"/>
            <a:ext cx="5899320" cy="6048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rcRect l="0" t="0" r="0" b="13348"/>
          <a:stretch/>
        </p:blipFill>
        <p:spPr>
          <a:xfrm>
            <a:off x="2050920" y="476280"/>
            <a:ext cx="5283360" cy="6192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76720" y="691920"/>
            <a:ext cx="4067280" cy="17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00007d"/>
                </a:solidFill>
                <a:latin typeface="Times New Roman"/>
              </a:rPr>
              <a:t>Сифонная клизма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>
            <a:grayscl/>
            <a:lum bright="6000"/>
          </a:blip>
          <a:srcRect l="778" t="1139" r="54116" b="56715"/>
          <a:stretch/>
        </p:blipFill>
        <p:spPr>
          <a:xfrm>
            <a:off x="395280" y="692280"/>
            <a:ext cx="4699080" cy="5976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Arial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Что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является конечным отделом толстой кишки?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rcRect l="1214" t="53014" r="54761" b="4736"/>
          <a:stretch/>
        </p:blipFill>
        <p:spPr>
          <a:xfrm>
            <a:off x="2195640" y="620640"/>
            <a:ext cx="4665600" cy="6093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>
            <a:grayscl/>
            <a:lum bright="6000"/>
          </a:blip>
          <a:srcRect l="53490" t="1139" r="2156" b="55668"/>
          <a:stretch/>
        </p:blipFill>
        <p:spPr>
          <a:xfrm>
            <a:off x="2195640" y="549360"/>
            <a:ext cx="4614840" cy="611964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1"/>
          <a:srcRect l="53161" t="53002" r="2156" b="3368"/>
          <a:stretch/>
        </p:blipFill>
        <p:spPr>
          <a:xfrm>
            <a:off x="2411280" y="549360"/>
            <a:ext cx="4606920" cy="61196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268360" y="549360"/>
            <a:ext cx="4948560" cy="611964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>
            <a:grayscl/>
            <a:lum contrast="12000"/>
          </a:blip>
          <a:srcRect l="2697" t="2278" r="38159" b="10002"/>
          <a:stretch/>
        </p:blipFill>
        <p:spPr>
          <a:xfrm>
            <a:off x="2627280" y="476280"/>
            <a:ext cx="3881520" cy="6192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456840"/>
            <a:ext cx="3888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7d"/>
                </a:solidFill>
                <a:latin typeface="Times New Roman"/>
              </a:rPr>
              <a:t>Масляная клизм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rcRect l="1510" t="1095" r="53271" b="54177"/>
          <a:stretch/>
        </p:blipFill>
        <p:spPr>
          <a:xfrm>
            <a:off x="4140360" y="404640"/>
            <a:ext cx="4586040" cy="6264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rcRect l="52095" t="1618" r="951" b="54109"/>
          <a:stretch/>
        </p:blipFill>
        <p:spPr>
          <a:xfrm>
            <a:off x="2540160" y="476280"/>
            <a:ext cx="4752720" cy="6192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rcRect l="733" t="50068" r="54447" b="5284"/>
          <a:stretch/>
        </p:blipFill>
        <p:spPr>
          <a:xfrm>
            <a:off x="2647800" y="476280"/>
            <a:ext cx="4500720" cy="6192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rcRect l="52326" t="50615" r="1465" b="4608"/>
          <a:stretch/>
        </p:blipFill>
        <p:spPr>
          <a:xfrm>
            <a:off x="2556000" y="549360"/>
            <a:ext cx="4572000" cy="6119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0" y="1699920"/>
            <a:ext cx="914400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5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00007d"/>
                </a:solidFill>
                <a:latin typeface="Times New Roman"/>
              </a:rPr>
              <a:t>КОНТРОЛЬ ИСХОДНОГО УРОВНЯ ЗНАНИЙ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мая ки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7d"/>
                </a:solidFill>
                <a:latin typeface="Times New Roman"/>
              </a:rPr>
              <a:t>Медицинский диктан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№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постановки сифонной клизмы необходимо приготовить ____ литров воды, систему для сифонной клизмы на наружном конце которой находится _________. Зонд вводим в кишечник на _____ см. и держим воронку на уровне _____ и поднимаем ее вверх, пока вода не опустится ______ и затем опускаем до уровня _______ и выливаем в таз для _____ в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№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проведения очистительной клизмы готовим ______ воды, температура ______, добавляем в воду _____, наконечник вводим на _____ см. Перед тем, как вывести наконечник в конце процедуры просим ______ больного и постараться удержать воду в кишечнике на ______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№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постановки масляной клизмы мы приготовим __________ в количестве ________, температура раствора _______ и вводим в кишечник на ___ см. Присоединяемся к газоотводной трубке ________. Акт дефекации наступает через ______ ча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№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гипертонической клизмы мы готовим _______ раствор, подогретый до ______ градусов и вводим в кишечник газоотводную трубку на _____ см. Дефекация наступает через _______ мин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280" y="456840"/>
            <a:ext cx="878544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ru-RU" sz="2000" spc="-1" strike="noStrike">
                <a:solidFill>
                  <a:srgbClr val="00007d"/>
                </a:solidFill>
                <a:latin typeface="Times New Roman"/>
              </a:rPr>
              <a:t>Выходной тест-контроль по теме «Клизмы</a:t>
            </a:r>
            <a:r>
              <a:rPr b="1" lang="ru-RU" sz="2000" spc="-1" strike="noStrike">
                <a:solidFill>
                  <a:srgbClr val="00007d"/>
                </a:solidFill>
                <a:latin typeface="Times New Roman"/>
              </a:rPr>
              <a:t>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ариант № 1</a:t>
            </a:r>
            <a:br>
              <a:rPr sz="20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Выберите правильный отве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7640" y="1557360"/>
            <a:ext cx="40323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000000"/>
                </a:solidFill>
                <a:uFillTx/>
                <a:latin typeface="Times New Roman"/>
              </a:rPr>
              <a:t>1. Очистительную клизму назначают при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а) геморро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б) запор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) трещине заднего проход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000000"/>
                </a:solidFill>
                <a:uFillTx/>
                <a:latin typeface="Times New Roman"/>
              </a:rPr>
              <a:t>2. С целью обеспечения инфекционной безопасности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а) пациента отгораживают ширмо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б) подкладывают под пациента судно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) моют руки, надевают перчатки и фартук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000000"/>
                </a:solidFill>
                <a:uFillTx/>
                <a:latin typeface="Times New Roman"/>
              </a:rPr>
              <a:t>3. При малоподвижном образе жизни, употреблении пищи с малым количеством клетчатки, развивается запор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а) спастически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б) атонически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) привычны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000000"/>
                </a:solidFill>
                <a:uFillTx/>
                <a:latin typeface="Times New Roman"/>
              </a:rPr>
              <a:t>4. Для постановки гипертонической клизмы необходимо приготовить раствор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а) 10% хлорида натр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б) 5% сульфата магн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) 0,9% натрия хлорид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000000"/>
                </a:solidFill>
                <a:uFillTx/>
                <a:latin typeface="Times New Roman"/>
              </a:rPr>
              <a:t>5. Необходимое количество растительного масла для постановки масляной клизмы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а) 10 м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б) 100 м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) 500 м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г) 1000 м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284720" y="1557360"/>
            <a:ext cx="485928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000000"/>
                </a:solidFill>
                <a:uFillTx/>
                <a:latin typeface="Times New Roman"/>
              </a:rPr>
              <a:t>6. При спастическом запоре у пациента, чаще назначается клизма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а) гипертоническа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б) очистительна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) сифонна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г) масляна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000000"/>
                </a:solidFill>
                <a:uFillTx/>
                <a:latin typeface="Times New Roman"/>
              </a:rPr>
              <a:t>7. Опорожнение кишечника после постановки масляной клизмы, как правило, наступает через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а) 15-20 мину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б) 2-3 час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) 60 мину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г) 8-10 часо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000000"/>
                </a:solidFill>
                <a:uFillTx/>
                <a:latin typeface="Times New Roman"/>
              </a:rPr>
              <a:t>8. При постановке очистительной клизмы наконечник вводят на глубину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а) 40 с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б) 20 с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) 10-12 с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г) 2-5 с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000000"/>
                </a:solidFill>
                <a:uFillTx/>
                <a:latin typeface="Times New Roman"/>
              </a:rPr>
              <a:t>9. Для постановки сифонной клизмы надо подготовить чистой воды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а) 10 литро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б) 12 литро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) 5 литро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г) 15 литро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000000"/>
                </a:solidFill>
                <a:uFillTx/>
                <a:latin typeface="Times New Roman"/>
              </a:rPr>
              <a:t>10. Для постановки масляной клизмы необходимо приготовить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а) кружку Эсмарха и наконечник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б) резиновый баллон и газоотводную трубк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) два желудочных зонда и стеклянную воронк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г) шприц объемом 20 м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250560" y="83664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Дополни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1. Для постановки очистительной клизмы необходимо взять жидкости в объеме ____________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2. После масляной клизмы опорожнение наступает через _______________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3. При задержке стула и массивных отеках назначают _________________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4. Очистительная клизма усиливает перистальтику, разрыхляет каловые массы и ____________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5. Механическое действие клизмы тем значительней, чем больше ____________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Установить соответств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16. Виды клизм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водимые жидкос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) масляная                                            а) вода 10 литр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) сифонная                                           б) растительное мас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) очистительная                                   в) вода 1,5 ли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17. Виды клизм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Глубина введения наконечник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) масляная                                            а) 10-12 с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) сифонная                                           б) 20-30 с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) 15-20 с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18. Виды клизм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Оборудова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) масляная                                             а) кружка Эсмарх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) сифонная                                            б) грушевидный баллон с газоотводной трубк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) резиновая трубка, зонд, соединенные стеклянно трубк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87854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ru-RU" sz="2000" spc="-1" strike="noStrike">
                <a:solidFill>
                  <a:srgbClr val="00007d"/>
                </a:solidFill>
                <a:latin typeface="Times New Roman"/>
              </a:rPr>
              <a:t>Выходной тест-контроль по теме «Клизмы»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Вариант № 2</a:t>
            </a:r>
            <a:br>
              <a:rPr sz="20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Выберите правильный отве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4067280" cy="5445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1. Показанием к очистительной клизме являетс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) отравл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) неясные боли в живо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) кол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2. Перед постановкой клизмы пациента укладывают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) на левый б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) на живо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) на правый б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3. Для постановки очистительной клизмы нужно приготовить чистой вод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) 1-1,5 лит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) 2-3 лит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) 5-6 лит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) 10 лит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4. Для постановки масляной клизмы используетс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) кружка Эсмарх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) грушевидный балл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) грушевидный баллон и резиновая труб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) зонд с воронк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5. Температура раствора используемого при постановке послабляющей клизм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) 37-38°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) 40-42°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) 30-32°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) 50-55°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067280" y="1412640"/>
            <a:ext cx="5076720" cy="5445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000000"/>
                </a:solidFill>
                <a:uFillTx/>
                <a:latin typeface="Times New Roman"/>
              </a:rPr>
              <a:t>6. Опорожнение кишечника после постановки гипертонической клизмы, кА правило наступает через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а) 20-30 мину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б) 5 мину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) 1 час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г) 8-10 часо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000000"/>
                </a:solidFill>
                <a:uFillTx/>
                <a:latin typeface="Times New Roman"/>
              </a:rPr>
              <a:t>7. Одним из показаний для постановки сифонной клизмы является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а) рак прямой кишк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б) подозрение на кишечную непроходимость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) геморро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г) запор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000000"/>
                </a:solidFill>
                <a:uFillTx/>
                <a:latin typeface="Times New Roman"/>
              </a:rPr>
              <a:t>8. Клизменные наконечники сразу же после использования подлежат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а) протиранию салфетко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б) кипячению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) дезинфекци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г) стерилизаци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000000"/>
                </a:solidFill>
                <a:uFillTx/>
                <a:latin typeface="Times New Roman"/>
              </a:rPr>
              <a:t>9. При постановке очистительной клизмы опорожняется отдел кишечника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а) весь толстый кишечник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б) нижний отдел тонкого кишечник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) нижний отдел толстого кишечник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г) только прямая кишк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000000"/>
                </a:solidFill>
                <a:uFillTx/>
                <a:latin typeface="Times New Roman"/>
              </a:rPr>
              <a:t>10. Для постановки сифонной клизмы необходимо приготовить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а) кружку Эсмарха и наконечник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б) резиновый баллон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) резиновую трубку, зонд, соединенных стеклянной трубкой, с воронко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г) два резиновых зонда, соединенных стеклянной капельнице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179280" y="836280"/>
            <a:ext cx="878544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Дополни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1. Целью очистительной клизмы является ____________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2. Вводимая жидкость при постановке очистительной клизмы оказывает _________ воздейств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3. Масляная клизма относится к _____________ клизм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4. Для постановки сифонной клизмы необходимо ___________ в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5. Боли в животе неясной природы является _______ для постановки любой клизм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Установить соответств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16. Виды клизм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Глубина введения наконечник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) гипертоническая                         а) 5-8 с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) сифонная                                     б) 10-12 с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) 15-20 с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) 30-40 с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17. Виды клизм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оказания для примен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) сифонная                                     а) перед операци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) послабляющая                            б) при кишечной непроходим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) очистительная                             в) при отека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18. Виды клизм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водимые жидкос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) масляная                                      а) вода 1,5 ли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) гипертоническая                         б) 10% раствор натрия хлори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) очистительная                             в) растительное мас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7d"/>
                </a:solidFill>
                <a:latin typeface="Times New Roman"/>
              </a:rPr>
              <a:t>СИТУАЦИОННЫЕ ЗАДАЧИ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1. При постановке очистительной клизмы через несколько минут из кишечника выделилась только вода. Как расценить эффективность клизмы? Что предпринять для очищения кишечника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2. Во время проведения сифонной клизмы у больного произошла кратковременная потеря сознания (обморок). Ваши действ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3. При постановке очистительной клизмы после введения наконечника и открытия зажима, мы видим, что вода в кишечник не поступает. Как быть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4. У больного хроническая сердечная недостаточность. Наличие отеков. Назначена гипертоническая клизма. Как вы понимаете правильность этого назначения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5. 43 года, пациент урологического отделения. Три дня назад, ему была произведена операция. Пациент находится на постельном режиме, за это время у него не было стула и, поэтому он беспокоиться о своем состоянии. Сестра получила назначение врача сделать пациенту клизму. Какую клизму целесообразно сделать пациенту? Продемонстрируйте алгоритм действ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6. 56 лет, пациентка неврологического отделения, находящаяся на постельном режиме. Предъявляет жалобы на отсутствие стула в течение трех дней. Сестра получила назначение врача сделать пациенту клизму. Какую клизму целесообразно применить в данном случае? Продемонстрируйте алгоритм действ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7. 40 лет, была доставлена в инфекционное отделение, в экстренном порядке машиной скорой помощи. В анализе употребление в пищу незнакомых грибов. Какую манипуляцию совместно с врачом необходимо выполнить? Продемонстрируйте алгоритм действ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8.Пациент находится на лечении по поводу заболевания почек. Он испытывает неудобства, связанные с массивными отеками. После осмотра пациента, врач назначает ему клизму. Определить, какой вид клизм показан пациенту? Продемонстрируйте алгоритм действ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9. Палатная м/с, делая выборку врачебных назначений из листов назначений больного, обнаружила, что пациенту назначено эндоскопическое исследование кишечника. Какую манипуляцию необходимо сделать пациенту? Продемонстрируйте алгоритм действ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7d"/>
                </a:solidFill>
                <a:latin typeface="Times New Roman"/>
              </a:rPr>
              <a:t>«ЧЕРНЫЙ ЯЩИК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Студентам предлагается выходить парами. Они извлекают из ящика предметы, называют их и должны показать, при постановке какого вида клизмы используютс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</a:rPr>
              <a:t>Оборудование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476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Кружка Эсмарх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476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Шприц Жан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476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Грушевидный баллон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476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Лоток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476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Газоотводная трубк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476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Зонд желудочный толсты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476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Наконечник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476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Резиновая трубк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476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Воронк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476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Кружк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476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Перчатк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476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Гипертонический раствор натрия хлорид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476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Вазелин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476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Судн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476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Клеенк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Times New Roman"/>
              </a:rPr>
              <a:t>ГОЛОВОЛОМКА</a:t>
            </a:r>
            <a:br>
              <a:rPr sz="2500"/>
            </a:br>
            <a:r>
              <a:rPr b="1" lang="ru-RU" sz="2500" spc="-1" strike="noStrike">
                <a:solidFill>
                  <a:srgbClr val="00007d"/>
                </a:solidFill>
                <a:latin typeface="Times New Roman"/>
              </a:rPr>
              <a:t>на тему «Клизмы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0" y="4941360"/>
            <a:ext cx="449568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2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</a:rPr>
              <a:t>Вопросы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Возникает в результате нарушения моторной и секреторной функций кишечник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Неправильное питание может вызвать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Короткие, частые, схваткообразные приступы болей – это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Оснащение для очистительной клизм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Клизма, ставящаяся при спастическом запор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48320" y="4941360"/>
            <a:ext cx="449568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59200" indent="-25920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Действие на организм пациента, при постановке клизм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Клизма, ставящаяся при отеках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Это используют для смазывания наконечника для клизм перед постановкой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Процедура введения в нижний отрезок толстой кишки жидкост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Показание для постановки гипертонической клизм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7" descr=""/>
          <p:cNvPicPr/>
          <p:nvPr/>
        </p:nvPicPr>
        <p:blipFill>
          <a:blip r:embed="rId1"/>
          <a:srcRect l="11606" t="33628" r="11606" b="15224"/>
          <a:stretch/>
        </p:blipFill>
        <p:spPr>
          <a:xfrm>
            <a:off x="755640" y="1268280"/>
            <a:ext cx="7632720" cy="366876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Times New Roman"/>
              </a:rPr>
              <a:t>ДОМАШНЯ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Евгений К., 34 года, водитель, ранее имевший хорошее здоровье, после аварии из-за серьезной травмы нижних конечностей находится на лечении в хирургическом отделении. В течении трех недель прикован к постели. Настроение неровное, страдает бессонницей, плохо ест. На момент осмотра предъявляет жалобы на отсутствие стула более двух дн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ациент надеется на успешный исход лечения, но обеспокоен тем, что не сможет приступить к своей работе из-за хромоты. Переживает, что в результате этого дефекта от него отвернуться знакомые. Пациент исповедует христианство, но вследствие травмы посещать церковь не смож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. Выявить имеющиеся проблемы пациен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2. Заполнить карту сестринского процесса по физиологическим проблема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602136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79280" y="404640"/>
          <a:ext cx="289080" cy="2845080"/>
        </p:xfrm>
        <a:graphic>
          <a:graphicData uri="http://schemas.openxmlformats.org/drawingml/2006/table">
            <a:tbl>
              <a:tblPr/>
              <a:tblGrid>
                <a:gridCol w="2890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Rectangle 107"/>
          <p:cNvSpPr/>
          <p:nvPr/>
        </p:nvSpPr>
        <p:spPr>
          <a:xfrm>
            <a:off x="0" y="829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456840"/>
            <a:ext cx="878544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7d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980720"/>
          <a:ext cx="8229600" cy="3886200"/>
        </p:xfrm>
        <a:graphic>
          <a:graphicData uri="http://schemas.openxmlformats.org/drawingml/2006/table"/>
        </a:graphic>
      </p:graphicFrame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79280" y="1052640"/>
          <a:ext cx="287280" cy="1547640"/>
        </p:xfrm>
        <a:graphic>
          <a:graphicData uri="http://schemas.openxmlformats.org/drawingml/2006/table">
            <a:tbl>
              <a:tblPr/>
              <a:tblGrid>
                <a:gridCol w="287280"/>
              </a:tblGrid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4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00007d"/>
                </a:solidFill>
                <a:latin typeface="Times New Roman"/>
              </a:rPr>
              <a:t>КОНТРОЛЬ ИСХОДНОГО УРОВНЯ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7d"/>
                </a:solidFill>
                <a:latin typeface="Times New Roman"/>
              </a:rPr>
              <a:t>РАЗМИН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09:47:39Z</dcterms:created>
  <dc:creator>Dark</dc:creator>
  <dc:description/>
  <dc:language>en-US</dc:language>
  <cp:lastModifiedBy>МР</cp:lastModifiedBy>
  <dcterms:modified xsi:type="dcterms:W3CDTF">2019-10-16T07:37:12Z</dcterms:modified>
  <cp:revision>30</cp:revision>
  <dc:subject/>
  <dc:title>ПРАКТИЧЕСКОЕ ЗАНЯТИЕ</dc:title>
</cp:coreProperties>
</file>