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71A-2806-407E-A4E4-B0B38EF3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654-0837-4EE4-B509-FF61D280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C3C-E61F-4FFC-AE4E-70DA54A8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FDC-48FD-4829-A97F-E4EF0D8D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89DA6-9CD9-4E3B-96E3-4647BF52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8D52F-6AD1-4CFE-A33D-84B12183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34729-04F3-4EBF-9A9D-82FF521E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4BEA4-6FF6-4890-A721-48CC2AF3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8E653-DA3C-43BA-B631-BE122BED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B3D5C-A9EC-4D3D-BB67-4567A678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BE5BD-56D2-4CC7-9715-FB5199F9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7F0-9F19-47B4-A13C-C5293BFA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6DEA1-35D6-43A8-B050-8D42D900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5D7C5-039D-4EBC-BE29-5F80B922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AA337-92AC-4EDE-887C-C1583DFB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6A204-881B-40E9-9A81-CA962BDB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C17FE-6610-42A6-938D-83946F6F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5EB-2E8D-4796-B6BE-58F4FB58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C8A-8451-477D-9392-6E4CAF1C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449-BC26-446F-BF2E-45CDD238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0B4-1EE3-41CE-8B6A-0D4785C3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119-BB95-4DCB-A84C-3D13A51C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F15-E7D9-4E81-A72D-1F3C1DA8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0DE-A6C6-4B70-BF27-19413D45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D7A1-5DD4-4AA6-8312-CC899B1E10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187B-D4FD-4BD3-A248-89DB183CFF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90920" y="213372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352680" cy="237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3352680" cy="243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28600" y="43434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19920" y="4191120"/>
            <a:ext cx="28573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2798640" cy="2971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038480" y="3581280"/>
            <a:ext cx="4800600" cy="3000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410080" y="228600"/>
            <a:ext cx="3733920" cy="3516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304920" y="3657600"/>
            <a:ext cx="41148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971800" y="4191120"/>
            <a:ext cx="2971800" cy="2280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19920" y="228600"/>
            <a:ext cx="2962080" cy="3809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2670120" cy="3733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3276720" y="304920"/>
            <a:ext cx="2585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476800" cy="3714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191120" y="304920"/>
            <a:ext cx="4343400" cy="244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52280" y="419112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114800" y="3139920"/>
            <a:ext cx="441972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800600" cy="3121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0" y="863640"/>
            <a:ext cx="4419720" cy="2927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80880" y="358128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029200" y="41212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24280" y="482760"/>
            <a:ext cx="4038840" cy="2690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438280" y="3581280"/>
            <a:ext cx="43434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717720" cy="4676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28600" y="2133720"/>
            <a:ext cx="3997440" cy="4495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048120" y="228600"/>
            <a:ext cx="2682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5429160" cy="306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715000" y="2362320"/>
            <a:ext cx="3070080" cy="4124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33520" y="2286000"/>
            <a:ext cx="2909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99072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Почему дети похожи на родителей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0T17:57:46Z</dcterms:created>
  <dc:creator>Роман Борисов</dc:creator>
  <dc:description/>
  <dc:language>en-US</dc:language>
  <cp:lastModifiedBy>User</cp:lastModifiedBy>
  <dcterms:modified xsi:type="dcterms:W3CDTF">2019-10-16T11:44:2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