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jpeg" ContentType="image/jpeg"/>
  <Override PartName="/ppt/media/image22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46E1-5A99-43C9-B04D-1AA396CC1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65C2-EDE7-4271-8D9E-CE16833E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1099-7180-41BE-9681-206F0A164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FD99-A723-494C-8D35-B0B2948AC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FE761-DC3D-4490-8386-009CB54E7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D6E7-C143-4374-AF21-AF83CA27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C99F-34DB-45EE-B493-B7B8266D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301A-2BEC-4699-BFA7-4B6CF373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31E8-969E-46AD-A22D-63887844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B2B3-1D28-4C40-9D24-D74BB584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19C7-F624-48A4-9C80-4CDFC47B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B7CF-ADEE-4FFB-9172-59E0B890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C2C96-0852-486A-A919-61314B12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DB47-7C3A-4BC9-BAB4-60CCFEFC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8D63-7494-48C4-830B-C2237631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AFC75-9838-4849-A3A8-3A5B95F69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6793-3A1D-4683-A6CE-A89EDE223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65B4C-52EA-4D2C-9A83-B8A8D8736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A0CBA-A9D9-402B-B438-822292C6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87EB0-8DC2-4E9E-8259-27AA3A65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4E131-D8E2-47E8-8DF7-F55EEA1C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3CFFF-EF60-4FAE-B288-06F1308E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5016-B29D-4BB5-AF15-66101A7E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983E1-FBBD-46D5-B155-1F758E60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FC7E4-1F55-452B-ADB9-2A1BBF4E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6575C-FE6F-4EC7-AFB4-94C8E9EC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16799-8394-4E87-A516-A9F17EC0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6FA6E-1BBA-48EA-9908-495FDFD5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C325E-2FA8-45EB-BFF1-D4BA9E59D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C1581-BD19-463C-804C-53EB3DF9E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C59AE-4EBB-4C60-812B-B1EF8B13C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EA671-32BC-4057-B5C8-7C46CFC8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4D893-984C-469F-AEE4-50B8767C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10C8-3D1F-48FA-8100-156B7579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F73B3-CEBE-4075-BEAE-EE7CD158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359DD-F9BB-47E9-93F2-4EA559475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15B89-3CE2-4DE3-9FE8-52BF92E6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2D5B4-61F9-455D-A4E4-C7041AF0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5B651-C8F3-4AE7-B3DE-2A1F76FA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51EE4-E12A-459D-A88D-A52BE6BE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12B04-3D6C-4CCF-BDE6-BF386D84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9A7CE-FBA9-4677-81F5-4C7FBAFDA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5CA1C-45C7-4EA8-AC29-C87199655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B86BA-B7A5-497C-A412-70EFD9D2E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C96E-2524-4906-828D-EFCD1473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4FDFF-FC1E-437D-A575-53FA50F8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E55C0-398D-44BC-9450-81D77DC6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6AA81-CC0E-47C2-B36F-E974AD56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B1252-782E-4FA8-91ED-8823A765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19BDD-7699-4692-889A-FF70BD64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CCB71-8717-4840-BC10-29745756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C732C-1139-4B93-ADC4-C3719F1A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4FF9D-8426-44C1-A41D-2449CE42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F6B9F-5E6A-48D0-A387-37F00B58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376E6-6177-491A-85B6-147F9C5E2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7D25-8478-4545-8372-464A1B5A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A3D59-0168-4BE1-904F-EB2F4F486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53F17-945E-40BC-ADAD-A640C0DE8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A601C-2159-4C6B-893D-C0316FC6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55939-1B67-4AF7-A05E-8E3AADC6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6B885-8FC0-4CE9-89A3-9EE34075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85141-F96F-46F2-AFE0-19F634F7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51904-EEA7-4A8C-BAC0-48042939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60C87-D6A6-4F65-B4F5-CEE5D273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9D7C6-B900-4A06-BF82-403A1BD4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053AC-ED10-4929-ADC5-7EA30566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0B53-FAC4-4113-AE07-B6ABD50A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C3BCF-05C7-4C57-9AA6-D2909CB8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80CFC-58DB-4731-90D4-33221D728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21CA9-CC95-4908-8008-E403111CA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65BB4-1E5B-4D7C-9862-77DA5D906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F77E9-0CC4-4C40-ACC5-F0A42088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173CA-EE13-42B7-98CD-5CB1765E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2B44D-7D8A-435E-BEAF-D305FE39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FDCC6-C324-4187-A520-CA524436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B5F26-21B3-4907-9045-068480C1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5C214-DE07-4FCA-94C5-38342972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21CB-8983-4478-AF31-F92E83B7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CF854-517C-44B6-8BED-122B389C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F101E-1E0B-45DF-8000-D8990473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53242-7CDA-4671-B714-30AC45EB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C7214-17E2-40B9-9CE3-8B5C0A5E1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D0B7F-BF66-4B25-AF0D-E817133E1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315E-6D73-4496-A9EE-A2D0FC86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CC1B-88FD-4372-BBDB-ECE6E59806F1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DEA0-1C57-465A-BCD3-30C775284EED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4104-560A-4DF2-A474-26AAD81DA255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98DC-82F3-4914-9A22-2932A51AF000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EB9A-7A77-46A6-AD8A-4B8A220FFF53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F2C3-716F-4516-A107-6A72ECBDB2F3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A825-7746-416E-92DC-2DF1E1C5B3BA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699320" cy="29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Проект по изучению правил дорожного движения для детей 5-7 лет на тему: «Положено знать всем без исключения Правила Дорожного Движения» 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3785760" y="4286160"/>
            <a:ext cx="490068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ndara"/>
                <a:ea typeface="Times New Roman"/>
              </a:rPr>
              <a:t>МАДОУ  «Детский сад №196» г. Барнаула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ndara"/>
                <a:ea typeface="Times New Roman"/>
              </a:rPr>
              <a:t>Группа №6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 u="sng">
                <a:solidFill>
                  <a:srgbClr val="000000"/>
                </a:solidFill>
                <a:uFillTx/>
                <a:latin typeface="Candara"/>
                <a:ea typeface="Times New Roman"/>
              </a:rPr>
              <a:t>Воспитатели: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Candara"/>
                <a:ea typeface="Times New Roman"/>
              </a:rPr>
              <a:t>Кузнецова Юлия Алексеевна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Candara"/>
                <a:ea typeface="Times New Roman"/>
              </a:rPr>
              <a:t>Тихова Елена Петровна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95280" y="-85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9" name="Объект 4" descr=""/>
          <p:cNvPicPr/>
          <p:nvPr/>
        </p:nvPicPr>
        <p:blipFill>
          <a:blip r:embed="rId1"/>
          <a:stretch/>
        </p:blipFill>
        <p:spPr>
          <a:xfrm>
            <a:off x="250920" y="855720"/>
            <a:ext cx="4182840" cy="5578560"/>
          </a:xfrm>
          <a:prstGeom prst="rect">
            <a:avLst/>
          </a:prstGeom>
          <a:ln w="0">
            <a:noFill/>
          </a:ln>
        </p:spPr>
      </p:pic>
      <p:pic>
        <p:nvPicPr>
          <p:cNvPr id="360" name="Объект 8" descr=""/>
          <p:cNvPicPr/>
          <p:nvPr/>
        </p:nvPicPr>
        <p:blipFill>
          <a:blip r:embed="rId2"/>
          <a:stretch/>
        </p:blipFill>
        <p:spPr>
          <a:xfrm>
            <a:off x="4645080" y="812880"/>
            <a:ext cx="424800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рименяем на практик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2" name="Объект 8" descr=""/>
          <p:cNvPicPr/>
          <p:nvPr/>
        </p:nvPicPr>
        <p:blipFill>
          <a:blip r:embed="rId1"/>
          <a:stretch/>
        </p:blipFill>
        <p:spPr>
          <a:xfrm>
            <a:off x="1258920" y="2133720"/>
            <a:ext cx="6775560" cy="42480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642920" y="1412640"/>
            <a:ext cx="4248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Объект 9" descr=""/>
          <p:cNvPicPr/>
          <p:nvPr/>
        </p:nvPicPr>
        <p:blipFill>
          <a:blip r:embed="rId1"/>
          <a:stretch/>
        </p:blipFill>
        <p:spPr>
          <a:xfrm>
            <a:off x="1498680" y="2386080"/>
            <a:ext cx="5810040" cy="43560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Выставка произведений художественной литературы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Объект 4" descr=""/>
          <p:cNvPicPr/>
          <p:nvPr/>
        </p:nvPicPr>
        <p:blipFill>
          <a:blip r:embed="rId1"/>
          <a:stretch/>
        </p:blipFill>
        <p:spPr>
          <a:xfrm>
            <a:off x="1187280" y="2133720"/>
            <a:ext cx="7201080" cy="423072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Выставка совместных работ с родителями: «ПДД – глазами детей»,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Выставка работ продуктивной деятельности для родителей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9" name="Объект 9" descr=""/>
          <p:cNvPicPr/>
          <p:nvPr/>
        </p:nvPicPr>
        <p:blipFill>
          <a:blip r:embed="rId1"/>
          <a:stretch/>
        </p:blipFill>
        <p:spPr>
          <a:xfrm>
            <a:off x="179280" y="2673360"/>
            <a:ext cx="4319640" cy="3238560"/>
          </a:xfrm>
          <a:prstGeom prst="rect">
            <a:avLst/>
          </a:prstGeom>
          <a:ln w="0">
            <a:noFill/>
          </a:ln>
        </p:spPr>
      </p:pic>
      <p:pic>
        <p:nvPicPr>
          <p:cNvPr id="370" name="Объект 11" descr=""/>
          <p:cNvPicPr/>
          <p:nvPr/>
        </p:nvPicPr>
        <p:blipFill>
          <a:blip r:embed="rId2"/>
          <a:stretch/>
        </p:blipFill>
        <p:spPr>
          <a:xfrm>
            <a:off x="4645080" y="2727360"/>
            <a:ext cx="417492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8360" y="-12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2" name="Объект 7" descr=""/>
          <p:cNvPicPr/>
          <p:nvPr/>
        </p:nvPicPr>
        <p:blipFill>
          <a:blip r:embed="rId1"/>
          <a:stretch/>
        </p:blipFill>
        <p:spPr>
          <a:xfrm>
            <a:off x="250920" y="1986120"/>
            <a:ext cx="4327560" cy="3246120"/>
          </a:xfrm>
          <a:prstGeom prst="rect">
            <a:avLst/>
          </a:prstGeom>
          <a:ln w="0">
            <a:noFill/>
          </a:ln>
        </p:spPr>
      </p:pic>
      <p:pic>
        <p:nvPicPr>
          <p:cNvPr id="373" name="Объект 8" descr=""/>
          <p:cNvPicPr/>
          <p:nvPr/>
        </p:nvPicPr>
        <p:blipFill>
          <a:blip r:embed="rId2"/>
          <a:stretch/>
        </p:blipFill>
        <p:spPr>
          <a:xfrm>
            <a:off x="4645080" y="2016000"/>
            <a:ext cx="424800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601640" y="611280"/>
            <a:ext cx="5940720" cy="56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95280" y="170028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ndara"/>
              </a:rPr>
              <a:t>СПАСИБО ЗА ВНИМАНИ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1555920" y="189000"/>
            <a:ext cx="594036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1547640" y="1535040"/>
            <a:ext cx="594072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3" descr=""/>
          <p:cNvPicPr/>
          <p:nvPr/>
        </p:nvPicPr>
        <p:blipFill>
          <a:blip r:embed="rId1"/>
          <a:stretch/>
        </p:blipFill>
        <p:spPr>
          <a:xfrm>
            <a:off x="1601640" y="571680"/>
            <a:ext cx="5940720" cy="57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Объект 8" descr=""/>
          <p:cNvPicPr/>
          <p:nvPr/>
        </p:nvPicPr>
        <p:blipFill>
          <a:blip r:embed="rId1"/>
          <a:stretch/>
        </p:blipFill>
        <p:spPr>
          <a:xfrm>
            <a:off x="1835280" y="2492280"/>
            <a:ext cx="6408720" cy="365616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Консультация для родителей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82520" y="-31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382104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южетно ролевая игра по ПДД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4" name="Объект 26" descr=""/>
          <p:cNvPicPr/>
          <p:nvPr/>
        </p:nvPicPr>
        <p:blipFill>
          <a:blip r:embed="rId1"/>
          <a:stretch/>
        </p:blipFill>
        <p:spPr>
          <a:xfrm>
            <a:off x="623880" y="1773360"/>
            <a:ext cx="3508560" cy="4680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48320" y="765000"/>
            <a:ext cx="382248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Развлечение по ПДД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6" name="Объект 27" descr=""/>
          <p:cNvPicPr/>
          <p:nvPr/>
        </p:nvPicPr>
        <p:blipFill>
          <a:blip r:embed="rId2"/>
          <a:stretch/>
        </p:blipFill>
        <p:spPr>
          <a:xfrm>
            <a:off x="5240160" y="1773360"/>
            <a:ext cx="26323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НЕПОСРЕДСТВЕННО ОБРАЗОВАТЕЛЬНАЯ ДЕЯТЕЛЬНОСТЬ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382248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Аппликация: «Пешеходный переход»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9" name="Объект 9" descr=""/>
          <p:cNvPicPr/>
          <p:nvPr/>
        </p:nvPicPr>
        <p:blipFill>
          <a:blip r:embed="rId1"/>
          <a:stretch/>
        </p:blipFill>
        <p:spPr>
          <a:xfrm>
            <a:off x="749160" y="2421000"/>
            <a:ext cx="3186360" cy="424800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42920" y="1557000"/>
            <a:ext cx="38228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Рисование дорожных знаков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1" name="Объект 10" descr=""/>
          <p:cNvPicPr/>
          <p:nvPr/>
        </p:nvPicPr>
        <p:blipFill>
          <a:blip r:embed="rId2"/>
          <a:stretch/>
        </p:blipFill>
        <p:spPr>
          <a:xfrm>
            <a:off x="5176800" y="2421000"/>
            <a:ext cx="31845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Рисование: «Безопасная дорога в школу»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3" name="Объект 12" descr=""/>
          <p:cNvPicPr/>
          <p:nvPr/>
        </p:nvPicPr>
        <p:blipFill>
          <a:blip r:embed="rId1"/>
          <a:stretch/>
        </p:blipFill>
        <p:spPr>
          <a:xfrm>
            <a:off x="538200" y="1773360"/>
            <a:ext cx="3672000" cy="4895640"/>
          </a:xfrm>
          <a:prstGeom prst="rect">
            <a:avLst/>
          </a:prstGeom>
          <a:ln w="0">
            <a:noFill/>
          </a:ln>
        </p:spPr>
      </p:pic>
      <p:pic>
        <p:nvPicPr>
          <p:cNvPr id="354" name="Объект 15" descr=""/>
          <p:cNvPicPr/>
          <p:nvPr/>
        </p:nvPicPr>
        <p:blipFill>
          <a:blip r:embed="rId2"/>
          <a:stretch/>
        </p:blipFill>
        <p:spPr>
          <a:xfrm>
            <a:off x="4932360" y="1773360"/>
            <a:ext cx="367200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Коллективная работа: «Макет города»,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6" name="Объект 7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4182840" cy="4680000"/>
          </a:xfrm>
          <a:prstGeom prst="rect">
            <a:avLst/>
          </a:prstGeom>
          <a:ln w="0">
            <a:noFill/>
          </a:ln>
        </p:spPr>
      </p:pic>
      <p:pic>
        <p:nvPicPr>
          <p:cNvPr id="357" name="Объект 8" descr=""/>
          <p:cNvPicPr/>
          <p:nvPr/>
        </p:nvPicPr>
        <p:blipFill>
          <a:blip r:embed="rId2"/>
          <a:stretch/>
        </p:blipFill>
        <p:spPr>
          <a:xfrm>
            <a:off x="4986360" y="1844640"/>
            <a:ext cx="3565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31T06:47:08Z</dcterms:created>
  <dc:creator>тиховы</dc:creator>
  <dc:description/>
  <dc:language>en-US</dc:language>
  <cp:lastModifiedBy>Дестский сад 196</cp:lastModifiedBy>
  <dcterms:modified xsi:type="dcterms:W3CDTF">2019-10-16T08:59:04Z</dcterms:modified>
  <cp:revision>35</cp:revision>
  <dc:subject/>
  <dc:title>Презентация PowerPoint</dc:title>
</cp:coreProperties>
</file>