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A93-086D-4785-BC16-5F44799A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745-4F93-4EC8-9FA8-DE8C4E6B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E80-A499-45C0-AEBB-C8699953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9E5-1E60-414B-B7D4-9F2DBA2A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9AB-1BA6-4FAD-A7F2-2A4952CA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2BC-0C8E-46A8-B44C-99133CB8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C3D-987D-4FDD-A141-3345EC7C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AA4-DB1B-46AC-879D-67FF4A59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A13-12A1-400D-821C-8ECE1715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921-95C0-4278-8E11-48EE4AED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B78-B2E3-46A2-8731-BA2EB314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314-4E4F-4FD9-B072-D2123A2D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C867-0321-4019-B316-0AD553AD5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ДОУ д/с № 39 общеразвивающего вида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 приоритетным осуществлением физического развития воспитаннико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асносельск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569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лексно-тематическое 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питательно-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ознакомлен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ладшего и старшего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правилами дорожн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ровец Е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нкт-Петербург 201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9280" y="189000"/>
          <a:ext cx="8785440" cy="6645240"/>
        </p:xfrm>
        <a:graphic>
          <a:graphicData uri="http://schemas.openxmlformats.org/drawingml/2006/table">
            <a:tbl>
              <a:tblPr/>
              <a:tblGrid>
                <a:gridCol w="576360"/>
                <a:gridCol w="2016000"/>
                <a:gridCol w="4248360"/>
                <a:gridCol w="1944720"/>
              </a:tblGrid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шеходы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е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Правила поведения на остановках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енного транспорт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По дороге с мамой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Вырежи и наклей автомобиль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Автопар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: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ня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Дорога и тротуа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Диспече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о гужевом транспорт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Гонки на упряжках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Кто внимательный шофё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ссажир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ители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Пассажирский транспорт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Машины- помощники людей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Хорошо – плохо», «Парные картинк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овое упражнение «Кто самый лучший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еход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сёрская игр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иключение Светофорчика на перекрёстке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 –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рёсток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Экскурсия к перекрёстку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: Е. Боровая «Оцени поступо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Моя улиц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Пешеходы и водител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.И «Найди такую же картинк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ид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гадывание загадок о транспорт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Машины спешат на помощь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На чём я еду в детский сад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Едем в гост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.И. «Будь внимателен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поделок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кеты маши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им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468360" y="260280"/>
            <a:ext cx="7920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тарший дошкольный возраст (5-6 лет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1052640"/>
            <a:ext cx="74167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крепить умение ориентироваться на территории и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круг детского сада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расширять представления о правилах безопасног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ведения на улицах и дорогах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воспитывать культуры поведения на улице и в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ранспорте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познакомить детей с дорожными знаками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674df8f2dbc2t[1]"/>
          <p:cNvPicPr/>
          <p:nvPr/>
        </p:nvPicPr>
        <p:blipFill>
          <a:blip r:embed="rId1"/>
          <a:stretch/>
        </p:blipFill>
        <p:spPr>
          <a:xfrm>
            <a:off x="6588000" y="3645000"/>
            <a:ext cx="2309760" cy="3098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684360" y="429984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дать начальное представление о работе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лиционера- регулировщ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260280"/>
          <a:ext cx="8280360" cy="5761080"/>
        </p:xfrm>
        <a:graphic>
          <a:graphicData uri="http://schemas.openxmlformats.org/drawingml/2006/table">
            <a:tbl>
              <a:tblPr/>
              <a:tblGrid>
                <a:gridCol w="2592360"/>
                <a:gridCol w="568800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езопасная улиц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фессия – водитель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авила пешеходов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орожная грамот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дземный транспорт нашего город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офоры на дороге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фессия – регулировщик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осипедисты в городе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авила дорожные детям знать положено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9280" y="189000"/>
          <a:ext cx="8785440" cy="6418080"/>
        </p:xfrm>
        <a:graphic>
          <a:graphicData uri="http://schemas.openxmlformats.org/drawingml/2006/table">
            <a:tbl>
              <a:tblPr/>
              <a:tblGrid>
                <a:gridCol w="576360"/>
                <a:gridCol w="1944720"/>
                <a:gridCol w="4319640"/>
                <a:gridCol w="1944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деятельность взрослого и детей с учётом интеграции образовательных деятельносте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о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езопасн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иц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Дорога, транспорт, пешеход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блюдение за движением транспорта 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Стоп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Прогулка по город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: С. Михалков «Шагая осторожн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грывание ситуаций на макете улицы город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фессия-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итель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: М. Ильин, Е. Сегал «Рассказы о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х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Мчатся машин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ллективная аппликация «Улица полн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Куда спешат машин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южетно-ролевая игр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одитель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а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авила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еходов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: Я. Пишумов «Это улица моя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Наша улиц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Учим дорожные знак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Знаки переход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детских рисунков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ородской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ущего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мот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Опасности зимней дорог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Собери дорожный зна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Мой любимый дорожный зна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Поставь знак правильн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овая ситуация «Грамотный пешеход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дорожных знаков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игр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макетом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189000"/>
          <a:ext cx="8785440" cy="6545160"/>
        </p:xfrm>
        <a:graphic>
          <a:graphicData uri="http://schemas.openxmlformats.org/drawingml/2006/table">
            <a:tbl>
              <a:tblPr/>
              <a:tblGrid>
                <a:gridCol w="647640"/>
                <a:gridCol w="2160720"/>
                <a:gridCol w="3889440"/>
                <a:gridCol w="2087640"/>
              </a:tblGrid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дземн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ег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 «Правил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рополитен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Вагоны метр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Состав поезд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Самый быстрый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Путешествие по город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ая ситуаци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ссажиры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метро»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офор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е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итуация общения «Что означают цве-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 светофор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овая ситуация «Как правильно перей-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 проезжую часть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Три цвет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лечени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 гостях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офорика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фесси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ировщик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900000" y="198360"/>
            <a:ext cx="774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тарший дошкольный возраст (6-7 лет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692280"/>
            <a:ext cx="784836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знакомить детей с элементарными правилами дорожног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ижения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научить детей различать и понимать дорожные знаки,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назначенные для водителей и пешеходов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научить детей с правилами поведения в разных опасных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туациях, которые могут возникнуть в городских условиях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катании детей на велосипеде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воспитывать внимание, навыки осознанного использования знания правил дорожного движения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овседневной жизни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20886987_44[1]"/>
          <p:cNvPicPr/>
          <p:nvPr/>
        </p:nvPicPr>
        <p:blipFill>
          <a:blip r:embed="rId1"/>
          <a:stretch/>
        </p:blipFill>
        <p:spPr>
          <a:xfrm>
            <a:off x="5435640" y="4292640"/>
            <a:ext cx="33861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39640" y="404640"/>
          <a:ext cx="7920000" cy="5329440"/>
        </p:xfrm>
        <a:graphic>
          <a:graphicData uri="http://schemas.openxmlformats.org/drawingml/2006/table">
            <a:tbl>
              <a:tblPr/>
              <a:tblGrid>
                <a:gridCol w="2808360"/>
                <a:gridCol w="5111640"/>
              </a:tblGrid>
              <a:tr h="64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ш город и его улицы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чатся по улице автомобил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то регулирует движение транспорта и пешеходов?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мнить обязан любой пешеход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ки дорожные помни всегд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Если ты пассажир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де должны играть дети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ленький шофёр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езопасность на дорог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89000"/>
          <a:ext cx="8785440" cy="6460920"/>
        </p:xfrm>
        <a:graphic>
          <a:graphicData uri="http://schemas.openxmlformats.org/drawingml/2006/table">
            <a:tbl>
              <a:tblPr/>
              <a:tblGrid>
                <a:gridCol w="576360"/>
                <a:gridCol w="1800360"/>
                <a:gridCol w="4464000"/>
                <a:gridCol w="194472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деятельность взрослого и детей с учётом интеграции образовательных деятельносте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о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ш город и его улицы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ставление рассказа «Моя любимая улица».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В этом доме я живу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Что я знаю о своём городе».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Скажи наоборот» (улица широкая – узкая...)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Самая красивая улица город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т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лицы нашего город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чатся по улице автомобили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Цветные автомобил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роигрывание ситуаций «Осторожно, транспорт!»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блюдение за  транспортом на прогулке.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епка «Автомашины нашей улиц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специальных видов транспорта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а из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сового материал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то регулирует движение транспорт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ешеходов?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: «Влиятельная палочк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южетно-ролевая игра: «Регулировщи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оигрывание ситуаций  «Что делать, если…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Логические дорожки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 стихотворения «Если бы».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: «Светофор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аматизация сказки «Весёлый светофор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мнить обязан любой пешеход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Как переходить улиц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южетно – ролевая игра «Пешеходы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гра «Найди и расскажи».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Осторожно, гололёд!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Запрещающие знаки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выставк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ы      пешеходы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79280" y="189000"/>
          <a:ext cx="8713800" cy="6448320"/>
        </p:xfrm>
        <a:graphic>
          <a:graphicData uri="http://schemas.openxmlformats.org/drawingml/2006/table">
            <a:tbl>
              <a:tblPr/>
              <a:tblGrid>
                <a:gridCol w="576360"/>
                <a:gridCol w="1944720"/>
                <a:gridCol w="4321080"/>
                <a:gridCol w="1871640"/>
              </a:tblGrid>
              <a:tr h="116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ки дорожные помни всегд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згадывание загадок о дорожных знаках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ы с макетом улицы: «Расставь правильно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Составь запрещающий зна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ижки – малышки: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й друг – светофо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Если              ты         пассажир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 «Когда мы пассажир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стольная игра «Знаки на дорог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овое упражнение «На остановк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Скажи вежлив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згадывание кроссвордов и ребусов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южетно-ролевая игра: «Путешестви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де должны играть дети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Какие опасности подстерегают нас н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ицах и дорогах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Хорошо – плох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тихи о правилах дорожного движения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: «Игры во двор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рисунков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ы с мамой идём в детский сад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ленький шофёр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 А. Вдовиченко «Зайка – велосипедист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Где я катаюсь на велосипед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 И «Теремок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знаков «Велосипедная дорожка», «Велосипедное движение запрещен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 «Что? Где? Когда?» по правила дорожного движения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езопасность на дороге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ссказ по серии сюжетных картинок «Случай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 улиц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 Так и не та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оигрывание ситуаций  «Это – опасно!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Перекрёсто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лечение «Путешествие в страну дорожных знаков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326"/>
          <p:cNvPicPr/>
          <p:nvPr/>
        </p:nvPicPr>
        <p:blipFill>
          <a:blip r:embed="rId1"/>
          <a:stretch/>
        </p:blipFill>
        <p:spPr>
          <a:xfrm rot="20869200">
            <a:off x="611280" y="2133360"/>
            <a:ext cx="3954240" cy="296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327"/>
          <p:cNvPicPr/>
          <p:nvPr/>
        </p:nvPicPr>
        <p:blipFill>
          <a:blip r:embed="rId2"/>
          <a:stretch/>
        </p:blipFill>
        <p:spPr>
          <a:xfrm rot="718200">
            <a:off x="4284720" y="1196640"/>
            <a:ext cx="4098960" cy="3075120"/>
          </a:xfrm>
          <a:prstGeom prst="rect">
            <a:avLst/>
          </a:prstGeom>
          <a:ln w="0">
            <a:noFill/>
          </a:ln>
        </p:spPr>
      </p:pic>
      <p:sp>
        <p:nvSpPr>
          <p:cNvPr id="75" name="WordArt 8"/>
          <p:cNvSpPr txBox="1"/>
          <p:nvPr/>
        </p:nvSpPr>
        <p:spPr>
          <a:xfrm>
            <a:off x="3924360" y="4797360"/>
            <a:ext cx="4895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удожественное творчество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ластилинография "Светофор"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116000" y="333360"/>
            <a:ext cx="6985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учение правилам дорожного движе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5280" y="105264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учение должно быть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826920" y="14842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остоянны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учше частые короткие занятия, чем продолжительные, но редкие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конкретны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обходимо сосредоточить внимание ребенка на действиях в условиях реального движения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направленным на привитие безопасных способов поведения на дороге, а не только запоминанию правил дорожного движен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рименимым к ближайшему окружению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Lapset 11"/>
          <p:cNvPicPr/>
          <p:nvPr/>
        </p:nvPicPr>
        <p:blipFill>
          <a:blip r:embed="rId1"/>
          <a:stretch/>
        </p:blipFill>
        <p:spPr>
          <a:xfrm>
            <a:off x="5219640" y="3141720"/>
            <a:ext cx="331488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004"/>
          <p:cNvPicPr/>
          <p:nvPr/>
        </p:nvPicPr>
        <p:blipFill>
          <a:blip r:embed="rId1"/>
          <a:stretch/>
        </p:blipFill>
        <p:spPr>
          <a:xfrm>
            <a:off x="1116000" y="1484280"/>
            <a:ext cx="3714840" cy="2787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006"/>
          <p:cNvPicPr/>
          <p:nvPr/>
        </p:nvPicPr>
        <p:blipFill>
          <a:blip r:embed="rId2"/>
          <a:stretch/>
        </p:blipFill>
        <p:spPr>
          <a:xfrm>
            <a:off x="4500720" y="476280"/>
            <a:ext cx="414648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22111012[1]"/>
          <p:cNvPicPr/>
          <p:nvPr/>
        </p:nvPicPr>
        <p:blipFill>
          <a:blip r:embed="rId1"/>
          <a:stretch/>
        </p:blipFill>
        <p:spPr>
          <a:xfrm>
            <a:off x="2195640" y="2205000"/>
            <a:ext cx="4883040" cy="4308480"/>
          </a:xfrm>
          <a:prstGeom prst="rect">
            <a:avLst/>
          </a:prstGeom>
          <a:ln w="0">
            <a:noFill/>
          </a:ln>
        </p:spPr>
      </p:pic>
      <p:sp>
        <p:nvSpPr>
          <p:cNvPr id="79" name="WordArt 7"/>
          <p:cNvSpPr txBox="1"/>
          <p:nvPr/>
        </p:nvSpPr>
        <p:spPr>
          <a:xfrm>
            <a:off x="971640" y="549360"/>
            <a:ext cx="7129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имеют право на безопасное движение</a:t>
            </a:r>
            <a:endParaRPr b="0" i="1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х безопасность зависит от нас, взрослых!</a:t>
            </a:r>
            <a:endParaRPr b="0" i="1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11280" y="260280"/>
            <a:ext cx="7561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ладший дошкольный возраст (3-4 года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755640" y="1125360"/>
            <a:ext cx="58323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познакомить детей с работой  светофора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формировать представления об улице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учить различать виды наземного транспорта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закреплять навыки безопасного поведения на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лице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День ГАИ (ГИБДД)"/>
          <p:cNvPicPr/>
          <p:nvPr/>
        </p:nvPicPr>
        <p:blipFill>
          <a:blip r:embed="rId1"/>
          <a:stretch/>
        </p:blipFill>
        <p:spPr>
          <a:xfrm>
            <a:off x="5724360" y="4221000"/>
            <a:ext cx="30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333360"/>
          <a:ext cx="7848720" cy="5183280"/>
        </p:xfrm>
        <a:graphic>
          <a:graphicData uri="http://schemas.openxmlformats.org/drawingml/2006/table">
            <a:tbl>
              <a:tblPr/>
              <a:tblGrid>
                <a:gridCol w="2376360"/>
                <a:gridCol w="5472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ой бывает транспорт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комство с улицей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офор для пешеходов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рамотный пешеход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 – зимняя дорог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 транспорт людям помогает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утешествие по городу на транспорте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мощники на дороге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 – дорог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9280" y="189000"/>
          <a:ext cx="8785440" cy="6465960"/>
        </p:xfrm>
        <a:graphic>
          <a:graphicData uri="http://schemas.openxmlformats.org/drawingml/2006/table">
            <a:tbl>
              <a:tblPr/>
              <a:tblGrid>
                <a:gridCol w="576360"/>
                <a:gridCol w="1584360"/>
                <a:gridCol w="4753080"/>
                <a:gridCol w="187164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деятельность взрослого и детей с учётом интеграции образовательных деятельносте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о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о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вает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движением машин.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ование: «Ремонт машин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пка: «Колёса для машин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/И «Красный и зелёный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И «Цветные автомобил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книжек-самоделок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шины – какие они разные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комств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ицей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ссказ воспитателя: «Что я видела на улиц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: «Рельсы для паровоз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: «Вагончик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Что меньше?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Воробушки и автомобиль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ого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т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рекрёсток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офор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еходов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огулка «Наблюдение за светофором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епка: «Красный свет - прохода нет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Светофо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Собери светофо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Красный – зелёный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работ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                бросового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офорчики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рамотн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еход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блюдение: «Сравнение грузового и легкового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обиля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скрашивание силуэтов автомобилей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Строительство дорог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Пойди туда, куда скаж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Стой – иди!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45"/>
          <p:cNvSpPr/>
          <p:nvPr/>
        </p:nvSpPr>
        <p:spPr>
          <a:xfrm>
            <a:off x="41562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79280" y="115920"/>
          <a:ext cx="8809200" cy="6634080"/>
        </p:xfrm>
        <a:graphic>
          <a:graphicData uri="http://schemas.openxmlformats.org/drawingml/2006/table">
            <a:tbl>
              <a:tblPr/>
              <a:tblGrid>
                <a:gridCol w="576360"/>
                <a:gridCol w="1655640"/>
                <a:gridCol w="4753080"/>
                <a:gridCol w="1824120"/>
              </a:tblGrid>
              <a:tr h="129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ня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: «Кто расчищает дорогу от снег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Поездка в автобусе по заснеженной дорог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Почини машин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Куда спрятался мишк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 транспорт людям помогает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: Б. Заходер «Шофё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Путешестви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Машин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Автобус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Парные картинк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утешествие по городу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е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равнение автобуса с другим транспортом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Мы едем, едем, едем…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овая ситуация «Едем на поезде на дач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 Найди то, что назов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мощник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е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: Правила движения пешеходов по тротуару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 стихов о светофор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агадывание загадок о транспорт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Светофор для машин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Куда едет машин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: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ссматривание иллюстраций о транспорт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Узкая и широкая дорог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епка «Разные виды транспорт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Бегущий светофо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Чего не хватает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116000" y="189000"/>
            <a:ext cx="7056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редний дошкольный возраст (4-5 лет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125360"/>
            <a:ext cx="80643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расширять знания детей об общественном транспорте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формировать навыки культурного поведения в транспорте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дать элементарные знания о правилах безопасного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поведения на улице и дороге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формирование привычки – находясь на улице,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епко держать за руку взрослого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учить умению ориентироваться на местности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территории и вокруг детского сад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002-003-Dorogie-deti[1]"/>
          <p:cNvPicPr/>
          <p:nvPr/>
        </p:nvPicPr>
        <p:blipFill>
          <a:blip r:embed="rId1"/>
          <a:stretch/>
        </p:blipFill>
        <p:spPr>
          <a:xfrm>
            <a:off x="6732720" y="3213000"/>
            <a:ext cx="207000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5640" y="333360"/>
          <a:ext cx="7704000" cy="5425920"/>
        </p:xfrm>
        <a:graphic>
          <a:graphicData uri="http://schemas.openxmlformats.org/drawingml/2006/table">
            <a:tbl>
              <a:tblPr/>
              <a:tblGrid>
                <a:gridCol w="2664000"/>
                <a:gridCol w="50400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ш друг светофор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комство с улицей город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орожные знаки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мощники на дороге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шеходы на дороге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: зимняя дорог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ссажиры и водители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 – перекрёсток!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иды транспорт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9280" y="115920"/>
          <a:ext cx="8785440" cy="6570720"/>
        </p:xfrm>
        <a:graphic>
          <a:graphicData uri="http://schemas.openxmlformats.org/drawingml/2006/table">
            <a:tbl>
              <a:tblPr/>
              <a:tblGrid>
                <a:gridCol w="576360"/>
                <a:gridCol w="1944720"/>
                <a:gridCol w="4319640"/>
                <a:gridCol w="1944720"/>
              </a:tblGrid>
              <a:tr h="83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деятельность взрослого и детей с учётом интеграции образовательных деятельносте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о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ш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офор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овое упражнение «Поможем Лесовичку за-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нить сигналы светофор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: А. Усачёв «Домик у переход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Светофор на дорог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Светофорчи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Сложи картинк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комств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ице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ое упражнение «Поможем Лесовичку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комиться с нашим городом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Пешеходный переход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Наша улиц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: С Михалков «Дядя Стёп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орожны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и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ссматривание иллюстраций с дорожным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ами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Нарисуй дорожный зна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из бумаги «Дорожный зна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Что не правильн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Светофор и скорость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мощник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е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:  А. Усачёв «Дорожная песня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: «Специальные машин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епка «Железнодорожная магистраль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Оцени поступо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0:30:23Z</dcterms:created>
  <dc:creator>User</dc:creator>
  <dc:description/>
  <dc:language>en-US</dc:language>
  <cp:lastModifiedBy>Anastasiya</cp:lastModifiedBy>
  <dcterms:modified xsi:type="dcterms:W3CDTF">2019-10-16T15:57:48Z</dcterms:modified>
  <cp:revision>18</cp:revision>
  <dc:subject/>
  <dc:title>ГДОУ д/с № 39 общеразвивающего вида  с приоритетным осуществлением физического развития воспитанников Красносельского района Санкт-Петербурга</dc:title>
</cp:coreProperties>
</file>