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AB4-6B7F-4FAE-B1B6-F91220F0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6BB-3F0F-4A4F-9FEA-C57BA3E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F6E-57E7-4F6E-A897-F1A3A67C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5ED-1E42-4629-A2BA-62377237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978-D29D-4022-B25F-88776B4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BFC-6408-47E7-B367-62E88F5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32-AC72-4197-9EF4-91980204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C64-D332-447E-832F-1E5FA29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6DD-7131-4062-B57D-A150906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FA7-6658-4EDD-A8B6-A1028E3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BBE-E317-4E3F-BA16-989D9BE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461-2DB9-4E50-9E1A-259B246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8D4-DE08-4586-B2C7-4E753153B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ДОУ д/с № 39 общеразвивающего вида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 приоритетным осуществлением физического развития воспитаннико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асносель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569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лексно-темат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тельно-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ознакомле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ладшего и стар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равилами дорож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ровец Е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нкт-Петербург 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189000"/>
          <a:ext cx="8785440" cy="6645240"/>
        </p:xfrm>
        <a:graphic>
          <a:graphicData uri="http://schemas.openxmlformats.org/drawingml/2006/table">
            <a:tbl>
              <a:tblPr/>
              <a:tblGrid>
                <a:gridCol w="576360"/>
                <a:gridCol w="2016000"/>
                <a:gridCol w="4248360"/>
                <a:gridCol w="194472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шеходы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Правила поведения на остановка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ого транспор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По дороге с мамо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Вырежи и наклей автомоби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Автопар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я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Дорога и тротуа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Диспече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о гужевом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Гонки на упряжках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то внимательный шофё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Пассажирский транспор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Машины- помощники люде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Хорошо – плохо», «Парные картин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Кто самый лучший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сёрская игр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иключение Светофорчика на перекрёстке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ёсток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курсия к перекрёстку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Е. Боровая «Оцени поступ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Моя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ешеходы и водите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.И «Найди такую же картин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гадывание загадок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ашины спешат на помощ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На чём я еду в детский са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Едем в гост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.И. «Будь внимателе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подел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кеты маши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м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68360" y="260280"/>
            <a:ext cx="7920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арший дошкольный возраст (5-6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1052640"/>
            <a:ext cx="7416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крепить умение ориентироваться на территории и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круг детского сад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расширять представления о правилах безопасног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едения на улицах и дорога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оспитывать культуры поведения на улице и 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познакомить детей с дорожными знакам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674df8f2dbc2t[1]"/>
          <p:cNvPicPr/>
          <p:nvPr/>
        </p:nvPicPr>
        <p:blipFill>
          <a:blip r:embed="rId1"/>
          <a:stretch/>
        </p:blipFill>
        <p:spPr>
          <a:xfrm>
            <a:off x="6588000" y="3645000"/>
            <a:ext cx="2309760" cy="3098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684360" y="429984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начальное представление о работ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лиционера- регулировщ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260280"/>
          <a:ext cx="8280360" cy="5761080"/>
        </p:xfrm>
        <a:graphic>
          <a:graphicData uri="http://schemas.openxmlformats.org/drawingml/2006/table">
            <a:tbl>
              <a:tblPr/>
              <a:tblGrid>
                <a:gridCol w="2592360"/>
                <a:gridCol w="568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ая улиц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 – водитель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пешеходов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ая грамот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земный транспорт нашего горо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ы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 – регулировщик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осипедисты в город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дорожные детям знать положено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189000"/>
          <a:ext cx="8785440" cy="641808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19640"/>
                <a:gridCol w="1944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Дорога, транспорт, пеш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 за движением транспорта 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топ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рогулка по город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С. Михалков «Шагая осторож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грывание ситуаций на макете улицы город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М. Ильин, Е. Сегал «Рассказы 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х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чатся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ллективная аппликация «Улица полн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спешат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ая игр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дител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а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ил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ов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: Я. Пишумов «Это улица мо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Наша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Учим дорожные зна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Знаки перех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детских рисун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одской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щего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от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Опасности зимней дорог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обери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Мой любимый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оставь знак прави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Грамотный пешеход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дорожных зна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гр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акетом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189000"/>
          <a:ext cx="8785440" cy="6545160"/>
        </p:xfrm>
        <a:graphic>
          <a:graphicData uri="http://schemas.openxmlformats.org/drawingml/2006/table">
            <a:tbl>
              <a:tblPr/>
              <a:tblGrid>
                <a:gridCol w="647640"/>
                <a:gridCol w="2160720"/>
                <a:gridCol w="3889440"/>
                <a:gridCol w="208764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зем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е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«Прави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рополите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Вагоны метр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Состав поез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амый быстр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утешествие по город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ситуац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етро»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туация общения «Что означают цве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 светофор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Как правильно перей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проезжую част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Три цве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лечени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 гостя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форика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фесси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ировщик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198360"/>
            <a:ext cx="774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арший дошкольный возраст (6-7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692280"/>
            <a:ext cx="784836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накомить детей с элементарными правилами дорожног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научить детей различать и понимать дорожные знаки,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назначенные для водителей и пешеходов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научить детей с правилами поведения в разных опасны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туациях, которые могут возникнуть в городских условиях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катании детей на велосипед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оспитывать внимание, навыки осознанного использования знания правил дорожного движения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овседневной жизни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20886987_44[1]"/>
          <p:cNvPicPr/>
          <p:nvPr/>
        </p:nvPicPr>
        <p:blipFill>
          <a:blip r:embed="rId1"/>
          <a:stretch/>
        </p:blipFill>
        <p:spPr>
          <a:xfrm>
            <a:off x="5435640" y="4292640"/>
            <a:ext cx="33861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9640" y="404640"/>
          <a:ext cx="7920000" cy="5329440"/>
        </p:xfrm>
        <a:graphic>
          <a:graphicData uri="http://schemas.openxmlformats.org/drawingml/2006/table">
            <a:tbl>
              <a:tblPr/>
              <a:tblGrid>
                <a:gridCol w="2808360"/>
                <a:gridCol w="511164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город и его улицы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чатся по улице автомобил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 регулирует движение транспорта и пешеходов?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нить обязан любой пешеход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и дорожные помни всег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ты пассажи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де должны играть дет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шофё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ость на дорог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460920"/>
        </p:xfrm>
        <a:graphic>
          <a:graphicData uri="http://schemas.openxmlformats.org/drawingml/2006/table">
            <a:tbl>
              <a:tblPr/>
              <a:tblGrid>
                <a:gridCol w="576360"/>
                <a:gridCol w="1800360"/>
                <a:gridCol w="4464000"/>
                <a:gridCol w="194472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город и его улицы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ставление рассказа «Моя любимая улица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В этом доме я живу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Что я знаю о своём городе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кажи наоборот» (улица широкая – узкая...)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Самая красивая улица гор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лицы нашего город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чатся по улице автомобил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Цветные автомоби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роигрывание ситуаций «Осторожно, транспорт!»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 за  транспортом на прогулке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Автомашины нашей улиц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специальных видов транспорта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а из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сового материа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 регулирует движение транспорт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ешеходов?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Влиятельная палочк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южетно-ролевая игра: «Регулировщи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грывание ситуаций  «Что делать, если…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Логические дорож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стихотворения «Если бы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: «Светофор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матизация сказки «Весёлый светофор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нить обязан любой пешеход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Как переходить улиц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южетно – ролевая игра «Пешеходы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гра «Найди и расскажи»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Осторожно, гололёд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Запрещающие зна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выставк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ы      пешеходы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89000"/>
          <a:ext cx="8713800" cy="644832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21080"/>
                <a:gridCol w="1871640"/>
              </a:tblGrid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и дорожные помни всег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гадывание загадок о дорожных знаках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ы с макетом улицы: «Расставь правильн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оставь запрещающи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и – малышки: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й друг –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             ты         пассажир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 «Когда мы пассажир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стольная игра «Знаки на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На остановк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кажи вежлив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гадывание кроссвордов и ребусов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ая игра: «Путешестви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де должны играть дет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Какие опасности подстерегают нас н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х и дорогах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Хорошо – плох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тихи о правилах дорожного движения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Игры во двор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рисунк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ы с мамой идём в детский сад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шофёр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А. Вдовиченко «Зайка – велосипедис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 «Где я катаюсь на велосипед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 И «Теремок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знаков «Велосипедная дорожка», «Велосипедное движение запреще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«Что? Где? Когда?» по правила дорожного движения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езопасность на 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каз по серии сюжетных картинок «Случай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улиц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 Так и не т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грывание ситуаций  «Это – опасно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ерекрёст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лечение «Путешествие в страну дорожных знаков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326"/>
          <p:cNvPicPr/>
          <p:nvPr/>
        </p:nvPicPr>
        <p:blipFill>
          <a:blip r:embed="rId1"/>
          <a:stretch/>
        </p:blipFill>
        <p:spPr>
          <a:xfrm rot="20869200">
            <a:off x="611280" y="2133360"/>
            <a:ext cx="3954240" cy="296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327"/>
          <p:cNvPicPr/>
          <p:nvPr/>
        </p:nvPicPr>
        <p:blipFill>
          <a:blip r:embed="rId2"/>
          <a:stretch/>
        </p:blipFill>
        <p:spPr>
          <a:xfrm rot="718200">
            <a:off x="4284720" y="1196640"/>
            <a:ext cx="4098960" cy="307512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3924360" y="4797360"/>
            <a:ext cx="4895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ое творчество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астилинография "Светофор"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116000" y="333360"/>
            <a:ext cx="6985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учение правилам дорожного движ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10526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учение должно быть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26920" y="14842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остоянны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чше частые короткие занятия, чем продолжительные, но редкие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конкретны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бходимо сосредоточить внимание ребенка на действиях в условиях реального движения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направленным на привитие безопасных способов поведения на дороге, а не только запоминанию правил дорожного движ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именимым к ближайшему окружению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Lapset 11"/>
          <p:cNvPicPr/>
          <p:nvPr/>
        </p:nvPicPr>
        <p:blipFill>
          <a:blip r:embed="rId1"/>
          <a:stretch/>
        </p:blipFill>
        <p:spPr>
          <a:xfrm>
            <a:off x="5219640" y="3141720"/>
            <a:ext cx="33148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04"/>
          <p:cNvPicPr/>
          <p:nvPr/>
        </p:nvPicPr>
        <p:blipFill>
          <a:blip r:embed="rId1"/>
          <a:stretch/>
        </p:blipFill>
        <p:spPr>
          <a:xfrm>
            <a:off x="1116000" y="1484280"/>
            <a:ext cx="3714840" cy="2787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006"/>
          <p:cNvPicPr/>
          <p:nvPr/>
        </p:nvPicPr>
        <p:blipFill>
          <a:blip r:embed="rId2"/>
          <a:stretch/>
        </p:blipFill>
        <p:spPr>
          <a:xfrm>
            <a:off x="4500720" y="476280"/>
            <a:ext cx="41464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2111012[1]"/>
          <p:cNvPicPr/>
          <p:nvPr/>
        </p:nvPicPr>
        <p:blipFill>
          <a:blip r:embed="rId1"/>
          <a:stretch/>
        </p:blipFill>
        <p:spPr>
          <a:xfrm>
            <a:off x="2195640" y="2205000"/>
            <a:ext cx="4883040" cy="430848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971640" y="549360"/>
            <a:ext cx="712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имеют право на безопасное движение</a:t>
            </a:r>
            <a:endParaRPr b="0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х безопасность зависит от нас, взрослых!</a:t>
            </a:r>
            <a:endParaRPr b="0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11280" y="260280"/>
            <a:ext cx="7561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ладший дошкольный возраст (3-4 года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1125360"/>
            <a:ext cx="5832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познакомить детей с работой  светофор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ть представления об улиц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учить различать виды наземного транспорта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креплять навыки безопасного поведения н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лице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День ГАИ (ГИБДД)"/>
          <p:cNvPicPr/>
          <p:nvPr/>
        </p:nvPicPr>
        <p:blipFill>
          <a:blip r:embed="rId1"/>
          <a:stretch/>
        </p:blipFill>
        <p:spPr>
          <a:xfrm>
            <a:off x="5724360" y="4221000"/>
            <a:ext cx="30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333360"/>
          <a:ext cx="7848720" cy="5183280"/>
        </p:xfrm>
        <a:graphic>
          <a:graphicData uri="http://schemas.openxmlformats.org/drawingml/2006/table">
            <a:tbl>
              <a:tblPr/>
              <a:tblGrid>
                <a:gridCol w="2376360"/>
                <a:gridCol w="547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ой бывает транспорт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 с улицей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 для пешеходов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амотный пешеход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зимняя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транспорт людям помогает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утешествие по городу на транспорт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9280" y="189000"/>
          <a:ext cx="8785440" cy="6465960"/>
        </p:xfrm>
        <a:graphic>
          <a:graphicData uri="http://schemas.openxmlformats.org/drawingml/2006/table">
            <a:tbl>
              <a:tblPr/>
              <a:tblGrid>
                <a:gridCol w="576360"/>
                <a:gridCol w="1584360"/>
                <a:gridCol w="4753080"/>
                <a:gridCol w="187164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о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ае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вижением машин.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ние: «Ремонт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пка: «Колёса для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Красный и зелён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И «Цветные автомобил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книжек-самодел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шины – какие они разные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ей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каз воспитателя: «Что я видела на улиц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: «Рельсы для паровоз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: «Вагончи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то меньше?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Воробушки и автомоби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г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рекрёсток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ов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гулка «Наблюдение за светофором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: «Красный свет - прохода не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обери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Красный – зелёный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рабо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                бросовог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офорчики»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амот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блюдение: «Сравнение грузового и легкового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крашивание силуэтов автомобилей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Строительство дорог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ойди туда, куда скаж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той – иди!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45"/>
          <p:cNvSpPr/>
          <p:nvPr/>
        </p:nvSpPr>
        <p:spPr>
          <a:xfrm>
            <a:off x="41562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9280" y="115920"/>
          <a:ext cx="8809200" cy="6634080"/>
        </p:xfrm>
        <a:graphic>
          <a:graphicData uri="http://schemas.openxmlformats.org/drawingml/2006/table">
            <a:tbl>
              <a:tblPr/>
              <a:tblGrid>
                <a:gridCol w="576360"/>
                <a:gridCol w="1655640"/>
                <a:gridCol w="4753080"/>
                <a:gridCol w="1824120"/>
              </a:tblGrid>
              <a:tr h="129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я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Кто расчищает дорогу от снег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оездка в автобусе по заснеженной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Почини машин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спрятался мишк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транспорт людям помогает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Б. Заходер «Шофё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Путешестви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Маши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Автобус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Парные картинки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утешествие по городу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равнение автобуса с другим транспортом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.Р.И. «Мы едем, едем, едем…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ая ситуация «Едем на поезде на дач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 Найди то, что назов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Правила движения пешеходов по тротуару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 стихов о светофор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гадывание загадок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 для машин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Куда едет машин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матривание иллюстраций о транспорт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«Узкая и широкая дорог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Разные виды транспорт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Бегущий светофор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его не хватает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116000" y="189000"/>
            <a:ext cx="705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редний дошкольный возраст (4-5 лет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125360"/>
            <a:ext cx="806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расширять знания детей об общественном 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ть навыки культурного поведения в транспорт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элементарные знания о правилах безопасного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поведения на улице и дороге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формирование привычки – находясь на улице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епко держать за руку взрослого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учить умению ориентироваться на местности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территории и вокруг детского са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02-003-Dorogie-deti[1]"/>
          <p:cNvPicPr/>
          <p:nvPr/>
        </p:nvPicPr>
        <p:blipFill>
          <a:blip r:embed="rId1"/>
          <a:stretch/>
        </p:blipFill>
        <p:spPr>
          <a:xfrm>
            <a:off x="6732720" y="3213000"/>
            <a:ext cx="20700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5640" y="333360"/>
          <a:ext cx="7704000" cy="5425920"/>
        </p:xfrm>
        <a:graphic>
          <a:graphicData uri="http://schemas.openxmlformats.org/drawingml/2006/table">
            <a:tbl>
              <a:tblPr/>
              <a:tblGrid>
                <a:gridCol w="2664000"/>
                <a:gridCol w="50400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 друг светофор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 с улицей город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ые знак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шеходы на дороге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: зимняя дорог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сажиры и водители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торожно – перекрёсток!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 транспорта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115920"/>
          <a:ext cx="8785440" cy="657072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4319640"/>
                <a:gridCol w="1944720"/>
              </a:tblGrid>
              <a:tr h="83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деятельность взрослого и детей с учётом интеграции образовательных деятельносте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о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ш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фор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ровое упражнение «Поможем Лесовичку за-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ь сигналы светофор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А. Усачёв «Домик у переход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Светофор на дорог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Светофорчи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Сложи картин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комств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е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е упражнение «Поможем Лесовичк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комиться с нашим городом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ппликация «Пешеходный переход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Наша улиц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тение: С Михалков «Дядя Стёпа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рожн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ссматривание иллюстраций с дорожным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ами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исование «Нарисуй 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струирование из бумаги «Дорожный зна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Что не прави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/И «Светофор и скорост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мощ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е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:  А. Усачёв «Дорожная песня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еседа: «Специальные машины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пка «Железнодорожная магистраль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/И «Оцени поступок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30:23Z</dcterms:created>
  <dc:creator>User</dc:creator>
  <dc:description/>
  <dc:language>en-US</dc:language>
  <cp:lastModifiedBy>Anastasiya</cp:lastModifiedBy>
  <dcterms:modified xsi:type="dcterms:W3CDTF">2019-10-16T16:01:19Z</dcterms:modified>
  <cp:revision>19</cp:revision>
  <dc:subject/>
  <dc:title>ГДОУ д/с № 39 общеразвивающего вида  с приоритетным осуществлением физического развития воспитанников Красносельского района Санкт-Петербурга</dc:title>
</cp:coreProperties>
</file>