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BEB-595B-44E2-91CC-0CF390C3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0E9-2EDD-4C42-93AB-91C085E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C75-63F0-4086-BE5C-0B08812B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A1F-7887-4946-8D1C-C406F6B0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DF6-83E0-4F45-82E1-99A20A2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6FE-673E-4815-8C7E-34622F9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9DC-ED69-415F-9A35-ACC3DF04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908-A8D3-4C05-B6A1-6CC8538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603-8812-4CD3-AD84-359B1283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952-76D0-4F05-8A5F-7CA6432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B4E-1A1A-4CAF-8A3C-9B91E73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D59-B896-4680-8DFF-6FD351A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2793-13BF-4609-B0CC-4971894240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25198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5800" y="2492280"/>
            <a:ext cx="54342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5198"/>
                </a:solidFill>
                <a:latin typeface="Arial"/>
              </a:rPr>
              <a:t>Тема: «В мире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258920" y="333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«Детский сад № 64 «Солнечный зайчик» г. Смол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95640" y="4365720"/>
            <a:ext cx="46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Ларкина А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Анна\Desktop\image-2019-03-16 18_04_47.jpg"/>
          <p:cNvPicPr/>
          <p:nvPr/>
        </p:nvPicPr>
        <p:blipFill>
          <a:blip r:embed="rId1"/>
          <a:stretch/>
        </p:blipFill>
        <p:spPr>
          <a:xfrm>
            <a:off x="0" y="476280"/>
            <a:ext cx="4711680" cy="484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Анна\Desktop\image-2019-03-16 18_04_58.jpg"/>
          <p:cNvPicPr/>
          <p:nvPr/>
        </p:nvPicPr>
        <p:blipFill>
          <a:blip r:embed="rId2"/>
          <a:stretch/>
        </p:blipFill>
        <p:spPr>
          <a:xfrm>
            <a:off x="4711680" y="476280"/>
            <a:ext cx="4432320" cy="484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258920" y="1159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им цветочную компози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Анна\Desktop\image 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нна\Desktop\IMG_5175.JPG"/>
          <p:cNvPicPr/>
          <p:nvPr/>
        </p:nvPicPr>
        <p:blipFill>
          <a:blip r:embed="rId1"/>
          <a:stretch/>
        </p:blipFill>
        <p:spPr>
          <a:xfrm>
            <a:off x="27000" y="0"/>
            <a:ext cx="9117000" cy="5264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900000" y="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нна\Desktop\IMG_51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272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050920" y="263520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у это нуж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1773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кругозора и повышение   уровня знаний о профессиях. Возрос интерес к умениям и знаниям, которыми должен обладать специалист своего дела. Повысилась познавательная активность, желание выполнять трудовые поручения, а также ребята стали проявлять более уважительное отношение к труду взрослых и результатам их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ждение ребенка в социальный мир происходит через призму первоначальных представлений социального характера, включающих и ознакомлением с профессиями. Личность человека закладывается с детства, в том числе и ее профессиональная направленность. Раннее начало подготовки ребенка к выбору будущей профессии заключается в том, чтобы познакомить ребенка с различными видами труда, чтобы облегчить ему самостоятельный выбор в дальнейш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ознакомлением с трудом взрослых необходимо начинать уже в дошкольном возрасте, через доступные формы познания. Для чего необходимо учитывать способности, психологические особенности темперамента и характера. Исходя из воспитания ребенка и привития ему ценности труда  формируется система знаний о профессиях, интересы и отношение к определенным видам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 о профессиях в процессе совместной и самостоятельной деятельност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эмоционально-положительного отношения к человеку тру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представлений о необходимости трудовой деятельности в  жизни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ознавательной активности, интереса к профессиям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обобщенных представлений о структуре трудового процесса,  понимание взаимосвязи между компонентами труд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бережного отношения к труду взрослых и результатам их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у детей желания научиться выполнять трудовые действия представител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и методы работы с дошкольник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8064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во время целевых прогул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воспитателей и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средственно образо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ы, 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художественно – твор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ознакомления с професси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8000" y="980640"/>
            <a:ext cx="903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енная о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а труда для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599840"/>
            <a:ext cx="9144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формируется обобщенное представление о структуре трудового процесса и понимание взаимосвязи между компонентами трудовой деятель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уется познавательная деятельность, интерес к профессиям взросл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овьется чувство уважения к   людям разных проф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476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дети старше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1628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spirina-sport-ds63-schel.edumsko.ru/uploads/20300/20266/section/644596/.thumbs/i.jpg?1534349021495"/>
          <p:cNvPicPr/>
          <p:nvPr/>
        </p:nvPicPr>
        <p:blipFill>
          <a:blip r:embed="rId1"/>
          <a:stretch/>
        </p:blipFill>
        <p:spPr>
          <a:xfrm>
            <a:off x="4978440" y="1479600"/>
            <a:ext cx="416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6792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этап (организационный)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ониторинга, разработка и утверждение тематического плана, подбор методического сопровождения, подготовка наглядного материала, встречи с родителями воспитанников по вопросам организации фотовыставки на их рабочем месте, сбора предметов, необходимых людям определен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этап (практический)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тематического плана через беседы, непосредственную образовательную деятельность, игровую деятельность, решение практически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этап (итого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анализ и обобщение результатов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на</cp:lastModifiedBy>
  <dcterms:modified xsi:type="dcterms:W3CDTF">2019-03-18T11:25:45Z</dcterms:modified>
  <cp:revision>569</cp:revision>
  <dc:subject/>
  <dc:title>Diapositiva 1</dc:title>
</cp:coreProperties>
</file>