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D67C-8B54-49A6-AEDA-AE4D744FD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F308-630C-4C4D-81E8-5CE871F1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DC347-D1EA-440A-88CC-9642D41F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17D0C-67C6-4AD3-9E04-489125E8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E9A22-95A7-4BB7-89DC-C27243FE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40DAD-0185-433E-8773-089A4125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66B06-9F5A-4B1C-90D1-AD6522D8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B8E3D-ADAA-477F-ADF1-C0A291F7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029A0-A8EF-4FCF-AD49-63FD2F8B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FF6A1-02BC-441F-A38B-44CD83F5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1B85B-DCB3-4A15-94D3-E0FDE4C71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04215-9961-4AA9-9611-1922F4ED1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E05E-D0E0-4232-9F4F-749667D7A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B421D-3998-4A8B-AA3D-5DD6DECE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A8373-F37E-4D75-BC2A-D761E44C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EBDA37-629B-4D61-8DC7-4D5E8F5A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1317F-7DAB-4CC1-B065-746DB88F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D9CFE-C9E4-4EF9-9776-48F718C3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731AF-E369-49E6-BE9F-3DA28908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92221-9094-42DE-A8ED-7E440676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2BA38-1D35-4CEF-A3FF-DEB4943B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CF47A-1346-4F57-A9A2-B4F8C058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37358-5D4B-470E-8CE5-CA46DC53B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FA47-35EE-4618-93F9-737C55AE4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9FE82-35B4-4859-8259-3F2049DD1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18EF8-14C9-4466-B3F2-8E1BA407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E16B5-70D8-49FD-BE66-A9B7C727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FA96B-3CAA-4F17-A0F1-BAEADCFC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8FF0C-84F6-4B0F-A38B-15E38D9F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7E0C9-CF15-446B-A511-5E7BB1C3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68E95-3A43-45D2-AF20-629CD937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15DD7-50D5-4D09-A530-8975EAE7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33B16-3871-4485-8F47-E859D6B8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35D9A-70B7-4CF0-99CB-35E5D89E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9F33-4224-4BAB-90BB-3BD4AC0A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5B9B3-939D-420B-889F-B7FDAE9B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90C75-DD81-4EA4-9EC9-614D3526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9FE84-0CD3-4F9B-8B4E-AA10CAC8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0366D8-CAED-41E5-96A4-0741F631A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1F0EEE-94BC-42F8-BF3C-D1BFB5FA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2312A2-6CE3-425C-B9B7-4FDA3FBB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903FB-E4FE-49E4-9129-252442C1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5881C-E020-4171-87EB-2F7B4863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D51898-78C7-4DF8-B025-C25E2E0C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6EB65-1A2C-49D2-A142-E5FB30B3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AA7B-C0CC-4AE0-A745-D6C64E4A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D94795-B50B-447C-AAF1-3CFEA082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CFF28-76D7-47C1-8E5B-D467DD5D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0B4BDD-2BAE-4BA9-BDB9-75C82B2A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AF9A6-717F-473A-A7E9-38758534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7C63AE-9F7E-4636-A395-81E3B8A5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ADA3D5-B10C-40FD-88DE-B74B8104B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BB4A40-8F07-4C61-A87F-7F27EC1B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9D1D8E-3068-4391-B651-84330415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4F7CDC-EB9C-47CA-8F88-B8143C81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5B5356-1571-48CF-AC17-3DCBEF99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22DB-0D7C-4F80-9C08-A0F55BEC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00A59C-3982-4D02-90DF-97C8D084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5B09AF-C41C-45E3-82EC-05B8FF6B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A20EE5-8C80-4DFA-888F-D432AE91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003DF3-5EE5-4293-A74A-8C3C7826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FC8DC6-FC08-439F-8DCC-AFE8B3C9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1ACEFA-D504-4F7B-9699-1E1919B52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1A3593-24D5-470E-9478-1C9C5CE59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8925-8D51-4C7E-B3A9-F94E5443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6DA6-335F-4348-960C-6DBC328C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8D28-5768-4BE5-B7FF-F05A9D83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7C78-8A9B-474C-B4A1-A0B07EB4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B75F-1AF9-4806-9593-C42A9834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27C6-1AA0-4CAA-B6FD-D1CA9416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B7EA-FAFC-4D77-8186-5A39DCD5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99EA-81F2-42AF-AF81-14AA0BB0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50BF-1FAB-42F4-8B27-7C6604199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CBFA-AE7C-418D-8757-45F0781A9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49322-8D6A-4A9F-B681-66C3F0FF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D421A-BBF8-4329-9C35-995FF748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DE337-0896-4A88-ADF0-D662FA4C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9026E-E08D-4A85-AC0C-64221360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4971E-16FB-4557-9AEB-F83C1E21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1708-661C-4D73-BA70-FC234B97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AE83D-2137-4874-8211-640E559C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76795-E7D5-484D-8960-B8503FFD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4EA8B-7F69-417B-92DD-F853B6FB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699FD-F1BA-4224-AFFC-4DEAB022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D42B1-5AB4-47F9-AC63-386305AC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E25A1-94A6-465E-B38D-BEA543240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4F881-42FF-4DB9-BE7F-22BB17F79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665CE-4831-4D8B-A82C-58801A3C2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AB61D-754B-4474-887C-D1E7D735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B8CCA-DA11-40CA-9D92-650B9A45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7F88-948E-4791-81FC-CA8EB97D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F14C3-7DB0-4E89-ACBE-088E92C4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18897-E6CF-44A5-A643-CB593A4D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599B9-B430-4A84-8BAC-B732F5F1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24237-2CA8-4FA6-B556-C70844E2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9015F-C3CD-4932-B351-34891F61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76FFA-FD0E-44B0-8C99-93EAE399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C66BD-F901-4E90-9669-DFDFFE52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4AD2D-FA35-43C8-9918-54E97293E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5656F-BC39-48C5-AA37-3896BDDE3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114F0-51DB-4DEB-A98D-4AE1E0FF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0835-DED4-4F08-BC1C-5FD65DBB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A2389-D93D-47A8-A45B-9E9AB582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45BFD-6FEF-495D-8AB4-15F01AC6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019BC-4E69-4AF2-94F2-1AAFFB94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3294F-C53E-498F-89EC-A7E92ED5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DB242-CDE9-4F33-9FD2-5E222D63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21183-3E72-4A9D-B9C0-A448B3B7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5464E-97B5-4A15-9BD7-18918CEB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79591-6259-493B-91B9-E7FC2204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819A6-A44F-44C5-B2FD-C676D958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11B4F-47E0-494F-B949-18418082C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D2EC-6CAC-4480-B27C-83999A26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DAC9C-F7B6-46FD-945C-D58C2AB79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C945E-738B-4ABD-B97C-59C0BC0DF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BB179-8E71-4060-9B67-46251E83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CF707-464D-463C-9728-9FD45408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E1C5E-0753-48E6-A7AE-FCCD7A3E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E66B0-D06D-49AF-ADDB-B96A1F9A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448A8-7E23-4F2E-BBDE-C2E30380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A70E2-4D2C-4A68-ADB5-E37F5FB2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B1BB5-4809-4B47-87E9-126D2E37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39582-881C-45DC-9673-C6050DD2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CEFE-0C6F-4C02-AC14-B7CA7ABB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56C7B-2000-4E71-856B-5EDA38A7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8F9C8-F897-4FA1-9CF0-9823133B1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CA6A0-B5DD-438A-8535-32A2CED46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6DBB9-9D4F-42E5-AFAC-0D226100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B24D3-223B-44A9-A71D-C008040A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5E249-FB19-499B-BF96-A9D4709E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D502B-1987-4127-91D1-DB52ECE6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60AB9-AE0E-4FF4-81BC-13379E66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4D5B6-1485-4195-A12C-7112F47A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5FE74-23C6-4205-9001-F5068515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377B-0008-4F80-92EB-BA9DD78D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8A709-899A-4141-BCFD-74678A52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9EC50-F03B-42CD-9CC3-20C93961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F4087-2F30-4F58-8502-B1BCBCBD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AC6E2-D6CE-437E-9DCD-FDBCA4D1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9563D-414E-4ABD-8453-58288C8ED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4DB92-B7F8-4B99-A1AC-2F8F91868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B3437-F93C-4DE8-8241-DCA3E805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78344-3AB9-4B3C-AAEC-7BF373F5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534D6-BB5E-4864-85C5-408D4CA4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F5DAD-5342-42CE-AB84-F88C6025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AE5F-3F62-428E-9CFE-E5B805AE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515A4-69E3-41F2-86CE-0D9BF215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A5AEC-F4AA-48C1-819F-25FB5D27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99EEB-F303-485C-BFC1-DF5B6E01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54D57-12EA-4D00-9C59-860DE01B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3EFA8-A3F8-48A3-8D93-F31F7139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F3F9A-11A7-4826-BB87-997825C2D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E053A-9F31-4D0D-99A1-2D6D67581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EC22A3-8938-4395-9A44-9B99E727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54D1C-4829-4CBD-9757-6CB238DD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6001A-1086-41C5-BC5D-CADA5CD5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2280" y="314280"/>
            <a:ext cx="847440" cy="6543360"/>
            <a:chOff x="152280" y="314280"/>
            <a:chExt cx="847440" cy="6543360"/>
          </a:xfrm>
        </p:grpSpPr>
        <p:sp>
          <p:nvSpPr>
            <p:cNvPr id="1" name="AutoShape 3"/>
            <p:cNvSpPr/>
            <p:nvPr/>
          </p:nvSpPr>
          <p:spPr>
            <a:xfrm flipH="1" rot="5400000">
              <a:off x="131040" y="315720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 flipH="1" rot="5400000">
              <a:off x="131040" y="409716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rot="5400000">
              <a:off x="128880" y="503316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 rot="5400000">
              <a:off x="132840" y="5994000"/>
              <a:ext cx="882720" cy="844560"/>
            </a:xfrm>
            <a:prstGeom prst="parallelogram">
              <a:avLst>
                <a:gd name="adj" fmla="val 5534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 flipH="1" rot="5400000">
              <a:off x="131040" y="3380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8"/>
            <p:cNvSpPr/>
            <p:nvPr/>
          </p:nvSpPr>
          <p:spPr>
            <a:xfrm flipH="1" rot="5400000">
              <a:off x="128880" y="127116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8880" y="221400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738360"/>
                <a:gd name="textAreaBottom" fmla="*/ 738720 h 738360"/>
              </a:gdLst>
              <a:ahLst/>
              <a:rect l="textAreaLeft" t="textAreaTop" r="textAreaRight" b="textAreaBottom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>
                <a:gd name="textAreaLeft" fmla="*/ 0 w 725400"/>
                <a:gd name="textAreaRight" fmla="*/ 725760 w 7254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151F-E5C3-4A02-BEA0-16877193A3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1E15-2823-4633-81E9-39399DAA23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5991-636D-4150-88D8-44ED5E03A5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820E-C4B2-4CC6-A14B-10A6F486C8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7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8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9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B786-4DF5-41AB-BD94-E5829BD7C00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5"/>
          <p:cNvGrpSpPr/>
          <p:nvPr/>
        </p:nvGrpSpPr>
        <p:grpSpPr>
          <a:xfrm>
            <a:off x="152280" y="314280"/>
            <a:ext cx="847440" cy="6543360"/>
            <a:chOff x="152280" y="314280"/>
            <a:chExt cx="847440" cy="6543360"/>
          </a:xfrm>
        </p:grpSpPr>
        <p:sp>
          <p:nvSpPr>
            <p:cNvPr id="68" name="AutoShape 6"/>
            <p:cNvSpPr/>
            <p:nvPr/>
          </p:nvSpPr>
          <p:spPr>
            <a:xfrm flipH="1" rot="5400000">
              <a:off x="131040" y="315720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 flipH="1" rot="5400000">
              <a:off x="131040" y="409716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8"/>
            <p:cNvSpPr/>
            <p:nvPr/>
          </p:nvSpPr>
          <p:spPr>
            <a:xfrm flipH="1" rot="5400000">
              <a:off x="128880" y="503316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9"/>
            <p:cNvSpPr/>
            <p:nvPr/>
          </p:nvSpPr>
          <p:spPr>
            <a:xfrm flipH="1" rot="5400000">
              <a:off x="132840" y="5994000"/>
              <a:ext cx="882720" cy="844560"/>
            </a:xfrm>
            <a:prstGeom prst="parallelogram">
              <a:avLst>
                <a:gd name="adj" fmla="val 5534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0"/>
            <p:cNvSpPr/>
            <p:nvPr/>
          </p:nvSpPr>
          <p:spPr>
            <a:xfrm flipH="1" rot="5400000">
              <a:off x="131040" y="3380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1"/>
            <p:cNvSpPr/>
            <p:nvPr/>
          </p:nvSpPr>
          <p:spPr>
            <a:xfrm flipH="1" rot="5400000">
              <a:off x="128880" y="127116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2"/>
            <p:cNvSpPr/>
            <p:nvPr/>
          </p:nvSpPr>
          <p:spPr>
            <a:xfrm flipH="1" rot="5400000">
              <a:off x="128880" y="221400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3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4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15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17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19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0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1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2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3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4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25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6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738360"/>
                <a:gd name="textAreaBottom" fmla="*/ 738720 h 738360"/>
              </a:gdLst>
              <a:ahLst/>
              <a:rect l="textAreaLeft" t="textAreaTop" r="textAreaRight" b="textAreaBottom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7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>
                <a:gd name="textAreaLeft" fmla="*/ 0 w 725400"/>
                <a:gd name="textAreaRight" fmla="*/ 725760 w 7254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09C8-0AFE-4600-AB68-5EDD257E29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7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8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9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257D-249E-4A69-94E4-20DCBFD44B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0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1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2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DF60-E4C5-4D4F-AD2F-9AB4DE8496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8A4E-7E88-46D4-8E1C-AC641E9B98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5283-7285-42B8-A38A-756B9C2654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C98B-27D1-4D30-971F-DEB0A549B5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0FC7-1C48-485C-9910-E876455F32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5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6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7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CE6F-3E45-475D-954B-E6E90451ED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5" descr="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1"/>
          <p:cNvSpPr/>
          <p:nvPr/>
        </p:nvSpPr>
        <p:spPr>
          <a:xfrm>
            <a:off x="248400" y="654120"/>
            <a:ext cx="820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e15"/>
                </a:solidFill>
                <a:latin typeface="Times New Roman"/>
                <a:ea typeface="Times New Roman"/>
              </a:rPr>
              <a:t>Урок-размышление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e15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2e15"/>
                </a:solidFill>
                <a:latin typeface="Times New Roman"/>
                <a:ea typeface="Times New Roman"/>
              </a:rPr>
              <a:t>"Душа по капле собирает свет…"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e15"/>
                </a:solidFill>
                <a:latin typeface="Times New Roman"/>
                <a:ea typeface="Times New Roman"/>
              </a:rPr>
              <a:t>(по рассказу В.Г. Распутина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e15"/>
                </a:solidFill>
                <a:latin typeface="Times New Roman"/>
                <a:ea typeface="Times New Roman"/>
              </a:rPr>
              <a:t>"Женский разговор")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Прямоугольник 4"/>
          <p:cNvSpPr/>
          <p:nvPr/>
        </p:nvSpPr>
        <p:spPr>
          <a:xfrm>
            <a:off x="3500280" y="3500280"/>
            <a:ext cx="518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e15"/>
                </a:solidFill>
                <a:latin typeface="Times New Roman"/>
              </a:rPr>
              <a:t>«Стиль В.Распутина –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e15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2e15"/>
                </a:solidFill>
                <a:latin typeface="Times New Roman"/>
              </a:rPr>
              <a:t>это путешествие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e15"/>
                </a:solidFill>
                <a:latin typeface="Times New Roman"/>
              </a:rPr>
              <a:t>вглубь человеческой души»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e15"/>
                </a:solidFill>
                <a:latin typeface="Times New Roman"/>
              </a:rPr>
              <a:t>                </a:t>
            </a:r>
            <a:r>
              <a:rPr b="1" lang="ru-RU" sz="2800" spc="-1" strike="noStrike">
                <a:solidFill>
                  <a:srgbClr val="002e15"/>
                </a:solidFill>
                <a:latin typeface="Times New Roman"/>
              </a:rPr>
              <a:t>(Николай Котенко). 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TextBox 4"/>
          <p:cNvSpPr/>
          <p:nvPr/>
        </p:nvSpPr>
        <p:spPr>
          <a:xfrm>
            <a:off x="4257000" y="5904000"/>
            <a:ext cx="5961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61616"/>
                </a:solidFill>
                <a:latin typeface="Times New Roman"/>
              </a:rPr>
              <a:t>Дмитриева Наталья Евгеньевна,учитель русского языка и литературы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61616"/>
                </a:solidFill>
                <a:latin typeface="Times New Roman"/>
              </a:rPr>
              <a:t>МОУ СОШ № 14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61616"/>
                </a:solidFill>
                <a:latin typeface="Times New Roman"/>
              </a:rPr>
              <a:t>Г.о Подольск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3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616" name="Прямоугольник 3"/>
          <p:cNvSpPr/>
          <p:nvPr/>
        </p:nvSpPr>
        <p:spPr>
          <a:xfrm>
            <a:off x="0" y="42876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e15"/>
                </a:solidFill>
                <a:latin typeface="Times New Roman"/>
              </a:rPr>
              <a:t>«Кто знает правду о человеке: зачем он живет? Ради жизни самой, ради детей... или ради чего-то еще? Где он - добрый человек, чуткого сердца и правильной души? С этим рождаются или воспитываются? Насколько он живет в согласии с миром?»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4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7" descr=""/>
          <p:cNvPicPr/>
          <p:nvPr/>
        </p:nvPicPr>
        <p:blipFill>
          <a:blip r:embed="rId2">
            <a:lum contrast="10000"/>
          </a:blip>
          <a:srcRect l="0" t="2501" r="2141" b="2524"/>
          <a:stretch/>
        </p:blipFill>
        <p:spPr>
          <a:xfrm>
            <a:off x="500040" y="214200"/>
            <a:ext cx="8124840" cy="5718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19" name="Прямоугольник 2"/>
          <p:cNvSpPr/>
          <p:nvPr/>
        </p:nvSpPr>
        <p:spPr>
          <a:xfrm>
            <a:off x="0" y="5950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e15"/>
                </a:solidFill>
                <a:latin typeface="Times New Roman"/>
              </a:rPr>
              <a:t>Героини рассказа – женщины: шестнадцатилетняя Вика и ее деревенская бабушка Наталья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2" descr=""/>
          <p:cNvPicPr/>
          <p:nvPr/>
        </p:nvPicPr>
        <p:blipFill>
          <a:blip r:embed="rId2"/>
          <a:stretch/>
        </p:blipFill>
        <p:spPr>
          <a:xfrm>
            <a:off x="285840" y="333360"/>
            <a:ext cx="4356000" cy="6310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22" name="TextBox 3"/>
          <p:cNvSpPr/>
          <p:nvPr/>
        </p:nvSpPr>
        <p:spPr>
          <a:xfrm>
            <a:off x="5000760" y="5214960"/>
            <a:ext cx="414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e15"/>
                </a:solidFill>
                <a:latin typeface="Times New Roman"/>
              </a:rPr>
              <a:t>«… еройство это у тебя было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e15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2e15"/>
                </a:solidFill>
                <a:latin typeface="Times New Roman"/>
              </a:rPr>
              <a:t>али грех?»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TextBox 7"/>
          <p:cNvSpPr/>
          <p:nvPr/>
        </p:nvSpPr>
        <p:spPr>
          <a:xfrm>
            <a:off x="4714920" y="57168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Times New Roman"/>
              </a:rPr>
              <a:t>Почему разговор происходит ночью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TextBox 8"/>
          <p:cNvSpPr/>
          <p:nvPr/>
        </p:nvSpPr>
        <p:spPr>
          <a:xfrm>
            <a:off x="5020200" y="1928880"/>
            <a:ext cx="375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Times New Roman"/>
              </a:rPr>
              <a:t>Почему им не спится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TextBox 9"/>
          <p:cNvSpPr/>
          <p:nvPr/>
        </p:nvSpPr>
        <p:spPr>
          <a:xfrm>
            <a:off x="4929120" y="2928960"/>
            <a:ext cx="400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Times New Roman"/>
              </a:rPr>
              <a:t>Почему бабушка затеяла этот разговор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TextBox 10"/>
          <p:cNvSpPr/>
          <p:nvPr/>
        </p:nvSpPr>
        <p:spPr>
          <a:xfrm>
            <a:off x="4929120" y="4286160"/>
            <a:ext cx="407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Times New Roman"/>
              </a:rPr>
              <a:t>Какой вопрос не дает ей спать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4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7" descr=""/>
          <p:cNvPicPr/>
          <p:nvPr/>
        </p:nvPicPr>
        <p:blipFill>
          <a:blip r:embed="rId2"/>
          <a:srcRect l="0" t="2501" r="2141" b="2524"/>
          <a:stretch/>
        </p:blipFill>
        <p:spPr>
          <a:xfrm>
            <a:off x="684360" y="189000"/>
            <a:ext cx="8022960" cy="5645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29" name="TextBox 2"/>
          <p:cNvSpPr/>
          <p:nvPr/>
        </p:nvSpPr>
        <p:spPr>
          <a:xfrm>
            <a:off x="1061280" y="5805360"/>
            <a:ext cx="711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e15"/>
                </a:solidFill>
                <a:latin typeface="Times New Roman"/>
              </a:rPr>
              <a:t>Понимают ли герои  друг друга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e15"/>
                </a:solidFill>
                <a:latin typeface="Times New Roman"/>
              </a:rPr>
              <a:t>Что мешает понять друг друга бабушке и внучке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4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1" name="TextBox 7"/>
          <p:cNvSpPr/>
          <p:nvPr/>
        </p:nvSpPr>
        <p:spPr>
          <a:xfrm>
            <a:off x="2783160" y="6237360"/>
            <a:ext cx="28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e15"/>
                </a:solidFill>
                <a:latin typeface="Times New Roman"/>
              </a:rPr>
              <a:t>Современная Вика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2" name="Picture 5" descr=""/>
          <p:cNvPicPr/>
          <p:nvPr/>
        </p:nvPicPr>
        <p:blipFill>
          <a:blip r:embed="rId2"/>
          <a:stretch/>
        </p:blipFill>
        <p:spPr>
          <a:xfrm>
            <a:off x="2214720" y="285840"/>
            <a:ext cx="4214520" cy="5881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3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634" name="Прямоугольник 1"/>
          <p:cNvSpPr/>
          <p:nvPr/>
        </p:nvSpPr>
        <p:spPr>
          <a:xfrm>
            <a:off x="0" y="105264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e15"/>
                </a:solidFill>
                <a:latin typeface="Times New Roman"/>
              </a:rPr>
              <a:t>Лидер – человек, ни от кого не зависимый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2e15"/>
                </a:solidFill>
                <a:latin typeface="Times New Roman"/>
              </a:rPr>
              <a:t>Целомудрие – строгая нравственность, чистота, девственность, (ст.слав.)благоразумие, здравый смысл, рассудок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2e15"/>
                </a:solidFill>
                <a:latin typeface="Times New Roman"/>
              </a:rPr>
              <a:t>Рифма – созвучие стихотворных строк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2e15"/>
                </a:solidFill>
                <a:latin typeface="Times New Roman"/>
              </a:rPr>
              <a:t>Целеустремленная – имеющая ясную цель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3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8785440" cy="6373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4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7" descr=""/>
          <p:cNvPicPr/>
          <p:nvPr/>
        </p:nvPicPr>
        <p:blipFill>
          <a:blip r:embed="rId2"/>
          <a:srcRect l="1243" t="2239" r="59230" b="2524"/>
          <a:stretch/>
        </p:blipFill>
        <p:spPr>
          <a:xfrm>
            <a:off x="214200" y="214200"/>
            <a:ext cx="3648240" cy="6372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38" name="Прямоугольник 2"/>
          <p:cNvSpPr/>
          <p:nvPr/>
        </p:nvSpPr>
        <p:spPr>
          <a:xfrm>
            <a:off x="4211640" y="907920"/>
            <a:ext cx="457200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e15"/>
                </a:solidFill>
                <a:latin typeface="Times New Roman"/>
              </a:rPr>
              <a:t>«Улыбистая …  во мне солнышко любило играть, а я уж про себя это знала и набиралась солнышка побольше»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e15"/>
                </a:solidFill>
                <a:latin typeface="Times New Roman"/>
              </a:rPr>
              <a:t>Солнечный, светлый человек Наталья.</a:t>
            </a:r>
            <a:br>
              <a:rPr sz="2000"/>
            </a:br>
            <a:br>
              <a:rPr sz="20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3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640" name="Прямоугольник 1"/>
          <p:cNvSpPr/>
          <p:nvPr/>
        </p:nvSpPr>
        <p:spPr>
          <a:xfrm>
            <a:off x="285840" y="0"/>
            <a:ext cx="864396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e15"/>
                </a:solidFill>
                <a:latin typeface="Times New Roman"/>
              </a:rPr>
              <a:t>Потрата – потеря, убийство, горе, смерть, безобразие, боль, слёзы, страдание, увечье… 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e15"/>
                </a:solidFill>
                <a:latin typeface="Times New Roman"/>
              </a:rPr>
              <a:t>Целомудрие – мудрие, мудрость.</a:t>
            </a:r>
            <a:br>
              <a:rPr sz="2400"/>
            </a:br>
            <a:r>
              <a:rPr b="1" lang="ru-RU" sz="2400" spc="-1" strike="noStrike">
                <a:solidFill>
                  <a:srgbClr val="002e15"/>
                </a:solidFill>
                <a:latin typeface="Times New Roman"/>
              </a:rPr>
              <a:t>Твердый мужик – основательный, умеющий принять на свои плечи основательную тяжесть; такой человек – основа семьи, не изменяющий взглядов, думающий обо всех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e15"/>
                </a:solidFill>
                <a:latin typeface="Times New Roman"/>
              </a:rPr>
              <a:t>Не по обнюшке – т.е. основательно, зная друг друга и любя.</a:t>
            </a:r>
            <a:br>
              <a:rPr sz="2400"/>
            </a:br>
            <a:r>
              <a:rPr b="1" lang="ru-RU" sz="2400" spc="-1" strike="noStrike">
                <a:solidFill>
                  <a:srgbClr val="002e15"/>
                </a:solidFill>
                <a:latin typeface="Times New Roman"/>
              </a:rPr>
              <a:t>Раскол в ей, терния – значит, нет в человеке главного, на него нельзя положиться, плохо рядом с таким.</a:t>
            </a:r>
            <a:br>
              <a:rPr sz="2400"/>
            </a:br>
            <a:r>
              <a:rPr b="1" lang="ru-RU" sz="2400" spc="-1" strike="noStrike">
                <a:solidFill>
                  <a:srgbClr val="002e15"/>
                </a:solidFill>
                <a:latin typeface="Times New Roman"/>
              </a:rPr>
              <a:t>Любее любой – так говорит Николай о женщине, которая умеет себя сохранить для мужа и отдать себя всю, всю любовь и нежность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e15"/>
                </a:solidFill>
                <a:latin typeface="Times New Roman"/>
              </a:rPr>
              <a:t>Целеустремленная – это самая разнесчастная баба,  похожая на гончих собак, которая гоняет по жизни, никого и ничего не замечая.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3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642" name="TextBox 1"/>
          <p:cNvSpPr/>
          <p:nvPr/>
        </p:nvSpPr>
        <p:spPr>
          <a:xfrm>
            <a:off x="0" y="714240"/>
            <a:ext cx="914400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e15"/>
                </a:solidFill>
                <a:latin typeface="Times New Roman"/>
              </a:rPr>
              <a:t>Словарная работа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2e15"/>
                </a:solidFill>
                <a:uFillTx/>
                <a:latin typeface="Times New Roman"/>
              </a:rPr>
              <a:t>Маяться </a:t>
            </a:r>
            <a:r>
              <a:rPr b="1" lang="ru-RU" sz="6000" spc="-1" strike="noStrike">
                <a:solidFill>
                  <a:srgbClr val="002e15"/>
                </a:solidFill>
                <a:latin typeface="Times New Roman"/>
              </a:rPr>
              <a:t>– мучиться, страдать, 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e15"/>
                </a:solidFill>
                <a:latin typeface="Times New Roman"/>
              </a:rPr>
              <a:t>терзаться, тосковать, томиться.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5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TextBox 3"/>
          <p:cNvSpPr/>
          <p:nvPr/>
        </p:nvSpPr>
        <p:spPr>
          <a:xfrm>
            <a:off x="1571760" y="214200"/>
            <a:ext cx="580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e15"/>
                </a:solidFill>
                <a:latin typeface="Times New Roman"/>
              </a:rPr>
              <a:t>Валентин Григорьевич Распутин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e15"/>
                </a:solidFill>
                <a:latin typeface="Times New Roman"/>
              </a:rPr>
              <a:t>(Родился в 1937 году.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8" name="Picture 5" descr=""/>
          <p:cNvPicPr/>
          <p:nvPr/>
        </p:nvPicPr>
        <p:blipFill>
          <a:blip r:embed="rId2"/>
          <a:stretch/>
        </p:blipFill>
        <p:spPr>
          <a:xfrm>
            <a:off x="2071800" y="1285920"/>
            <a:ext cx="5214960" cy="5138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434520" cy="68580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3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442440" cy="6870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Прямоугольник 1"/>
          <p:cNvSpPr/>
          <p:nvPr/>
        </p:nvSpPr>
        <p:spPr>
          <a:xfrm>
            <a:off x="214200" y="642960"/>
            <a:ext cx="450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Тишина за окном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В небе звёздный узор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В старом доме одном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По душам разговор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В небе звёзды горят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Дом объят тихим сном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О любви говоря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Внучка с бабушкой в нём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Вика чаще молчит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Ну а бабушка е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О любви говорит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О любви о своей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Прямоугольник 2"/>
          <p:cNvSpPr/>
          <p:nvPr/>
        </p:nvSpPr>
        <p:spPr>
          <a:xfrm>
            <a:off x="4751280" y="714240"/>
            <a:ext cx="4392720" cy="86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Не понять им друг друга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Никак не понять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Но у бабушки Вика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Должна перенять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Что любовь так чиста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Словно горный ручей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И её красот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Исцеляет  людей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В небе звёзды горят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Тишина за окном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Внучка с бабушкой спя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Тихим, сладостным сном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Г. Никитенко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4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2" descr=""/>
          <p:cNvPicPr/>
          <p:nvPr/>
        </p:nvPicPr>
        <p:blipFill>
          <a:blip r:embed="rId2"/>
          <a:stretch/>
        </p:blipFill>
        <p:spPr>
          <a:xfrm>
            <a:off x="2340000" y="189000"/>
            <a:ext cx="4248000" cy="5843520"/>
          </a:xfrm>
          <a:prstGeom prst="rect">
            <a:avLst/>
          </a:prstGeom>
          <a:ln w="0">
            <a:noFill/>
          </a:ln>
        </p:spPr>
      </p:pic>
      <p:sp>
        <p:nvSpPr>
          <p:cNvPr id="650" name="TextBox 2"/>
          <p:cNvSpPr/>
          <p:nvPr/>
        </p:nvSpPr>
        <p:spPr>
          <a:xfrm>
            <a:off x="3359880" y="6093000"/>
            <a:ext cx="20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e15"/>
                </a:solidFill>
                <a:latin typeface="Times New Roman"/>
              </a:rPr>
              <a:t>В.П.Распутин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4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0" y="921960"/>
            <a:ext cx="9144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e15"/>
                </a:solidFill>
                <a:latin typeface="Times New Roman"/>
                <a:ea typeface="Times New Roman"/>
              </a:rPr>
              <a:t>В.Г.Распутин убеждает нас:</a:t>
            </a:r>
            <a:endParaRPr b="0" lang="en-US" sz="4400" spc="-1" strike="noStrike">
              <a:solidFill>
                <a:srgbClr val="ff00ff"/>
              </a:solidFill>
              <a:latin typeface="Arial Blac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42960" y="164304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«Без любви к ближнему никто обходиться не может…Речь идет не о любви плотской и не о любви сердца, а о любви души и духа, то есть о добровольно принимаемом на себя, всей своей жизнью, всем своим житием, служения другим людям, которые в этом нуждаются»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7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12952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1" name="Прямоугольник 7"/>
          <p:cNvSpPr/>
          <p:nvPr/>
        </p:nvSpPr>
        <p:spPr>
          <a:xfrm>
            <a:off x="0" y="628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e15"/>
                </a:solidFill>
                <a:latin typeface="Times New Roman"/>
              </a:rPr>
              <a:t>«Родился я в трехстах километрах от Иркутска, в Усть-Уде, что на Ангаре».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2" name="Picture 6" descr=""/>
          <p:cNvPicPr/>
          <p:nvPr/>
        </p:nvPicPr>
        <p:blipFill>
          <a:blip r:embed="rId2"/>
          <a:stretch/>
        </p:blipFill>
        <p:spPr>
          <a:xfrm>
            <a:off x="928800" y="571680"/>
            <a:ext cx="7284960" cy="5300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5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594" name="Прямоугольник 4"/>
          <p:cNvSpPr/>
          <p:nvPr/>
        </p:nvSpPr>
        <p:spPr>
          <a:xfrm>
            <a:off x="2268360" y="189000"/>
            <a:ext cx="50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e15"/>
                </a:solidFill>
                <a:latin typeface="Times New Roman"/>
                <a:ea typeface="MS Gothic"/>
              </a:rPr>
              <a:t>В.Распутин с мамой Ниной Ивановной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Прямоугольник 5"/>
          <p:cNvSpPr/>
          <p:nvPr/>
        </p:nvSpPr>
        <p:spPr>
          <a:xfrm>
            <a:off x="0" y="53802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e15"/>
                </a:solidFill>
                <a:latin typeface="Times New Roman"/>
              </a:rPr>
              <a:t>Отец мой, Распутин Григорий Никитич,  крестьянствовал, работал в леспромхозе, служил и воевал… Словом, был, как все. Мать, Распутина Нина Ивановна,  работала, была домохозяйкой, едва-едва управлялась с делами и семьей, — ей забот, сколько помню, всегда хватало»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Picture 6" descr=""/>
          <p:cNvPicPr/>
          <p:nvPr/>
        </p:nvPicPr>
        <p:blipFill>
          <a:blip r:embed="rId2"/>
          <a:stretch/>
        </p:blipFill>
        <p:spPr>
          <a:xfrm>
            <a:off x="928800" y="642960"/>
            <a:ext cx="7215120" cy="4879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4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598" name="Прямоугольник 4"/>
          <p:cNvSpPr/>
          <p:nvPr/>
        </p:nvSpPr>
        <p:spPr>
          <a:xfrm>
            <a:off x="2000160" y="6334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e15"/>
                </a:solidFill>
                <a:latin typeface="Times New Roman"/>
              </a:rPr>
              <a:t>Иркутский университе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9" name="Picture 5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785440" cy="6099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6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1" name="TextBox 2"/>
          <p:cNvSpPr/>
          <p:nvPr/>
        </p:nvSpPr>
        <p:spPr>
          <a:xfrm>
            <a:off x="5796720" y="614376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e15"/>
                </a:solidFill>
                <a:latin typeface="Times New Roman"/>
              </a:rPr>
              <a:t>А.В.Вампилов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TextBox 4"/>
          <p:cNvSpPr/>
          <p:nvPr/>
        </p:nvSpPr>
        <p:spPr>
          <a:xfrm>
            <a:off x="1159560" y="614376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e15"/>
                </a:solidFill>
                <a:latin typeface="Times New Roman"/>
              </a:rPr>
              <a:t>В.А.Чивилихин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3" name="Picture 7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4713480" cy="59752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"/>
          <p:cNvPicPr/>
          <p:nvPr/>
        </p:nvPicPr>
        <p:blipFill>
          <a:blip r:embed="rId3"/>
          <a:stretch/>
        </p:blipFill>
        <p:spPr>
          <a:xfrm>
            <a:off x="5195880" y="214200"/>
            <a:ext cx="3753000" cy="58579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8" descr=""/>
          <p:cNvPicPr/>
          <p:nvPr/>
        </p:nvPicPr>
        <p:blipFill>
          <a:blip r:embed="rId4"/>
          <a:stretch/>
        </p:blipFill>
        <p:spPr>
          <a:xfrm>
            <a:off x="5143680" y="214200"/>
            <a:ext cx="3752640" cy="5857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4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607" name="TextBox 3"/>
          <p:cNvSpPr/>
          <p:nvPr/>
        </p:nvSpPr>
        <p:spPr>
          <a:xfrm>
            <a:off x="214200" y="189000"/>
            <a:ext cx="8929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e15"/>
                </a:solidFill>
                <a:latin typeface="Times New Roman"/>
              </a:rPr>
              <a:t>Проблемы, которые затрагивает В. Распутин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2e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e15"/>
                </a:solidFill>
                <a:latin typeface="Times New Roman"/>
              </a:rPr>
              <a:t>Проблема экологи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2e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e15"/>
                </a:solidFill>
                <a:latin typeface="Times New Roman"/>
              </a:rPr>
              <a:t>Проблема исчезновения деревн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2e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e15"/>
                </a:solidFill>
                <a:latin typeface="Times New Roman"/>
              </a:rPr>
              <a:t>Проблема нравственно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2e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e15"/>
                </a:solidFill>
                <a:latin typeface="Times New Roman"/>
              </a:rPr>
              <a:t>Ответственность человека за судьбу страны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2e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e15"/>
                </a:solidFill>
                <a:latin typeface="Times New Roman"/>
              </a:rPr>
              <a:t>Связь и преемственность поколени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2e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e15"/>
                </a:solidFill>
                <a:latin typeface="Times New Roman"/>
              </a:rPr>
              <a:t>Столкновение старого и нового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2e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e15"/>
                </a:solidFill>
                <a:latin typeface="Times New Roman"/>
              </a:rPr>
              <a:t>Будущее земл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2e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e15"/>
                </a:solidFill>
                <a:latin typeface="Times New Roman"/>
              </a:rPr>
              <a:t>Тема памя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8" name="Picture 5" descr=""/>
          <p:cNvPicPr/>
          <p:nvPr/>
        </p:nvPicPr>
        <p:blipFill>
          <a:blip r:embed="rId2"/>
          <a:stretch/>
        </p:blipFill>
        <p:spPr>
          <a:xfrm>
            <a:off x="3929040" y="3294000"/>
            <a:ext cx="4753080" cy="3564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10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8785440" cy="6604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6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1" name="TextBox 4"/>
          <p:cNvSpPr/>
          <p:nvPr/>
        </p:nvSpPr>
        <p:spPr>
          <a:xfrm>
            <a:off x="444600" y="214200"/>
            <a:ext cx="524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e15"/>
                </a:solidFill>
                <a:latin typeface="Times New Roman"/>
              </a:rPr>
              <a:t>Писать надо о том, от чего не спитс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e15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2e15"/>
                </a:solidFill>
                <a:latin typeface="Times New Roman"/>
              </a:rPr>
              <a:t>по ночам…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e15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2e15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2e15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2e15"/>
                </a:solidFill>
                <a:latin typeface="Times New Roman"/>
              </a:rPr>
              <a:t>А.В.Вампилов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TextBox 5"/>
          <p:cNvSpPr/>
          <p:nvPr/>
        </p:nvSpPr>
        <p:spPr>
          <a:xfrm>
            <a:off x="3643200" y="5072040"/>
            <a:ext cx="55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e15"/>
                </a:solidFill>
                <a:latin typeface="Times New Roman"/>
              </a:rPr>
              <a:t>Если хочешь быть мастером, макай перо в правду, ничем больше не удивишь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e15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2e15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2e15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2e15"/>
                </a:solidFill>
                <a:latin typeface="Times New Roman"/>
              </a:rPr>
              <a:t>В.М.Шукшин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3" name="Picture 8" descr=""/>
          <p:cNvPicPr/>
          <p:nvPr/>
        </p:nvPicPr>
        <p:blipFill>
          <a:blip r:embed="rId2"/>
          <a:stretch/>
        </p:blipFill>
        <p:spPr>
          <a:xfrm>
            <a:off x="5881680" y="214200"/>
            <a:ext cx="3067200" cy="47865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7" descr=""/>
          <p:cNvPicPr/>
          <p:nvPr/>
        </p:nvPicPr>
        <p:blipFill>
          <a:blip r:embed="rId3"/>
          <a:stretch/>
        </p:blipFill>
        <p:spPr>
          <a:xfrm>
            <a:off x="214200" y="2357280"/>
            <a:ext cx="3200400" cy="4219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11:14:56Z</dcterms:created>
  <dc:creator>Нехина</dc:creator>
  <dc:description/>
  <dc:language>en-US</dc:language>
  <cp:lastModifiedBy>Марина</cp:lastModifiedBy>
  <dcterms:modified xsi:type="dcterms:W3CDTF">2019-10-16T17:53:01Z</dcterms:modified>
  <cp:revision>144</cp:revision>
  <dc:subject/>
  <dc:title>Слова-образы</dc:title>
</cp:coreProperties>
</file>