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1622-6FC2-4D6C-A650-8689543B7A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9D6A-424D-4773-B020-AA06C6D199C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854-D7B0-44DE-A6D2-FB2D9B22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6C00-9C9D-4ADF-95A8-3BAB1505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0C3-2841-4FA5-ADBC-6095958D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77FA-A43B-4413-9BA1-9DAFEFAE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D408-F9D5-4D1D-8DCA-7B535F1A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F01D-D94B-4EA6-AC18-B0C13EAD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D4AE-0C4F-4291-B61B-D66AD119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7A7A-519C-4B14-8C99-1F5EE4DA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2C5F-D78E-4568-A35B-F63B9BA8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4AA8-4FDE-40E6-8C7C-E46DCCFC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AE9B-CCF1-4FBE-B3DD-56C05024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6E18-0931-47C4-BDFC-D01677CB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268E-40CF-405A-89E4-E7C682FD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AE63-201F-470D-83B5-574A3439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9135-340E-4CC6-A0F4-41D40E96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7222-52D1-40F6-869B-C4C47D05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3139-B9D0-404B-BB13-24F1E954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21FBE-308D-4425-A707-2092485E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F67F4-CBC1-47E4-8C2F-2078773E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88FE9-9642-4107-BC31-1D5FDAF5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46B3F-65DD-47EE-B2C6-1A18D329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36ABC-1CAC-4614-835A-0E78C2AE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B74F-B25D-4F9E-9EEC-50787A35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BF5A4-9B2D-4EF2-99D8-C6C6E95C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D27EF-51BF-4651-AD66-8253A06A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E32B8-3366-4BB8-ACE0-5E705159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DDAEA-323B-452B-99C2-C48C4D24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58160-CA6A-43DD-B086-FD0AB67F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C02F3-9581-46A9-9346-3167B9FF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6EEB2-2B4D-4E78-944C-6328B2D8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F8441-C6A4-48F0-94B1-6122D9E9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ECD5C-EE82-4CDC-ACD7-3F1F229A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52E03-381A-4D48-99B0-C34168BC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DE73-69AC-4E91-BC63-FAB54480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8044D-0950-4607-B22F-1CBCC8FD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D693F-86E6-4BE0-9DB6-C55FE625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61DAE-1789-4C85-9E72-3F9FE28D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3117D-BFFA-4DD5-848D-C5F6CB32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ED6F1-D14F-4AF3-8699-AAAA3FC9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FBC16-09D6-4FAD-9F9A-A7B73D93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FA7D8-44A7-4449-B6ED-2A5D4C33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A2745-9568-458B-A1DD-75CDB836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31931-9603-4324-8E2C-F57B8F89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CA4CF-0AE5-445C-8914-BF85943A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67B4-0C3F-4F03-8AE9-55B42A35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6594B-3F31-439D-829F-D39A9E08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0926D-CDB7-4195-A186-1200414F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7DD68-2E3E-49A0-94EC-75E9C254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59B3A-6570-4C44-AE06-74C64A60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8163A-D25C-4592-A9C0-077BD367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15986-23DC-4F68-A118-8929D005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2D4D7-0FA3-4AFF-BD23-330D3BA9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A9321-129E-4D3A-87BD-29667B1B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DD82D-CF81-46FF-B43E-5578DC89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1BC9D-4221-427A-ADF0-A7D5E243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052-0A2B-4959-B932-BB0B088B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AD801-C993-4367-A64E-A5533A8C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A038B-4141-4AB5-A0ED-7B65495D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7554F-1E58-4660-8752-B5C970C9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52AEB-63B2-42A1-9842-730ECAA0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B4693-C465-4F43-9323-B2F3373D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7CB71-E7E5-47F0-8788-AD145154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28795-07C5-4941-AEDC-BDD5C47E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F340C-2F6A-4FDE-90C6-E8CD2CDE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C8C35-856B-4422-8A91-C42A1154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B4060-B0D0-4B3B-ADE5-CF1140AD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9566-9D09-434F-B0C1-473C074E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2E09D-624F-4696-8AB2-D3A5344E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31C8A-DBA5-4A6F-95DE-DC934D97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C363E-B4EB-4FCC-87A4-622B7852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14C8D-42F8-4750-851C-66169760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45DE8-A27C-48E3-8010-36D01351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740A6-EF18-4F66-9F18-AD3B2915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CF76B-282E-4ADA-8E02-D45178BB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75CAB-322C-4BFA-BA1C-05C976F1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DDB6D-E850-4F2F-BD98-5DA928C4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763D2-AC15-4559-B3FC-080B0054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E80E-DBF8-46BE-813A-9FE15CDD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BBAAC-1067-4274-A5C7-565AD224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1B032-561D-42B6-B8F1-DDAE22D1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07655-4906-4B24-A2B5-EB7924D4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07351-447F-4843-A8F3-ECE83BB1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B8ADF-C351-486A-BA18-36F625A1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9E2-4434-45B0-BCDB-84B18224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7699-11C7-43B4-8B06-FFF084FE2883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708B-B598-474B-8D17-1E28B31DF1D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0106-8710-4DCA-8566-D5FC3C0DDE6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B48E-6714-4AF6-A506-7B6AEA10492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2DA3-4A57-456B-B073-2337D50D42D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02EB-54BE-4D15-A010-32BD24CEDB1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6640" y="1217520"/>
              <a:ext cx="68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972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6640" y="1282320"/>
              <a:ext cx="68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920" y="1370160"/>
              <a:ext cx="691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75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920" y="1434960"/>
              <a:ext cx="691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1520" y="1473120"/>
              <a:ext cx="68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972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1520" y="1537920"/>
              <a:ext cx="68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EE87-CF93-4F43-B619-A67BD7CCB46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914400" y="4175280"/>
            <a:ext cx="7772400" cy="2341440"/>
          </a:xfrm>
          <a:prstGeom prst="rect">
            <a:avLst/>
          </a:prstGeom>
          <a:ln w="0">
            <a:noFill/>
          </a:ln>
        </p:spPr>
      </p:pic>
      <p:sp>
        <p:nvSpPr>
          <p:cNvPr id="37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5" descr="C:\Users\User\Desktop\Смертная казнь\54c79432-c938-d1d2-c938-d1dd0f81ed08.photo.0.jpg"/>
          <p:cNvPicPr/>
          <p:nvPr/>
        </p:nvPicPr>
        <p:blipFill>
          <a:blip r:embed="rId2"/>
          <a:stretch/>
        </p:blipFill>
        <p:spPr>
          <a:xfrm>
            <a:off x="2143080" y="214200"/>
            <a:ext cx="54291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00280" y="115920"/>
            <a:ext cx="782928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eeff"/>
                </a:solidFill>
                <a:latin typeface="Consolas"/>
              </a:rPr>
              <a:t>Современные</a:t>
            </a: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1" lang="ru-RU" sz="3600" spc="-1" strike="noStrike">
                <a:solidFill>
                  <a:srgbClr val="c1eeff"/>
                </a:solidFill>
                <a:latin typeface="Consolas"/>
              </a:rPr>
              <a:t>способы </a:t>
            </a:r>
            <a:br>
              <a:rPr sz="3600"/>
            </a:br>
            <a:r>
              <a:rPr b="1" lang="ru-RU" sz="3600" spc="-1" strike="noStrike">
                <a:solidFill>
                  <a:srgbClr val="c1eeff"/>
                </a:solidFill>
                <a:latin typeface="Consolas"/>
              </a:rPr>
              <a:t>смертной казни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5" name="Picture 2" descr="C:\Users\User\Desktop\Смертная казнь\kazn.jpg"/>
          <p:cNvPicPr/>
          <p:nvPr/>
        </p:nvPicPr>
        <p:blipFill>
          <a:blip r:embed="rId1"/>
          <a:stretch/>
        </p:blipFill>
        <p:spPr>
          <a:xfrm>
            <a:off x="1611360" y="1557360"/>
            <a:ext cx="61434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C:\Users\User\Desktop\Смертная казнь\646e54f3224499907f10b9e476e85f82_L-1024x891.jpg"/>
          <p:cNvPicPr/>
          <p:nvPr/>
        </p:nvPicPr>
        <p:blipFill>
          <a:blip r:embed="rId1"/>
          <a:stretch/>
        </p:blipFill>
        <p:spPr>
          <a:xfrm>
            <a:off x="1071720" y="285840"/>
            <a:ext cx="725328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C:\Users\User\Desktop\Смертная казнь\1344340443074890.jpg"/>
          <p:cNvPicPr/>
          <p:nvPr/>
        </p:nvPicPr>
        <p:blipFill>
          <a:blip r:embed="rId1"/>
          <a:stretch/>
        </p:blipFill>
        <p:spPr>
          <a:xfrm>
            <a:off x="928800" y="587520"/>
            <a:ext cx="76438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C:\Users\User\Desktop\Смертная казнь\61381.jpg"/>
          <p:cNvPicPr/>
          <p:nvPr/>
        </p:nvPicPr>
        <p:blipFill>
          <a:blip r:embed="rId1"/>
          <a:stretch/>
        </p:blipFill>
        <p:spPr>
          <a:xfrm>
            <a:off x="1438200" y="95400"/>
            <a:ext cx="626760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8680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eeff"/>
                </a:solidFill>
                <a:latin typeface="Consolas"/>
              </a:rPr>
              <a:t>Моё отношение и отношение моих одноклассников к смертной  казни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0" name="Picture 2" descr="C:\Users\User\Desktop\Смертная казнь\369-911.jpg"/>
          <p:cNvPicPr/>
          <p:nvPr/>
        </p:nvPicPr>
        <p:blipFill>
          <a:blip r:embed="rId1"/>
          <a:stretch/>
        </p:blipFill>
        <p:spPr>
          <a:xfrm>
            <a:off x="1571760" y="1928880"/>
            <a:ext cx="63817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1"/>
          <p:cNvSpPr/>
          <p:nvPr/>
        </p:nvSpPr>
        <p:spPr>
          <a:xfrm>
            <a:off x="154080" y="142920"/>
            <a:ext cx="8856720" cy="72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bb9de"/>
                </a:solidFill>
                <a:latin typeface="Consolas"/>
                <a:ea typeface="Consolas"/>
              </a:rPr>
              <a:t>Ответы на поставленные вопросы распределились следующим образо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1. Ваше отношение к смертной каз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- положительно -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- негативное - 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- безразличное - 2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2. По вашему смертная казнь – это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- месть - 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- наказание,требующее дополнит-го обоснования -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- крайняя мера - 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- менее суровое, чем пожизненное заключение –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- уничтожение преступника -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- негуманное убийство - 2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3. Нужна ли смертная казнь в Росс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- «да» -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- «нет» - 11 чело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"/>
          <p:cNvSpPr/>
          <p:nvPr/>
        </p:nvSpPr>
        <p:spPr>
          <a:xfrm>
            <a:off x="250920" y="301680"/>
            <a:ext cx="87138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olas"/>
                <a:ea typeface="Consolas"/>
              </a:rPr>
              <a:t>4</a:t>
            </a:r>
            <a:r>
              <a:rPr b="1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. Является ли казнь сдерживающим факто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- «да» -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- «нет» - 1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5. Нарушает ли она права челове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- «да» - 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- «нет» - 3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6. Является ли это наказание гуман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- «да» - 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- «нет» - 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7.Вы сторонник применения смертной казни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- «да» - 3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- «нет» - 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8. Пожизненное заключение выполняет главные функции наказ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- «да» - 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nsola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olas"/>
                <a:ea typeface="Consolas"/>
              </a:rPr>
              <a:t>«нет» - 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Прямоугольник 1" descr=""/>
          <p:cNvPicPr/>
          <p:nvPr/>
        </p:nvPicPr>
        <p:blipFill>
          <a:blip r:embed="rId1"/>
          <a:stretch/>
        </p:blipFill>
        <p:spPr>
          <a:xfrm>
            <a:off x="171360" y="590400"/>
            <a:ext cx="879660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C:\Users\User\Desktop\Смертная казнь\Legal-scales-books-gavel-Image.jpg"/>
          <p:cNvPicPr/>
          <p:nvPr/>
        </p:nvPicPr>
        <p:blipFill>
          <a:blip r:embed="rId1"/>
          <a:stretch/>
        </p:blipFill>
        <p:spPr>
          <a:xfrm>
            <a:off x="1968480" y="3573360"/>
            <a:ext cx="5062680" cy="3164040"/>
          </a:xfrm>
          <a:prstGeom prst="rect">
            <a:avLst/>
          </a:prstGeom>
          <a:ln w="0">
            <a:noFill/>
          </a:ln>
        </p:spPr>
      </p:pic>
      <p:pic>
        <p:nvPicPr>
          <p:cNvPr id="405" name="Прямоугольник 1" descr=""/>
          <p:cNvPicPr/>
          <p:nvPr/>
        </p:nvPicPr>
        <p:blipFill>
          <a:blip r:embed="rId2"/>
          <a:stretch/>
        </p:blipFill>
        <p:spPr>
          <a:xfrm>
            <a:off x="-23760" y="274680"/>
            <a:ext cx="904536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4"/>
          <p:cNvSpPr/>
          <p:nvPr/>
        </p:nvSpPr>
        <p:spPr>
          <a:xfrm>
            <a:off x="1908000" y="1341360"/>
            <a:ext cx="5349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1eeff"/>
                </a:solidFill>
                <a:latin typeface="Consolas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1eeff"/>
                </a:solidFill>
                <a:latin typeface="Consolas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1eeff"/>
                </a:solidFill>
                <a:latin typeface="Consolas"/>
              </a:rPr>
              <a:t>ВНИМАН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olas"/>
                <a:ea typeface="Consolas"/>
              </a:rPr>
              <a:t>АКТУАЛЬНОСТЬ РАБОТЫ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nsolas"/>
                <a:ea typeface="Consolas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onsolas"/>
                <a:ea typeface="Consolas"/>
              </a:rPr>
              <a:t>Возможность её использования как дополнительного материала  при изучении вышеуказанной проблем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nsolas"/>
                <a:ea typeface="Consolas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868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onsolas"/>
                <a:ea typeface="Consolas"/>
              </a:rPr>
              <a:t>Цель исследовательской работы:</a:t>
            </a:r>
            <a:br>
              <a:rPr sz="2800"/>
            </a:br>
            <a:r>
              <a:rPr b="0" lang="ru-RU" sz="2400" spc="-1" strike="noStrike">
                <a:solidFill>
                  <a:srgbClr val="c1eeff"/>
                </a:solidFill>
                <a:latin typeface="Consolas"/>
                <a:ea typeface="Consolas"/>
              </a:rPr>
              <a:t>комплексный анализ института смертной казни в России.</a:t>
            </a:r>
            <a:br>
              <a:rPr sz="2400"/>
            </a:b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71280" y="1557000"/>
            <a:ext cx="771516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6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Consolas"/>
                <a:ea typeface="Consolas"/>
              </a:rPr>
              <a:t>Задачи исследовательской работы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olas"/>
                <a:ea typeface="Consolas"/>
              </a:rPr>
              <a:t>проанализировать историю смертной казни в России и зарубежных   странах;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olas"/>
                <a:ea typeface="Consolas"/>
              </a:rPr>
              <a:t>рассмотреть  применение смертной казни в наше время;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olas"/>
                <a:ea typeface="Consolas"/>
              </a:rPr>
              <a:t>проанализировать дискуссии в науке об отмене смертной казни;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olas"/>
                <a:ea typeface="Consolas"/>
              </a:rPr>
              <a:t>представить точки зрения «за» и «против» смертной казни;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olas"/>
                <a:ea typeface="Consolas"/>
              </a:rPr>
              <a:t>проанализировать отношение обучающихся 9-ого класса к смертной казни в России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00000" y="549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5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onsolas"/>
                <a:ea typeface="Consolas"/>
              </a:rPr>
              <a:t>Методы работы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32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olas"/>
                <a:ea typeface="Consolas"/>
              </a:rPr>
              <a:t>проблемно-поисковый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32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olas"/>
                <a:ea typeface="Consolas"/>
              </a:rPr>
              <a:t>изучение и анализ специальной и научно-популярной литературы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32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olas"/>
                <a:ea typeface="Consolas"/>
              </a:rPr>
              <a:t>социологическое исследование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32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olas"/>
                <a:ea typeface="Consolas"/>
              </a:rPr>
              <a:t>работа с Интернет-ресурсам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onsolas"/>
                <a:ea typeface="Consolas"/>
              </a:rPr>
              <a:t>Объект исследования</a:t>
            </a:r>
            <a:r>
              <a:rPr b="1" lang="ru-RU" sz="2800" spc="-1" strike="noStrike">
                <a:solidFill>
                  <a:srgbClr val="ffffff"/>
                </a:solidFill>
                <a:latin typeface="Consolas"/>
                <a:ea typeface="Consolas"/>
              </a:rPr>
              <a:t>: общественные отношения, связанные с применение смертной казни и отменой данного вида наказан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onsolas"/>
                <a:ea typeface="Consolas"/>
              </a:rPr>
              <a:t>Предмет исследования</a:t>
            </a:r>
            <a:r>
              <a:rPr b="1" lang="ru-RU" sz="2800" spc="-1" strike="noStrike">
                <a:solidFill>
                  <a:srgbClr val="ffffff"/>
                </a:solidFill>
                <a:latin typeface="Consolas"/>
                <a:ea typeface="Consolas"/>
              </a:rPr>
              <a:t>: смертная казнь как таковая, практика и последствия её применен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32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eeff"/>
                </a:solidFill>
                <a:latin typeface="Consolas"/>
              </a:rPr>
              <a:t>Понятие «смертная казнь»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6" name="Picture 2" descr="C:\Users\User\Desktop\Смертная казнь\prison_2.png"/>
          <p:cNvPicPr/>
          <p:nvPr/>
        </p:nvPicPr>
        <p:blipFill>
          <a:blip r:embed="rId1"/>
          <a:stretch/>
        </p:blipFill>
        <p:spPr>
          <a:xfrm>
            <a:off x="357120" y="1714680"/>
            <a:ext cx="851688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814392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eeff"/>
                </a:solidFill>
                <a:latin typeface="Consolas"/>
              </a:rPr>
              <a:t>История смертной казни в России с древнейших времён до наших дней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8" name="Picture 2" descr="C:\Users\User\Desktop\Смертная казнь\Bolotnaya_ploshad_v_Moskve_2.jpg"/>
          <p:cNvPicPr/>
          <p:nvPr/>
        </p:nvPicPr>
        <p:blipFill>
          <a:blip r:embed="rId1"/>
          <a:stretch/>
        </p:blipFill>
        <p:spPr>
          <a:xfrm>
            <a:off x="1430280" y="1916280"/>
            <a:ext cx="6658200" cy="41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90128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eeff"/>
                </a:solidFill>
                <a:latin typeface="Consolas"/>
              </a:rPr>
              <a:t>История применения смертной казни в зарубежных странах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0" name="Picture 2" descr="C:\Users\User\Desktop\Смертная казнь\510.jpg"/>
          <p:cNvPicPr/>
          <p:nvPr/>
        </p:nvPicPr>
        <p:blipFill>
          <a:blip r:embed="rId1"/>
          <a:stretch/>
        </p:blipFill>
        <p:spPr>
          <a:xfrm>
            <a:off x="1357200" y="1773360"/>
            <a:ext cx="67453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C:\Users\User\Desktop\Смертная казнь\img4.jpg"/>
          <p:cNvPicPr/>
          <p:nvPr/>
        </p:nvPicPr>
        <p:blipFill>
          <a:blip r:embed="rId1"/>
          <a:stretch/>
        </p:blipFill>
        <p:spPr>
          <a:xfrm>
            <a:off x="900000" y="549360"/>
            <a:ext cx="778680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eeff"/>
                </a:solidFill>
                <a:latin typeface="Consolas"/>
              </a:rPr>
              <a:t>Устаревшие виды казни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3" name="Picture 2" descr="C:\Users\User\Desktop\Смертная казнь\4L9Qb5DXLLs.jpg"/>
          <p:cNvPicPr/>
          <p:nvPr/>
        </p:nvPicPr>
        <p:blipFill>
          <a:blip r:embed="rId1"/>
          <a:stretch/>
        </p:blipFill>
        <p:spPr>
          <a:xfrm>
            <a:off x="1214280" y="1285920"/>
            <a:ext cx="71200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8T11:52:28Z</dcterms:created>
  <dc:creator>User</dc:creator>
  <dc:description/>
  <dc:language>en-US</dc:language>
  <cp:lastModifiedBy>СВЕТЛАНА ВИТАЛЬЕВНА</cp:lastModifiedBy>
  <dcterms:modified xsi:type="dcterms:W3CDTF">2016-04-02T07:27:03Z</dcterms:modified>
  <cp:revision>35</cp:revision>
  <dc:subject/>
  <dc:title>«Смертная казнь  за и против»</dc:title>
</cp:coreProperties>
</file>