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C6A-2860-4949-9C72-906AF255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2F1-059C-449C-AD20-60992807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ACE-8619-419A-8CCD-770EFEE9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6FE-1C87-44AF-BE13-990BAE09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3AF-B40B-4B82-A785-460F72A2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B5E-AEFA-4CAF-8030-7656FC44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21F-B3E4-4CF8-B9C0-ADBE8779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E75-00CB-486C-812F-2B3B8709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B4D-2831-4A55-B6A9-CD5E5CF4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0CA-5B68-40D0-AFB0-3C8CBA91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D11-FCCE-47FB-BB16-79DCF2E1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92D-2E35-4F20-8D0F-76ACC65F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2C2E-AF79-46AE-B07E-86C42744A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39720" y="328680"/>
            <a:ext cx="7991640" cy="148104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3"/>
          <a:stretch/>
        </p:blipFill>
        <p:spPr>
          <a:xfrm>
            <a:off x="1974960" y="3133800"/>
            <a:ext cx="65833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етчатое (перистое) жилкова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У листьев дуба, берёзы выделяется одна мощная жилка, расположенная по середине. Это — главная жилка, вокруг которой ветвистые мелкие жилки создают сетку. Такое жилкование и называют сетчаты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Так как от главной жилки отходят жилки влево и вправо, напоминая строение пера, такое жилкование  ещё называют перистым, или перисто-сетчаты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0" descr="сетчатое1.png"/>
          <p:cNvPicPr/>
          <p:nvPr/>
        </p:nvPicPr>
        <p:blipFill>
          <a:blip r:embed="rId1"/>
          <a:stretch/>
        </p:blipFill>
        <p:spPr>
          <a:xfrm>
            <a:off x="324000" y="4076640"/>
            <a:ext cx="2597040" cy="2428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apses_lapa_061011.png"/>
          <p:cNvPicPr/>
          <p:nvPr/>
        </p:nvPicPr>
        <p:blipFill>
          <a:blip r:embed="rId2"/>
          <a:stretch/>
        </p:blipFill>
        <p:spPr>
          <a:xfrm>
            <a:off x="6443640" y="4076640"/>
            <a:ext cx="2265480" cy="25527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3160080" y="414972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сина обыкнове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альчатое (пальчато-сетчатое) жилк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стья клёна платановидного, лютика едкого имеют несколько крупных, почти одинаковых жилок, расходящихся веером от основания пластинки. Они также многократ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пальчатое1.png"/>
          <p:cNvPicPr/>
          <p:nvPr/>
        </p:nvPicPr>
        <p:blipFill>
          <a:blip r:embed="rId1"/>
          <a:stretch/>
        </p:blipFill>
        <p:spPr>
          <a:xfrm>
            <a:off x="395280" y="3213000"/>
            <a:ext cx="3313080" cy="3095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acer-platanoides-04.png"/>
          <p:cNvPicPr/>
          <p:nvPr/>
        </p:nvPicPr>
        <p:blipFill>
          <a:blip r:embed="rId2"/>
          <a:stretch/>
        </p:blipFill>
        <p:spPr>
          <a:xfrm>
            <a:off x="5003640" y="2781360"/>
            <a:ext cx="3489480" cy="25192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3555720" y="573264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лён платановид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стья к стеблю прикрепляются так, чтобы получать максимально возможное количество св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сторасположение может быть мутовчатым, очерёдным, розеточным или супротивны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2" descr="мут.bmp"/>
          <p:cNvPicPr/>
          <p:nvPr/>
        </p:nvPicPr>
        <p:blipFill>
          <a:blip r:embed="rId1"/>
          <a:stretch/>
        </p:blipFill>
        <p:spPr>
          <a:xfrm>
            <a:off x="324000" y="2924280"/>
            <a:ext cx="1800000" cy="3025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l13998369453.png"/>
          <p:cNvPicPr/>
          <p:nvPr/>
        </p:nvPicPr>
        <p:blipFill>
          <a:blip r:embed="rId2"/>
          <a:stretch/>
        </p:blipFill>
        <p:spPr>
          <a:xfrm>
            <a:off x="2195640" y="2924280"/>
            <a:ext cx="2050920" cy="29527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2287800" y="616572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Хвощ ле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979640" y="40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исторас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6" descr="очер.bmp"/>
          <p:cNvPicPr/>
          <p:nvPr/>
        </p:nvPicPr>
        <p:blipFill>
          <a:blip r:embed="rId3"/>
          <a:stretch/>
        </p:blipFill>
        <p:spPr>
          <a:xfrm>
            <a:off x="4643280" y="2924280"/>
            <a:ext cx="1970280" cy="3025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vanilla_planifolia_variegata_small.png"/>
          <p:cNvPicPr/>
          <p:nvPr/>
        </p:nvPicPr>
        <p:blipFill>
          <a:blip r:embed="rId4"/>
          <a:stretch/>
        </p:blipFill>
        <p:spPr>
          <a:xfrm>
            <a:off x="6732720" y="2924280"/>
            <a:ext cx="2120760" cy="2952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6443640" y="6166080"/>
            <a:ext cx="24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Ван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оз.bmp"/>
          <p:cNvPicPr/>
          <p:nvPr/>
        </p:nvPicPr>
        <p:blipFill>
          <a:blip r:embed="rId1"/>
          <a:stretch/>
        </p:blipFill>
        <p:spPr>
          <a:xfrm>
            <a:off x="250920" y="2997360"/>
            <a:ext cx="2160360" cy="36716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ce.jpg"/>
          <p:cNvPicPr/>
          <p:nvPr/>
        </p:nvPicPr>
        <p:blipFill>
          <a:blip r:embed="rId2"/>
          <a:stretch/>
        </p:blipFill>
        <p:spPr>
          <a:xfrm>
            <a:off x="2484360" y="3068640"/>
            <a:ext cx="2374920" cy="3529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611280" y="249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одорожник больш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супр.bmp"/>
          <p:cNvPicPr/>
          <p:nvPr/>
        </p:nvPicPr>
        <p:blipFill>
          <a:blip r:embed="rId3"/>
          <a:stretch/>
        </p:blipFill>
        <p:spPr>
          <a:xfrm>
            <a:off x="4500720" y="260280"/>
            <a:ext cx="1882440" cy="2808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l1374234791.png"/>
          <p:cNvPicPr/>
          <p:nvPr/>
        </p:nvPicPr>
        <p:blipFill>
          <a:blip r:embed="rId4"/>
          <a:stretch/>
        </p:blipFill>
        <p:spPr>
          <a:xfrm>
            <a:off x="6516720" y="260280"/>
            <a:ext cx="2336760" cy="27370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6443640" y="30686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Очанка Рост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3628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entury Schoolbook"/>
              </a:rPr>
              <a:t>Источники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Пасечник В. В. Биология. 6 класс // ДРОФ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Пономарёва И. Н., Корнилова О. А., Кучменко B. C. Биология. 6 класс // ИЦ ВЕНТАНА-ГРАФ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http://biologymoscow.ucoz.ru/index/illjustracija_k_teme_pobeg/0-20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4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ст — часть побега. Он осуществляет три основные функции —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фотосинтез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(образование органических веществ),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азообме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и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спарение вод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5" descr="pic52.png"/>
          <p:cNvPicPr/>
          <p:nvPr/>
        </p:nvPicPr>
        <p:blipFill>
          <a:blip r:embed="rId1"/>
          <a:stretch/>
        </p:blipFill>
        <p:spPr>
          <a:xfrm>
            <a:off x="900000" y="2276640"/>
            <a:ext cx="7128000" cy="424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275400" y="1745280"/>
            <a:ext cx="85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4e3f"/>
                </a:solidFill>
                <a:latin typeface="Century Schoolbook"/>
                <a:ea typeface="Times New Roman"/>
              </a:rPr>
              <a:t>Лист имеет </a:t>
            </a:r>
            <a:r>
              <a:rPr b="1" lang="ru-RU" sz="1800" spc="-1" strike="noStrike">
                <a:solidFill>
                  <a:srgbClr val="76a900"/>
                </a:solidFill>
                <a:latin typeface="Century Schoolbook"/>
                <a:ea typeface="Times New Roman"/>
              </a:rPr>
              <a:t>листовую пластинку, черешок, основание и прилистники</a:t>
            </a:r>
            <a:r>
              <a:rPr b="0" lang="ru-RU" sz="1800" spc="-1" strike="noStrike">
                <a:solidFill>
                  <a:srgbClr val="4e4e3f"/>
                </a:solidFill>
                <a:latin typeface="Century Schoolbook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2472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стовая пластинка является основным местом, в котором происходит фотосинтез. Черешок листа прикрепляет его к стеблю и поворачивает в наилучшее положение по отношению к све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стья, имеющие черешк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зывают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ерешковым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стья без черешк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зывают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идячим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имер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черешковые листья — у крапивы, липы, клёна, берёзы, яблони, вишни и др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идячие листья — у одуванчика, алоэ, льна, цикория, пшеницы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tipi_Listev.png"/>
          <p:cNvPicPr/>
          <p:nvPr/>
        </p:nvPicPr>
        <p:blipFill>
          <a:blip r:embed="rId1"/>
          <a:stretch/>
        </p:blipFill>
        <p:spPr>
          <a:xfrm>
            <a:off x="4572000" y="1989000"/>
            <a:ext cx="3600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 форме 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листья бывают округлыми, овальными, сердцевидными, игольчатыми и т. д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 форме края пластинк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 листья также разнообразн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Пример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лист яблони имеет 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убчаты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 край,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осины — 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ильчаты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сирени — 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цельнокрайни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pic54.png"/>
          <p:cNvPicPr/>
          <p:nvPr/>
        </p:nvPicPr>
        <p:blipFill>
          <a:blip r:embed="rId1"/>
          <a:stretch/>
        </p:blipFill>
        <p:spPr>
          <a:xfrm>
            <a:off x="2050920" y="2924280"/>
            <a:ext cx="5318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 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Листья простые и сложные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Простые листья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 состоят из одной листовой пласти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pic53.png"/>
          <p:cNvPicPr/>
          <p:nvPr/>
        </p:nvPicPr>
        <p:blipFill>
          <a:blip r:embed="rId1"/>
          <a:stretch/>
        </p:blipFill>
        <p:spPr>
          <a:xfrm>
            <a:off x="1116000" y="1916280"/>
            <a:ext cx="6696000" cy="3241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395280" y="51577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Пример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такие листья у берёзы, клёна, дуба, черёмухи и других раст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Сложные листья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оят из нескольких листовых пластинок, соединённых с общим черешком небольшими черешками.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Пример: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такие листья у ясеня, рябины и многих други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pic56.png"/>
          <p:cNvPicPr/>
          <p:nvPr/>
        </p:nvPicPr>
        <p:blipFill>
          <a:blip r:embed="rId1"/>
          <a:stretch/>
        </p:blipFill>
        <p:spPr>
          <a:xfrm>
            <a:off x="1835280" y="3429000"/>
            <a:ext cx="68245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изучении внешнего строения листа хорошо видно, что на листовой пластинке многих растений чётко выражен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жилк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Они представлены пучками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водящей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 механическ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ткани. По жилкам в лист поступают вода и минеральные соли и отводятся органические вещества, образовавшиеся в лист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определить вид растения по специальному определителю, надо уметь различать жилкование листа и расположение его на стебл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ипы жилкования листа — дуговое, параллельное, сетчатое (или перистое), пальчат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763640" y="404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Жилкование листь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47527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уговидное жилк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 листьев подорожника, ландыша жилки крупные и, помимо центральной, изогнуты подобно дуге. Их жилкование называют дуговид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дуговое1.png"/>
          <p:cNvPicPr/>
          <p:nvPr/>
        </p:nvPicPr>
        <p:blipFill>
          <a:blip r:embed="rId1"/>
          <a:stretch/>
        </p:blipFill>
        <p:spPr>
          <a:xfrm>
            <a:off x="971640" y="3357720"/>
            <a:ext cx="2808360" cy="3166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ce.jpg"/>
          <p:cNvPicPr/>
          <p:nvPr/>
        </p:nvPicPr>
        <p:blipFill>
          <a:blip r:embed="rId2"/>
          <a:stretch/>
        </p:blipFill>
        <p:spPr>
          <a:xfrm>
            <a:off x="5867280" y="404640"/>
            <a:ext cx="2881440" cy="40086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 flipH="1" flipV="1" rot="10800000">
            <a:off x="3634200" y="5228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дорожник больш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араллельное жилк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Если несколько крупных жилок проходят вдоль пластинки параллельно друг другу, то и жилкование называют параллельны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Такое жилкование имеют листья пшеницы, кукурузы, проса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параллельное1.png"/>
          <p:cNvPicPr/>
          <p:nvPr/>
        </p:nvPicPr>
        <p:blipFill>
          <a:blip r:embed="rId1"/>
          <a:stretch/>
        </p:blipFill>
        <p:spPr>
          <a:xfrm>
            <a:off x="468360" y="3213000"/>
            <a:ext cx="2303280" cy="2808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p1040707-1.png"/>
          <p:cNvPicPr/>
          <p:nvPr/>
        </p:nvPicPr>
        <p:blipFill>
          <a:blip r:embed="rId2"/>
          <a:stretch/>
        </p:blipFill>
        <p:spPr>
          <a:xfrm>
            <a:off x="6300720" y="3141720"/>
            <a:ext cx="2183040" cy="28796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3780000" y="350028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укуру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5T17:38:21Z</dcterms:created>
  <dc:creator>Admin</dc:creator>
  <dc:description/>
  <dc:language>en-US</dc:language>
  <cp:lastModifiedBy>Admin</cp:lastModifiedBy>
  <dcterms:modified xsi:type="dcterms:W3CDTF">2018-11-15T19:24:54Z</dcterms:modified>
  <cp:revision>14</cp:revision>
  <dc:subject/>
  <dc:title>Внешнее строение листьев</dc:title>
</cp:coreProperties>
</file>