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9B1-AF4B-418A-AB20-4BD26232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9F6-E0DE-44CF-8750-0BF5191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388-4A42-4878-807F-C3A49D9C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72D-D5C7-4A25-A543-53EC0BB0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2455-7974-4408-BED5-E6F43489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7804-F9C6-42EA-BF50-3075095E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EF3E-34F3-4E09-8159-DB2BB5F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8E1-0CAF-4881-A0FE-6963BAA4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6153-809C-463F-806E-AFB34F4D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A3DC-6025-4530-A127-1F39BAA4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B7A5-092B-4465-945A-61914B8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E61-48CA-40DB-8493-49F1614A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E89B-B50C-47EA-814E-D31C0A5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314B-B98A-4C99-A078-D2D06461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A54D-F6C3-4992-AF52-4726A04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9BD9-7D83-436A-967B-0C2A297B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19EA-8ABD-45B9-B7EE-F5C09497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6379-8CD8-4594-BBB9-9C7FE21D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6AC5-4A36-4969-919B-FF04E3B5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DC06-29A3-4DC6-AC35-5EE6E7C1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3B20-1C63-495E-8371-F34D9ECD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E9B9-A69C-4859-93CF-54B3323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6CB-4D3B-4973-895A-A136E52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4504-FC73-4F5F-861C-E4309760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6222-8110-4068-9FBB-9957CAE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AD17-6641-4BD0-B10B-459DF6D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D60D-D5D1-48F7-8CB5-8D8D79B9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E59B-3399-4C2F-9B08-45BACEB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26EC-2231-4A00-80CE-3C42E6B1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CFCB-0384-45AA-B941-E0F51C6D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653E-71EA-424B-944E-F5C7A702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F6C1-01D7-410A-B9A5-5C0B06E8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EB7C-1D26-4AD1-A927-77F2A789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8F5-2DAC-4456-A118-6CE2892B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BFE9-6785-4C05-8C00-26D2E44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67FF-CE75-49C3-9652-C324149E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9D41-F7C2-42EF-83F4-620696A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F878-D8F7-4244-B1BF-05C635C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279E-E8B3-4787-A51E-34B78419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A8FE-F42C-44C9-B218-0CCA920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12D1-E6EF-4DC1-91DD-3F6A252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8482-C7A7-4EDF-92F7-48F0BF78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910E-E075-4D93-8031-F282AFA4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8298-9F05-498E-9614-787A7149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124-92C3-4865-9D66-7B2D0F1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4352-A70B-4788-9E39-7441F201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58F8D-ACAE-421D-A917-AF2875AF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B052-ADC4-4F63-8F75-9BDB712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B5FC-74A8-4A7F-B506-F3565A3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848C-000A-46B9-9453-F0938D7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50CD-69C2-46BF-B192-6A21BEFC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2648-5B5E-4C1A-92F4-3347255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8ABA8-4BDF-42CF-9800-7246E74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A31D-A9D4-45AD-917F-A5A0287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CE86F-AE1E-4BA7-97C4-92DFDEB8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CEA-8D49-45F9-B022-35FFE5DF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8977-1E39-4875-B17B-C991DC85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BCE31-2430-4FBF-AF7E-0E2E2708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C728-0E72-4DD4-98DB-39880D9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0BB4-B5B1-40CB-9452-39C83D97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FB86-CCB5-4A5D-91B0-0444721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8AEA-21C1-4A7F-B728-77546209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50387-7E41-421B-8F26-0118F102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2CB5-3E3A-419E-97BD-2C856FD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62B48-07EA-4630-B913-4443966E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EF9C-D66A-45DC-AEA4-89A2D7C5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AC4-55CF-4581-81BD-59A40A2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65B7-D338-4D19-B459-D0F16DA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9B3B-F93C-4747-8F8A-9025EC47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5FFD-370A-4B6F-97EA-AC73470C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BFB-EAD2-4077-A749-0419490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7F1-A506-4404-854E-FCA329C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AEBC-0908-40AA-B21B-611F6E37430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2B19-F854-4E95-9F98-6C8C2D056A5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030-0375-4640-8B2B-C30C2638AAF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59D4-5AA2-4A75-8ED1-344AA77373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F04C-1523-4CE7-9584-7296C34B1B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8597-1FE1-42E9-A8EA-B7125535CB0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1201-78AC-4827-8F33-14CCAB3B87A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8038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  <a:ea typeface="Times New Roman"/>
              </a:rPr>
              <a:t>Послание В.В. Путина Министерству промышленности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Для обеспечения поставок в Европу нефти и газа на территории России уложено более 100 млн. тонн стальных труб большого диаметра, составляющих основу уникальной трубопроводной системы. Большая часть этих труб эксплуатируется с 70-х годов прошлого века, когда в Европе и в Японии закупалось по 2-3 млн. тонн труб большого диаметра. Срок эксплуатации этих труб составляет 30 лет и уже заканчиваетс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Нам предстоит заменить эти трубы в тех же масштабах. Именно сегодня Россия имеет шанс исправить парадоксальную ситуацию, когда крупнейший в мире потребитель труб большого диаметра и одновременно один из мировых лидеров в производстве стали не имеет современного трубного производств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озникла необходимость в строительстве завода по производству труб большого диаметр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де нам удобнее и выгоднее его построить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Дата 3"/>
          <p:cNvSpPr/>
          <p:nvPr/>
        </p:nvSpPr>
        <p:spPr>
          <a:xfrm rot="21304800">
            <a:off x="9890280" y="9214920"/>
            <a:ext cx="9507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Нижний колонтитул 5"/>
          <p:cNvSpPr/>
          <p:nvPr/>
        </p:nvSpPr>
        <p:spPr>
          <a:xfrm flipH="1" flipV="1">
            <a:off x="11734920" y="8228880"/>
            <a:ext cx="380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4"/>
          <p:cNvSpPr/>
          <p:nvPr/>
        </p:nvSpPr>
        <p:spPr>
          <a:xfrm flipH="1">
            <a:off x="8686800" y="6243480"/>
            <a:ext cx="4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AE64-072F-41D9-AF07-921FA812DAD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380880"/>
            <a:ext cx="780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ипы и центры предприятий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0" y="914400"/>
          <a:ext cx="9144000" cy="5808600"/>
        </p:xfrm>
        <a:graphic>
          <a:graphicData uri="http://schemas.openxmlformats.org/drawingml/2006/table">
            <a:tbl>
              <a:tblPr/>
              <a:tblGrid>
                <a:gridCol w="3098880"/>
                <a:gridCol w="3022560"/>
                <a:gridCol w="302256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редприят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 особ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 разме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Заводы полного цик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мбинаты (чугун –сталь-прок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ырье и топливо приходится 85-90% всех затрат, из них 50% -на кокс, 35-40% -на железную ру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близи месторождений железной р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 источников топл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Между районами добычи сырья и топлива (на грузопото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овец, Липецк,  Сер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Тагил, Магнитогорск, Новотроицк, Новокузнец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узнецкий комбинат и Западно-Сибирский зав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еплавильные и сталепрокатные заводы (</a:t>
                      </a:r>
                      <a:r>
                        <a:rPr b="1" lang="ru-RU" sz="14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передельная металлург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 источников вторичного сырья в крупных машиностроительных центрах (на отходах машиностроительных заводов и металлическом ло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 потреб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, Электросталь, Нижний Новгород, Красный Сулин, Таганрог, 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сомольск –на-Ам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Малая металлур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аль-прок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источников вторичного сы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йные цеха крупных машиностроительных зав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Электрометаллу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Е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Оск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имнастика для глаз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6172200" y="5048280"/>
            <a:ext cx="2438280" cy="16574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228600" y="123840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Упражнения для тренировки зрен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1. Движение глазами вправо и влево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2. Движение глазами вверх и вниз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3. Вращение глаз по часовой стрелке и против часовой стрел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4. Фиксация взгляда на кончике но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5. Моргание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Calibri"/>
                <a:ea typeface="Times New Roman"/>
              </a:rPr>
              <a:t>6. Закрыть глаза, расслабить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Аллатем автсдовзиорп ялд ысрусер еынвилпот или еындур еищбо хищюузьлопси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йитяирпдерп хиксечигруллатем аппург - азаб яаксечигруллатем». </a:t>
            </a:r>
            <a:br>
              <a:rPr sz="6000"/>
            </a:b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Металлургические базы Росси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тлас:  стр. 13, карта «Чёрная и цветная металлург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ы: 1. Как на карте обозначаются металлургические баз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колько их? Как они называютс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Какая база считается главной  по производству черной металлург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4648320" y="4648320"/>
            <a:ext cx="391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Металлургические базы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8600" y="1143000"/>
          <a:ext cx="8686800" cy="5462640"/>
        </p:xfrm>
        <a:graphic>
          <a:graphicData uri="http://schemas.openxmlformats.org/drawingml/2006/table">
            <a:tbl>
              <a:tblPr/>
              <a:tblGrid>
                <a:gridCol w="1600200"/>
                <a:gridCol w="2514600"/>
                <a:gridCol w="1600200"/>
                <a:gridCol w="2971800"/>
              </a:tblGrid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ба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ь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ные цен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А ,руды Кольского полуост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басс, Печерский бассейн Кузбас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овец, Липецк, Старый Оскол, Тула Электросталь, 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 месторождения, КМА, из Казахст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би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штагол, Темирта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шунов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ьневост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ёж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Дата 4"/>
          <p:cNvSpPr/>
          <p:nvPr/>
        </p:nvSpPr>
        <p:spPr>
          <a:xfrm flipH="1" rot="16200000">
            <a:off x="1266480" y="9400320"/>
            <a:ext cx="273240" cy="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Нижний колонтитул 6"/>
          <p:cNvSpPr/>
          <p:nvPr/>
        </p:nvSpPr>
        <p:spPr>
          <a:xfrm flipH="1" flipV="1">
            <a:off x="9371880" y="8077320"/>
            <a:ext cx="152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Номер слайда 5"/>
          <p:cNvSpPr/>
          <p:nvPr/>
        </p:nvSpPr>
        <p:spPr>
          <a:xfrm>
            <a:off x="8458200" y="64771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588E-5C95-49BA-9F77-F722DE57742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14600" y="10439280"/>
          <a:ext cx="1714680" cy="12798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33732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Прямоугольник 7"/>
          <p:cNvSpPr/>
          <p:nvPr/>
        </p:nvSpPr>
        <p:spPr>
          <a:xfrm>
            <a:off x="5029200" y="0"/>
            <a:ext cx="4114800" cy="533520"/>
          </a:xfrm>
          <a:prstGeom prst="rect">
            <a:avLst/>
          </a:prstGeom>
          <a:solidFill>
            <a:srgbClr val="00206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та с атласом, стр.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таллургические ба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419120"/>
          <a:ext cx="8458200" cy="533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286000"/>
              </a:tblGrid>
              <a:tr h="708840"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б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ь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ные 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А, руды Кольского полуостр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басс, Печерский бассейн Кузбас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овец, Липецк, Старый Оскол, Тула Электросталь, 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 месторождения, КМА, из Казахст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басс, из Казахст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итогорск, Новотроицк, Нижний Таги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ябинск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би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штагол, Темирта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шуно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б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кузнец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ярск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ьневост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ё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о- Якутский Чульм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сомольск –на - Ам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Дата 3"/>
          <p:cNvSpPr/>
          <p:nvPr/>
        </p:nvSpPr>
        <p:spPr>
          <a:xfrm flipV="1">
            <a:off x="0" y="7543800"/>
            <a:ext cx="46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Нижний колонтитул 5"/>
          <p:cNvSpPr/>
          <p:nvPr/>
        </p:nvSpPr>
        <p:spPr>
          <a:xfrm>
            <a:off x="3124080" y="739152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841D-959F-49CD-8CFB-970FA67582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акторы размещен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Дата 6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CE92-9728-419C-BC23-3C605A8919E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Нижний колонтитул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A83-6653-4E55-B12B-8A86217BCD8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93">
            <a:hlinkClick r:id="rId1" action="ppaction://hlinksldjump"/>
          </p:cNvPr>
          <p:cNvSpPr/>
          <p:nvPr/>
        </p:nvSpPr>
        <p:spPr>
          <a:xfrm>
            <a:off x="8028000" y="6676920"/>
            <a:ext cx="504720" cy="189000"/>
          </a:xfrm>
          <a:custGeom>
            <a:avLst/>
            <a:gdLst>
              <a:gd name="textAreaLeft" fmla="*/ 12240 w 504720"/>
              <a:gd name="textAreaRight" fmla="*/ 492480 w 504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57614" h="21600">
                <a:moveTo>
                  <a:pt x="0" y="0"/>
                </a:moveTo>
                <a:lnTo>
                  <a:pt x="57614" y="0"/>
                </a:lnTo>
                <a:lnTo>
                  <a:pt x="57614" y="21600"/>
                </a:lnTo>
                <a:lnTo>
                  <a:pt x="0" y="21600"/>
                </a:lnTo>
                <a:close/>
              </a:path>
              <a:path fill="lightenLess" w="57614" h="21600">
                <a:moveTo>
                  <a:pt x="0" y="0"/>
                </a:moveTo>
                <a:lnTo>
                  <a:pt x="57614" y="0"/>
                </a:lnTo>
                <a:lnTo>
                  <a:pt x="56214" y="1400"/>
                </a:lnTo>
                <a:lnTo>
                  <a:pt x="1400" y="1400"/>
                </a:lnTo>
                <a:close/>
              </a:path>
              <a:path fill="darken" w="57614" h="21600">
                <a:moveTo>
                  <a:pt x="57614" y="0"/>
                </a:moveTo>
                <a:lnTo>
                  <a:pt x="57614" y="21600"/>
                </a:lnTo>
                <a:lnTo>
                  <a:pt x="56214" y="20200"/>
                </a:lnTo>
                <a:lnTo>
                  <a:pt x="56214" y="1400"/>
                </a:lnTo>
                <a:close/>
              </a:path>
              <a:path fill="darkenLess" w="57614" h="21600">
                <a:moveTo>
                  <a:pt x="57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14" y="20200"/>
                </a:lnTo>
                <a:close/>
              </a:path>
              <a:path fill="lighten" w="57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14" h="21600">
                <a:moveTo>
                  <a:pt x="28807" y="3837"/>
                </a:moveTo>
                <a:lnTo>
                  <a:pt x="31383" y="6448"/>
                </a:lnTo>
                <a:lnTo>
                  <a:pt x="31383" y="4707"/>
                </a:lnTo>
                <a:lnTo>
                  <a:pt x="33159" y="4707"/>
                </a:lnTo>
                <a:lnTo>
                  <a:pt x="33159" y="8224"/>
                </a:lnTo>
                <a:lnTo>
                  <a:pt x="35770" y="10800"/>
                </a:lnTo>
                <a:lnTo>
                  <a:pt x="34116" y="10800"/>
                </a:lnTo>
                <a:lnTo>
                  <a:pt x="34116" y="17989"/>
                </a:lnTo>
                <a:lnTo>
                  <a:pt x="23498" y="17989"/>
                </a:lnTo>
                <a:lnTo>
                  <a:pt x="23498" y="10800"/>
                </a:lnTo>
                <a:lnTo>
                  <a:pt x="21844" y="10800"/>
                </a:lnTo>
                <a:close/>
              </a:path>
              <a:path fill="darkenLess" w="57614" h="21600">
                <a:moveTo>
                  <a:pt x="31383" y="6448"/>
                </a:moveTo>
                <a:lnTo>
                  <a:pt x="31383" y="4707"/>
                </a:lnTo>
                <a:lnTo>
                  <a:pt x="33159" y="4707"/>
                </a:lnTo>
                <a:lnTo>
                  <a:pt x="33159" y="8224"/>
                </a:lnTo>
                <a:close/>
              </a:path>
              <a:path fill="darkenLess" w="57614" h="21600">
                <a:moveTo>
                  <a:pt x="27884" y="14299"/>
                </a:moveTo>
                <a:lnTo>
                  <a:pt x="29729" y="14299"/>
                </a:lnTo>
                <a:lnTo>
                  <a:pt x="29729" y="17989"/>
                </a:lnTo>
                <a:lnTo>
                  <a:pt x="34116" y="17989"/>
                </a:lnTo>
                <a:lnTo>
                  <a:pt x="34116" y="10800"/>
                </a:lnTo>
                <a:lnTo>
                  <a:pt x="23498" y="10800"/>
                </a:lnTo>
                <a:lnTo>
                  <a:pt x="23498" y="17989"/>
                </a:lnTo>
                <a:lnTo>
                  <a:pt x="27884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119"/>
          <p:cNvSpPr/>
          <p:nvPr/>
        </p:nvSpPr>
        <p:spPr>
          <a:xfrm>
            <a:off x="287280" y="1492560"/>
            <a:ext cx="718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размещение металлургических предприятий влияю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ырьев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оплив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требитель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анспорт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кологический факто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20"/>
          <p:cNvSpPr/>
          <p:nvPr/>
        </p:nvSpPr>
        <p:spPr>
          <a:xfrm>
            <a:off x="1116000" y="3945240"/>
            <a:ext cx="76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аллургический завод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водоемкое предприятие, поэтому строится у крупной реки, озера или пруда.  Металлургический завод не может работать без железной дороги, так как потоки сырья, топлива очень огромны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аллургия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грязная» отрасль, поэтому нельзя строить несколько металлургических заводов в одном городе. Нельзя превышать «экологический потолок», это пагубно отразится на здоровье насе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Рисунок 9" descr="abengo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рспективы развит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4" name="Picture 8" descr="Рисунок1"/>
          <p:cNvPicPr/>
          <p:nvPr/>
        </p:nvPicPr>
        <p:blipFill>
          <a:blip r:embed="rId1"/>
          <a:stretch/>
        </p:blipFill>
        <p:spPr>
          <a:xfrm>
            <a:off x="285840" y="1714680"/>
            <a:ext cx="8229600" cy="423216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5"/>
          <p:cNvSpPr/>
          <p:nvPr/>
        </p:nvSpPr>
        <p:spPr>
          <a:xfrm flipH="1">
            <a:off x="2849400" y="7467480"/>
            <a:ext cx="187488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FA3-F3FE-4D9F-BD38-C67432B9CB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реп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дготовка к ОГ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флекс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Какие знания я получи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Смогу ли я объяснить эту тему другу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Доволен ли я своей работой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  <a:ea typeface="Times New Roman"/>
              </a:rPr>
              <a:t>В состав какого комплекса будет входить завод по производству труб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971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мико-лесного комплек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таллургиче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шиностроительн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80880" y="1447920"/>
            <a:ext cx="8382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 читать, ответить устно на вопросы после параграф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лану составить характеристику одной из металлургических баз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49528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Черная металлургия</a:t>
            </a:r>
            <a:br>
              <a:rPr sz="32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составил: Долгова В.М.2017 г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4952880" cy="2727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895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 чугуна и стали изготавливают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56392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6248520" y="12952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3352680" y="4038480"/>
            <a:ext cx="1600200" cy="2381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6"/>
          <a:stretch/>
        </p:blipFill>
        <p:spPr>
          <a:xfrm>
            <a:off x="4419720" y="2819520"/>
            <a:ext cx="2895480" cy="2065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7"/>
          <a:stretch/>
        </p:blipFill>
        <p:spPr>
          <a:xfrm>
            <a:off x="5943600" y="4419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23232"/>
                </a:solidFill>
                <a:latin typeface="Verdana"/>
              </a:rPr>
              <a:t>«Факторы размещения предприятий металлургического комплекса. Черная металлургия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хнологическая цепочк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2506-B5E4-4030-B05C-7A6BC81EA2E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 flipV="1" rot="21438600">
            <a:off x="4038120" y="7256160"/>
            <a:ext cx="992160" cy="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D772-382A-48A0-91F3-DF3A9583CD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9" name="Прямая со стрелкой 7"/>
          <p:cNvCxnSpPr/>
          <p:nvPr/>
        </p:nvCxnSpPr>
        <p:spPr>
          <a:xfrm>
            <a:off x="3657600" y="1980720"/>
            <a:ext cx="457920" cy="2520"/>
          </a:xfrm>
          <a:prstGeom prst="straightConnector1">
            <a:avLst/>
          </a:prstGeom>
          <a:ln w="38160">
            <a:solidFill>
              <a:srgbClr val="1317cf"/>
            </a:solidFill>
            <a:miter/>
            <a:tailEnd len="med" type="arrow" w="med"/>
          </a:ln>
        </p:spPr>
      </p:cxnSp>
      <p:sp>
        <p:nvSpPr>
          <p:cNvPr id="290" name="Прямоугольник 10"/>
          <p:cNvSpPr/>
          <p:nvPr/>
        </p:nvSpPr>
        <p:spPr>
          <a:xfrm>
            <a:off x="642960" y="1523880"/>
            <a:ext cx="29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быча железной ру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Прямая со стрелкой 13"/>
          <p:cNvCxnSpPr/>
          <p:nvPr/>
        </p:nvCxnSpPr>
        <p:spPr>
          <a:xfrm>
            <a:off x="856800" y="3357720"/>
            <a:ext cx="429480" cy="2160"/>
          </a:xfrm>
          <a:prstGeom prst="straightConnector1">
            <a:avLst/>
          </a:prstGeom>
          <a:ln w="38160">
            <a:solidFill>
              <a:srgbClr val="1317cf"/>
            </a:solidFill>
            <a:miter/>
            <a:tailEnd len="med" type="arrow" w="med"/>
          </a:ln>
        </p:spPr>
      </p:cxnSp>
      <p:cxnSp>
        <p:nvCxnSpPr>
          <p:cNvPr id="292" name="Прямая со стрелкой 14"/>
          <p:cNvCxnSpPr/>
          <p:nvPr/>
        </p:nvCxnSpPr>
        <p:spPr>
          <a:xfrm flipV="1">
            <a:off x="4419360" y="2742480"/>
            <a:ext cx="533880" cy="1080"/>
          </a:xfrm>
          <a:prstGeom prst="straightConnector1">
            <a:avLst/>
          </a:prstGeom>
          <a:ln w="38160">
            <a:solidFill>
              <a:srgbClr val="1317cf"/>
            </a:solidFill>
            <a:miter/>
            <a:tailEnd len="med" type="arrow" w="med"/>
          </a:ln>
        </p:spPr>
      </p:cxnSp>
      <p:cxnSp>
        <p:nvCxnSpPr>
          <p:cNvPr id="293" name="Прямая со стрелкой 15"/>
          <p:cNvCxnSpPr/>
          <p:nvPr/>
        </p:nvCxnSpPr>
        <p:spPr>
          <a:xfrm>
            <a:off x="213840" y="2571840"/>
            <a:ext cx="429480" cy="2160"/>
          </a:xfrm>
          <a:prstGeom prst="straightConnector1">
            <a:avLst/>
          </a:prstGeom>
          <a:ln w="38160">
            <a:solidFill>
              <a:srgbClr val="1317cf"/>
            </a:solidFill>
            <a:miter/>
            <a:tailEnd len="med" type="arrow" w="med"/>
          </a:ln>
        </p:spPr>
      </p:cxnSp>
      <p:cxnSp>
        <p:nvCxnSpPr>
          <p:cNvPr id="294" name="Прямая со стрелкой 16"/>
          <p:cNvCxnSpPr/>
          <p:nvPr/>
        </p:nvCxnSpPr>
        <p:spPr>
          <a:xfrm>
            <a:off x="8000640" y="1999800"/>
            <a:ext cx="429480" cy="2520"/>
          </a:xfrm>
          <a:prstGeom prst="straightConnector1">
            <a:avLst/>
          </a:prstGeom>
          <a:ln w="38160">
            <a:solidFill>
              <a:srgbClr val="1317cf"/>
            </a:solidFill>
            <a:miter/>
            <a:tailEnd len="med" type="arrow" w="med"/>
          </a:ln>
        </p:spPr>
      </p:cxnSp>
      <p:sp>
        <p:nvSpPr>
          <p:cNvPr id="295" name="Прямоугольник 17"/>
          <p:cNvSpPr/>
          <p:nvPr/>
        </p:nvSpPr>
        <p:spPr>
          <a:xfrm>
            <a:off x="4191120" y="14479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огащение руды( на горно-обогатительных комбината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рямоугольник 18"/>
          <p:cNvSpPr/>
          <p:nvPr/>
        </p:nvSpPr>
        <p:spPr>
          <a:xfrm>
            <a:off x="714240" y="2286000"/>
            <a:ext cx="34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лавк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угуна( в доменных печа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Прямоугольник 19"/>
          <p:cNvSpPr/>
          <p:nvPr/>
        </p:nvSpPr>
        <p:spPr>
          <a:xfrm>
            <a:off x="5181480" y="25002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лавка ст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в сталеплави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ча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1371600" y="3048120"/>
            <a:ext cx="367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изводство проката(листы, рельсы, уголки, трубы, и т.д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21" descr="0_45716_d9778792_XL.jpg"/>
          <p:cNvPicPr/>
          <p:nvPr/>
        </p:nvPicPr>
        <p:blipFill>
          <a:blip r:embed="rId1"/>
          <a:stretch/>
        </p:blipFill>
        <p:spPr>
          <a:xfrm>
            <a:off x="0" y="4097160"/>
            <a:ext cx="4143240" cy="27608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22" descr="mastera.jpg"/>
          <p:cNvPicPr/>
          <p:nvPr/>
        </p:nvPicPr>
        <p:blipFill>
          <a:blip r:embed="rId2"/>
          <a:stretch/>
        </p:blipFill>
        <p:spPr>
          <a:xfrm>
            <a:off x="6072120" y="3843360"/>
            <a:ext cx="3071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ерная металлурги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производство – чугуна, стали и прок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962160" cy="2417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2"/>
          <a:stretch/>
        </p:blipFill>
        <p:spPr>
          <a:xfrm>
            <a:off x="3048120" y="39625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акторы размещения предприятий металлургического комплек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523520" y="2285640"/>
            <a:ext cx="5867640" cy="426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ырье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нспорт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лизость к дешёвой электроэнер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требитель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олог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д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45DD-0EDD-4418-837F-59C6C09AA90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87B7-F500-44E4-93B5-7D5EB95EFD6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3320" y="731880"/>
            <a:ext cx="7801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ипы и центры предприят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914400"/>
          <a:ext cx="9144000" cy="6224760"/>
        </p:xfrm>
        <a:graphic>
          <a:graphicData uri="http://schemas.openxmlformats.org/drawingml/2006/table">
            <a:tbl>
              <a:tblPr/>
              <a:tblGrid>
                <a:gridCol w="3098880"/>
                <a:gridCol w="4444920"/>
                <a:gridCol w="16002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редприят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 особ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 разм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Заводы полного цикл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мбинаты (чугун –сталь-прока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ырье и топливо приходится 85-90% всех затрат, из них 50% -на кокс, 35-40% -на железную ру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близи месторождений железной ру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 источников топли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Между районами добычи сырья и топлива (на грузопото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еплавильные и сталепрокатные заводы (</a:t>
                      </a:r>
                      <a:r>
                        <a:rPr b="1" lang="ru-RU" sz="16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передельная металлург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 источников вторичного сырья в крупных машиностроительных центрах (на отходах машиностроительных заводов и металлическом лом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 потреб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91919"/>
                          </a:solidFill>
                          <a:latin typeface="Arial"/>
                        </a:rPr>
                        <a:t>Малая металлург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аль-прока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источников вторичного сыр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Электрометаллу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нерге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Text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3232"/>
                </a:solidFill>
                <a:latin typeface="Verdana"/>
              </a:rPr>
              <a:t>Определите центры металлургических заводов. </a:t>
            </a:r>
            <a:r>
              <a:rPr b="1" lang="ru-RU" sz="1600" spc="-1" strike="noStrike">
                <a:solidFill>
                  <a:srgbClr val="323232"/>
                </a:solidFill>
                <a:latin typeface="Verdana"/>
              </a:rPr>
              <a:t>Работа с атласом . Стр.13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19-10-15T09:17:01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