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68E-5F3E-4B6C-A12B-3D8B1F526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ED63-21AF-4BBD-95A9-928EBEDB6C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6DFF-B9B1-4A5C-B12B-337A0769C0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E39-1C25-4FD5-95C6-4CD8CA0C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B01-0D2D-4DDB-B758-37C25BB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28C-1704-4F7D-B4F8-25CE87C8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AB5-EBE8-47C4-90A8-1637816E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1C1-D4F4-49D9-B491-13697C1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E14-B287-4F4D-B547-6FD4138F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284-DB90-4DD2-A9E8-75E8D99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EC9-B5F2-4551-A965-3AB2BF2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760-A0B5-4216-A294-AB5492CA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515-3C13-42E6-8A96-6254CAD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32B-2DF5-44E2-9087-2795694E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327-4D81-46A2-8669-116C926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108-DE0A-4007-A30C-15FF9AE1F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6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10_&#1072;&#1074;&#1075;&#1091;&#1089;&#1090;&#1072;" TargetMode="External"/><Relationship Id="rId3" Type="http://schemas.openxmlformats.org/officeDocument/2006/relationships/hyperlink" Target="http://ru.wikipedia.org/wiki/1859" TargetMode="External"/><Relationship Id="rId4" Type="http://schemas.openxmlformats.org/officeDocument/2006/relationships/hyperlink" Target="http://ru.wikipedia.org/wiki/13_&#1080;&#1102;&#1083;&#1103;" TargetMode="External"/><Relationship Id="rId5" Type="http://schemas.openxmlformats.org/officeDocument/2006/relationships/hyperlink" Target="http://ru.wikipedia.org/wiki/1942" TargetMode="External"/><Relationship Id="rId6" Type="http://schemas.openxmlformats.org/officeDocument/2006/relationships/hyperlink" Target="http://ru.wikipedia.org/wiki/&#1040;&#1074;&#1089;&#1090;&#1088;&#1080;&#1103;" TargetMode="External"/><Relationship Id="rId7" Type="http://schemas.openxmlformats.org/officeDocument/2006/relationships/hyperlink" Target="http://ru.wikipedia.org/wiki/&#1052;&#1072;&#1090;&#1077;&#1084;&#1072;&#1090;&#1080;&#1082;" TargetMode="External"/><Relationship Id="rId8" Type="http://schemas.openxmlformats.org/officeDocument/2006/relationships/hyperlink" Target="http://ru.wikipedia.org/wiki/&#1042;&#1077;&#1085;&#1089;&#1082;&#1080;&#1081;_&#1091;&#1085;&#1080;&#1074;&#1077;&#1088;&#1089;&#1080;&#1090;&#1077;&#1090;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school06-17.gif"/>
          <p:cNvPicPr/>
          <p:nvPr/>
        </p:nvPicPr>
        <p:blipFill>
          <a:blip r:embed="rId2"/>
          <a:stretch/>
        </p:blipFill>
        <p:spPr>
          <a:xfrm>
            <a:off x="395280" y="476280"/>
            <a:ext cx="1374840" cy="1854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1979640" y="271476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Формула Пика. Геометрия на клетчатой бумаге в заданиях О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050920" y="754200"/>
            <a:ext cx="65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средняя общеобразовательная школа с. Элегест им. Бавун-оола У.А. Чеди-Хольского кожу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95640" y="20718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ий проект -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050920" y="4286160"/>
            <a:ext cx="633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гак Айда-Сай ученица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 Оюн Омак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09 0.10638 C 0.10486 0.19056 0.12778 0.25046 0.1507 0.25046 C 0.17379 0.25046 0.19375 0.19056 0.2007 0.10638 C 0.21059 0.19056 0.22986 0.25046 0.25348 0.25046 C 0.27639 0.25046 0.2967 0.19056 0.30278 0.10638 C 0.31268 0.19056 0.33282 0.25046 0.35573 0.25046 C 0.37934 0.25046 0.40243 0.19056 0.40851 0.10638 C 0.41563 0.19056 0.43559 0.25046 0.46216 0.25046 C 0.48143 0.25046 0.50452 0.19056 0.51129 0.10638 C 0.51806 0.19056 0.54115 0.25046 0.56424 0.25046 C 0.58698 0.25046 0.60712 0.19056 0.61407 0.10638 C 0.62396 0.19056 0.64341 0.25046 0.66702 0.25046 C 0.68993 0.25046 0.71007 0.19056 0.71997 0.10638 C 0.72604 0.19056 0.74636 0.25046 0.76927 0.25046 C 0.79288 0.25046 0.8158 0.19056 0.82205 0.10638 C 0.829 0.19056 0.84896 0.25046 0.87535 0.25046 C 0.89844 0.25046 0.91788 0.19056 0.925 0.10638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Исследование площадей многоугольников, изображенных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на клетчатой бум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1571400"/>
            <a:ext cx="8115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 клетчатой бумаге с клетками размером 1 см х 1 см изображен треугольник. Найдите его площадь в квадратных сантиме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формуле геометрии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/2ah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/2*6*5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формуле 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Г/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=12     В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0+12/2-1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86880" y="62866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5" descr=""/>
          <p:cNvPicPr/>
          <p:nvPr/>
        </p:nvPicPr>
        <p:blipFill>
          <a:blip r:embed="rId1"/>
          <a:srcRect l="0" t="0" r="6110" b="11583"/>
          <a:stretch/>
        </p:blipFill>
        <p:spPr>
          <a:xfrm>
            <a:off x="428760" y="2857680"/>
            <a:ext cx="3195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На клетчатой бумаге с клетками размером 1 см х 1 см изображен 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Найдите его площадь в квадратных сантиметра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4880" y="6286680"/>
            <a:ext cx="109800" cy="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rcRect l="7844" t="14446" r="5410" b="8361"/>
          <a:stretch/>
        </p:blipFill>
        <p:spPr>
          <a:xfrm>
            <a:off x="214200" y="3071880"/>
            <a:ext cx="271476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214200" y="1928880"/>
          <a:ext cx="8715600" cy="4643280"/>
        </p:xfrm>
        <a:graphic>
          <a:graphicData uri="http://schemas.openxmlformats.org/drawingml/2006/table">
            <a:tbl>
              <a:tblPr/>
              <a:tblGrid>
                <a:gridCol w="3000600"/>
                <a:gridCol w="2998800"/>
                <a:gridCol w="2716200"/>
              </a:tblGrid>
              <a:tr h="486360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 формуле геомет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a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7=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2KBAK=1/244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2∙ DE∙CE = ½ ∙ 4 ∙ 4 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/2NDAN=1/233=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2∙BM ∙ CM= ½ ∙ 3∙3=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9-8-8-4,5-4,5=2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 формуле П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B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/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=18,  Г=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8 +7-1=24 см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Рисунок 39" descr=""/>
          <p:cNvPicPr/>
          <p:nvPr/>
        </p:nvPicPr>
        <p:blipFill>
          <a:blip r:embed="rId2"/>
          <a:srcRect l="7826" t="8163" r="5217" b="14286"/>
          <a:stretch/>
        </p:blipFill>
        <p:spPr>
          <a:xfrm>
            <a:off x="1357200" y="6858000"/>
            <a:ext cx="71640" cy="54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181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5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7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8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10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11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2"/>
          <a:stretch/>
        </p:blipFill>
        <p:spPr>
          <a:xfrm>
            <a:off x="0" y="0"/>
            <a:ext cx="38160" cy="18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42840" cy="34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14"/>
          <a:stretch/>
        </p:blipFill>
        <p:spPr>
          <a:xfrm>
            <a:off x="0" y="0"/>
            <a:ext cx="123840" cy="2570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47" descr=""/>
          <p:cNvPicPr/>
          <p:nvPr/>
        </p:nvPicPr>
        <p:blipFill>
          <a:blip r:embed="rId1"/>
          <a:srcRect l="4583" t="11108" r="52087" b="34446"/>
          <a:stretch/>
        </p:blipFill>
        <p:spPr>
          <a:xfrm>
            <a:off x="395280" y="1217520"/>
            <a:ext cx="3745080" cy="35719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4788000" y="4221000"/>
            <a:ext cx="345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формуле П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=4; В=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4572000" y="5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формуле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395280" y="51465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1"/>
          <p:cNvSpPr/>
          <p:nvPr/>
        </p:nvSpPr>
        <p:spPr>
          <a:xfrm>
            <a:off x="6516720" y="27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a²=7²=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2"/>
              <p:cNvSpPr txBox="1"/>
              <p:nvPr/>
            </p:nvSpPr>
            <p:spPr>
              <a:xfrm>
                <a:off x="4572000" y="1052640"/>
                <a:ext cx="19447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43"/>
              <p:cNvSpPr txBox="1"/>
              <p:nvPr/>
            </p:nvSpPr>
            <p:spPr>
              <a:xfrm>
                <a:off x="6877080" y="1125360"/>
                <a:ext cx="16574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4"/>
              <p:cNvSpPr txBox="1"/>
              <p:nvPr/>
            </p:nvSpPr>
            <p:spPr>
              <a:xfrm>
                <a:off x="4572000" y="1916280"/>
                <a:ext cx="1477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5"/>
              <p:cNvSpPr txBox="1"/>
              <p:nvPr/>
            </p:nvSpPr>
            <p:spPr>
              <a:xfrm>
                <a:off x="6588000" y="1916280"/>
                <a:ext cx="21114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7"/>
              <p:cNvSpPr txBox="1"/>
              <p:nvPr/>
            </p:nvSpPr>
            <p:spPr>
              <a:xfrm>
                <a:off x="4932360" y="270828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Text Box 48"/>
          <p:cNvSpPr/>
          <p:nvPr/>
        </p:nvSpPr>
        <p:spPr>
          <a:xfrm>
            <a:off x="4788000" y="342900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= 49-(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5+7+2+2,5+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3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9"/>
              <p:cNvSpPr txBox="1"/>
              <p:nvPr/>
            </p:nvSpPr>
            <p:spPr>
              <a:xfrm>
                <a:off x="3780000" y="5300640"/>
                <a:ext cx="3527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56" descr=""/>
          <p:cNvPicPr/>
          <p:nvPr/>
        </p:nvPicPr>
        <p:blipFill>
          <a:blip r:embed="rId1"/>
          <a:srcRect l="4378" t="11108" r="48339" b="21669"/>
          <a:stretch/>
        </p:blipFill>
        <p:spPr>
          <a:xfrm>
            <a:off x="684360" y="1844640"/>
            <a:ext cx="3687480" cy="3889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148360" y="51577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8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28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/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см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575960" y="98100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формуле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4932360" y="1341360"/>
                <a:ext cx="2516040" cy="30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Rectangle 9"/>
          <p:cNvSpPr/>
          <p:nvPr/>
        </p:nvSpPr>
        <p:spPr>
          <a:xfrm>
            <a:off x="7382160" y="4076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5295240" y="46530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формуле 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500120" y="1052280"/>
            <a:ext cx="73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Вывод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матривая задачи на нахождение площадей многоугольников, изображенных на клетчатой бумаге, по формулам геометрии и по формуле Пика и  сравнивая результаты в таблицах, я показала справедливость формулы Пика и пришла к выводу, что площадь фигуры, вычисленная по формуле Пика равна площади фигуры, вычисленной по выведенной формуле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 моя гипотеза оказалась вер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 flipV="1" rot="10800000">
            <a:off x="285840" y="4904280"/>
            <a:ext cx="80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зультаты можно использовать на уроках геометрии, при  подготовке к  ОГЭ 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3" descr="school10-01.gif"/>
          <p:cNvPicPr/>
          <p:nvPr/>
        </p:nvPicPr>
        <p:blipFill>
          <a:blip r:embed="rId1"/>
          <a:stretch/>
        </p:blipFill>
        <p:spPr>
          <a:xfrm>
            <a:off x="0" y="1052640"/>
            <a:ext cx="1908000" cy="18777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6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95280" y="713880"/>
            <a:ext cx="8291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лю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моей  работы я расширила свои  знания о решении задач на клетчатой бумаге, определила для себя классификацию исследуемых задач, убедились в их многообразии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исследования  в своем классе я провела практический эксперимент: решить задачи по нахождению площади многоугольника, изображенного на клетчатой бумаге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т различные способы вычисления площадей фигур. Формула Пика для вычисления площадей различных многоугольников с вершинами в узлах сетки позволяет быстро, рационально и правильно вычислять площади.  Эта формула экономит время при вычислениях площади фигуры. Учащиеся при вычислении площадей могут использовать любой способ. Формула Пика имеет значительную познавательную и практическую ц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302680" cy="111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28760" y="171468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я на клетчатой бумаге. Малый МЕХмат М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ковская Н. М., Рисс Е. А. Геометрия клетчатой бумаги. Формула Пика. Математика, 2009, № 17, с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открытого банка заданий по математике ФИПИ, 2015 – 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натьев Е. И. В царстве смекалки. – М.: Наука, 19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е этюды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etude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А.Л. ОГЭ: 3000 задач с ответами по математике.   М.: «Экзамен», 2015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571680" y="928800"/>
            <a:ext cx="7786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нания - это глаза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 помощью этих глаз он постиг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только видимое, но и невидим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 будь у человека хоть сто тысяч зорких глаз, без знаний он всё равно останется слепы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эта мудрость взята  из одной  басни сборника «Хитопадеш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11280" y="857160"/>
            <a:ext cx="7921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бъек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адачи на клетчатой бум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адачи на вычисление площади многоугольника на клетчатой бумаге, методы и приёмы их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етоды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е: анализ и синт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пирические: сравн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уктивный метод – получение выводов из конкретных прим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ь исследован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ить формулу Пика для вычисления площадей геометрических фигур в сравнении с формулами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туаль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ы данного исследования определяется рациональностью вычисления площади любой фигуры на клетчатой бумаге с вершинами в узлах сетк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124000" y="3429000"/>
            <a:ext cx="633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68360" y="1557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286000" y="612720"/>
            <a:ext cx="5857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остижения поставленной цели предусматривается решение следующих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необходимую литера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ть материал для исследования, выбрать главную, интересную, понятн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ть и систематизировать полученн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азличные методы и приёмы решения задач на клетчатой бум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электронную презентацию работы для представления собранного материала однокласс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фигуры, вычисленная по формуле Пика равна площади фигуры, вычисленной по формуле плани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360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14200" y="1012320"/>
            <a:ext cx="864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лощади многоугольников, вершины которых расположены в узлах сетки, можно вычислить гораздо проще: есть формула, связывающая их площадь с количеством узлов, лежащих внутри и на границе многоугольника. Это замечательная формула называется формулой П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3"/>
          <p:cNvSpPr/>
          <p:nvPr/>
        </p:nvSpPr>
        <p:spPr>
          <a:xfrm>
            <a:off x="5724360" y="3213000"/>
            <a:ext cx="2016360" cy="1656000"/>
          </a:xfrm>
          <a:prstGeom prst="plus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ула П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28760" y="1000080"/>
                <a:ext cx="550836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m>
                          <m:mr>
                            <m:e/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5029200" y="2421000"/>
          <a:ext cx="3479760" cy="3024000"/>
        </p:xfrm>
        <a:graphic>
          <a:graphicData uri="http://schemas.openxmlformats.org/drawingml/2006/table">
            <a:tbl>
              <a:tblPr/>
              <a:tblGrid>
                <a:gridCol w="695160"/>
                <a:gridCol w="696960"/>
                <a:gridCol w="695520"/>
                <a:gridCol w="696960"/>
                <a:gridCol w="695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42"/>
          <p:cNvSpPr/>
          <p:nvPr/>
        </p:nvSpPr>
        <p:spPr>
          <a:xfrm>
            <a:off x="250920" y="4365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ел – пересечение двух пря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е уз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лы на гра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3"/>
          <p:cNvGrpSpPr/>
          <p:nvPr/>
        </p:nvGrpSpPr>
        <p:grpSpPr>
          <a:xfrm>
            <a:off x="6300720" y="3573360"/>
            <a:ext cx="863640" cy="720720"/>
            <a:chOff x="6300720" y="3573360"/>
            <a:chExt cx="863640" cy="720720"/>
          </a:xfrm>
        </p:grpSpPr>
        <p:sp>
          <p:nvSpPr>
            <p:cNvPr id="65" name="Oval 62"/>
            <p:cNvSpPr/>
            <p:nvPr/>
          </p:nvSpPr>
          <p:spPr>
            <a:xfrm>
              <a:off x="6300720" y="414972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4"/>
            <p:cNvSpPr/>
            <p:nvPr/>
          </p:nvSpPr>
          <p:spPr>
            <a:xfrm>
              <a:off x="7020000" y="3573360"/>
              <a:ext cx="1443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5"/>
            <p:cNvSpPr/>
            <p:nvPr/>
          </p:nvSpPr>
          <p:spPr>
            <a:xfrm>
              <a:off x="6300720" y="3573360"/>
              <a:ext cx="1443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66"/>
            <p:cNvSpPr/>
            <p:nvPr/>
          </p:nvSpPr>
          <p:spPr>
            <a:xfrm>
              <a:off x="7020000" y="414972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5"/>
          <p:cNvGrpSpPr/>
          <p:nvPr/>
        </p:nvGrpSpPr>
        <p:grpSpPr>
          <a:xfrm>
            <a:off x="5651640" y="3573360"/>
            <a:ext cx="1512720" cy="1368360"/>
            <a:chOff x="5651640" y="3573360"/>
            <a:chExt cx="1512720" cy="1368360"/>
          </a:xfrm>
        </p:grpSpPr>
        <p:sp>
          <p:nvSpPr>
            <p:cNvPr id="70" name="Oval 67"/>
            <p:cNvSpPr/>
            <p:nvPr/>
          </p:nvSpPr>
          <p:spPr>
            <a:xfrm>
              <a:off x="5651640" y="3573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68"/>
            <p:cNvSpPr/>
            <p:nvPr/>
          </p:nvSpPr>
          <p:spPr>
            <a:xfrm>
              <a:off x="5651640" y="4149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9"/>
            <p:cNvSpPr/>
            <p:nvPr/>
          </p:nvSpPr>
          <p:spPr>
            <a:xfrm>
              <a:off x="6300720" y="4797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0"/>
            <p:cNvSpPr/>
            <p:nvPr/>
          </p:nvSpPr>
          <p:spPr>
            <a:xfrm>
              <a:off x="7020000" y="4797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74"/>
          <p:cNvGrpSpPr/>
          <p:nvPr/>
        </p:nvGrpSpPr>
        <p:grpSpPr>
          <a:xfrm>
            <a:off x="324000" y="4797360"/>
            <a:ext cx="144360" cy="432000"/>
            <a:chOff x="324000" y="4797360"/>
            <a:chExt cx="144360" cy="432000"/>
          </a:xfrm>
        </p:grpSpPr>
        <p:sp>
          <p:nvSpPr>
            <p:cNvPr id="75" name="Oval 71"/>
            <p:cNvSpPr/>
            <p:nvPr/>
          </p:nvSpPr>
          <p:spPr>
            <a:xfrm>
              <a:off x="324000" y="5084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2"/>
            <p:cNvSpPr/>
            <p:nvPr/>
          </p:nvSpPr>
          <p:spPr>
            <a:xfrm>
              <a:off x="324000" y="479736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621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1"/>
          <p:cNvSpPr/>
          <p:nvPr/>
        </p:nvSpPr>
        <p:spPr>
          <a:xfrm flipV="1">
            <a:off x="1828080" y="2666880"/>
            <a:ext cx="762120" cy="2819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6"/>
          <p:cNvSpPr/>
          <p:nvPr/>
        </p:nvSpPr>
        <p:spPr>
          <a:xfrm flipV="1">
            <a:off x="2590920" y="685440"/>
            <a:ext cx="1218960" cy="1981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8"/>
          <p:cNvSpPr/>
          <p:nvPr/>
        </p:nvSpPr>
        <p:spPr>
          <a:xfrm>
            <a:off x="3809880" y="685800"/>
            <a:ext cx="7621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0"/>
          <p:cNvSpPr/>
          <p:nvPr/>
        </p:nvSpPr>
        <p:spPr>
          <a:xfrm>
            <a:off x="4495680" y="1371600"/>
            <a:ext cx="22100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2"/>
          <p:cNvSpPr/>
          <p:nvPr/>
        </p:nvSpPr>
        <p:spPr>
          <a:xfrm>
            <a:off x="6628680" y="1371600"/>
            <a:ext cx="2057400" cy="4114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 flipV="1">
            <a:off x="1905120" y="4800240"/>
            <a:ext cx="4038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6"/>
          <p:cNvSpPr/>
          <p:nvPr/>
        </p:nvSpPr>
        <p:spPr>
          <a:xfrm>
            <a:off x="5943600" y="4800600"/>
            <a:ext cx="28195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-конечная звезда 41"/>
          <p:cNvSpPr/>
          <p:nvPr/>
        </p:nvSpPr>
        <p:spPr>
          <a:xfrm>
            <a:off x="2362320" y="25909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6-конечная звезда 42"/>
          <p:cNvSpPr/>
          <p:nvPr/>
        </p:nvSpPr>
        <p:spPr>
          <a:xfrm>
            <a:off x="1752480" y="53341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6-конечная звезда 44"/>
          <p:cNvSpPr/>
          <p:nvPr/>
        </p:nvSpPr>
        <p:spPr>
          <a:xfrm>
            <a:off x="6553080" y="12193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-конечная звезда 45"/>
          <p:cNvSpPr/>
          <p:nvPr/>
        </p:nvSpPr>
        <p:spPr>
          <a:xfrm>
            <a:off x="3733920" y="5335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-конечная звезда 51"/>
          <p:cNvSpPr/>
          <p:nvPr/>
        </p:nvSpPr>
        <p:spPr>
          <a:xfrm>
            <a:off x="5867280" y="46483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-конечная звезда 52"/>
          <p:cNvSpPr/>
          <p:nvPr/>
        </p:nvSpPr>
        <p:spPr>
          <a:xfrm>
            <a:off x="4495680" y="12193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-конечная звезда 53"/>
          <p:cNvSpPr/>
          <p:nvPr/>
        </p:nvSpPr>
        <p:spPr>
          <a:xfrm>
            <a:off x="8534520" y="5334120"/>
            <a:ext cx="228600" cy="304560"/>
          </a:xfrm>
          <a:custGeom>
            <a:avLst/>
            <a:gdLst/>
            <a:ahLst/>
            <a:rect l="l" t="t" r="r" b="b"/>
            <a:pathLst>
              <a:path w="228600" h="304800">
                <a:moveTo>
                  <a:pt x="0" y="76200"/>
                </a:moveTo>
                <a:lnTo>
                  <a:pt x="76199" y="76199"/>
                </a:lnTo>
                <a:lnTo>
                  <a:pt x="114300" y="0"/>
                </a:lnTo>
                <a:lnTo>
                  <a:pt x="152401" y="76199"/>
                </a:lnTo>
                <a:lnTo>
                  <a:pt x="228600" y="76200"/>
                </a:lnTo>
                <a:lnTo>
                  <a:pt x="190501" y="152400"/>
                </a:lnTo>
                <a:lnTo>
                  <a:pt x="228600" y="228600"/>
                </a:lnTo>
                <a:lnTo>
                  <a:pt x="152401" y="228601"/>
                </a:lnTo>
                <a:lnTo>
                  <a:pt x="114300" y="304800"/>
                </a:lnTo>
                <a:lnTo>
                  <a:pt x="76199" y="228601"/>
                </a:lnTo>
                <a:lnTo>
                  <a:pt x="0" y="228600"/>
                </a:lnTo>
                <a:lnTo>
                  <a:pt x="38099" y="152400"/>
                </a:lnTo>
                <a:lnTo>
                  <a:pt x="0" y="76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7"/>
          <p:cNvSpPr/>
          <p:nvPr/>
        </p:nvSpPr>
        <p:spPr>
          <a:xfrm flipH="1">
            <a:off x="1827360" y="1440"/>
            <a:ext cx="288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8"/>
          <p:cNvSpPr/>
          <p:nvPr/>
        </p:nvSpPr>
        <p:spPr>
          <a:xfrm flipH="1">
            <a:off x="25146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9"/>
          <p:cNvSpPr/>
          <p:nvPr/>
        </p:nvSpPr>
        <p:spPr>
          <a:xfrm flipH="1">
            <a:off x="32004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0"/>
          <p:cNvSpPr/>
          <p:nvPr/>
        </p:nvSpPr>
        <p:spPr>
          <a:xfrm flipH="1">
            <a:off x="38862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2"/>
          <p:cNvSpPr/>
          <p:nvPr/>
        </p:nvSpPr>
        <p:spPr>
          <a:xfrm flipH="1">
            <a:off x="45720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3"/>
          <p:cNvSpPr/>
          <p:nvPr/>
        </p:nvSpPr>
        <p:spPr>
          <a:xfrm flipH="1">
            <a:off x="52578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4"/>
          <p:cNvSpPr/>
          <p:nvPr/>
        </p:nvSpPr>
        <p:spPr>
          <a:xfrm flipH="1">
            <a:off x="59436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5"/>
          <p:cNvSpPr/>
          <p:nvPr/>
        </p:nvSpPr>
        <p:spPr>
          <a:xfrm flipH="1">
            <a:off x="66294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7"/>
          <p:cNvSpPr/>
          <p:nvPr/>
        </p:nvSpPr>
        <p:spPr>
          <a:xfrm flipH="1">
            <a:off x="73152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9"/>
          <p:cNvSpPr/>
          <p:nvPr/>
        </p:nvSpPr>
        <p:spPr>
          <a:xfrm flipH="1">
            <a:off x="80010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1"/>
          <p:cNvSpPr/>
          <p:nvPr/>
        </p:nvSpPr>
        <p:spPr>
          <a:xfrm flipH="1">
            <a:off x="86868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5"/>
          <p:cNvSpPr/>
          <p:nvPr/>
        </p:nvSpPr>
        <p:spPr>
          <a:xfrm>
            <a:off x="1066680" y="609480"/>
            <a:ext cx="8077320" cy="76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37"/>
          <p:cNvSpPr/>
          <p:nvPr/>
        </p:nvSpPr>
        <p:spPr>
          <a:xfrm>
            <a:off x="1066680" y="1371600"/>
            <a:ext cx="8077320" cy="76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38"/>
          <p:cNvSpPr/>
          <p:nvPr/>
        </p:nvSpPr>
        <p:spPr>
          <a:xfrm>
            <a:off x="1066680" y="20574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40"/>
          <p:cNvSpPr/>
          <p:nvPr/>
        </p:nvSpPr>
        <p:spPr>
          <a:xfrm>
            <a:off x="1066680" y="27432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43"/>
          <p:cNvSpPr/>
          <p:nvPr/>
        </p:nvSpPr>
        <p:spPr>
          <a:xfrm>
            <a:off x="1066680" y="34290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46"/>
          <p:cNvSpPr/>
          <p:nvPr/>
        </p:nvSpPr>
        <p:spPr>
          <a:xfrm>
            <a:off x="1066680" y="41148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47"/>
          <p:cNvSpPr/>
          <p:nvPr/>
        </p:nvSpPr>
        <p:spPr>
          <a:xfrm>
            <a:off x="1066680" y="48006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8"/>
          <p:cNvSpPr/>
          <p:nvPr/>
        </p:nvSpPr>
        <p:spPr>
          <a:xfrm>
            <a:off x="1066680" y="5486400"/>
            <a:ext cx="807732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9"/>
          <p:cNvSpPr/>
          <p:nvPr/>
        </p:nvSpPr>
        <p:spPr>
          <a:xfrm>
            <a:off x="1066680" y="6095880"/>
            <a:ext cx="807732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4-конечная звезда 57"/>
          <p:cNvGrpSpPr/>
          <p:nvPr/>
        </p:nvGrpSpPr>
        <p:grpSpPr>
          <a:xfrm>
            <a:off x="2157480" y="4468680"/>
            <a:ext cx="641160" cy="719280"/>
            <a:chOff x="2157480" y="4468680"/>
            <a:chExt cx="641160" cy="719280"/>
          </a:xfrm>
        </p:grpSpPr>
        <p:pic>
          <p:nvPicPr>
            <p:cNvPr id="113" name="4-конечная звезда 57" descr=""/>
            <p:cNvPicPr/>
            <p:nvPr/>
          </p:nvPicPr>
          <p:blipFill>
            <a:blip r:embed="rId1"/>
            <a:stretch/>
          </p:blipFill>
          <p:spPr>
            <a:xfrm>
              <a:off x="2157480" y="4468680"/>
              <a:ext cx="641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42892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4-конечная звезда 58"/>
          <p:cNvGrpSpPr/>
          <p:nvPr/>
        </p:nvGrpSpPr>
        <p:grpSpPr>
          <a:xfrm>
            <a:off x="2840040" y="4468680"/>
            <a:ext cx="646200" cy="719280"/>
            <a:chOff x="2840040" y="4468680"/>
            <a:chExt cx="646200" cy="719280"/>
          </a:xfrm>
        </p:grpSpPr>
        <p:pic>
          <p:nvPicPr>
            <p:cNvPr id="116" name="4-конечная звезда 58" descr=""/>
            <p:cNvPicPr/>
            <p:nvPr/>
          </p:nvPicPr>
          <p:blipFill>
            <a:blip r:embed="rId2"/>
            <a:stretch/>
          </p:blipFill>
          <p:spPr>
            <a:xfrm>
              <a:off x="2840040" y="44686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1472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4-конечная звезда 59"/>
          <p:cNvGrpSpPr/>
          <p:nvPr/>
        </p:nvGrpSpPr>
        <p:grpSpPr>
          <a:xfrm>
            <a:off x="3602160" y="4468680"/>
            <a:ext cx="645840" cy="719280"/>
            <a:chOff x="3602160" y="4468680"/>
            <a:chExt cx="645840" cy="719280"/>
          </a:xfrm>
        </p:grpSpPr>
        <p:pic>
          <p:nvPicPr>
            <p:cNvPr id="119" name="4-конечная звезда 59" descr=""/>
            <p:cNvPicPr/>
            <p:nvPr/>
          </p:nvPicPr>
          <p:blipFill>
            <a:blip r:embed="rId3"/>
            <a:stretch/>
          </p:blipFill>
          <p:spPr>
            <a:xfrm>
              <a:off x="3602160" y="44686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87684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4-конечная звезда 60"/>
          <p:cNvGrpSpPr/>
          <p:nvPr/>
        </p:nvGrpSpPr>
        <p:grpSpPr>
          <a:xfrm>
            <a:off x="4211640" y="4468680"/>
            <a:ext cx="646200" cy="719280"/>
            <a:chOff x="4211640" y="4468680"/>
            <a:chExt cx="646200" cy="719280"/>
          </a:xfrm>
        </p:grpSpPr>
        <p:pic>
          <p:nvPicPr>
            <p:cNvPr id="122" name="4-конечная звезда 60" descr=""/>
            <p:cNvPicPr/>
            <p:nvPr/>
          </p:nvPicPr>
          <p:blipFill>
            <a:blip r:embed="rId4"/>
            <a:stretch/>
          </p:blipFill>
          <p:spPr>
            <a:xfrm>
              <a:off x="4211640" y="44686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48632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4-конечная звезда 61"/>
          <p:cNvGrpSpPr/>
          <p:nvPr/>
        </p:nvGrpSpPr>
        <p:grpSpPr>
          <a:xfrm>
            <a:off x="4973760" y="4468680"/>
            <a:ext cx="645840" cy="719280"/>
            <a:chOff x="4973760" y="4468680"/>
            <a:chExt cx="645840" cy="719280"/>
          </a:xfrm>
        </p:grpSpPr>
        <p:pic>
          <p:nvPicPr>
            <p:cNvPr id="125" name="4-конечная звезда 61" descr=""/>
            <p:cNvPicPr/>
            <p:nvPr/>
          </p:nvPicPr>
          <p:blipFill>
            <a:blip r:embed="rId5"/>
            <a:stretch/>
          </p:blipFill>
          <p:spPr>
            <a:xfrm>
              <a:off x="4973760" y="44686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24844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4-конечная звезда 62"/>
          <p:cNvGrpSpPr/>
          <p:nvPr/>
        </p:nvGrpSpPr>
        <p:grpSpPr>
          <a:xfrm>
            <a:off x="6272280" y="4468680"/>
            <a:ext cx="641160" cy="719280"/>
            <a:chOff x="6272280" y="4468680"/>
            <a:chExt cx="641160" cy="719280"/>
          </a:xfrm>
        </p:grpSpPr>
        <p:pic>
          <p:nvPicPr>
            <p:cNvPr id="128" name="4-конечная звезда 62" descr=""/>
            <p:cNvPicPr/>
            <p:nvPr/>
          </p:nvPicPr>
          <p:blipFill>
            <a:blip r:embed="rId6"/>
            <a:stretch/>
          </p:blipFill>
          <p:spPr>
            <a:xfrm>
              <a:off x="6272280" y="4468680"/>
              <a:ext cx="641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54372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4-конечная звезда 63"/>
          <p:cNvGrpSpPr/>
          <p:nvPr/>
        </p:nvGrpSpPr>
        <p:grpSpPr>
          <a:xfrm>
            <a:off x="2230560" y="3780000"/>
            <a:ext cx="645840" cy="718920"/>
            <a:chOff x="2230560" y="3780000"/>
            <a:chExt cx="645840" cy="718920"/>
          </a:xfrm>
        </p:grpSpPr>
        <p:pic>
          <p:nvPicPr>
            <p:cNvPr id="131" name="4-конечная звезда 63" descr=""/>
            <p:cNvPicPr/>
            <p:nvPr/>
          </p:nvPicPr>
          <p:blipFill>
            <a:blip r:embed="rId7"/>
            <a:stretch/>
          </p:blipFill>
          <p:spPr>
            <a:xfrm>
              <a:off x="2230560" y="3780000"/>
              <a:ext cx="645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0524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4-конечная звезда 64"/>
          <p:cNvGrpSpPr/>
          <p:nvPr/>
        </p:nvGrpSpPr>
        <p:grpSpPr>
          <a:xfrm>
            <a:off x="2230560" y="3097080"/>
            <a:ext cx="645840" cy="719280"/>
            <a:chOff x="2230560" y="3097080"/>
            <a:chExt cx="645840" cy="719280"/>
          </a:xfrm>
        </p:grpSpPr>
        <p:pic>
          <p:nvPicPr>
            <p:cNvPr id="134" name="4-конечная звезда 64" descr=""/>
            <p:cNvPicPr/>
            <p:nvPr/>
          </p:nvPicPr>
          <p:blipFill>
            <a:blip r:embed="rId8"/>
            <a:stretch/>
          </p:blipFill>
          <p:spPr>
            <a:xfrm>
              <a:off x="2230560" y="30970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0524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4-конечная звезда 65"/>
          <p:cNvGrpSpPr/>
          <p:nvPr/>
        </p:nvGrpSpPr>
        <p:grpSpPr>
          <a:xfrm>
            <a:off x="2919240" y="3780000"/>
            <a:ext cx="641520" cy="718920"/>
            <a:chOff x="2919240" y="3780000"/>
            <a:chExt cx="641520" cy="718920"/>
          </a:xfrm>
        </p:grpSpPr>
        <p:pic>
          <p:nvPicPr>
            <p:cNvPr id="137" name="4-конечная звезда 65" descr=""/>
            <p:cNvPicPr/>
            <p:nvPr/>
          </p:nvPicPr>
          <p:blipFill>
            <a:blip r:embed="rId9"/>
            <a:stretch/>
          </p:blipFill>
          <p:spPr>
            <a:xfrm>
              <a:off x="2919240" y="3780000"/>
              <a:ext cx="641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19104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4-конечная звезда 66"/>
          <p:cNvGrpSpPr/>
          <p:nvPr/>
        </p:nvGrpSpPr>
        <p:grpSpPr>
          <a:xfrm>
            <a:off x="3529080" y="3780000"/>
            <a:ext cx="641160" cy="718920"/>
            <a:chOff x="3529080" y="3780000"/>
            <a:chExt cx="641160" cy="718920"/>
          </a:xfrm>
        </p:grpSpPr>
        <p:pic>
          <p:nvPicPr>
            <p:cNvPr id="140" name="4-конечная звезда 66" descr=""/>
            <p:cNvPicPr/>
            <p:nvPr/>
          </p:nvPicPr>
          <p:blipFill>
            <a:blip r:embed="rId10"/>
            <a:stretch/>
          </p:blipFill>
          <p:spPr>
            <a:xfrm>
              <a:off x="3529080" y="3780000"/>
              <a:ext cx="64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80052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4-конечная звезда 67"/>
          <p:cNvGrpSpPr/>
          <p:nvPr/>
        </p:nvGrpSpPr>
        <p:grpSpPr>
          <a:xfrm>
            <a:off x="4211640" y="3780000"/>
            <a:ext cx="646200" cy="718920"/>
            <a:chOff x="4211640" y="3780000"/>
            <a:chExt cx="646200" cy="718920"/>
          </a:xfrm>
        </p:grpSpPr>
        <p:pic>
          <p:nvPicPr>
            <p:cNvPr id="143" name="4-конечная звезда 67" descr=""/>
            <p:cNvPicPr/>
            <p:nvPr/>
          </p:nvPicPr>
          <p:blipFill>
            <a:blip r:embed="rId11"/>
            <a:stretch/>
          </p:blipFill>
          <p:spPr>
            <a:xfrm>
              <a:off x="4211640" y="3780000"/>
              <a:ext cx="646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8632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4-конечная звезда 68"/>
          <p:cNvGrpSpPr/>
          <p:nvPr/>
        </p:nvGrpSpPr>
        <p:grpSpPr>
          <a:xfrm>
            <a:off x="4900680" y="3780000"/>
            <a:ext cx="641160" cy="718920"/>
            <a:chOff x="4900680" y="3780000"/>
            <a:chExt cx="641160" cy="718920"/>
          </a:xfrm>
        </p:grpSpPr>
        <p:pic>
          <p:nvPicPr>
            <p:cNvPr id="146" name="4-конечная звезда 68" descr=""/>
            <p:cNvPicPr/>
            <p:nvPr/>
          </p:nvPicPr>
          <p:blipFill>
            <a:blip r:embed="rId12"/>
            <a:stretch/>
          </p:blipFill>
          <p:spPr>
            <a:xfrm>
              <a:off x="4900680" y="3780000"/>
              <a:ext cx="64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7212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4-конечная звезда 69"/>
          <p:cNvGrpSpPr/>
          <p:nvPr/>
        </p:nvGrpSpPr>
        <p:grpSpPr>
          <a:xfrm>
            <a:off x="5662440" y="3780000"/>
            <a:ext cx="641520" cy="718920"/>
            <a:chOff x="5662440" y="3780000"/>
            <a:chExt cx="641520" cy="718920"/>
          </a:xfrm>
        </p:grpSpPr>
        <p:pic>
          <p:nvPicPr>
            <p:cNvPr id="149" name="4-конечная звезда 69" descr=""/>
            <p:cNvPicPr/>
            <p:nvPr/>
          </p:nvPicPr>
          <p:blipFill>
            <a:blip r:embed="rId13"/>
            <a:stretch/>
          </p:blipFill>
          <p:spPr>
            <a:xfrm>
              <a:off x="5662440" y="3780000"/>
              <a:ext cx="641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93424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4-конечная звезда 70"/>
          <p:cNvGrpSpPr/>
          <p:nvPr/>
        </p:nvGrpSpPr>
        <p:grpSpPr>
          <a:xfrm>
            <a:off x="6272280" y="3780000"/>
            <a:ext cx="641160" cy="718920"/>
            <a:chOff x="6272280" y="3780000"/>
            <a:chExt cx="641160" cy="718920"/>
          </a:xfrm>
        </p:grpSpPr>
        <p:pic>
          <p:nvPicPr>
            <p:cNvPr id="152" name="4-конечная звезда 70" descr=""/>
            <p:cNvPicPr/>
            <p:nvPr/>
          </p:nvPicPr>
          <p:blipFill>
            <a:blip r:embed="rId14"/>
            <a:stretch/>
          </p:blipFill>
          <p:spPr>
            <a:xfrm>
              <a:off x="6272280" y="3780000"/>
              <a:ext cx="64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54372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4-конечная звезда 71"/>
          <p:cNvGrpSpPr/>
          <p:nvPr/>
        </p:nvGrpSpPr>
        <p:grpSpPr>
          <a:xfrm>
            <a:off x="6954840" y="3780000"/>
            <a:ext cx="646200" cy="718920"/>
            <a:chOff x="6954840" y="3780000"/>
            <a:chExt cx="646200" cy="718920"/>
          </a:xfrm>
        </p:grpSpPr>
        <p:pic>
          <p:nvPicPr>
            <p:cNvPr id="155" name="4-конечная звезда 71" descr=""/>
            <p:cNvPicPr/>
            <p:nvPr/>
          </p:nvPicPr>
          <p:blipFill>
            <a:blip r:embed="rId15"/>
            <a:stretch/>
          </p:blipFill>
          <p:spPr>
            <a:xfrm>
              <a:off x="6954840" y="3780000"/>
              <a:ext cx="646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229520" y="40608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4-конечная звезда 72"/>
          <p:cNvGrpSpPr/>
          <p:nvPr/>
        </p:nvGrpSpPr>
        <p:grpSpPr>
          <a:xfrm>
            <a:off x="6954840" y="4468680"/>
            <a:ext cx="646200" cy="719280"/>
            <a:chOff x="6954840" y="4468680"/>
            <a:chExt cx="646200" cy="719280"/>
          </a:xfrm>
        </p:grpSpPr>
        <p:pic>
          <p:nvPicPr>
            <p:cNvPr id="158" name="4-конечная звезда 72" descr=""/>
            <p:cNvPicPr/>
            <p:nvPr/>
          </p:nvPicPr>
          <p:blipFill>
            <a:blip r:embed="rId16"/>
            <a:stretch/>
          </p:blipFill>
          <p:spPr>
            <a:xfrm>
              <a:off x="6954840" y="44686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22952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4-конечная звезда 74"/>
          <p:cNvGrpSpPr/>
          <p:nvPr/>
        </p:nvGrpSpPr>
        <p:grpSpPr>
          <a:xfrm>
            <a:off x="7716960" y="4468680"/>
            <a:ext cx="645840" cy="719280"/>
            <a:chOff x="7716960" y="4468680"/>
            <a:chExt cx="645840" cy="719280"/>
          </a:xfrm>
        </p:grpSpPr>
        <p:pic>
          <p:nvPicPr>
            <p:cNvPr id="161" name="4-конечная звезда 74" descr=""/>
            <p:cNvPicPr/>
            <p:nvPr/>
          </p:nvPicPr>
          <p:blipFill>
            <a:blip r:embed="rId17"/>
            <a:stretch/>
          </p:blipFill>
          <p:spPr>
            <a:xfrm>
              <a:off x="7716960" y="44686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991640" y="4746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4-конечная звезда 75"/>
          <p:cNvGrpSpPr/>
          <p:nvPr/>
        </p:nvGrpSpPr>
        <p:grpSpPr>
          <a:xfrm>
            <a:off x="2840040" y="3097080"/>
            <a:ext cx="646200" cy="719280"/>
            <a:chOff x="2840040" y="3097080"/>
            <a:chExt cx="646200" cy="719280"/>
          </a:xfrm>
        </p:grpSpPr>
        <p:pic>
          <p:nvPicPr>
            <p:cNvPr id="164" name="4-конечная звезда 75" descr=""/>
            <p:cNvPicPr/>
            <p:nvPr/>
          </p:nvPicPr>
          <p:blipFill>
            <a:blip r:embed="rId18"/>
            <a:stretch/>
          </p:blipFill>
          <p:spPr>
            <a:xfrm>
              <a:off x="2840040" y="30970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11472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4-конечная звезда 76"/>
          <p:cNvGrpSpPr/>
          <p:nvPr/>
        </p:nvGrpSpPr>
        <p:grpSpPr>
          <a:xfrm>
            <a:off x="3529080" y="3097080"/>
            <a:ext cx="641160" cy="719280"/>
            <a:chOff x="3529080" y="3097080"/>
            <a:chExt cx="641160" cy="719280"/>
          </a:xfrm>
        </p:grpSpPr>
        <p:pic>
          <p:nvPicPr>
            <p:cNvPr id="167" name="4-конечная звезда 76" descr=""/>
            <p:cNvPicPr/>
            <p:nvPr/>
          </p:nvPicPr>
          <p:blipFill>
            <a:blip r:embed="rId19"/>
            <a:stretch/>
          </p:blipFill>
          <p:spPr>
            <a:xfrm>
              <a:off x="3529080" y="3097080"/>
              <a:ext cx="641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80052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4-конечная звезда 77"/>
          <p:cNvGrpSpPr/>
          <p:nvPr/>
        </p:nvGrpSpPr>
        <p:grpSpPr>
          <a:xfrm>
            <a:off x="4973760" y="3097080"/>
            <a:ext cx="645840" cy="719280"/>
            <a:chOff x="4973760" y="3097080"/>
            <a:chExt cx="645840" cy="719280"/>
          </a:xfrm>
        </p:grpSpPr>
        <p:pic>
          <p:nvPicPr>
            <p:cNvPr id="170" name="4-конечная звезда 77" descr=""/>
            <p:cNvPicPr/>
            <p:nvPr/>
          </p:nvPicPr>
          <p:blipFill>
            <a:blip r:embed="rId20"/>
            <a:stretch/>
          </p:blipFill>
          <p:spPr>
            <a:xfrm>
              <a:off x="4973760" y="30970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24844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-конечная звезда 78"/>
          <p:cNvGrpSpPr/>
          <p:nvPr/>
        </p:nvGrpSpPr>
        <p:grpSpPr>
          <a:xfrm>
            <a:off x="4290840" y="3097080"/>
            <a:ext cx="641520" cy="719280"/>
            <a:chOff x="4290840" y="3097080"/>
            <a:chExt cx="641520" cy="719280"/>
          </a:xfrm>
        </p:grpSpPr>
        <p:pic>
          <p:nvPicPr>
            <p:cNvPr id="173" name="4-конечная звезда 78" descr=""/>
            <p:cNvPicPr/>
            <p:nvPr/>
          </p:nvPicPr>
          <p:blipFill>
            <a:blip r:embed="rId21"/>
            <a:stretch/>
          </p:blipFill>
          <p:spPr>
            <a:xfrm>
              <a:off x="4290840" y="3097080"/>
              <a:ext cx="64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6264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4-конечная звезда 79"/>
          <p:cNvGrpSpPr/>
          <p:nvPr/>
        </p:nvGrpSpPr>
        <p:grpSpPr>
          <a:xfrm>
            <a:off x="5662440" y="3097080"/>
            <a:ext cx="641520" cy="719280"/>
            <a:chOff x="5662440" y="3097080"/>
            <a:chExt cx="641520" cy="719280"/>
          </a:xfrm>
        </p:grpSpPr>
        <p:pic>
          <p:nvPicPr>
            <p:cNvPr id="176" name="4-конечная звезда 79" descr=""/>
            <p:cNvPicPr/>
            <p:nvPr/>
          </p:nvPicPr>
          <p:blipFill>
            <a:blip r:embed="rId22"/>
            <a:stretch/>
          </p:blipFill>
          <p:spPr>
            <a:xfrm>
              <a:off x="5662440" y="3097080"/>
              <a:ext cx="64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93424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4-конечная звезда 80"/>
          <p:cNvGrpSpPr/>
          <p:nvPr/>
        </p:nvGrpSpPr>
        <p:grpSpPr>
          <a:xfrm>
            <a:off x="6272280" y="3097080"/>
            <a:ext cx="641160" cy="719280"/>
            <a:chOff x="6272280" y="3097080"/>
            <a:chExt cx="641160" cy="719280"/>
          </a:xfrm>
        </p:grpSpPr>
        <p:pic>
          <p:nvPicPr>
            <p:cNvPr id="179" name="4-конечная звезда 80" descr=""/>
            <p:cNvPicPr/>
            <p:nvPr/>
          </p:nvPicPr>
          <p:blipFill>
            <a:blip r:embed="rId23"/>
            <a:stretch/>
          </p:blipFill>
          <p:spPr>
            <a:xfrm>
              <a:off x="6272280" y="3097080"/>
              <a:ext cx="641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54372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4-конечная звезда 82"/>
          <p:cNvGrpSpPr/>
          <p:nvPr/>
        </p:nvGrpSpPr>
        <p:grpSpPr>
          <a:xfrm>
            <a:off x="6954840" y="3097080"/>
            <a:ext cx="646200" cy="719280"/>
            <a:chOff x="6954840" y="3097080"/>
            <a:chExt cx="646200" cy="719280"/>
          </a:xfrm>
        </p:grpSpPr>
        <p:pic>
          <p:nvPicPr>
            <p:cNvPr id="182" name="4-конечная звезда 82" descr=""/>
            <p:cNvPicPr/>
            <p:nvPr/>
          </p:nvPicPr>
          <p:blipFill>
            <a:blip r:embed="rId24"/>
            <a:stretch/>
          </p:blipFill>
          <p:spPr>
            <a:xfrm>
              <a:off x="6954840" y="30970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29520" y="33750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4-конечная звезда 83"/>
          <p:cNvGrpSpPr/>
          <p:nvPr/>
        </p:nvGrpSpPr>
        <p:grpSpPr>
          <a:xfrm>
            <a:off x="6272280" y="2408400"/>
            <a:ext cx="641160" cy="718920"/>
            <a:chOff x="6272280" y="2408400"/>
            <a:chExt cx="641160" cy="718920"/>
          </a:xfrm>
        </p:grpSpPr>
        <p:pic>
          <p:nvPicPr>
            <p:cNvPr id="185" name="4-конечная звезда 83" descr=""/>
            <p:cNvPicPr/>
            <p:nvPr/>
          </p:nvPicPr>
          <p:blipFill>
            <a:blip r:embed="rId25"/>
            <a:stretch/>
          </p:blipFill>
          <p:spPr>
            <a:xfrm>
              <a:off x="6272280" y="2408400"/>
              <a:ext cx="64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543720" y="26892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4-конечная звезда 84"/>
          <p:cNvGrpSpPr/>
          <p:nvPr/>
        </p:nvGrpSpPr>
        <p:grpSpPr>
          <a:xfrm>
            <a:off x="5662440" y="2408400"/>
            <a:ext cx="641520" cy="718920"/>
            <a:chOff x="5662440" y="2408400"/>
            <a:chExt cx="641520" cy="718920"/>
          </a:xfrm>
        </p:grpSpPr>
        <p:pic>
          <p:nvPicPr>
            <p:cNvPr id="188" name="4-конечная звезда 84" descr=""/>
            <p:cNvPicPr/>
            <p:nvPr/>
          </p:nvPicPr>
          <p:blipFill>
            <a:blip r:embed="rId26"/>
            <a:stretch/>
          </p:blipFill>
          <p:spPr>
            <a:xfrm>
              <a:off x="5662440" y="2408400"/>
              <a:ext cx="641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934240" y="26892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4-конечная звезда 85"/>
          <p:cNvGrpSpPr/>
          <p:nvPr/>
        </p:nvGrpSpPr>
        <p:grpSpPr>
          <a:xfrm>
            <a:off x="4973760" y="2408400"/>
            <a:ext cx="645840" cy="718920"/>
            <a:chOff x="4973760" y="2408400"/>
            <a:chExt cx="645840" cy="718920"/>
          </a:xfrm>
        </p:grpSpPr>
        <p:pic>
          <p:nvPicPr>
            <p:cNvPr id="191" name="4-конечная звезда 85" descr=""/>
            <p:cNvPicPr/>
            <p:nvPr/>
          </p:nvPicPr>
          <p:blipFill>
            <a:blip r:embed="rId27"/>
            <a:stretch/>
          </p:blipFill>
          <p:spPr>
            <a:xfrm>
              <a:off x="4973760" y="2408400"/>
              <a:ext cx="645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248440" y="26892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4-конечная звезда 86"/>
          <p:cNvGrpSpPr/>
          <p:nvPr/>
        </p:nvGrpSpPr>
        <p:grpSpPr>
          <a:xfrm>
            <a:off x="4290840" y="2408400"/>
            <a:ext cx="641520" cy="718920"/>
            <a:chOff x="4290840" y="2408400"/>
            <a:chExt cx="641520" cy="718920"/>
          </a:xfrm>
        </p:grpSpPr>
        <p:pic>
          <p:nvPicPr>
            <p:cNvPr id="194" name="4-конечная звезда 86" descr=""/>
            <p:cNvPicPr/>
            <p:nvPr/>
          </p:nvPicPr>
          <p:blipFill>
            <a:blip r:embed="rId28"/>
            <a:stretch/>
          </p:blipFill>
          <p:spPr>
            <a:xfrm>
              <a:off x="4290840" y="2408400"/>
              <a:ext cx="641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562640" y="26892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4-конечная звезда 87"/>
          <p:cNvGrpSpPr/>
          <p:nvPr/>
        </p:nvGrpSpPr>
        <p:grpSpPr>
          <a:xfrm>
            <a:off x="3602160" y="2408400"/>
            <a:ext cx="645840" cy="718920"/>
            <a:chOff x="3602160" y="2408400"/>
            <a:chExt cx="645840" cy="718920"/>
          </a:xfrm>
        </p:grpSpPr>
        <p:pic>
          <p:nvPicPr>
            <p:cNvPr id="197" name="4-конечная звезда 87" descr=""/>
            <p:cNvPicPr/>
            <p:nvPr/>
          </p:nvPicPr>
          <p:blipFill>
            <a:blip r:embed="rId29"/>
            <a:stretch/>
          </p:blipFill>
          <p:spPr>
            <a:xfrm>
              <a:off x="3602160" y="2408400"/>
              <a:ext cx="645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876840" y="26892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4-конечная звезда 88"/>
          <p:cNvGrpSpPr/>
          <p:nvPr/>
        </p:nvGrpSpPr>
        <p:grpSpPr>
          <a:xfrm>
            <a:off x="2919240" y="2487600"/>
            <a:ext cx="641520" cy="719280"/>
            <a:chOff x="2919240" y="2487600"/>
            <a:chExt cx="641520" cy="719280"/>
          </a:xfrm>
        </p:grpSpPr>
        <p:pic>
          <p:nvPicPr>
            <p:cNvPr id="200" name="4-конечная звезда 88" descr=""/>
            <p:cNvPicPr/>
            <p:nvPr/>
          </p:nvPicPr>
          <p:blipFill>
            <a:blip r:embed="rId30"/>
            <a:stretch/>
          </p:blipFill>
          <p:spPr>
            <a:xfrm>
              <a:off x="2919240" y="2487600"/>
              <a:ext cx="64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191040" y="276552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4-конечная звезда 89"/>
          <p:cNvGrpSpPr/>
          <p:nvPr/>
        </p:nvGrpSpPr>
        <p:grpSpPr>
          <a:xfrm>
            <a:off x="2919240" y="1725480"/>
            <a:ext cx="641520" cy="719280"/>
            <a:chOff x="2919240" y="1725480"/>
            <a:chExt cx="641520" cy="719280"/>
          </a:xfrm>
        </p:grpSpPr>
        <p:pic>
          <p:nvPicPr>
            <p:cNvPr id="203" name="4-конечная звезда 89" descr=""/>
            <p:cNvPicPr/>
            <p:nvPr/>
          </p:nvPicPr>
          <p:blipFill>
            <a:blip r:embed="rId31"/>
            <a:stretch/>
          </p:blipFill>
          <p:spPr>
            <a:xfrm>
              <a:off x="2919240" y="1725480"/>
              <a:ext cx="64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19104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4-конечная звезда 90"/>
          <p:cNvGrpSpPr/>
          <p:nvPr/>
        </p:nvGrpSpPr>
        <p:grpSpPr>
          <a:xfrm>
            <a:off x="3529080" y="1725480"/>
            <a:ext cx="641160" cy="719280"/>
            <a:chOff x="3529080" y="1725480"/>
            <a:chExt cx="641160" cy="719280"/>
          </a:xfrm>
        </p:grpSpPr>
        <p:pic>
          <p:nvPicPr>
            <p:cNvPr id="206" name="4-конечная звезда 90" descr=""/>
            <p:cNvPicPr/>
            <p:nvPr/>
          </p:nvPicPr>
          <p:blipFill>
            <a:blip r:embed="rId32"/>
            <a:stretch/>
          </p:blipFill>
          <p:spPr>
            <a:xfrm>
              <a:off x="3529080" y="1725480"/>
              <a:ext cx="641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80052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-конечная звезда 91"/>
          <p:cNvGrpSpPr/>
          <p:nvPr/>
        </p:nvGrpSpPr>
        <p:grpSpPr>
          <a:xfrm>
            <a:off x="4211640" y="1725480"/>
            <a:ext cx="646200" cy="719280"/>
            <a:chOff x="4211640" y="1725480"/>
            <a:chExt cx="646200" cy="719280"/>
          </a:xfrm>
        </p:grpSpPr>
        <p:pic>
          <p:nvPicPr>
            <p:cNvPr id="209" name="4-конечная звезда 91" descr=""/>
            <p:cNvPicPr/>
            <p:nvPr/>
          </p:nvPicPr>
          <p:blipFill>
            <a:blip r:embed="rId33"/>
            <a:stretch/>
          </p:blipFill>
          <p:spPr>
            <a:xfrm>
              <a:off x="4211640" y="1725480"/>
              <a:ext cx="646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48632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4-конечная звезда 92"/>
          <p:cNvGrpSpPr/>
          <p:nvPr/>
        </p:nvGrpSpPr>
        <p:grpSpPr>
          <a:xfrm>
            <a:off x="4973760" y="1725480"/>
            <a:ext cx="645840" cy="719280"/>
            <a:chOff x="4973760" y="1725480"/>
            <a:chExt cx="645840" cy="719280"/>
          </a:xfrm>
        </p:grpSpPr>
        <p:pic>
          <p:nvPicPr>
            <p:cNvPr id="212" name="4-конечная звезда 92" descr=""/>
            <p:cNvPicPr/>
            <p:nvPr/>
          </p:nvPicPr>
          <p:blipFill>
            <a:blip r:embed="rId34"/>
            <a:stretch/>
          </p:blipFill>
          <p:spPr>
            <a:xfrm>
              <a:off x="4973760" y="17254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24844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4-конечная звезда 93"/>
          <p:cNvGrpSpPr/>
          <p:nvPr/>
        </p:nvGrpSpPr>
        <p:grpSpPr>
          <a:xfrm>
            <a:off x="5662440" y="1725480"/>
            <a:ext cx="641520" cy="719280"/>
            <a:chOff x="5662440" y="1725480"/>
            <a:chExt cx="641520" cy="719280"/>
          </a:xfrm>
        </p:grpSpPr>
        <p:pic>
          <p:nvPicPr>
            <p:cNvPr id="215" name="4-конечная звезда 93" descr=""/>
            <p:cNvPicPr/>
            <p:nvPr/>
          </p:nvPicPr>
          <p:blipFill>
            <a:blip r:embed="rId35"/>
            <a:stretch/>
          </p:blipFill>
          <p:spPr>
            <a:xfrm>
              <a:off x="5662440" y="1725480"/>
              <a:ext cx="64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93424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4-конечная звезда 94"/>
          <p:cNvGrpSpPr/>
          <p:nvPr/>
        </p:nvGrpSpPr>
        <p:grpSpPr>
          <a:xfrm>
            <a:off x="6345360" y="1725480"/>
            <a:ext cx="645840" cy="719280"/>
            <a:chOff x="6345360" y="1725480"/>
            <a:chExt cx="645840" cy="719280"/>
          </a:xfrm>
        </p:grpSpPr>
        <p:pic>
          <p:nvPicPr>
            <p:cNvPr id="218" name="4-конечная звезда 94" descr=""/>
            <p:cNvPicPr/>
            <p:nvPr/>
          </p:nvPicPr>
          <p:blipFill>
            <a:blip r:embed="rId36"/>
            <a:stretch/>
          </p:blipFill>
          <p:spPr>
            <a:xfrm>
              <a:off x="6345360" y="1725480"/>
              <a:ext cx="645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0040" y="20034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-конечная звезда 95"/>
          <p:cNvGrpSpPr/>
          <p:nvPr/>
        </p:nvGrpSpPr>
        <p:grpSpPr>
          <a:xfrm>
            <a:off x="3602160" y="1036800"/>
            <a:ext cx="645840" cy="718920"/>
            <a:chOff x="3602160" y="1036800"/>
            <a:chExt cx="645840" cy="718920"/>
          </a:xfrm>
        </p:grpSpPr>
        <p:pic>
          <p:nvPicPr>
            <p:cNvPr id="221" name="4-конечная звезда 95" descr=""/>
            <p:cNvPicPr/>
            <p:nvPr/>
          </p:nvPicPr>
          <p:blipFill>
            <a:blip r:embed="rId37"/>
            <a:stretch/>
          </p:blipFill>
          <p:spPr>
            <a:xfrm>
              <a:off x="3602160" y="1036800"/>
              <a:ext cx="645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76840" y="131760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4-конечная звезда 96"/>
          <p:cNvGrpSpPr/>
          <p:nvPr/>
        </p:nvGrpSpPr>
        <p:grpSpPr>
          <a:xfrm>
            <a:off x="2157480" y="6218280"/>
            <a:ext cx="641160" cy="718920"/>
            <a:chOff x="2157480" y="6218280"/>
            <a:chExt cx="641160" cy="718920"/>
          </a:xfrm>
        </p:grpSpPr>
        <p:pic>
          <p:nvPicPr>
            <p:cNvPr id="224" name="4-конечная звезда 96" descr=""/>
            <p:cNvPicPr/>
            <p:nvPr/>
          </p:nvPicPr>
          <p:blipFill>
            <a:blip r:embed="rId38"/>
            <a:stretch/>
          </p:blipFill>
          <p:spPr>
            <a:xfrm>
              <a:off x="2157480" y="6218280"/>
              <a:ext cx="64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428920" y="6499080"/>
              <a:ext cx="95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97"/>
          <p:cNvSpPr/>
          <p:nvPr/>
        </p:nvSpPr>
        <p:spPr>
          <a:xfrm>
            <a:off x="274320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ие узлы сет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-конечная звезда 99"/>
          <p:cNvSpPr/>
          <p:nvPr/>
        </p:nvSpPr>
        <p:spPr>
          <a:xfrm>
            <a:off x="2362320" y="57150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-1" y="245024"/>
                </a:moveTo>
                <a:lnTo>
                  <a:pt x="58670" y="169562"/>
                </a:lnTo>
                <a:lnTo>
                  <a:pt x="37731" y="75462"/>
                </a:lnTo>
                <a:lnTo>
                  <a:pt x="131831" y="75462"/>
                </a:lnTo>
                <a:lnTo>
                  <a:pt x="190500" y="0"/>
                </a:lnTo>
                <a:lnTo>
                  <a:pt x="249169" y="75462"/>
                </a:lnTo>
                <a:lnTo>
                  <a:pt x="343269" y="75462"/>
                </a:lnTo>
                <a:lnTo>
                  <a:pt x="322330" y="169562"/>
                </a:lnTo>
                <a:lnTo>
                  <a:pt x="381001" y="245024"/>
                </a:lnTo>
                <a:lnTo>
                  <a:pt x="296219" y="286902"/>
                </a:lnTo>
                <a:lnTo>
                  <a:pt x="275280" y="381002"/>
                </a:lnTo>
                <a:lnTo>
                  <a:pt x="190500" y="339123"/>
                </a:lnTo>
                <a:lnTo>
                  <a:pt x="105720" y="381002"/>
                </a:lnTo>
                <a:lnTo>
                  <a:pt x="84781" y="286902"/>
                </a:lnTo>
                <a:lnTo>
                  <a:pt x="-1" y="24502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28954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лы сетки на границе    Г=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1"/>
          <p:cNvSpPr/>
          <p:nvPr/>
        </p:nvSpPr>
        <p:spPr>
          <a:xfrm flipH="1">
            <a:off x="1828800" y="0"/>
            <a:ext cx="14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7-конечная звезда 102"/>
          <p:cNvSpPr/>
          <p:nvPr/>
        </p:nvSpPr>
        <p:spPr>
          <a:xfrm>
            <a:off x="5105520" y="12193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-1" y="196019"/>
                </a:moveTo>
                <a:lnTo>
                  <a:pt x="46936" y="135650"/>
                </a:lnTo>
                <a:lnTo>
                  <a:pt x="30185" y="60370"/>
                </a:lnTo>
                <a:lnTo>
                  <a:pt x="105464" y="60370"/>
                </a:lnTo>
                <a:lnTo>
                  <a:pt x="152400" y="0"/>
                </a:lnTo>
                <a:lnTo>
                  <a:pt x="199336" y="60370"/>
                </a:lnTo>
                <a:lnTo>
                  <a:pt x="274615" y="60370"/>
                </a:lnTo>
                <a:lnTo>
                  <a:pt x="257864" y="135650"/>
                </a:lnTo>
                <a:lnTo>
                  <a:pt x="304801" y="196019"/>
                </a:lnTo>
                <a:lnTo>
                  <a:pt x="236976" y="229522"/>
                </a:lnTo>
                <a:lnTo>
                  <a:pt x="220224" y="304802"/>
                </a:lnTo>
                <a:lnTo>
                  <a:pt x="152400" y="271299"/>
                </a:lnTo>
                <a:lnTo>
                  <a:pt x="84576" y="304802"/>
                </a:lnTo>
                <a:lnTo>
                  <a:pt x="67824" y="229522"/>
                </a:lnTo>
                <a:lnTo>
                  <a:pt x="-1" y="1960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7-конечная звезда 103"/>
          <p:cNvSpPr/>
          <p:nvPr/>
        </p:nvSpPr>
        <p:spPr>
          <a:xfrm>
            <a:off x="5791320" y="12193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-1" y="196019"/>
                </a:moveTo>
                <a:lnTo>
                  <a:pt x="46936" y="135650"/>
                </a:lnTo>
                <a:lnTo>
                  <a:pt x="30185" y="60370"/>
                </a:lnTo>
                <a:lnTo>
                  <a:pt x="105464" y="60370"/>
                </a:lnTo>
                <a:lnTo>
                  <a:pt x="152400" y="0"/>
                </a:lnTo>
                <a:lnTo>
                  <a:pt x="199336" y="60370"/>
                </a:lnTo>
                <a:lnTo>
                  <a:pt x="274615" y="60370"/>
                </a:lnTo>
                <a:lnTo>
                  <a:pt x="257864" y="135650"/>
                </a:lnTo>
                <a:lnTo>
                  <a:pt x="304801" y="196019"/>
                </a:lnTo>
                <a:lnTo>
                  <a:pt x="236976" y="229522"/>
                </a:lnTo>
                <a:lnTo>
                  <a:pt x="220224" y="304802"/>
                </a:lnTo>
                <a:lnTo>
                  <a:pt x="152400" y="271299"/>
                </a:lnTo>
                <a:lnTo>
                  <a:pt x="84576" y="304802"/>
                </a:lnTo>
                <a:lnTo>
                  <a:pt x="67824" y="229522"/>
                </a:lnTo>
                <a:lnTo>
                  <a:pt x="-1" y="1960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7-конечная звезда 104"/>
          <p:cNvSpPr/>
          <p:nvPr/>
        </p:nvSpPr>
        <p:spPr>
          <a:xfrm>
            <a:off x="7162920" y="25909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-1" y="196019"/>
                </a:moveTo>
                <a:lnTo>
                  <a:pt x="46936" y="135650"/>
                </a:lnTo>
                <a:lnTo>
                  <a:pt x="30185" y="60370"/>
                </a:lnTo>
                <a:lnTo>
                  <a:pt x="105464" y="60370"/>
                </a:lnTo>
                <a:lnTo>
                  <a:pt x="152400" y="0"/>
                </a:lnTo>
                <a:lnTo>
                  <a:pt x="199336" y="60370"/>
                </a:lnTo>
                <a:lnTo>
                  <a:pt x="274615" y="60370"/>
                </a:lnTo>
                <a:lnTo>
                  <a:pt x="257864" y="135650"/>
                </a:lnTo>
                <a:lnTo>
                  <a:pt x="304801" y="196019"/>
                </a:lnTo>
                <a:lnTo>
                  <a:pt x="236976" y="229522"/>
                </a:lnTo>
                <a:lnTo>
                  <a:pt x="220224" y="304802"/>
                </a:lnTo>
                <a:lnTo>
                  <a:pt x="152400" y="271299"/>
                </a:lnTo>
                <a:lnTo>
                  <a:pt x="84576" y="304802"/>
                </a:lnTo>
                <a:lnTo>
                  <a:pt x="67824" y="229522"/>
                </a:lnTo>
                <a:lnTo>
                  <a:pt x="-1" y="1960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7-конечная звезда 105"/>
          <p:cNvSpPr/>
          <p:nvPr/>
        </p:nvSpPr>
        <p:spPr>
          <a:xfrm>
            <a:off x="7848720" y="39625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-1" y="196019"/>
                </a:moveTo>
                <a:lnTo>
                  <a:pt x="46936" y="135650"/>
                </a:lnTo>
                <a:lnTo>
                  <a:pt x="30185" y="60370"/>
                </a:lnTo>
                <a:lnTo>
                  <a:pt x="105464" y="60370"/>
                </a:lnTo>
                <a:lnTo>
                  <a:pt x="152400" y="0"/>
                </a:lnTo>
                <a:lnTo>
                  <a:pt x="199336" y="60370"/>
                </a:lnTo>
                <a:lnTo>
                  <a:pt x="274615" y="60370"/>
                </a:lnTo>
                <a:lnTo>
                  <a:pt x="257864" y="135650"/>
                </a:lnTo>
                <a:lnTo>
                  <a:pt x="304801" y="196019"/>
                </a:lnTo>
                <a:lnTo>
                  <a:pt x="236976" y="229522"/>
                </a:lnTo>
                <a:lnTo>
                  <a:pt x="220224" y="304802"/>
                </a:lnTo>
                <a:lnTo>
                  <a:pt x="152400" y="271299"/>
                </a:lnTo>
                <a:lnTo>
                  <a:pt x="84576" y="304802"/>
                </a:lnTo>
                <a:lnTo>
                  <a:pt x="67824" y="229522"/>
                </a:lnTo>
                <a:lnTo>
                  <a:pt x="-1" y="1960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628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43664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5"/>
          <p:cNvSpPr/>
          <p:nvPr/>
        </p:nvSpPr>
        <p:spPr>
          <a:xfrm>
            <a:off x="1600200" y="2666880"/>
            <a:ext cx="685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количество узлов, лежащих внутри фигуры,     В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– количество узлов на её границе   Г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+5,5-1=4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1752480" y="1295280"/>
                <a:ext cx="65404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Box 31"/>
          <p:cNvSpPr/>
          <p:nvPr/>
        </p:nvSpPr>
        <p:spPr>
          <a:xfrm>
            <a:off x="13716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4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4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GeorgPick.png"/>
          <p:cNvPicPr/>
          <p:nvPr/>
        </p:nvPicPr>
        <p:blipFill>
          <a:blip r:embed="rId1"/>
          <a:stretch/>
        </p:blipFill>
        <p:spPr>
          <a:xfrm>
            <a:off x="6804000" y="714240"/>
            <a:ext cx="1905120" cy="2714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14200" y="642960"/>
            <a:ext cx="65725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рг Алекса́ндр Пи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 авгус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5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3 ию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94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 —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австрий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атемат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еорга, который был одарённым ребёнком, обучал отец, возглавлявший частный институт. В 16 лет Георг закончил школу и поступил в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Венский университ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20 лет получил право преподавать физику и математику. Шестнадцатого апреля 1880 года  Пик защитил докторскую диссертацию «О классе абелевых интегралов»  В Немецком университете в Праге в 1888 году Пик получил место экстраординарного профессора математики, затем в 1892-м стал ординарным профессором. В 1900—1901 годах занимал пост декана философского факульт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10 году Георг Пик был в комитете, созданном Немецким университетом Праги для рассмотрения вопроса о принятии Альберта Эйнштейна профессором в университет. Пик и физик Антон Лампа были главными инициаторами этого назначения, и благодаря их усилиям Эйнштейн, с которым Пик впоследствии сдружился, в 1911 году возглавил кафедру теоретической физики в Немецком университете в Пр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к и Эйнштейн не только имели общие научные интересы, но и страстно увлекались музыкой. Пик, игравший в квартете, который состоял из университетских профессоров, ввёл Эйнштейна в научное и музыкальное общества Праги. Широкую известность получила открытая им в 1899 году теорема Пика для расчёта площади многоугольника. В Германии эта теорема включена в школьные учеб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летчатой бумаге с клетками размером 1 см 1 см изображена трапеция Найдите ее площадь в квадратных сантимет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ользуем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мулой П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 12,  Г = 17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 + 17/2 – 1 = 19,5 (см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9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79" descr="pic.148"/>
          <p:cNvPicPr/>
          <p:nvPr/>
        </p:nvPicPr>
        <p:blipFill>
          <a:blip r:embed="rId1"/>
          <a:stretch/>
        </p:blipFill>
        <p:spPr>
          <a:xfrm>
            <a:off x="0" y="1433520"/>
            <a:ext cx="4786200" cy="2681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80"/>
          <p:cNvSpPr/>
          <p:nvPr/>
        </p:nvSpPr>
        <p:spPr>
          <a:xfrm>
            <a:off x="539640" y="4221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формуле гео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81"/>
          <p:cNvSpPr/>
          <p:nvPr/>
        </p:nvSpPr>
        <p:spPr>
          <a:xfrm>
            <a:off x="1332000" y="6825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ние из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82"/>
              <p:cNvSpPr txBox="1"/>
              <p:nvPr/>
            </p:nvSpPr>
            <p:spPr>
              <a:xfrm>
                <a:off x="270000" y="4797360"/>
                <a:ext cx="39988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6:20:56Z</dcterms:created>
  <dc:creator>Шарабарина Галина Гавриловна</dc:creator>
  <dc:description/>
  <dc:language>en-US</dc:language>
  <cp:lastModifiedBy>ППЭ</cp:lastModifiedBy>
  <dcterms:modified xsi:type="dcterms:W3CDTF">2019-10-17T16:05:09Z</dcterms:modified>
  <cp:revision>120</cp:revision>
  <dc:subject/>
  <dc:title>Слайд 1</dc:title>
</cp:coreProperties>
</file>