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826-696C-4D6F-AD7B-EA9C178B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D83-DCD6-4509-A8BF-BFCE2F17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61E-0AD4-4269-9F9C-541A6999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89BE-033B-4DDD-A3D3-64E41EC5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39F-C33D-47FC-80FB-F63AD623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166-A778-419F-AC05-27AC298B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70C-563C-4311-A2C0-1C88DEFC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123-EB94-4A74-98A1-F60436EF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35C-6AD5-4645-BC22-FEC8D904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F5F-528C-431B-A7AD-33669DCE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0C87-ABA0-4682-983F-4266E149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080-AFCF-48BC-ADB7-CDCF3064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F3F4E1-5FE2-498F-91BF-72A09E5552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5520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риёмы работы с несплошным текстом на</a:t>
            </a:r>
            <a:r>
              <a:rPr b="1" lang="ru-RU" sz="4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роках окружающего мира»</a:t>
            </a:r>
            <a:endParaRPr b="1" i="1" lang="en-US" sz="48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720720" y="2700360"/>
            <a:ext cx="2160720" cy="360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3060720" y="2700360"/>
            <a:ext cx="1800360" cy="3600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-8555040" y="4486320"/>
            <a:ext cx="1895400" cy="2533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4"/>
          <a:stretch/>
        </p:blipFill>
        <p:spPr>
          <a:xfrm>
            <a:off x="5219640" y="2700360"/>
            <a:ext cx="1800360" cy="360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5"/>
          <a:stretch/>
        </p:blipFill>
        <p:spPr>
          <a:xfrm>
            <a:off x="7199280" y="2700360"/>
            <a:ext cx="21607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Катя\Desktop\y7Db3nmWfHk.jpg"/>
          <p:cNvPicPr/>
          <p:nvPr/>
        </p:nvPicPr>
        <p:blipFill>
          <a:blip r:embed="rId1"/>
          <a:stretch/>
        </p:blipFill>
        <p:spPr>
          <a:xfrm>
            <a:off x="-600120" y="0"/>
            <a:ext cx="10680840" cy="80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0720" y="539280"/>
            <a:ext cx="8640720" cy="64803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Предварительный просмотр иллюстраций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Пример: Тема «В гости к зиме (виртуальная экскурсия)»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казываю  иллюстрации зимы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4" descr="C:\Users\Катя\Desktop\xsMYMqHyfgk.jpg"/>
          <p:cNvPicPr/>
          <p:nvPr/>
        </p:nvPicPr>
        <p:blipFill>
          <a:blip r:embed="rId1"/>
          <a:stretch/>
        </p:blipFill>
        <p:spPr>
          <a:xfrm>
            <a:off x="1800360" y="2843280"/>
            <a:ext cx="655308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576360" y="611280"/>
            <a:ext cx="878508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. Составление паз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класс «Дикие животные», 3 класс Тема «Разнообразие животных» (на партах у детей лежат разрезанные на части картинки с изображением животн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s://pp.userapi.com/c850616/v850616138/785cf/ysiI6N4FToY.jpg"/>
          <p:cNvPicPr/>
          <p:nvPr/>
        </p:nvPicPr>
        <p:blipFill>
          <a:blip r:embed="rId1"/>
          <a:stretch/>
        </p:blipFill>
        <p:spPr>
          <a:xfrm>
            <a:off x="-504720" y="2266920"/>
            <a:ext cx="6265800" cy="469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s://pp.userapi.com/c850616/v850616138/785d8/4JmOq41UEIQ.jpg"/>
          <p:cNvPicPr/>
          <p:nvPr/>
        </p:nvPicPr>
        <p:blipFill>
          <a:blip r:embed="rId2"/>
          <a:stretch/>
        </p:blipFill>
        <p:spPr>
          <a:xfrm>
            <a:off x="6048360" y="2411280"/>
            <a:ext cx="32767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466560"/>
            <a:ext cx="8607600" cy="1586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99284c"/>
                </a:solidFill>
                <a:latin typeface="Times New Roman"/>
              </a:rPr>
              <a:t>II этап (основной)</a:t>
            </a:r>
            <a:br>
              <a:rPr sz="4400"/>
            </a:br>
            <a:br>
              <a:rPr sz="4400"/>
            </a:br>
            <a:br>
              <a:rPr sz="4400"/>
            </a:b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9280" y="1547280"/>
            <a:ext cx="8640720" cy="56199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риемы работы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олнение таблиц и схем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в процессе работы с текстом дети заполняют схемы, таблицы по новой теме. Работа может проходить в парах или фронтально под руководством учителя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1" name="Picture 4" descr="C:\Users\Катя\Desktop\LMtuS2IZKO4.jpg"/>
          <p:cNvPicPr/>
          <p:nvPr/>
        </p:nvPicPr>
        <p:blipFill>
          <a:blip r:embed="rId1"/>
          <a:stretch/>
        </p:blipFill>
        <p:spPr>
          <a:xfrm>
            <a:off x="0" y="3564000"/>
            <a:ext cx="5040360" cy="3779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C:\Users\Катя\Desktop\vJxM7q9Nzrs.jpg"/>
          <p:cNvPicPr/>
          <p:nvPr/>
        </p:nvPicPr>
        <p:blipFill>
          <a:blip r:embed="rId2"/>
          <a:stretch/>
        </p:blipFill>
        <p:spPr>
          <a:xfrm>
            <a:off x="4836960" y="3635280"/>
            <a:ext cx="5027760" cy="37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2640" y="560520"/>
            <a:ext cx="88473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284c"/>
                </a:solidFill>
                <a:latin typeface="Arial"/>
              </a:rPr>
              <a:t>III этап (заключительный)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0360" y="1379160"/>
            <a:ext cx="859788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ление памяток, инструкций. Пример: 2 класс «Если хочешь быть здоров», 3 класс «Умей предупреждать болезни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" name="Picture 4" descr="C:\Users\Катя\Desktop\img16.jpg"/>
          <p:cNvPicPr/>
          <p:nvPr/>
        </p:nvPicPr>
        <p:blipFill>
          <a:blip r:embed="rId1"/>
          <a:stretch/>
        </p:blipFill>
        <p:spPr>
          <a:xfrm>
            <a:off x="1368360" y="2249640"/>
            <a:ext cx="6480360" cy="48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817560"/>
            <a:ext cx="8418600" cy="602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7000"/>
          </a:bodyPr>
          <a:p>
            <a:pPr marL="332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аким образом, продуманная и целенаправленная работа с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есплошным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кстом позволяет  получать ребёнку из большого объема информации нужную и полезную, а также приобретать социально – нравственный опыт и заставляет думать, познавая окружающий мир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0720" y="717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539280"/>
            <a:ext cx="8999640" cy="71802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ФГОС определяет III группы результатов: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 Предметные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 Метапредметные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 Личностные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1880" y="899640"/>
            <a:ext cx="8418600" cy="6000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Метапредметные результаты освоения ООП НОО должны отражать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владение навыкам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ыслового чтения текстов различных стилей и жанров в соответствии с целями и задачам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как результат формирования познавательных УУД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284c"/>
                </a:solidFill>
                <a:latin typeface="Times New Roman"/>
              </a:rPr>
              <a:t>Смысловое чтение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00360"/>
            <a:ext cx="84186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значит смысловое чтение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Читать и не понимать — то же, что совсем не читать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. А. Каменский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ыс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внутреннее содержание, значение чего-нибудь, постигаемое разумом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ысли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то понимать, знать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ергей Иванович Ожегов. Словарь русского языка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ысловое чт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то чтение, которое нацелено на понимание читающим смыслового текста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284c"/>
                </a:solidFill>
                <a:latin typeface="Times New Roman"/>
              </a:rPr>
              <a:t>Смысловое чтение включает разные виды чтения: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глубленное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знакомительное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смотровое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борочное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15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се тексты делятся на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 algn="just">
              <a:lnSpc>
                <a:spcPct val="150000"/>
              </a:lnSpc>
              <a:buClr>
                <a:srgbClr val="99284c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сплошные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без визуальных изображений) и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 algn="just">
              <a:lnSpc>
                <a:spcPct val="150000"/>
              </a:lnSpc>
              <a:buClr>
                <a:srgbClr val="99284c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несплошные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с визуальными изображениями)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-192960"/>
            <a:ext cx="8605800" cy="3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21880" y="539640"/>
            <a:ext cx="8417160" cy="6359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Несплошные тексты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графики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иаграммы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аблицы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арты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формы (налоговые, визовые, анкеты и др.)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нформационные листы и объявления.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Работу с научным текстом на уроке условно можно разделить на III этапа: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720" y="2138040"/>
            <a:ext cx="86407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8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3600" spc="-1" strike="noStrike" u="sng">
                <a:solidFill>
                  <a:srgbClr val="000080"/>
                </a:solidFill>
                <a:uFillTx/>
                <a:latin typeface="Times New Roman"/>
                <a:ea typeface="Times New Roman"/>
              </a:rPr>
              <a:t> этап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― подготовительный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до начала чтения);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000080"/>
                </a:solidFill>
                <a:uFillTx/>
                <a:latin typeface="Times New Roman"/>
                <a:ea typeface="Times New Roman"/>
              </a:rPr>
              <a:t>II этап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– основной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в процессе чтения);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000080"/>
                </a:solidFill>
                <a:uFillTx/>
                <a:latin typeface="Times New Roman"/>
                <a:ea typeface="Times New Roman"/>
              </a:rPr>
              <a:t>III этап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― заключительный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после чтения)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500040"/>
            <a:ext cx="8607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9284c"/>
                </a:solidFill>
                <a:latin typeface="Times New Roman"/>
              </a:rPr>
              <a:t>I этап (подготовительный)</a:t>
            </a:r>
            <a:endParaRPr b="1" i="1" lang="en-US" sz="5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260000"/>
            <a:ext cx="8418600" cy="7893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риемы работы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. «Облако понятий»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на доску в нарисованное облако вписываются новые понятия и термины из текста, детям предлагается поделиться имеющимися знаниями , догадаться о чем пойдет речь в тексте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Пример: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4 класс Тема «Мир глазами астронома»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(планета, солнечная система, вселенная, космос).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611280"/>
            <a:ext cx="86058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99284c"/>
                </a:solidFill>
                <a:latin typeface="Arial"/>
              </a:rPr>
              <a:t>Тема: «Как живут животные».         1 класс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1" name="Содержимое 3" descr="DVcrreUvSvc.jpg"/>
          <p:cNvPicPr/>
          <p:nvPr/>
        </p:nvPicPr>
        <p:blipFill>
          <a:blip r:embed="rId1"/>
          <a:stretch/>
        </p:blipFill>
        <p:spPr>
          <a:xfrm>
            <a:off x="2448000" y="1474920"/>
            <a:ext cx="456408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7T05:42:29Z</dcterms:created>
  <dc:creator>Катя</dc:creator>
  <dc:description/>
  <dc:language>en-US</dc:language>
  <cp:lastModifiedBy>Катя</cp:lastModifiedBy>
  <dcterms:modified xsi:type="dcterms:W3CDTF">2019-10-17T16:29:26Z</dcterms:modified>
  <cp:revision>25</cp:revision>
  <dc:subject/>
  <dc:title>«Приёмы работы с текстом на уроках окружающего мира»</dc:title>
</cp:coreProperties>
</file>