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ACEB-F7BE-429A-A22D-C55119A4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0004-685A-4FE4-84B4-1E2E2F4B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70C3-F860-45EF-839A-F1B3D913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5E42-34F3-400C-84E9-758D9453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72C0-4EA1-41D8-B1A5-454D2CC7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2D2E-3E99-48C1-94E1-F1F10A38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DC0B-22F9-4D5C-A704-88B39A55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D87A-89BD-48EB-8A74-D512911B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6794-6C4E-4118-AC46-C61C7EA8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C995-BAC7-4CB4-AA91-A4B11AC8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25AF-1430-4407-A628-10078711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44A3-4668-4B8D-B92C-3764A8F9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3E5B-CA92-4D3D-B6A7-5EC50D2A7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&#1042;&#1086;&#1087;&#1088;&#1086;&#1089;%201.jpg" TargetMode="External"/><Relationship Id="rId2" Type="http://schemas.openxmlformats.org/officeDocument/2006/relationships/hyperlink" Target="file:///2&#1042;&#1086;&#1087;&#1088;&#1086;&#1089;1.jpg" TargetMode="External"/><Relationship Id="rId3" Type="http://schemas.openxmlformats.org/officeDocument/2006/relationships/hyperlink" Target="file:///3&#1042;&#1086;&#1087;&#1088;&#1086;&#1089;%201.jpg" TargetMode="External"/><Relationship Id="rId4" Type="http://schemas.openxmlformats.org/officeDocument/2006/relationships/hyperlink" Target="file:///4&#1042;&#1086;&#1087;&#1088;&#1086;&#1089;%201.jpg" TargetMode="External"/><Relationship Id="rId5" Type="http://schemas.openxmlformats.org/officeDocument/2006/relationships/hyperlink" Target="file:///&#1042;&#1086;&#1087;&#1088;&#1086;&#1089;%202.jpg" TargetMode="External"/><Relationship Id="rId6" Type="http://schemas.openxmlformats.org/officeDocument/2006/relationships/hyperlink" Target="file:///2&#1042;&#1086;&#1087;&#1088;&#1086;&#1089;%202.jpg" TargetMode="External"/><Relationship Id="rId7" Type="http://schemas.openxmlformats.org/officeDocument/2006/relationships/hyperlink" Target="file:///3&#1042;&#1086;&#1087;&#1088;&#1086;&#1089;%202.jpg" TargetMode="External"/><Relationship Id="rId8" Type="http://schemas.openxmlformats.org/officeDocument/2006/relationships/hyperlink" Target="file:///4&#1042;&#1086;&#1087;&#1088;&#1086;&#1089;%202.jpg" TargetMode="External"/><Relationship Id="rId9" Type="http://schemas.openxmlformats.org/officeDocument/2006/relationships/hyperlink" Target="file:///&#1042;&#1086;&#1087;&#1088;&#1086;&#1089;%203.jpg" TargetMode="External"/><Relationship Id="rId10" Type="http://schemas.openxmlformats.org/officeDocument/2006/relationships/hyperlink" Target="file:///2&#1042;&#1086;&#1087;&#1088;&#1086;&#1089;%203.jpg" TargetMode="External"/><Relationship Id="rId11" Type="http://schemas.openxmlformats.org/officeDocument/2006/relationships/hyperlink" Target="file:///3&#1042;&#1086;&#1087;&#1088;&#1086;&#1089;%203.jpg" TargetMode="External"/><Relationship Id="rId12" Type="http://schemas.openxmlformats.org/officeDocument/2006/relationships/hyperlink" Target="file:///4%20&#1042;&#1086;&#1087;&#1088;&#1086;&#1089;%203.jpg" TargetMode="External"/><Relationship Id="rId13" Type="http://schemas.openxmlformats.org/officeDocument/2006/relationships/hyperlink" Target="file:///&#1042;&#1086;&#1087;&#1088;&#1086;&#1089;%204.jpg" TargetMode="External"/><Relationship Id="rId14" Type="http://schemas.openxmlformats.org/officeDocument/2006/relationships/hyperlink" Target="file:///2&#1042;&#1086;&#1087;&#1088;&#1086;&#1089;%204.jpg" TargetMode="External"/><Relationship Id="rId15" Type="http://schemas.openxmlformats.org/officeDocument/2006/relationships/hyperlink" Target="file:///3&#1042;&#1086;&#1087;&#1088;&#1086;&#1089;%204.jpg" TargetMode="External"/><Relationship Id="rId16" Type="http://schemas.openxmlformats.org/officeDocument/2006/relationships/hyperlink" Target="file:///4&#1042;&#1086;&#1087;&#1088;&#1086;&#1089;%204.jpg" TargetMode="External"/><Relationship Id="rId1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f9232eedd442ad21806224a9113a8e1_full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80880" y="380880"/>
            <a:ext cx="4402080" cy="599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2" name="WordArt 6"/>
          <p:cNvSpPr txBox="1"/>
          <p:nvPr/>
        </p:nvSpPr>
        <p:spPr>
          <a:xfrm>
            <a:off x="5410080" y="1219320"/>
            <a:ext cx="33624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0099cc"/>
                    </a:gs>
                  </a:gsLst>
                  <a:lin ang="5400000"/>
                </a:gradFill>
                <a:latin typeface="Times New Roman"/>
              </a:rPr>
              <a:t>ПО</a:t>
            </a:r>
            <a:endParaRPr b="0" lang="en-US" sz="22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0099cc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0099cc"/>
                    </a:gs>
                  </a:gsLst>
                  <a:lin ang="5400000"/>
                </a:gradFill>
                <a:latin typeface="Times New Roman"/>
              </a:rPr>
              <a:t>СЛЕДАМ</a:t>
            </a:r>
            <a:endParaRPr b="0" lang="en-US" sz="22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0099cc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0099cc"/>
                    </a:gs>
                  </a:gsLst>
                  <a:lin ang="5400000"/>
                </a:gradFill>
                <a:latin typeface="Times New Roman"/>
              </a:rPr>
              <a:t>ЛЮБИМЫХ</a:t>
            </a:r>
            <a:endParaRPr b="0" lang="en-US" sz="22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0099cc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0099cc"/>
                    </a:gs>
                  </a:gsLst>
                  <a:lin ang="5400000"/>
                </a:gradFill>
                <a:latin typeface="Times New Roman"/>
              </a:rPr>
              <a:t>СКАЗОК</a:t>
            </a:r>
            <a:endParaRPr b="0" lang="en-US" sz="22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0099cc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151441388_tonnel"/>
          <p:cNvPicPr/>
          <p:nvPr/>
        </p:nvPicPr>
        <p:blipFill>
          <a:blip r:embed="rId1"/>
          <a:stretch/>
        </p:blipFill>
        <p:spPr>
          <a:xfrm>
            <a:off x="1752480" y="685800"/>
            <a:ext cx="5410440" cy="539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й портр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…Тихомолком расцвет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жду тем росла, ро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нялась – и расцв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лолица, чернобр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раву кроткого такого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normal_pushkin5"/>
          <p:cNvPicPr/>
          <p:nvPr/>
        </p:nvPicPr>
        <p:blipFill>
          <a:blip r:embed="rId1"/>
          <a:stretch/>
        </p:blipFill>
        <p:spPr>
          <a:xfrm>
            <a:off x="2133720" y="228600"/>
            <a:ext cx="5263920" cy="640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й портрет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…Вся сияя как з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хо встретила ц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пред солнцем птица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арь умолк, ей глядя в очи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209"/>
          <p:cNvPicPr/>
          <p:nvPr/>
        </p:nvPicPr>
        <p:blipFill>
          <a:blip r:embed="rId1"/>
          <a:stretch/>
        </p:blipFill>
        <p:spPr>
          <a:xfrm>
            <a:off x="2590920" y="380880"/>
            <a:ext cx="4338360" cy="6096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й портр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 дорогой собольей душегрей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човая на маковке кич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мчуги огрузили ше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руках золотые перст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ногах красивые сапожки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ZR2"/>
          <p:cNvPicPr/>
          <p:nvPr/>
        </p:nvPicPr>
        <p:blipFill>
          <a:blip r:embed="rId1"/>
          <a:stretch/>
        </p:blipFill>
        <p:spPr>
          <a:xfrm>
            <a:off x="2554200" y="304920"/>
            <a:ext cx="4280040" cy="624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задания для коман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Ветер по морю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гул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кораблик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подгоня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бежит себе в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волн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однятых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парус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мо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остро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руто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мо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гор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большо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шки с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приста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ал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аблю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прист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ел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95680" y="167616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Знайте, вот что не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бездел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ь в лесу, под елью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бел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лка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песен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о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ореш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сё грыз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орешки не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прост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ё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скорлуп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олот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Я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чистый изумру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т что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чудом – 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ов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4191120" y="17524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2"/>
          <p:cNvSpPr txBox="1"/>
          <p:nvPr/>
        </p:nvSpPr>
        <p:spPr>
          <a:xfrm>
            <a:off x="2743200" y="1600200"/>
            <a:ext cx="38098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5757"/>
                    </a:gs>
                  </a:gsLst>
                  <a:lin ang="5400000"/>
                </a:gradFill>
                <a:latin typeface="Impact"/>
              </a:rPr>
              <a:t>Задание №2</a:t>
            </a:r>
            <a:endParaRPr b="0" lang="en-US" sz="22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ff5757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5757"/>
                    </a:gs>
                  </a:gsLst>
                  <a:lin ang="5400000"/>
                </a:gradFill>
                <a:latin typeface="Impact"/>
              </a:rPr>
              <a:t>для</a:t>
            </a:r>
            <a:endParaRPr b="0" lang="en-US" sz="22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ff5757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5757"/>
                    </a:gs>
                  </a:gsLst>
                  <a:lin ang="5400000"/>
                </a:gradFill>
                <a:latin typeface="Impact"/>
              </a:rPr>
              <a:t>команд</a:t>
            </a:r>
            <a:endParaRPr b="0" lang="en-US" sz="22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ff5757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9" descr="Scanned at 04"/>
          <p:cNvPicPr/>
          <p:nvPr/>
        </p:nvPicPr>
        <p:blipFill>
          <a:blip r:embed="rId1"/>
          <a:stretch/>
        </p:blipFill>
        <p:spPr>
          <a:xfrm>
            <a:off x="1600200" y="4495680"/>
            <a:ext cx="160020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43434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смот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пом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лож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2 картинок со сказочными героями в правильной последовательности на игровом п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Scanned at 03"/>
          <p:cNvPicPr/>
          <p:nvPr/>
        </p:nvPicPr>
        <p:blipFill>
          <a:blip r:embed="rId2"/>
          <a:stretch/>
        </p:blipFill>
        <p:spPr>
          <a:xfrm>
            <a:off x="4876920" y="533520"/>
            <a:ext cx="3843360" cy="5010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8" name="Picture 10" descr="Scanned at 04"/>
          <p:cNvPicPr/>
          <p:nvPr/>
        </p:nvPicPr>
        <p:blipFill>
          <a:blip r:embed="rId3"/>
          <a:stretch/>
        </p:blipFill>
        <p:spPr>
          <a:xfrm rot="20321400">
            <a:off x="228240" y="4876560"/>
            <a:ext cx="1523880" cy="150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9" name="Picture 11" descr="Scanned at 04"/>
          <p:cNvPicPr/>
          <p:nvPr/>
        </p:nvPicPr>
        <p:blipFill>
          <a:blip r:embed="rId4"/>
          <a:stretch/>
        </p:blipFill>
        <p:spPr>
          <a:xfrm rot="6615600">
            <a:off x="3043080" y="4804920"/>
            <a:ext cx="1536840" cy="1527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3920" y="274320"/>
            <a:ext cx="396252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й осенью Пушкин жил в селе Михайловском. За окном огромный старый дуб ронял последние листья. На лежанке дремал серый кот. В няниной избушке тихо, тепл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Pushkin"/>
          <p:cNvPicPr/>
          <p:nvPr/>
        </p:nvPicPr>
        <p:blipFill>
          <a:blip r:embed="rId1"/>
          <a:stretch/>
        </p:blipFill>
        <p:spPr>
          <a:xfrm>
            <a:off x="380880" y="914400"/>
            <a:ext cx="4241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Scanned at 03"/>
          <p:cNvPicPr/>
          <p:nvPr/>
        </p:nvPicPr>
        <p:blipFill>
          <a:blip r:embed="rId1"/>
          <a:stretch/>
        </p:blipFill>
        <p:spPr>
          <a:xfrm>
            <a:off x="228600" y="990720"/>
            <a:ext cx="4075200" cy="5562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81" name="Picture 5" descr="Scanned at 03"/>
          <p:cNvPicPr/>
          <p:nvPr/>
        </p:nvPicPr>
        <p:blipFill>
          <a:blip r:embed="rId2"/>
          <a:stretch/>
        </p:blipFill>
        <p:spPr>
          <a:xfrm>
            <a:off x="4800600" y="990720"/>
            <a:ext cx="4121280" cy="5562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4114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Для 1 коман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2880" y="228600"/>
            <a:ext cx="3810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Для 2 коман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5"/>
          <p:cNvSpPr txBox="1"/>
          <p:nvPr/>
        </p:nvSpPr>
        <p:spPr>
          <a:xfrm>
            <a:off x="2971800" y="685800"/>
            <a:ext cx="37339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5757"/>
                    </a:gs>
                  </a:gsLst>
                  <a:lin ang="5400000"/>
                </a:gradFill>
                <a:latin typeface="Impact"/>
              </a:rPr>
              <a:t>Задание №2</a:t>
            </a:r>
            <a:endParaRPr b="0" lang="en-US" sz="22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ff5757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5757"/>
                    </a:gs>
                  </a:gsLst>
                  <a:lin ang="5400000"/>
                </a:gradFill>
                <a:latin typeface="Impact"/>
              </a:rPr>
              <a:t>для</a:t>
            </a:r>
            <a:endParaRPr b="0" lang="en-US" sz="22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ff5757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5757"/>
                    </a:gs>
                  </a:gsLst>
                  <a:lin ang="5400000"/>
                </a:gradFill>
                <a:latin typeface="Impact"/>
              </a:rPr>
              <a:t>зрителей</a:t>
            </a:r>
            <a:endParaRPr b="0" lang="en-US" sz="22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ff5757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45720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шли телеграм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Scanned at 03"/>
          <p:cNvPicPr/>
          <p:nvPr/>
        </p:nvPicPr>
        <p:blipFill>
          <a:blip r:embed="rId1"/>
          <a:stretch/>
        </p:blipFill>
        <p:spPr>
          <a:xfrm>
            <a:off x="1447920" y="0"/>
            <a:ext cx="62704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837720"/>
            <a:ext cx="312408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Поздравляю с новым теремом и присвоением дворянского звания.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ому адресована телеграм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Scanned at 03"/>
          <p:cNvPicPr/>
          <p:nvPr/>
        </p:nvPicPr>
        <p:blipFill>
          <a:blip r:embed="rId1"/>
          <a:stretch/>
        </p:blipFill>
        <p:spPr>
          <a:xfrm>
            <a:off x="1447920" y="0"/>
            <a:ext cx="62704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1800" y="83772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Пропала из дворца царевна молодая. Помогите найти.</a:t>
            </a:r>
            <a:br>
              <a:rPr sz="2800"/>
            </a:br>
            <a:br>
              <a:rPr sz="28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то отправил телеграм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Scanned at 03"/>
          <p:cNvPicPr/>
          <p:nvPr/>
        </p:nvPicPr>
        <p:blipFill>
          <a:blip r:embed="rId1"/>
          <a:stretch/>
        </p:blipFill>
        <p:spPr>
          <a:xfrm>
            <a:off x="1447920" y="0"/>
            <a:ext cx="62704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837720"/>
            <a:ext cx="327672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Приезжайте в гости. Увидите много интересного. С нетерпением ждём.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ому от к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Scanned at 03"/>
          <p:cNvPicPr/>
          <p:nvPr/>
        </p:nvPicPr>
        <p:blipFill>
          <a:blip r:embed="rId1"/>
          <a:stretch/>
        </p:blipFill>
        <p:spPr>
          <a:xfrm>
            <a:off x="1447920" y="0"/>
            <a:ext cx="62704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1800" y="83772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Благодарю за верного сторожа. Сплю спокойно.</a:t>
            </a:r>
            <a:br>
              <a:rPr sz="3200"/>
            </a:b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то отправи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Scanned at 03"/>
          <p:cNvPicPr/>
          <p:nvPr/>
        </p:nvPicPr>
        <p:blipFill>
          <a:blip r:embed="rId1"/>
          <a:stretch/>
        </p:blipFill>
        <p:spPr>
          <a:xfrm>
            <a:off x="1447920" y="0"/>
            <a:ext cx="627048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1800" y="83772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одила царица в ночь не то сына, не то дочь; не мышонка, не лягушку, а неведому  зверушку. 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му и от к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Scanned at 03"/>
          <p:cNvPicPr/>
          <p:nvPr/>
        </p:nvPicPr>
        <p:blipFill>
          <a:blip r:embed="rId1"/>
          <a:stretch/>
        </p:blipFill>
        <p:spPr>
          <a:xfrm>
            <a:off x="1447920" y="0"/>
            <a:ext cx="627048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71800" y="83772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Яблоко отравлено. Советую не есть.</a:t>
            </a:r>
            <a:br>
              <a:rPr sz="3200"/>
            </a:b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то кому отправи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Scanned at 03"/>
          <p:cNvPicPr/>
          <p:nvPr/>
        </p:nvPicPr>
        <p:blipFill>
          <a:blip r:embed="rId1"/>
          <a:stretch/>
        </p:blipFill>
        <p:spPr>
          <a:xfrm>
            <a:off x="1447920" y="0"/>
            <a:ext cx="627048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83772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Гроб разбился от удара. Невеста ожила. Скоро свадьба.</a:t>
            </a:r>
            <a:br>
              <a:rPr sz="3200"/>
            </a:b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то отправи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Scanned at 03"/>
          <p:cNvPicPr/>
          <p:nvPr/>
        </p:nvPicPr>
        <p:blipFill>
          <a:blip r:embed="rId1"/>
          <a:stretch/>
        </p:blipFill>
        <p:spPr>
          <a:xfrm>
            <a:off x="1447920" y="0"/>
            <a:ext cx="62704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1800" y="838080"/>
            <a:ext cx="312408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Пропали в чужой стране сыновья. Кто знает их местонахождение, сообщите.</a:t>
            </a:r>
            <a:br>
              <a:rPr sz="3200"/>
            </a:b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то отправи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426708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ит свеча. Ветер потряхивает ставни. Пушкин сидит за столом. Он обмакивает в чернильницу гусиное перо и пишет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цепи ходит кот кругом –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Не схоже ни с одним котом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аво - сказочку мурлычет,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Налево – песнь мяучит он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_47fbd8c910d20"/>
          <p:cNvPicPr/>
          <p:nvPr/>
        </p:nvPicPr>
        <p:blipFill>
          <a:blip r:embed="rId1"/>
          <a:srcRect l="9561" t="25725" r="0" b="0"/>
          <a:stretch/>
        </p:blipFill>
        <p:spPr>
          <a:xfrm>
            <a:off x="4878360" y="1293840"/>
            <a:ext cx="3998880" cy="4192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Scanned at 03"/>
          <p:cNvPicPr/>
          <p:nvPr/>
        </p:nvPicPr>
        <p:blipFill>
          <a:blip r:embed="rId1"/>
          <a:stretch/>
        </p:blipFill>
        <p:spPr>
          <a:xfrm>
            <a:off x="1447920" y="0"/>
            <a:ext cx="627048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83772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Хотел бежать, но запутался в своей бороде. Упал. Помогите.</a:t>
            </a:r>
            <a:br>
              <a:rPr sz="3200"/>
            </a:b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то отправи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Scanned at 03"/>
          <p:cNvPicPr/>
          <p:nvPr/>
        </p:nvPicPr>
        <p:blipFill>
          <a:blip r:embed="rId1"/>
          <a:stretch/>
        </p:blipFill>
        <p:spPr>
          <a:xfrm>
            <a:off x="1447920" y="0"/>
            <a:ext cx="627048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71800" y="83772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Приказываю: времени не тратя даром, и царицу, и приплод тайно бросить в бездну вод.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то и ко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Scanned at 03"/>
          <p:cNvPicPr/>
          <p:nvPr/>
        </p:nvPicPr>
        <p:blipFill>
          <a:blip r:embed="rId1"/>
          <a:stretch/>
        </p:blipFill>
        <p:spPr>
          <a:xfrm>
            <a:off x="1447920" y="0"/>
            <a:ext cx="62704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83772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Похищена дочь безвестной силой. Кто найдёт, тому отдам её в супруги и полцарства в придачу.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то ко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Scanned at 03"/>
          <p:cNvPicPr/>
          <p:nvPr/>
        </p:nvPicPr>
        <p:blipFill>
          <a:blip r:embed="rId1"/>
          <a:stretch/>
        </p:blipFill>
        <p:spPr>
          <a:xfrm>
            <a:off x="1447920" y="0"/>
            <a:ext cx="627048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71800" y="83772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Нужен работник: повар, конюх и плотник. Оплата за работу умеренная.</a:t>
            </a:r>
            <a:br>
              <a:rPr sz="3200"/>
            </a:b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то отправи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3434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же за полночь. Пушкин поставил точку. Оглядел обступивший его со всех сторон сказочный люд, посмотрел на них озорными глазами, улыбнулся и тихо сказал: «Обо всех напишу, никого не забуду. Дайте срок.»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54100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 теперь проверим, правильно ли команды разложили картинки со сказочными геро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f_47fbd8c910d20"/>
          <p:cNvPicPr/>
          <p:nvPr/>
        </p:nvPicPr>
        <p:blipFill>
          <a:blip r:embed="rId1"/>
          <a:srcRect l="9561" t="25725" r="0" b="0"/>
          <a:stretch/>
        </p:blipFill>
        <p:spPr>
          <a:xfrm>
            <a:off x="4952880" y="838080"/>
            <a:ext cx="3998880" cy="4192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Scanned at 03"/>
          <p:cNvPicPr/>
          <p:nvPr/>
        </p:nvPicPr>
        <p:blipFill>
          <a:blip r:embed="rId1"/>
          <a:stretch/>
        </p:blipFill>
        <p:spPr>
          <a:xfrm>
            <a:off x="228600" y="1295280"/>
            <a:ext cx="3851280" cy="5257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14" name="Picture 3" descr="Scanned at 03"/>
          <p:cNvPicPr/>
          <p:nvPr/>
        </p:nvPicPr>
        <p:blipFill>
          <a:blip r:embed="rId2"/>
          <a:stretch/>
        </p:blipFill>
        <p:spPr>
          <a:xfrm>
            <a:off x="5029200" y="1298520"/>
            <a:ext cx="3892680" cy="52545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52280" y="533160"/>
            <a:ext cx="4114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Для 1 коман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8840" y="533160"/>
            <a:ext cx="38098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Для 2 коман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2743200" y="1600200"/>
            <a:ext cx="38098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5757"/>
                    </a:gs>
                  </a:gsLst>
                  <a:lin ang="5400000"/>
                </a:gradFill>
                <a:latin typeface="Impact"/>
              </a:rPr>
              <a:t>Задание №3</a:t>
            </a:r>
            <a:endParaRPr b="0" lang="en-US" sz="22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ff5757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5757"/>
                    </a:gs>
                  </a:gsLst>
                  <a:lin ang="5400000"/>
                </a:gradFill>
                <a:latin typeface="Impact"/>
              </a:rPr>
              <a:t>для</a:t>
            </a:r>
            <a:endParaRPr b="0" lang="en-US" sz="22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ff5757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5757"/>
                    </a:gs>
                  </a:gsLst>
                  <a:lin ang="5400000"/>
                </a:gradFill>
                <a:latin typeface="Impact"/>
              </a:rPr>
              <a:t>команд</a:t>
            </a:r>
            <a:endParaRPr b="0" lang="en-US" sz="22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ff5757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ыбе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вой вопрос по известной сказке и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отве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на не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balda3"/>
          <p:cNvPicPr/>
          <p:nvPr/>
        </p:nvPicPr>
        <p:blipFill>
          <a:blip r:embed="rId1"/>
          <a:stretch/>
        </p:blipFill>
        <p:spPr>
          <a:xfrm>
            <a:off x="990720" y="1600200"/>
            <a:ext cx="2436840" cy="227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0" name="Picture 6" descr="normal_pushkin6"/>
          <p:cNvPicPr/>
          <p:nvPr/>
        </p:nvPicPr>
        <p:blipFill>
          <a:blip r:embed="rId2"/>
          <a:stretch/>
        </p:blipFill>
        <p:spPr>
          <a:xfrm>
            <a:off x="0" y="3811680"/>
            <a:ext cx="2368440" cy="3046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1" name="Picture 5" descr="kurkin_05"/>
          <p:cNvPicPr/>
          <p:nvPr/>
        </p:nvPicPr>
        <p:blipFill>
          <a:blip r:embed="rId3"/>
          <a:stretch/>
        </p:blipFill>
        <p:spPr>
          <a:xfrm>
            <a:off x="3352680" y="3429000"/>
            <a:ext cx="264348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2" name="Picture 7" descr="normal_pushkin7"/>
          <p:cNvPicPr/>
          <p:nvPr/>
        </p:nvPicPr>
        <p:blipFill>
          <a:blip r:embed="rId4"/>
          <a:stretch/>
        </p:blipFill>
        <p:spPr>
          <a:xfrm>
            <a:off x="5867280" y="1676520"/>
            <a:ext cx="237492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3" name="Picture 8" descr="Scanned at 03"/>
          <p:cNvPicPr/>
          <p:nvPr/>
        </p:nvPicPr>
        <p:blipFill>
          <a:blip r:embed="rId5"/>
          <a:stretch/>
        </p:blipFill>
        <p:spPr>
          <a:xfrm>
            <a:off x="6781680" y="4495680"/>
            <a:ext cx="2362320" cy="2362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04920" y="380880"/>
            <a:ext cx="8153280" cy="58676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304920" y="34290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>
            <a:off x="304920" y="1905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304920" y="48006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3809880" y="380880"/>
            <a:ext cx="0" cy="586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4952880" y="380880"/>
            <a:ext cx="0" cy="586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6172200" y="380880"/>
            <a:ext cx="0" cy="586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3"/>
          <p:cNvSpPr/>
          <p:nvPr/>
        </p:nvSpPr>
        <p:spPr>
          <a:xfrm>
            <a:off x="7391520" y="380880"/>
            <a:ext cx="0" cy="586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9"/>
          <p:cNvSpPr/>
          <p:nvPr/>
        </p:nvSpPr>
        <p:spPr>
          <a:xfrm>
            <a:off x="380880" y="60948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казка о царе Салтан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0"/>
          <p:cNvSpPr/>
          <p:nvPr/>
        </p:nvSpPr>
        <p:spPr>
          <a:xfrm>
            <a:off x="380880" y="2133720"/>
            <a:ext cx="3200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Сказка о мёртвой царевне и о семи богатыр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1"/>
          <p:cNvSpPr/>
          <p:nvPr/>
        </p:nvSpPr>
        <p:spPr>
          <a:xfrm>
            <a:off x="457200" y="3657600"/>
            <a:ext cx="320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Сказка о рыбаке и рыб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2"/>
          <p:cNvSpPr/>
          <p:nvPr/>
        </p:nvSpPr>
        <p:spPr>
          <a:xfrm>
            <a:off x="457200" y="4952880"/>
            <a:ext cx="3200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Сказка о золотом петуш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3"/>
          <p:cNvSpPr/>
          <p:nvPr/>
        </p:nvSpPr>
        <p:spPr>
          <a:xfrm>
            <a:off x="3962520" y="8380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4"/>
          <p:cNvSpPr/>
          <p:nvPr/>
        </p:nvSpPr>
        <p:spPr>
          <a:xfrm>
            <a:off x="3962520" y="24382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5"/>
          <p:cNvSpPr/>
          <p:nvPr/>
        </p:nvSpPr>
        <p:spPr>
          <a:xfrm>
            <a:off x="3962520" y="38098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6"/>
          <p:cNvSpPr/>
          <p:nvPr/>
        </p:nvSpPr>
        <p:spPr>
          <a:xfrm>
            <a:off x="3962520" y="525780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7"/>
          <p:cNvSpPr/>
          <p:nvPr/>
        </p:nvSpPr>
        <p:spPr>
          <a:xfrm>
            <a:off x="5181480" y="8380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8"/>
          <p:cNvSpPr/>
          <p:nvPr/>
        </p:nvSpPr>
        <p:spPr>
          <a:xfrm>
            <a:off x="5181480" y="24382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9"/>
          <p:cNvSpPr/>
          <p:nvPr/>
        </p:nvSpPr>
        <p:spPr>
          <a:xfrm>
            <a:off x="5105520" y="38098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0"/>
          <p:cNvSpPr/>
          <p:nvPr/>
        </p:nvSpPr>
        <p:spPr>
          <a:xfrm>
            <a:off x="5105520" y="525780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1"/>
          <p:cNvSpPr/>
          <p:nvPr/>
        </p:nvSpPr>
        <p:spPr>
          <a:xfrm>
            <a:off x="6400800" y="8380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2"/>
          <p:cNvSpPr/>
          <p:nvPr/>
        </p:nvSpPr>
        <p:spPr>
          <a:xfrm>
            <a:off x="6324480" y="24382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3"/>
          <p:cNvSpPr/>
          <p:nvPr/>
        </p:nvSpPr>
        <p:spPr>
          <a:xfrm>
            <a:off x="6324480" y="38098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4"/>
          <p:cNvSpPr/>
          <p:nvPr/>
        </p:nvSpPr>
        <p:spPr>
          <a:xfrm>
            <a:off x="6400800" y="525780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5"/>
          <p:cNvSpPr/>
          <p:nvPr/>
        </p:nvSpPr>
        <p:spPr>
          <a:xfrm>
            <a:off x="7543800" y="8380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6"/>
          <p:cNvSpPr/>
          <p:nvPr/>
        </p:nvSpPr>
        <p:spPr>
          <a:xfrm>
            <a:off x="7543800" y="24382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7"/>
          <p:cNvSpPr/>
          <p:nvPr/>
        </p:nvSpPr>
        <p:spPr>
          <a:xfrm>
            <a:off x="7543800" y="38098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8"/>
          <p:cNvSpPr/>
          <p:nvPr/>
        </p:nvSpPr>
        <p:spPr>
          <a:xfrm>
            <a:off x="7543800" y="525780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тупило утро. Голубеет высокое небо. Ослепительно белеют снега. Ночью пришла з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шкин в накинутом полушубке вышел на крыльцо и воскликнул: «Вот оно – моё Лукоморье! Здесь так глубоко и вольно дышится. Здесь тёплый дом, добрые соседи и старая няня моя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normal_pushkin1"/>
          <p:cNvPicPr/>
          <p:nvPr/>
        </p:nvPicPr>
        <p:blipFill>
          <a:blip r:embed="rId1"/>
          <a:stretch/>
        </p:blipFill>
        <p:spPr>
          <a:xfrm>
            <a:off x="1905120" y="3048120"/>
            <a:ext cx="5257800" cy="340344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41008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кунду помедлив, жирно перечеркнул написанное, улыбнулся и начал с новой строки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 Лукоморья дуб зелёный,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Златая цепь на дубе том…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крипнула дверь, и большой серый кот легко прыгнул на стол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лёгся среди бумаг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«Каков нахал», - подумал Пушкин, но перо уже вновь бежало по белому листу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 днём, и ночью кот учёный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Всё ходит по цепи кругом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skazka"/>
          <p:cNvPicPr/>
          <p:nvPr/>
        </p:nvPicPr>
        <p:blipFill>
          <a:blip r:embed="rId1"/>
          <a:stretch/>
        </p:blipFill>
        <p:spPr>
          <a:xfrm>
            <a:off x="5943600" y="1828800"/>
            <a:ext cx="2844720" cy="3548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524880" cy="9677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У Лукоморья дуб зелёный;</a:t>
            </a:r>
            <a:br>
              <a:rPr sz="3200"/>
            </a:b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Златая цепь на дубе том: </a:t>
            </a:r>
            <a:br>
              <a:rPr sz="3200"/>
            </a:b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И днём и ночью кот учёный</a:t>
            </a:r>
            <a:br>
              <a:rPr sz="3200"/>
            </a:b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Всё ходит по цепи кругом;</a:t>
            </a:r>
            <a:br>
              <a:rPr sz="3200"/>
            </a:b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Идёт направо – песнь заводит,</a:t>
            </a:r>
            <a:br>
              <a:rPr sz="3200"/>
            </a:b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Налево – сказку говор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381024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Правильно, молодец, Пушкин», - мурлыкающим басом сказал кот и закрыл глаза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Комната заполнилась неясными звуками, шорохами. Заколебалось пламя свечи. Запахло морем. Послышалась мерная, тяжёлая поступь, звякнули доспехи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kazki%20pouchkina"/>
          <p:cNvPicPr/>
          <p:nvPr/>
        </p:nvPicPr>
        <p:blipFill>
          <a:blip r:embed="rId1"/>
          <a:stretch/>
        </p:blipFill>
        <p:spPr>
          <a:xfrm>
            <a:off x="4572000" y="838080"/>
            <a:ext cx="4267080" cy="547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743200" y="1600200"/>
            <a:ext cx="38098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5757"/>
                    </a:gs>
                  </a:gsLst>
                  <a:lin ang="5400000"/>
                </a:gradFill>
                <a:latin typeface="Impact"/>
              </a:rPr>
              <a:t>Задание № 1</a:t>
            </a:r>
            <a:endParaRPr b="0" lang="en-US" sz="22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ff5757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5757"/>
                    </a:gs>
                  </a:gsLst>
                  <a:lin ang="5400000"/>
                </a:gradFill>
                <a:latin typeface="Impact"/>
              </a:rPr>
              <a:t>для</a:t>
            </a:r>
            <a:endParaRPr b="0" lang="en-US" sz="22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ff5757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5757"/>
                    </a:gs>
                  </a:gsLst>
                  <a:lin ang="5400000"/>
                </a:gradFill>
                <a:latin typeface="Impact"/>
              </a:rPr>
              <a:t>команд </a:t>
            </a:r>
            <a:endParaRPr b="0" lang="en-US" sz="22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ff5757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ставьт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тексты пропущенные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1)Ветер по морю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И кораблик …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Он бежит себе в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На поднятых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Мимо… круто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Мимо … большог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Пушки с … паля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Кораблю … вел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)Знайте, вот что не …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Ель в лесу, под елью …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Белка … по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И … всё грыз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А орешки не …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Всё … золоты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- чистый изумру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Вот что … зов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4267080" y="16765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"/>
          <p:cNvSpPr txBox="1"/>
          <p:nvPr/>
        </p:nvSpPr>
        <p:spPr>
          <a:xfrm>
            <a:off x="2743200" y="685800"/>
            <a:ext cx="38098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5757"/>
                    </a:gs>
                  </a:gsLst>
                  <a:lin ang="5400000"/>
                </a:gradFill>
                <a:latin typeface="Impact"/>
              </a:rPr>
              <a:t>Задание №1</a:t>
            </a:r>
            <a:endParaRPr b="0" lang="en-US" sz="22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ff5757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5757"/>
                    </a:gs>
                  </a:gsLst>
                  <a:lin ang="5400000"/>
                </a:gradFill>
                <a:latin typeface="Impact"/>
              </a:rPr>
              <a:t>для</a:t>
            </a:r>
            <a:endParaRPr b="0" lang="en-US" sz="22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ff5757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5757"/>
                    </a:gs>
                  </a:gsLst>
                  <a:lin ang="5400000"/>
                </a:gradFill>
                <a:latin typeface="Impact"/>
              </a:rPr>
              <a:t>зрителей</a:t>
            </a:r>
            <a:endParaRPr b="0" lang="en-US" sz="22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ff5757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45720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Чей литературный портр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й портр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Спит себе на солом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т за четвер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ает за семер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 светла всё у него пляш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ошадь запряжёт, полосу вспаш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чь затопит, всё заготовит, закуп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ичко испечёт, да сам и облупит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4-19T17:32:0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