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97BD-9CE6-447F-BCD1-7B844D616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BA0-6F57-450E-A487-393563169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FF4-4C18-49EC-BC1D-CD929F59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40D-A2FA-4AF9-856F-E8B8B18D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C83-DCA4-42F6-9F0E-C819A3B5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7AC-544B-42B9-9F54-84799051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0BF-3138-43C0-86D7-A34C24BA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851-138F-4882-8CD6-CF637662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31D-4C4D-4652-B2B7-6AC7694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2CF-E956-42CB-811E-02D2541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3E4-2B6D-4717-858A-1C6F91E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EF9-FDAE-4F28-A648-CCB2060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3E1-76F5-46CC-B9F8-5FC4D3B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9EE-D911-4BA4-A847-452FF24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8097-413F-42DF-AD8E-14EE1EB1E3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68360" y="404640"/>
            <a:ext cx="39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 увеличить на 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 уменьшить на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3 увеличить 2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 уменьшить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5 первое слагаемое, 16 второе слагаемое. Найти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первый множитель, 60 второй множитель. Найт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мое 560, делитель 40. Найти час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сколько раз 90 меньше 8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16360" y="333360"/>
            <a:ext cx="410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 увеличить на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5 уменьшить н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увеличить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 уменьшить 7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6 первое слагаемое, 32 второе слагаемое. Найти су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 первый множитель, 90 второй множитель. Найт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мое 360, делитель 30. Найти час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сколько раз 810 больше 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точек самопересечения имеют эти лин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32720" cy="2832120"/>
          </a:xfrm>
          <a:prstGeom prst="rect">
            <a:avLst/>
          </a:prstGeom>
          <a:ln w="0">
            <a:noFill/>
          </a:ln>
        </p:spPr>
      </p:pic>
      <p:sp>
        <p:nvSpPr>
          <p:cNvPr id="72" name="Oval 6"/>
          <p:cNvSpPr/>
          <p:nvPr/>
        </p:nvSpPr>
        <p:spPr>
          <a:xfrm>
            <a:off x="1403280" y="4076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971640" y="328464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835280" y="33577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2195640" y="4149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6948360" y="4292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3851280" y="443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4932360" y="443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529272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4427640" y="2781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356400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7885080" y="4365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8101080" y="386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9"/>
          <p:cNvSpPr/>
          <p:nvPr/>
        </p:nvSpPr>
        <p:spPr>
          <a:xfrm>
            <a:off x="802800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0"/>
          <p:cNvSpPr/>
          <p:nvPr/>
        </p:nvSpPr>
        <p:spPr>
          <a:xfrm>
            <a:off x="766764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1"/>
          <p:cNvSpPr/>
          <p:nvPr/>
        </p:nvSpPr>
        <p:spPr>
          <a:xfrm>
            <a:off x="716436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2"/>
          <p:cNvSpPr/>
          <p:nvPr/>
        </p:nvSpPr>
        <p:spPr>
          <a:xfrm>
            <a:off x="6804000" y="3357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3"/>
          <p:cNvSpPr/>
          <p:nvPr/>
        </p:nvSpPr>
        <p:spPr>
          <a:xfrm>
            <a:off x="6732720" y="3860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4"/>
          <p:cNvSpPr/>
          <p:nvPr/>
        </p:nvSpPr>
        <p:spPr>
          <a:xfrm>
            <a:off x="7380360" y="4508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954000" y="4640400"/>
            <a:ext cx="208080" cy="244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1836720" y="46688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44360" y="76500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шу подняться вас – это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лась голова – это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бок, вперед смотри – это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как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руки к плечам прижать – это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 тихо сесть – это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1125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рассмотрим изображ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формулируем последовательность выполнения постро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движение по узлам с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WordArt 5" descr=""/>
          <p:cNvPicPr/>
          <p:nvPr/>
        </p:nvPicPr>
        <p:blipFill>
          <a:blip r:embed="rId1"/>
          <a:stretch/>
        </p:blipFill>
        <p:spPr>
          <a:xfrm>
            <a:off x="371520" y="-49320"/>
            <a:ext cx="8613720" cy="126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rcRect l="0" t="26097" r="0" b="0"/>
          <a:stretch/>
        </p:blipFill>
        <p:spPr>
          <a:xfrm>
            <a:off x="2124000" y="3357720"/>
            <a:ext cx="39196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8893080" cy="313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306360" y="189000"/>
            <a:ext cx="883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916560" y="33336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мотрите на рисунок что вы можете с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karta-evreiskoj-ao.jpg"/>
          <p:cNvPicPr/>
          <p:nvPr/>
        </p:nvPicPr>
        <p:blipFill>
          <a:blip r:embed="rId1"/>
          <a:stretch/>
        </p:blipFill>
        <p:spPr>
          <a:xfrm>
            <a:off x="344520" y="885960"/>
            <a:ext cx="871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4880" cy="288144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2"/>
          <p:cNvSpPr/>
          <p:nvPr/>
        </p:nvSpPr>
        <p:spPr>
          <a:xfrm>
            <a:off x="3419640" y="2781360"/>
            <a:ext cx="1443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3"/>
          <p:cNvSpPr/>
          <p:nvPr/>
        </p:nvSpPr>
        <p:spPr>
          <a:xfrm>
            <a:off x="4067280" y="1628640"/>
            <a:ext cx="144360" cy="14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4"/>
          <p:cNvSpPr/>
          <p:nvPr/>
        </p:nvSpPr>
        <p:spPr>
          <a:xfrm>
            <a:off x="2268360" y="2421000"/>
            <a:ext cx="14292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"/>
          <p:cNvSpPr/>
          <p:nvPr/>
        </p:nvSpPr>
        <p:spPr>
          <a:xfrm>
            <a:off x="6875640" y="2492280"/>
            <a:ext cx="144360" cy="14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724360" y="3429000"/>
            <a:ext cx="14292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2484360" y="1916280"/>
            <a:ext cx="142920" cy="14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234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92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050920" y="2565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3348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867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680400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604800"/>
            <a:ext cx="8994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0"/>
          <p:cNvSpPr txBox="1"/>
          <p:nvPr/>
        </p:nvSpPr>
        <p:spPr>
          <a:xfrm>
            <a:off x="1476360" y="2725560"/>
            <a:ext cx="597708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Линии </a:t>
            </a:r>
            <a:endParaRPr b="1" lang="en-US" sz="6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в рисунках</a:t>
            </a:r>
            <a:endParaRPr b="1" lang="en-US" sz="6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 </a:t>
            </a:r>
            <a:endParaRPr b="1" lang="en-US" sz="6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0" y="3284640"/>
            <a:ext cx="9144000" cy="1123920"/>
            <a:chOff x="0" y="3284640"/>
            <a:chExt cx="9144000" cy="1123920"/>
          </a:xfrm>
        </p:grpSpPr>
        <p:pic>
          <p:nvPicPr>
            <p:cNvPr id="118" name="Picture 17" descr="Копия Копия Ограда набережной реки Мойки"/>
            <p:cNvPicPr/>
            <p:nvPr/>
          </p:nvPicPr>
          <p:blipFill>
            <a:blip r:embed="rId1"/>
            <a:stretch/>
          </p:blipFill>
          <p:spPr>
            <a:xfrm>
              <a:off x="8532720" y="3284640"/>
              <a:ext cx="6112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6" descr="Копия Ограда набережной реки Мойки"/>
            <p:cNvPicPr/>
            <p:nvPr/>
          </p:nvPicPr>
          <p:blipFill>
            <a:blip r:embed="rId2"/>
            <a:stretch/>
          </p:blipFill>
          <p:spPr>
            <a:xfrm>
              <a:off x="5637240" y="3306960"/>
              <a:ext cx="29671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5" descr="Копия Ограда набережной реки Мойки"/>
            <p:cNvPicPr/>
            <p:nvPr/>
          </p:nvPicPr>
          <p:blipFill>
            <a:blip r:embed="rId3"/>
            <a:stretch/>
          </p:blipFill>
          <p:spPr>
            <a:xfrm>
              <a:off x="2836800" y="3306960"/>
              <a:ext cx="296568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4" descr="Копия Ограда набережной реки Мойки"/>
            <p:cNvPicPr/>
            <p:nvPr/>
          </p:nvPicPr>
          <p:blipFill>
            <a:blip r:embed="rId4"/>
            <a:stretch/>
          </p:blipFill>
          <p:spPr>
            <a:xfrm>
              <a:off x="0" y="3306960"/>
              <a:ext cx="2967120" cy="110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4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313080" cy="14353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23" name="Rectangle 32"/>
          <p:cNvSpPr/>
          <p:nvPr/>
        </p:nvSpPr>
        <p:spPr>
          <a:xfrm>
            <a:off x="969840" y="5589720"/>
            <a:ext cx="30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амкну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148360" y="5662440"/>
            <a:ext cx="30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езамкну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684360" y="2060640"/>
            <a:ext cx="360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града набережной Кронверкского про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2940120" cy="1416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27" name="Rectangle 42"/>
          <p:cNvSpPr/>
          <p:nvPr/>
        </p:nvSpPr>
        <p:spPr>
          <a:xfrm>
            <a:off x="5398920" y="1989000"/>
            <a:ext cx="24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гр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оста Бел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6"/>
          <p:cNvSpPr/>
          <p:nvPr/>
        </p:nvSpPr>
        <p:spPr>
          <a:xfrm>
            <a:off x="2035080" y="3649680"/>
            <a:ext cx="376200" cy="67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1819440" y="3649680"/>
            <a:ext cx="376200" cy="67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8013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1. В рисунке какой ограды вы видите замкнутые, а в рисунке какой незамкнутые ли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4"/>
          <p:cNvSpPr/>
          <p:nvPr/>
        </p:nvSpPr>
        <p:spPr>
          <a:xfrm>
            <a:off x="6394320" y="3513240"/>
            <a:ext cx="281160" cy="760320"/>
          </a:xfrm>
          <a:custGeom>
            <a:avLst/>
            <a:gdLst>
              <a:gd name="textAreaLeft" fmla="*/ 0 w 281160"/>
              <a:gd name="textAreaRight" fmla="*/ 281520 w 2811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77" h="481">
                <a:moveTo>
                  <a:pt x="141" y="25"/>
                </a:moveTo>
                <a:cubicBezTo>
                  <a:pt x="149" y="28"/>
                  <a:pt x="155" y="33"/>
                  <a:pt x="149" y="46"/>
                </a:cubicBezTo>
                <a:cubicBezTo>
                  <a:pt x="148" y="48"/>
                  <a:pt x="147" y="50"/>
                  <a:pt x="147" y="50"/>
                </a:cubicBezTo>
                <a:cubicBezTo>
                  <a:pt x="140" y="52"/>
                  <a:pt x="129" y="53"/>
                  <a:pt x="128" y="50"/>
                </a:cubicBezTo>
                <a:cubicBezTo>
                  <a:pt x="116" y="46"/>
                  <a:pt x="122" y="43"/>
                  <a:pt x="116" y="40"/>
                </a:cubicBezTo>
                <a:cubicBezTo>
                  <a:pt x="115" y="35"/>
                  <a:pt x="114" y="34"/>
                  <a:pt x="114" y="29"/>
                </a:cubicBezTo>
                <a:cubicBezTo>
                  <a:pt x="114" y="27"/>
                  <a:pt x="116" y="16"/>
                  <a:pt x="116" y="16"/>
                </a:cubicBezTo>
                <a:cubicBezTo>
                  <a:pt x="119" y="11"/>
                  <a:pt x="120" y="11"/>
                  <a:pt x="122" y="11"/>
                </a:cubicBezTo>
                <a:cubicBezTo>
                  <a:pt x="124" y="11"/>
                  <a:pt x="125" y="17"/>
                  <a:pt x="126" y="16"/>
                </a:cubicBezTo>
                <a:cubicBezTo>
                  <a:pt x="128" y="12"/>
                  <a:pt x="123" y="9"/>
                  <a:pt x="128" y="7"/>
                </a:cubicBezTo>
                <a:cubicBezTo>
                  <a:pt x="133" y="5"/>
                  <a:pt x="149" y="0"/>
                  <a:pt x="156" y="4"/>
                </a:cubicBezTo>
                <a:cubicBezTo>
                  <a:pt x="169" y="13"/>
                  <a:pt x="174" y="11"/>
                  <a:pt x="174" y="29"/>
                </a:cubicBezTo>
                <a:cubicBezTo>
                  <a:pt x="172" y="33"/>
                  <a:pt x="176" y="32"/>
                  <a:pt x="176" y="37"/>
                </a:cubicBezTo>
                <a:cubicBezTo>
                  <a:pt x="177" y="38"/>
                  <a:pt x="174" y="42"/>
                  <a:pt x="174" y="45"/>
                </a:cubicBezTo>
                <a:cubicBezTo>
                  <a:pt x="175" y="50"/>
                  <a:pt x="170" y="60"/>
                  <a:pt x="168" y="68"/>
                </a:cubicBezTo>
                <a:cubicBezTo>
                  <a:pt x="166" y="75"/>
                  <a:pt x="162" y="82"/>
                  <a:pt x="159" y="89"/>
                </a:cubicBezTo>
                <a:cubicBezTo>
                  <a:pt x="153" y="92"/>
                  <a:pt x="153" y="106"/>
                  <a:pt x="149" y="112"/>
                </a:cubicBezTo>
                <a:cubicBezTo>
                  <a:pt x="147" y="116"/>
                  <a:pt x="165" y="76"/>
                  <a:pt x="143" y="124"/>
                </a:cubicBezTo>
                <a:lnTo>
                  <a:pt x="18" y="399"/>
                </a:lnTo>
                <a:cubicBezTo>
                  <a:pt x="11" y="404"/>
                  <a:pt x="11" y="409"/>
                  <a:pt x="9" y="416"/>
                </a:cubicBezTo>
                <a:cubicBezTo>
                  <a:pt x="6" y="419"/>
                  <a:pt x="2" y="430"/>
                  <a:pt x="2" y="430"/>
                </a:cubicBezTo>
                <a:cubicBezTo>
                  <a:pt x="1" y="434"/>
                  <a:pt x="2" y="438"/>
                  <a:pt x="2" y="442"/>
                </a:cubicBezTo>
                <a:cubicBezTo>
                  <a:pt x="2" y="446"/>
                  <a:pt x="0" y="450"/>
                  <a:pt x="2" y="454"/>
                </a:cubicBezTo>
                <a:cubicBezTo>
                  <a:pt x="4" y="458"/>
                  <a:pt x="9" y="464"/>
                  <a:pt x="12" y="467"/>
                </a:cubicBezTo>
                <a:cubicBezTo>
                  <a:pt x="13" y="472"/>
                  <a:pt x="23" y="475"/>
                  <a:pt x="23" y="475"/>
                </a:cubicBezTo>
                <a:cubicBezTo>
                  <a:pt x="42" y="481"/>
                  <a:pt x="50" y="474"/>
                  <a:pt x="63" y="463"/>
                </a:cubicBezTo>
                <a:cubicBezTo>
                  <a:pt x="66" y="460"/>
                  <a:pt x="61" y="463"/>
                  <a:pt x="62" y="461"/>
                </a:cubicBezTo>
                <a:cubicBezTo>
                  <a:pt x="63" y="459"/>
                  <a:pt x="66" y="455"/>
                  <a:pt x="66" y="451"/>
                </a:cubicBezTo>
                <a:cubicBezTo>
                  <a:pt x="66" y="447"/>
                  <a:pt x="66" y="437"/>
                  <a:pt x="62" y="434"/>
                </a:cubicBezTo>
                <a:cubicBezTo>
                  <a:pt x="61" y="428"/>
                  <a:pt x="42" y="431"/>
                  <a:pt x="42" y="431"/>
                </a:cubicBezTo>
                <a:cubicBezTo>
                  <a:pt x="37" y="432"/>
                  <a:pt x="41" y="443"/>
                  <a:pt x="41" y="445"/>
                </a:cubicBezTo>
                <a:cubicBezTo>
                  <a:pt x="41" y="447"/>
                  <a:pt x="44" y="445"/>
                  <a:pt x="44" y="445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65"/>
          <p:cNvSpPr/>
          <p:nvPr/>
        </p:nvSpPr>
        <p:spPr>
          <a:xfrm>
            <a:off x="6370560" y="3506760"/>
            <a:ext cx="292320" cy="758880"/>
          </a:xfrm>
          <a:custGeom>
            <a:avLst/>
            <a:gdLst>
              <a:gd name="textAreaLeft" fmla="*/ 0 w 292320"/>
              <a:gd name="textAreaRight" fmla="*/ 292680 w 2923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84" h="478">
                <a:moveTo>
                  <a:pt x="141" y="454"/>
                </a:moveTo>
                <a:cubicBezTo>
                  <a:pt x="149" y="451"/>
                  <a:pt x="155" y="446"/>
                  <a:pt x="149" y="433"/>
                </a:cubicBezTo>
                <a:cubicBezTo>
                  <a:pt x="148" y="431"/>
                  <a:pt x="147" y="429"/>
                  <a:pt x="147" y="429"/>
                </a:cubicBezTo>
                <a:cubicBezTo>
                  <a:pt x="140" y="427"/>
                  <a:pt x="129" y="426"/>
                  <a:pt x="128" y="429"/>
                </a:cubicBezTo>
                <a:cubicBezTo>
                  <a:pt x="116" y="433"/>
                  <a:pt x="122" y="436"/>
                  <a:pt x="116" y="439"/>
                </a:cubicBezTo>
                <a:cubicBezTo>
                  <a:pt x="115" y="444"/>
                  <a:pt x="114" y="445"/>
                  <a:pt x="114" y="450"/>
                </a:cubicBezTo>
                <a:cubicBezTo>
                  <a:pt x="114" y="452"/>
                  <a:pt x="116" y="463"/>
                  <a:pt x="116" y="463"/>
                </a:cubicBezTo>
                <a:cubicBezTo>
                  <a:pt x="119" y="468"/>
                  <a:pt x="120" y="468"/>
                  <a:pt x="122" y="468"/>
                </a:cubicBezTo>
                <a:cubicBezTo>
                  <a:pt x="124" y="468"/>
                  <a:pt x="125" y="462"/>
                  <a:pt x="126" y="463"/>
                </a:cubicBezTo>
                <a:cubicBezTo>
                  <a:pt x="128" y="467"/>
                  <a:pt x="123" y="470"/>
                  <a:pt x="128" y="472"/>
                </a:cubicBezTo>
                <a:cubicBezTo>
                  <a:pt x="133" y="474"/>
                  <a:pt x="147" y="478"/>
                  <a:pt x="156" y="475"/>
                </a:cubicBezTo>
                <a:cubicBezTo>
                  <a:pt x="169" y="466"/>
                  <a:pt x="180" y="470"/>
                  <a:pt x="180" y="452"/>
                </a:cubicBezTo>
                <a:cubicBezTo>
                  <a:pt x="184" y="452"/>
                  <a:pt x="183" y="450"/>
                  <a:pt x="183" y="448"/>
                </a:cubicBezTo>
                <a:cubicBezTo>
                  <a:pt x="183" y="446"/>
                  <a:pt x="183" y="439"/>
                  <a:pt x="183" y="437"/>
                </a:cubicBezTo>
                <a:cubicBezTo>
                  <a:pt x="184" y="436"/>
                  <a:pt x="180" y="436"/>
                  <a:pt x="180" y="433"/>
                </a:cubicBezTo>
                <a:cubicBezTo>
                  <a:pt x="181" y="428"/>
                  <a:pt x="171" y="418"/>
                  <a:pt x="168" y="411"/>
                </a:cubicBezTo>
                <a:cubicBezTo>
                  <a:pt x="165" y="404"/>
                  <a:pt x="162" y="397"/>
                  <a:pt x="159" y="390"/>
                </a:cubicBezTo>
                <a:cubicBezTo>
                  <a:pt x="153" y="387"/>
                  <a:pt x="153" y="373"/>
                  <a:pt x="149" y="367"/>
                </a:cubicBezTo>
                <a:cubicBezTo>
                  <a:pt x="147" y="363"/>
                  <a:pt x="165" y="403"/>
                  <a:pt x="143" y="356"/>
                </a:cubicBezTo>
                <a:lnTo>
                  <a:pt x="18" y="82"/>
                </a:lnTo>
                <a:cubicBezTo>
                  <a:pt x="11" y="77"/>
                  <a:pt x="11" y="72"/>
                  <a:pt x="9" y="65"/>
                </a:cubicBezTo>
                <a:cubicBezTo>
                  <a:pt x="6" y="62"/>
                  <a:pt x="2" y="51"/>
                  <a:pt x="2" y="51"/>
                </a:cubicBezTo>
                <a:cubicBezTo>
                  <a:pt x="1" y="47"/>
                  <a:pt x="2" y="43"/>
                  <a:pt x="2" y="39"/>
                </a:cubicBezTo>
                <a:cubicBezTo>
                  <a:pt x="2" y="35"/>
                  <a:pt x="0" y="31"/>
                  <a:pt x="2" y="27"/>
                </a:cubicBezTo>
                <a:cubicBezTo>
                  <a:pt x="4" y="23"/>
                  <a:pt x="9" y="17"/>
                  <a:pt x="12" y="14"/>
                </a:cubicBezTo>
                <a:cubicBezTo>
                  <a:pt x="13" y="9"/>
                  <a:pt x="23" y="6"/>
                  <a:pt x="23" y="6"/>
                </a:cubicBezTo>
                <a:cubicBezTo>
                  <a:pt x="42" y="0"/>
                  <a:pt x="50" y="7"/>
                  <a:pt x="63" y="18"/>
                </a:cubicBezTo>
                <a:cubicBezTo>
                  <a:pt x="66" y="21"/>
                  <a:pt x="61" y="18"/>
                  <a:pt x="62" y="20"/>
                </a:cubicBezTo>
                <a:cubicBezTo>
                  <a:pt x="63" y="22"/>
                  <a:pt x="66" y="26"/>
                  <a:pt x="66" y="30"/>
                </a:cubicBezTo>
                <a:cubicBezTo>
                  <a:pt x="66" y="34"/>
                  <a:pt x="66" y="44"/>
                  <a:pt x="62" y="47"/>
                </a:cubicBezTo>
                <a:cubicBezTo>
                  <a:pt x="61" y="53"/>
                  <a:pt x="42" y="50"/>
                  <a:pt x="42" y="50"/>
                </a:cubicBezTo>
                <a:cubicBezTo>
                  <a:pt x="37" y="49"/>
                  <a:pt x="41" y="38"/>
                  <a:pt x="41" y="36"/>
                </a:cubicBezTo>
                <a:cubicBezTo>
                  <a:pt x="41" y="34"/>
                  <a:pt x="44" y="36"/>
                  <a:pt x="44" y="36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68360" y="404640"/>
            <a:ext cx="395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716360" y="476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13240" cy="12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16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16872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24"/>
          <p:cNvSpPr/>
          <p:nvPr/>
        </p:nvSpPr>
        <p:spPr>
          <a:xfrm>
            <a:off x="255960" y="3789360"/>
            <a:ext cx="408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амкнут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опересе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4863960" y="3645000"/>
            <a:ext cx="402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амкнут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ез самопересе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29"/>
          <p:cNvCxnSpPr/>
          <p:nvPr/>
        </p:nvCxnSpPr>
        <p:spPr>
          <a:xfrm>
            <a:off x="6761160" y="10900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AutoShape 30"/>
          <p:cNvCxnSpPr/>
          <p:nvPr/>
        </p:nvCxnSpPr>
        <p:spPr>
          <a:xfrm>
            <a:off x="6760800" y="1090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AutoShape 37"/>
          <p:cNvCxnSpPr/>
          <p:nvPr/>
        </p:nvCxnSpPr>
        <p:spPr>
          <a:xfrm>
            <a:off x="2195640" y="91872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AutoShape 38"/>
          <p:cNvCxnSpPr/>
          <p:nvPr/>
        </p:nvCxnSpPr>
        <p:spPr>
          <a:xfrm>
            <a:off x="2195280" y="918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Freeform 40"/>
          <p:cNvSpPr/>
          <p:nvPr/>
        </p:nvSpPr>
        <p:spPr>
          <a:xfrm>
            <a:off x="1757520" y="1284120"/>
            <a:ext cx="269640" cy="1128960"/>
          </a:xfrm>
          <a:custGeom>
            <a:avLst/>
            <a:gdLst>
              <a:gd name="textAreaLeft" fmla="*/ 0 w 269640"/>
              <a:gd name="textAreaRight" fmla="*/ 270000 w 2696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170" h="711">
                <a:moveTo>
                  <a:pt x="44" y="58"/>
                </a:moveTo>
                <a:cubicBezTo>
                  <a:pt x="44" y="54"/>
                  <a:pt x="40" y="53"/>
                  <a:pt x="41" y="50"/>
                </a:cubicBezTo>
                <a:cubicBezTo>
                  <a:pt x="42" y="47"/>
                  <a:pt x="46" y="40"/>
                  <a:pt x="50" y="37"/>
                </a:cubicBezTo>
                <a:cubicBezTo>
                  <a:pt x="54" y="34"/>
                  <a:pt x="63" y="34"/>
                  <a:pt x="67" y="34"/>
                </a:cubicBezTo>
                <a:cubicBezTo>
                  <a:pt x="71" y="37"/>
                  <a:pt x="71" y="34"/>
                  <a:pt x="73" y="35"/>
                </a:cubicBezTo>
                <a:cubicBezTo>
                  <a:pt x="75" y="36"/>
                  <a:pt x="79" y="38"/>
                  <a:pt x="82" y="40"/>
                </a:cubicBezTo>
                <a:cubicBezTo>
                  <a:pt x="84" y="42"/>
                  <a:pt x="86" y="44"/>
                  <a:pt x="88" y="47"/>
                </a:cubicBezTo>
                <a:cubicBezTo>
                  <a:pt x="90" y="50"/>
                  <a:pt x="91" y="53"/>
                  <a:pt x="91" y="58"/>
                </a:cubicBezTo>
                <a:cubicBezTo>
                  <a:pt x="92" y="65"/>
                  <a:pt x="92" y="74"/>
                  <a:pt x="89" y="80"/>
                </a:cubicBezTo>
                <a:cubicBezTo>
                  <a:pt x="86" y="86"/>
                  <a:pt x="81" y="92"/>
                  <a:pt x="74" y="95"/>
                </a:cubicBezTo>
                <a:cubicBezTo>
                  <a:pt x="66" y="101"/>
                  <a:pt x="55" y="100"/>
                  <a:pt x="47" y="100"/>
                </a:cubicBezTo>
                <a:cubicBezTo>
                  <a:pt x="39" y="100"/>
                  <a:pt x="32" y="99"/>
                  <a:pt x="26" y="94"/>
                </a:cubicBezTo>
                <a:cubicBezTo>
                  <a:pt x="20" y="89"/>
                  <a:pt x="14" y="82"/>
                  <a:pt x="11" y="73"/>
                </a:cubicBezTo>
                <a:cubicBezTo>
                  <a:pt x="7" y="61"/>
                  <a:pt x="7" y="48"/>
                  <a:pt x="10" y="38"/>
                </a:cubicBezTo>
                <a:cubicBezTo>
                  <a:pt x="13" y="28"/>
                  <a:pt x="19" y="19"/>
                  <a:pt x="26" y="13"/>
                </a:cubicBezTo>
                <a:cubicBezTo>
                  <a:pt x="33" y="3"/>
                  <a:pt x="42" y="3"/>
                  <a:pt x="50" y="1"/>
                </a:cubicBezTo>
                <a:cubicBezTo>
                  <a:pt x="59" y="0"/>
                  <a:pt x="72" y="2"/>
                  <a:pt x="80" y="4"/>
                </a:cubicBezTo>
                <a:cubicBezTo>
                  <a:pt x="87" y="6"/>
                  <a:pt x="96" y="12"/>
                  <a:pt x="101" y="16"/>
                </a:cubicBezTo>
                <a:cubicBezTo>
                  <a:pt x="106" y="20"/>
                  <a:pt x="106" y="21"/>
                  <a:pt x="110" y="28"/>
                </a:cubicBezTo>
                <a:cubicBezTo>
                  <a:pt x="120" y="35"/>
                  <a:pt x="117" y="45"/>
                  <a:pt x="124" y="55"/>
                </a:cubicBezTo>
                <a:cubicBezTo>
                  <a:pt x="132" y="96"/>
                  <a:pt x="127" y="145"/>
                  <a:pt x="127" y="187"/>
                </a:cubicBezTo>
                <a:cubicBezTo>
                  <a:pt x="136" y="194"/>
                  <a:pt x="139" y="201"/>
                  <a:pt x="151" y="203"/>
                </a:cubicBezTo>
                <a:cubicBezTo>
                  <a:pt x="154" y="205"/>
                  <a:pt x="167" y="215"/>
                  <a:pt x="170" y="215"/>
                </a:cubicBezTo>
                <a:cubicBezTo>
                  <a:pt x="167" y="219"/>
                  <a:pt x="143" y="244"/>
                  <a:pt x="143" y="244"/>
                </a:cubicBezTo>
                <a:cubicBezTo>
                  <a:pt x="143" y="248"/>
                  <a:pt x="139" y="248"/>
                  <a:pt x="139" y="248"/>
                </a:cubicBezTo>
                <a:cubicBezTo>
                  <a:pt x="139" y="248"/>
                  <a:pt x="143" y="240"/>
                  <a:pt x="143" y="241"/>
                </a:cubicBezTo>
                <a:cubicBezTo>
                  <a:pt x="143" y="248"/>
                  <a:pt x="143" y="244"/>
                  <a:pt x="139" y="253"/>
                </a:cubicBezTo>
                <a:cubicBezTo>
                  <a:pt x="140" y="265"/>
                  <a:pt x="140" y="285"/>
                  <a:pt x="140" y="299"/>
                </a:cubicBezTo>
                <a:cubicBezTo>
                  <a:pt x="140" y="313"/>
                  <a:pt x="140" y="312"/>
                  <a:pt x="140" y="340"/>
                </a:cubicBezTo>
                <a:cubicBezTo>
                  <a:pt x="141" y="430"/>
                  <a:pt x="140" y="384"/>
                  <a:pt x="140" y="469"/>
                </a:cubicBezTo>
                <a:cubicBezTo>
                  <a:pt x="143" y="471"/>
                  <a:pt x="161" y="489"/>
                  <a:pt x="160" y="490"/>
                </a:cubicBezTo>
                <a:cubicBezTo>
                  <a:pt x="167" y="489"/>
                  <a:pt x="165" y="499"/>
                  <a:pt x="158" y="499"/>
                </a:cubicBezTo>
                <a:cubicBezTo>
                  <a:pt x="147" y="507"/>
                  <a:pt x="160" y="497"/>
                  <a:pt x="157" y="499"/>
                </a:cubicBezTo>
                <a:cubicBezTo>
                  <a:pt x="154" y="501"/>
                  <a:pt x="148" y="507"/>
                  <a:pt x="142" y="512"/>
                </a:cubicBezTo>
                <a:cubicBezTo>
                  <a:pt x="136" y="517"/>
                  <a:pt x="127" y="528"/>
                  <a:pt x="124" y="529"/>
                </a:cubicBezTo>
                <a:cubicBezTo>
                  <a:pt x="130" y="535"/>
                  <a:pt x="122" y="513"/>
                  <a:pt x="125" y="521"/>
                </a:cubicBezTo>
                <a:cubicBezTo>
                  <a:pt x="127" y="528"/>
                  <a:pt x="129" y="525"/>
                  <a:pt x="122" y="521"/>
                </a:cubicBezTo>
                <a:cubicBezTo>
                  <a:pt x="120" y="520"/>
                  <a:pt x="123" y="524"/>
                  <a:pt x="124" y="526"/>
                </a:cubicBezTo>
                <a:cubicBezTo>
                  <a:pt x="123" y="571"/>
                  <a:pt x="126" y="614"/>
                  <a:pt x="125" y="659"/>
                </a:cubicBezTo>
                <a:cubicBezTo>
                  <a:pt x="125" y="669"/>
                  <a:pt x="115" y="689"/>
                  <a:pt x="106" y="691"/>
                </a:cubicBezTo>
                <a:cubicBezTo>
                  <a:pt x="97" y="700"/>
                  <a:pt x="102" y="697"/>
                  <a:pt x="95" y="700"/>
                </a:cubicBezTo>
                <a:cubicBezTo>
                  <a:pt x="89" y="703"/>
                  <a:pt x="74" y="709"/>
                  <a:pt x="67" y="709"/>
                </a:cubicBezTo>
                <a:cubicBezTo>
                  <a:pt x="59" y="710"/>
                  <a:pt x="53" y="709"/>
                  <a:pt x="49" y="709"/>
                </a:cubicBezTo>
                <a:cubicBezTo>
                  <a:pt x="45" y="703"/>
                  <a:pt x="52" y="711"/>
                  <a:pt x="40" y="706"/>
                </a:cubicBezTo>
                <a:cubicBezTo>
                  <a:pt x="32" y="705"/>
                  <a:pt x="23" y="695"/>
                  <a:pt x="16" y="691"/>
                </a:cubicBezTo>
                <a:cubicBezTo>
                  <a:pt x="11" y="686"/>
                  <a:pt x="10" y="682"/>
                  <a:pt x="8" y="677"/>
                </a:cubicBezTo>
                <a:cubicBezTo>
                  <a:pt x="6" y="672"/>
                  <a:pt x="2" y="666"/>
                  <a:pt x="1" y="661"/>
                </a:cubicBezTo>
                <a:cubicBezTo>
                  <a:pt x="0" y="655"/>
                  <a:pt x="2" y="651"/>
                  <a:pt x="2" y="646"/>
                </a:cubicBezTo>
                <a:cubicBezTo>
                  <a:pt x="2" y="641"/>
                  <a:pt x="3" y="634"/>
                  <a:pt x="4" y="631"/>
                </a:cubicBezTo>
                <a:cubicBezTo>
                  <a:pt x="4" y="626"/>
                  <a:pt x="7" y="631"/>
                  <a:pt x="8" y="629"/>
                </a:cubicBezTo>
                <a:cubicBezTo>
                  <a:pt x="9" y="627"/>
                  <a:pt x="9" y="620"/>
                  <a:pt x="10" y="619"/>
                </a:cubicBezTo>
                <a:cubicBezTo>
                  <a:pt x="11" y="618"/>
                  <a:pt x="11" y="625"/>
                  <a:pt x="13" y="623"/>
                </a:cubicBezTo>
                <a:cubicBezTo>
                  <a:pt x="15" y="621"/>
                  <a:pt x="18" y="610"/>
                  <a:pt x="20" y="608"/>
                </a:cubicBezTo>
                <a:cubicBezTo>
                  <a:pt x="22" y="606"/>
                  <a:pt x="24" y="612"/>
                  <a:pt x="25" y="611"/>
                </a:cubicBezTo>
                <a:cubicBezTo>
                  <a:pt x="26" y="610"/>
                  <a:pt x="26" y="604"/>
                  <a:pt x="28" y="602"/>
                </a:cubicBezTo>
                <a:cubicBezTo>
                  <a:pt x="30" y="600"/>
                  <a:pt x="36" y="602"/>
                  <a:pt x="38" y="601"/>
                </a:cubicBezTo>
                <a:cubicBezTo>
                  <a:pt x="40" y="600"/>
                  <a:pt x="34" y="598"/>
                  <a:pt x="38" y="598"/>
                </a:cubicBezTo>
                <a:cubicBezTo>
                  <a:pt x="42" y="598"/>
                  <a:pt x="55" y="598"/>
                  <a:pt x="62" y="599"/>
                </a:cubicBezTo>
                <a:cubicBezTo>
                  <a:pt x="69" y="600"/>
                  <a:pt x="76" y="599"/>
                  <a:pt x="82" y="604"/>
                </a:cubicBezTo>
                <a:cubicBezTo>
                  <a:pt x="87" y="607"/>
                  <a:pt x="89" y="611"/>
                  <a:pt x="91" y="616"/>
                </a:cubicBezTo>
                <a:cubicBezTo>
                  <a:pt x="93" y="621"/>
                  <a:pt x="97" y="627"/>
                  <a:pt x="97" y="632"/>
                </a:cubicBezTo>
                <a:cubicBezTo>
                  <a:pt x="98" y="637"/>
                  <a:pt x="96" y="644"/>
                  <a:pt x="94" y="649"/>
                </a:cubicBezTo>
                <a:cubicBezTo>
                  <a:pt x="92" y="654"/>
                  <a:pt x="90" y="659"/>
                  <a:pt x="85" y="662"/>
                </a:cubicBezTo>
                <a:cubicBezTo>
                  <a:pt x="80" y="665"/>
                  <a:pt x="69" y="669"/>
                  <a:pt x="62" y="668"/>
                </a:cubicBezTo>
                <a:cubicBezTo>
                  <a:pt x="51" y="671"/>
                  <a:pt x="45" y="664"/>
                  <a:pt x="41" y="653"/>
                </a:cubicBezTo>
                <a:cubicBezTo>
                  <a:pt x="39" y="637"/>
                  <a:pt x="41" y="629"/>
                  <a:pt x="58" y="629"/>
                </a:cubicBezTo>
                <a:cubicBezTo>
                  <a:pt x="54" y="605"/>
                  <a:pt x="56" y="616"/>
                  <a:pt x="58" y="571"/>
                </a:cubicBezTo>
                <a:cubicBezTo>
                  <a:pt x="56" y="514"/>
                  <a:pt x="58" y="526"/>
                  <a:pt x="58" y="503"/>
                </a:cubicBezTo>
                <a:cubicBezTo>
                  <a:pt x="60" y="501"/>
                  <a:pt x="67" y="504"/>
                  <a:pt x="67" y="502"/>
                </a:cubicBezTo>
                <a:cubicBezTo>
                  <a:pt x="71" y="496"/>
                  <a:pt x="68" y="499"/>
                  <a:pt x="68" y="473"/>
                </a:cubicBezTo>
                <a:cubicBezTo>
                  <a:pt x="68" y="447"/>
                  <a:pt x="68" y="400"/>
                  <a:pt x="68" y="347"/>
                </a:cubicBezTo>
                <a:cubicBezTo>
                  <a:pt x="68" y="284"/>
                  <a:pt x="68" y="220"/>
                  <a:pt x="68" y="157"/>
                </a:cubicBezTo>
                <a:cubicBezTo>
                  <a:pt x="64" y="154"/>
                  <a:pt x="61" y="143"/>
                  <a:pt x="58" y="145"/>
                </a:cubicBezTo>
                <a:cubicBezTo>
                  <a:pt x="56" y="139"/>
                  <a:pt x="56" y="133"/>
                  <a:pt x="56" y="124"/>
                </a:cubicBezTo>
                <a:cubicBezTo>
                  <a:pt x="56" y="115"/>
                  <a:pt x="58" y="103"/>
                  <a:pt x="56" y="92"/>
                </a:cubicBezTo>
                <a:cubicBezTo>
                  <a:pt x="55" y="51"/>
                  <a:pt x="65" y="62"/>
                  <a:pt x="41" y="55"/>
                </a:cubicBezTo>
                <a:cubicBezTo>
                  <a:pt x="40" y="59"/>
                  <a:pt x="44" y="64"/>
                  <a:pt x="44" y="64"/>
                </a:cubicBezTo>
                <a:lnTo>
                  <a:pt x="44" y="58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0"/>
          <p:cNvGrpSpPr/>
          <p:nvPr/>
        </p:nvGrpSpPr>
        <p:grpSpPr>
          <a:xfrm>
            <a:off x="6282360" y="1341360"/>
            <a:ext cx="734400" cy="678600"/>
            <a:chOff x="6282360" y="1341360"/>
            <a:chExt cx="734400" cy="678600"/>
          </a:xfrm>
        </p:grpSpPr>
        <p:sp>
          <p:nvSpPr>
            <p:cNvPr id="143" name="Freeform 51"/>
            <p:cNvSpPr/>
            <p:nvPr/>
          </p:nvSpPr>
          <p:spPr>
            <a:xfrm>
              <a:off x="6863040" y="1346040"/>
              <a:ext cx="153720" cy="652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97" h="411">
                  <a:moveTo>
                    <a:pt x="97" y="0"/>
                  </a:moveTo>
                  <a:lnTo>
                    <a:pt x="67" y="34"/>
                  </a:lnTo>
                  <a:lnTo>
                    <a:pt x="49" y="61"/>
                  </a:lnTo>
                  <a:lnTo>
                    <a:pt x="36" y="85"/>
                  </a:lnTo>
                  <a:lnTo>
                    <a:pt x="19" y="120"/>
                  </a:lnTo>
                  <a:lnTo>
                    <a:pt x="4" y="175"/>
                  </a:lnTo>
                  <a:lnTo>
                    <a:pt x="0" y="223"/>
                  </a:lnTo>
                  <a:lnTo>
                    <a:pt x="9" y="283"/>
                  </a:lnTo>
                  <a:lnTo>
                    <a:pt x="24" y="327"/>
                  </a:lnTo>
                  <a:lnTo>
                    <a:pt x="45" y="370"/>
                  </a:lnTo>
                  <a:lnTo>
                    <a:pt x="85" y="411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6315120" y="1341360"/>
              <a:ext cx="696960" cy="123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439" h="78">
                  <a:moveTo>
                    <a:pt x="0" y="0"/>
                  </a:moveTo>
                  <a:lnTo>
                    <a:pt x="63" y="34"/>
                  </a:lnTo>
                  <a:lnTo>
                    <a:pt x="109" y="57"/>
                  </a:lnTo>
                  <a:lnTo>
                    <a:pt x="168" y="73"/>
                  </a:lnTo>
                  <a:lnTo>
                    <a:pt x="231" y="78"/>
                  </a:lnTo>
                  <a:lnTo>
                    <a:pt x="286" y="73"/>
                  </a:lnTo>
                  <a:lnTo>
                    <a:pt x="343" y="55"/>
                  </a:lnTo>
                  <a:lnTo>
                    <a:pt x="387" y="31"/>
                  </a:lnTo>
                  <a:lnTo>
                    <a:pt x="439" y="3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6286680" y="1353960"/>
              <a:ext cx="154080" cy="6526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97" h="411">
                  <a:moveTo>
                    <a:pt x="0" y="411"/>
                  </a:moveTo>
                  <a:lnTo>
                    <a:pt x="30" y="377"/>
                  </a:lnTo>
                  <a:lnTo>
                    <a:pt x="48" y="350"/>
                  </a:lnTo>
                  <a:lnTo>
                    <a:pt x="61" y="326"/>
                  </a:lnTo>
                  <a:lnTo>
                    <a:pt x="78" y="291"/>
                  </a:lnTo>
                  <a:lnTo>
                    <a:pt x="93" y="236"/>
                  </a:lnTo>
                  <a:lnTo>
                    <a:pt x="97" y="188"/>
                  </a:lnTo>
                  <a:lnTo>
                    <a:pt x="88" y="128"/>
                  </a:lnTo>
                  <a:lnTo>
                    <a:pt x="73" y="84"/>
                  </a:lnTo>
                  <a:lnTo>
                    <a:pt x="49" y="38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9"/>
            <p:cNvSpPr/>
            <p:nvPr/>
          </p:nvSpPr>
          <p:spPr>
            <a:xfrm rot="10621200">
              <a:off x="6284880" y="1877760"/>
              <a:ext cx="696960" cy="123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439" h="78">
                  <a:moveTo>
                    <a:pt x="0" y="0"/>
                  </a:moveTo>
                  <a:lnTo>
                    <a:pt x="63" y="34"/>
                  </a:lnTo>
                  <a:lnTo>
                    <a:pt x="109" y="57"/>
                  </a:lnTo>
                  <a:lnTo>
                    <a:pt x="168" y="73"/>
                  </a:lnTo>
                  <a:lnTo>
                    <a:pt x="231" y="78"/>
                  </a:lnTo>
                  <a:lnTo>
                    <a:pt x="286" y="73"/>
                  </a:lnTo>
                  <a:lnTo>
                    <a:pt x="343" y="55"/>
                  </a:lnTo>
                  <a:lnTo>
                    <a:pt x="387" y="31"/>
                  </a:lnTo>
                  <a:lnTo>
                    <a:pt x="439" y="3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24000" y="551664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езамкнутые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опересе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61080" y="5086440"/>
            <a:ext cx="374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езамкнутые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ез самопересе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539640" y="3483000"/>
            <a:ext cx="3657600" cy="117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Rectangle 16"/>
          <p:cNvSpPr/>
          <p:nvPr/>
        </p:nvSpPr>
        <p:spPr>
          <a:xfrm>
            <a:off x="554760" y="2006640"/>
            <a:ext cx="324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гр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лаговещенского м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5219640" y="2087640"/>
            <a:ext cx="295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града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учкова м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7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024360" cy="13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Rectangle 28"/>
          <p:cNvSpPr/>
          <p:nvPr/>
        </p:nvSpPr>
        <p:spPr>
          <a:xfrm>
            <a:off x="684360" y="547560"/>
            <a:ext cx="842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3. В рисунке какой ограды вы видите незамкнутые самопересекающиеся линии, а в рисунке какой ограды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—не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мкнутые без самопересеч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7" descr=""/>
          <p:cNvPicPr/>
          <p:nvPr/>
        </p:nvPicPr>
        <p:blipFill>
          <a:blip r:embed="rId3"/>
          <a:stretch/>
        </p:blipFill>
        <p:spPr>
          <a:xfrm>
            <a:off x="5219640" y="3357720"/>
            <a:ext cx="3024360" cy="13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116000" y="549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олжите фраз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258920" y="1844640"/>
            <a:ext cx="604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/>
          <p:cNvSpPr/>
          <p:nvPr/>
        </p:nvSpPr>
        <p:spPr>
          <a:xfrm>
            <a:off x="826920" y="1628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я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.1стр.5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.5,  14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090" t="17091" r="11445" b="48726"/>
          <a:stretch/>
        </p:blipFill>
        <p:spPr>
          <a:xfrm>
            <a:off x="250920" y="1197000"/>
            <a:ext cx="8642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187280" y="83664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на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D78-0DBA-4B78-B027-FE5E3D5E7EE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оединительная линия уступом 5"/>
          <p:cNvCxnSpPr/>
          <p:nvPr/>
        </p:nvCxnSpPr>
        <p:spPr>
          <a:xfrm flipH="1" flipV="1" rot="5400000">
            <a:off x="1403640" y="4148640"/>
            <a:ext cx="1656720" cy="1512000"/>
          </a:xfrm>
          <a:prstGeom prst="bentConnector3">
            <a:avLst>
              <a:gd name="adj1" fmla="val 49989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56" name="Прямоугольник 7"/>
          <p:cNvSpPr/>
          <p:nvPr/>
        </p:nvSpPr>
        <p:spPr>
          <a:xfrm>
            <a:off x="3908520" y="3319560"/>
            <a:ext cx="2160360" cy="165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8"/>
          <p:cNvSpPr/>
          <p:nvPr/>
        </p:nvSpPr>
        <p:spPr>
          <a:xfrm>
            <a:off x="6659640" y="5732640"/>
            <a:ext cx="165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 flipV="1">
            <a:off x="8027640" y="3933360"/>
            <a:ext cx="289080" cy="179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0"/>
          <p:cNvSpPr/>
          <p:nvPr/>
        </p:nvSpPr>
        <p:spPr>
          <a:xfrm flipH="1">
            <a:off x="6875280" y="3933720"/>
            <a:ext cx="115236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5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-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http://compendium.su/mathematics/mathematics5/mathematics5.files/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30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0" y="450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отличаются линии одной группы от друг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79280" y="522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те в тетради замкнутую линию ( 1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мкнутую линию (2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2"/>
          <p:cNvSpPr/>
          <p:nvPr/>
        </p:nvSpPr>
        <p:spPr>
          <a:xfrm>
            <a:off x="0" y="4149720"/>
            <a:ext cx="94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бщего у линий обеих груп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отличаются линии одной группы от линий другой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ompendium.su/mathematics/mathematics5/mathematics5.files/image004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замкнутые ли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замкнутые самопересекающиеся ли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мкнутые линии без самопересечени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1"/>
          <a:srcRect l="0" t="0" r="5537" b="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2"/>
          <p:cNvSpPr/>
          <p:nvPr/>
        </p:nvSpPr>
        <p:spPr>
          <a:xfrm>
            <a:off x="179280" y="112536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1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те в тетради замкнутую  самопересе-кающуюся ли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те в тетради незамкнутую самопересе-кающуюся ли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4:09:14Z</dcterms:created>
  <dc:creator>Людмила</dc:creator>
  <dc:description/>
  <dc:language>en-US</dc:language>
  <cp:lastModifiedBy>Катя</cp:lastModifiedBy>
  <dcterms:modified xsi:type="dcterms:W3CDTF">2019-10-17T10:04:31Z</dcterms:modified>
  <cp:revision>92</cp:revision>
  <dc:subject/>
  <dc:title>5 класс</dc:title>
</cp:coreProperties>
</file>