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07C-4A52-4BAE-A8EB-E64F3512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300-C01B-4A60-848F-D88A7AEC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A80-B251-4B7E-8F85-8D4F4BF4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8A0-20AD-4F0A-9D51-DD32E5FD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C69-0FFC-4E27-8144-4AB078B0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7A9-78F7-44DE-9C2A-7F990E78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1EA-2D7F-43C0-A90C-28D9FD41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AEC-C0D2-4775-A24C-EC4C1992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C49-967B-4974-B6DD-F713ABE9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AD9-F016-45CB-A427-9AEED20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C0F-C028-45A0-922E-34796ADA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9FF-5A2D-4C03-AC7C-3B25FF93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5528-B79F-4D99-B3FD-FC68F9CCA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_&#1080;&#1102;&#1083;&#1103;" TargetMode="External"/><Relationship Id="rId2" Type="http://schemas.openxmlformats.org/officeDocument/2006/relationships/hyperlink" Target="http://ru.wikipedia.org/wiki/1893_&#1075;&#1086;&#1076;" TargetMode="External"/><Relationship Id="rId3" Type="http://schemas.openxmlformats.org/officeDocument/2006/relationships/hyperlink" Target="http://ru.wikipedia.org/wiki/&#1041;&#1072;&#1075;&#1076;&#1072;&#1090;&#1080;" TargetMode="External"/><Relationship Id="rId4" Type="http://schemas.openxmlformats.org/officeDocument/2006/relationships/hyperlink" Target="http://ru.wikipedia.org/wiki/&#1050;&#1091;&#1090;&#1072;&#1080;&#1089;&#1089;&#1082;&#1072;&#1103;_&#1075;&#1091;&#1073;&#1077;&#1088;&#1085;&#1080;&#1103;" TargetMode="External"/><Relationship Id="rId5" Type="http://schemas.openxmlformats.org/officeDocument/2006/relationships/hyperlink" Target="http://ru.wikipedia.org/wiki/14_&#1072;&#1087;&#1088;&#1077;&#1083;&#1103;" TargetMode="External"/><Relationship Id="rId6" Type="http://schemas.openxmlformats.org/officeDocument/2006/relationships/hyperlink" Target="http://ru.wikipedia.org/wiki/1930_&#1075;&#1086;&#1076;" TargetMode="External"/><Relationship Id="rId7" Type="http://schemas.openxmlformats.org/officeDocument/2006/relationships/hyperlink" Target="http://ru.wikipedia.org/wiki/&#1052;&#1086;&#1089;&#1082;&#1074;&#1072;" TargetMode="External"/><Relationship Id="rId8" Type="http://schemas.openxmlformats.org/officeDocument/2006/relationships/hyperlink" Target="http://ru.wikipedia.org/wiki/&#1056;&#1091;&#1089;&#1089;&#1082;&#1080;&#1081;_&#1103;&#1079;&#1099;&#1082;" TargetMode="External"/><Relationship Id="rId9" Type="http://schemas.openxmlformats.org/officeDocument/2006/relationships/hyperlink" Target="http://ru.wikipedia.org/wiki/&#1057;&#1057;&#1057;&#1056;" TargetMode="External"/><Relationship Id="rId10" Type="http://schemas.openxmlformats.org/officeDocument/2006/relationships/hyperlink" Target="http://ru.wikipedia.org/wiki/&#1055;&#1086;&#1101;&#1090;" TargetMode="External"/><Relationship Id="rId11" Type="http://schemas.openxmlformats.org/officeDocument/2006/relationships/hyperlink" Target="http://ru.wikipedia.org/wiki/&#1044;&#1088;&#1072;&#1084;&#1072;&#1090;&#1091;&#1088;&#1075;" TargetMode="External"/><Relationship Id="rId12" Type="http://schemas.openxmlformats.org/officeDocument/2006/relationships/hyperlink" Target="http://ru.wikipedia.org/wiki/&#1050;&#1080;&#1085;&#1086;&#1089;&#1094;&#1077;&#1085;&#1072;&#1088;&#1080;&#1089;&#1090;" TargetMode="External"/><Relationship Id="rId13" Type="http://schemas.openxmlformats.org/officeDocument/2006/relationships/hyperlink" Target="http://ru.wikipedia.org/wiki/&#1050;&#1080;&#1085;&#1086;&#1088;&#1077;&#1078;&#1080;&#1089;&#1089;&#1105;&#1088;" TargetMode="External"/><Relationship Id="rId14" Type="http://schemas.openxmlformats.org/officeDocument/2006/relationships/hyperlink" Target="http://ru.wikipedia.org/wiki/&#1050;&#1080;&#1085;&#1086;&#1072;&#1082;&#1090;&#1105;&#1088;" TargetMode="External"/><Relationship Id="rId15" Type="http://schemas.openxmlformats.org/officeDocument/2006/relationships/hyperlink" Target="http://ru.wikipedia.org/wiki/&#1061;&#1091;&#1076;&#1086;&#1078;&#1085;&#1080;&#1082;" TargetMode="External"/><Relationship Id="rId16" Type="http://schemas.openxmlformats.org/officeDocument/2006/relationships/hyperlink" Target="http://ru.wikipedia.org/wiki/&#1056;&#1077;&#1076;&#1072;&#1082;&#1090;&#1086;&#1088;" TargetMode="External"/><Relationship Id="rId17" Type="http://schemas.openxmlformats.org/officeDocument/2006/relationships/hyperlink" Target="http://ru.wikipedia.org/wiki/&#1046;&#1091;&#1088;&#1085;&#1072;&#1083;" TargetMode="External"/><Relationship Id="rId18" Type="http://schemas.openxmlformats.org/officeDocument/2006/relationships/hyperlink" Target="http://ru.wikipedia.org/wiki/&#1051;&#1045;&#1060;" TargetMode="External"/><Relationship Id="rId19" Type="http://schemas.openxmlformats.org/officeDocument/2006/relationships/image" Target="../media/image2.jpeg"/><Relationship Id="rId20" Type="http://schemas.openxmlformats.org/officeDocument/2006/relationships/image" Target="../media/image3.jpe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XX_&#1074;&#1077;&#1082;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ru.wikipedia.org/wiki/&#1051;&#1072;&#1090;&#1080;&#1085;&#1089;&#1082;&#1080;&#1081;_&#1103;&#1079;&#1099;&#1082;" TargetMode="External"/><Relationship Id="rId5" Type="http://schemas.openxmlformats.org/officeDocument/2006/relationships/hyperlink" Target="http://ru.wikipedia.org/wiki/1910-&#1077;_&#1075;&#1086;&#1076;&#1099;" TargetMode="External"/><Relationship Id="rId6" Type="http://schemas.openxmlformats.org/officeDocument/2006/relationships/hyperlink" Target="http://ru.wikipedia.org/wiki/1920-&#1077;_&#1075;&#1086;&#1076;&#1099;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4508640"/>
            <a:ext cx="6613560" cy="1800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ди́мир Влади́мирович Маяко́вский</a:t>
            </a:r>
            <a:r>
              <a:rPr b="0" i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7  июля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1893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Багдади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Кутаисская губерния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4 апреля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1930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Москва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русский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советский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поэт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мимо поэзии ярко проявил себя как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драматург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киносценарист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кинорежиссёр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киноактёр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художник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редактор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журналов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/>
              </a:rPr>
              <a:t>ЛЕФ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(«Левый Фронт»), «Новый ЛЕФ».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C:\Users\Евгения\Desktop\Урок по Маяковскому\001409.jpg"/>
          <p:cNvPicPr/>
          <p:nvPr/>
        </p:nvPicPr>
        <p:blipFill>
          <a:blip r:embed="rId19"/>
          <a:stretch/>
        </p:blipFill>
        <p:spPr>
          <a:xfrm>
            <a:off x="2556000" y="260280"/>
            <a:ext cx="3240000" cy="403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Урок по Маяковскому\4fdcbe08e2b4a.jpg"/>
          <p:cNvPicPr/>
          <p:nvPr/>
        </p:nvPicPr>
        <p:blipFill>
          <a:blip r:embed="rId20"/>
          <a:stretch/>
        </p:blipFill>
        <p:spPr>
          <a:xfrm rot="20324400">
            <a:off x="372960" y="5983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1"/>
          <a:stretch/>
        </p:blipFill>
        <p:spPr>
          <a:xfrm rot="815400">
            <a:off x="6499080" y="514440"/>
            <a:ext cx="1852920" cy="252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79280" y="476280"/>
            <a:ext cx="849636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эзия - это и есть каждодневный, нелегкий труд ума и души.  Мы с вами разгадали метафору Маяковского. Поэзия нужна людям, чтобы просветлять их души. Появятся новые поэты, они принесут в поэзию новые темы, образы,  но завет Маяковского  «светить всегда, светить везде», пожалуй, самый точный и справедлив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аяковский имеет право сравнивать себя и свое творчество с солнцем. Он, действительно, великий и яркий поэт, оставивший неизгладимый след во всей русской и мировой культуре. И пусть его творчество и особый, ни на что не похожий поэтический стиль, многим не нравятся, кажутся непонятными, но, тем не менее, никто не остаётся к ним равнодушен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11080" y="3483000"/>
            <a:ext cx="1735200" cy="249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2367000" y="3578400"/>
            <a:ext cx="2103480" cy="307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4370400" y="4422600"/>
            <a:ext cx="1866960" cy="243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3"/>
          <p:cNvGrpSpPr/>
          <p:nvPr/>
        </p:nvGrpSpPr>
        <p:grpSpPr>
          <a:xfrm>
            <a:off x="103320" y="255600"/>
            <a:ext cx="4584600" cy="933480"/>
            <a:chOff x="103320" y="255600"/>
            <a:chExt cx="4584600" cy="933480"/>
          </a:xfrm>
        </p:grpSpPr>
        <p:pic>
          <p:nvPicPr>
            <p:cNvPr id="4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03320" y="255600"/>
              <a:ext cx="458460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08000" y="26028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С 1902 г. учился в гимназии в Кутаиси, затем в Москве, куда после смерти отца переехал вместе со своей семьей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" name="Рисунок 4" descr="C:\Users\Евгения\Desktop\Урок по Маяковскому\kmh-026.jpg"/>
          <p:cNvPicPr/>
          <p:nvPr/>
        </p:nvPicPr>
        <p:blipFill>
          <a:blip r:embed="rId2"/>
          <a:stretch/>
        </p:blipFill>
        <p:spPr>
          <a:xfrm>
            <a:off x="498600" y="1365120"/>
            <a:ext cx="2417760" cy="22798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-12600" y="3755880"/>
            <a:ext cx="3216240" cy="36828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Кутаисская гимназ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54000" y="4272120"/>
            <a:ext cx="4572000" cy="64260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1908 г. оставил гимназию, отдавшись   подпольной революционной рабо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Евгения\Desktop\img_8_3_1_5.jpeg"/>
          <p:cNvPicPr/>
          <p:nvPr/>
        </p:nvPicPr>
        <p:blipFill>
          <a:blip r:embed="rId3"/>
          <a:stretch/>
        </p:blipFill>
        <p:spPr>
          <a:xfrm>
            <a:off x="5711760" y="530280"/>
            <a:ext cx="2425680" cy="3225600"/>
          </a:xfrm>
          <a:prstGeom prst="rect">
            <a:avLst/>
          </a:prstGeom>
          <a:ln w="0">
            <a:noFill/>
          </a:ln>
        </p:spPr>
      </p:pic>
      <p:grpSp>
        <p:nvGrpSpPr>
          <p:cNvPr id="52" name="Прямоугольник 7"/>
          <p:cNvGrpSpPr/>
          <p:nvPr/>
        </p:nvGrpSpPr>
        <p:grpSpPr>
          <a:xfrm>
            <a:off x="4632480" y="3943440"/>
            <a:ext cx="4584600" cy="2324160"/>
            <a:chOff x="4632480" y="3943440"/>
            <a:chExt cx="4584600" cy="2324160"/>
          </a:xfrm>
        </p:grpSpPr>
        <p:pic>
          <p:nvPicPr>
            <p:cNvPr id="5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4632480" y="3943440"/>
              <a:ext cx="458460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638600" y="3949560"/>
              <a:ext cx="4572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В пятнадцатилетнем возрасте вступил в РСДРП(б) (Российскую социал-демократическую рабочую партию большевиков), выполнял пропагандистские задания. Трижды подвергался аресту, в 1909 г. сидел в Бутырской тюрьме в одиночной камере. Там и начал писать стихи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Прямоугольник 1"/>
          <p:cNvGrpSpPr/>
          <p:nvPr/>
        </p:nvGrpSpPr>
        <p:grpSpPr>
          <a:xfrm>
            <a:off x="244440" y="328680"/>
            <a:ext cx="4583160" cy="2933280"/>
            <a:chOff x="244440" y="328680"/>
            <a:chExt cx="4583160" cy="2933280"/>
          </a:xfrm>
        </p:grpSpPr>
        <p:pic>
          <p:nvPicPr>
            <p:cNvPr id="5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44440" y="328680"/>
              <a:ext cx="458316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50920" y="333360"/>
              <a:ext cx="4572000" cy="29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С 1911 г. занимался в Московском училище живописи, ваяния и зодчества, примкнув к 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кубофутуристам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(термин связан с тем, что поэты-футуристы выступали в тесном контакте с художниками-кубистами).Поэты и художники данного направления провозглашали низвержение форм и условностей искусства ради его сопряжения с прогрессом </a:t>
              </a: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  <a:hlinkClick r:id="rId2"/>
                </a:rPr>
                <a:t>XX века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Рисунок 2" descr="C:\Users\Евгения\Desktop\Урок по Маяковскому\000498.jpg"/>
          <p:cNvPicPr/>
          <p:nvPr/>
        </p:nvPicPr>
        <p:blipFill>
          <a:blip r:embed="rId3"/>
          <a:stretch/>
        </p:blipFill>
        <p:spPr>
          <a:xfrm>
            <a:off x="5940360" y="279360"/>
            <a:ext cx="2160720" cy="26384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0" y="3451320"/>
            <a:ext cx="4572000" cy="3202920"/>
          </a:xfrm>
          <a:prstGeom prst="rect">
            <a:avLst/>
          </a:prstGeom>
          <a:gradFill rotWithShape="0">
            <a:gsLst>
              <a:gs pos="0">
                <a:srgbClr val="d0c2e2"/>
              </a:gs>
              <a:gs pos="100000">
                <a:srgbClr val="f0ecf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тури́зм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лат.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r>
              <a:rPr b="1" i="1" lang="la-V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uturum — будущее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 — общее название художественных авангардистских движени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910-х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— начало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1920-х годов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прежде всего в 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Италии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оссии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Футуристов интересовало не столько содержание, сколько форма стихосложения. Они придумывали новые слова, использовали вульгарную лексику, профессиональный жаргон, язык документа, плаката и афиш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C:\Users\Евгения\Desktop\Урок по Маяковскому\1795945-db51593b6da05d73.jpg"/>
          <p:cNvPicPr/>
          <p:nvPr/>
        </p:nvPicPr>
        <p:blipFill>
          <a:blip r:embed="rId7"/>
          <a:stretch/>
        </p:blipFill>
        <p:spPr>
          <a:xfrm rot="20816400">
            <a:off x="4573440" y="3911760"/>
            <a:ext cx="2165400" cy="1622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C:\Users\Евгения\Desktop\Урок по Маяковскому\002485.jpg"/>
          <p:cNvPicPr/>
          <p:nvPr/>
        </p:nvPicPr>
        <p:blipFill>
          <a:blip r:embed="rId8"/>
          <a:stretch/>
        </p:blipFill>
        <p:spPr>
          <a:xfrm rot="636600">
            <a:off x="6808680" y="3429000"/>
            <a:ext cx="2165400" cy="3051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Прямоугольник 1"/>
          <p:cNvGrpSpPr/>
          <p:nvPr/>
        </p:nvGrpSpPr>
        <p:grpSpPr>
          <a:xfrm>
            <a:off x="4206960" y="755640"/>
            <a:ext cx="4583160" cy="1212840"/>
            <a:chOff x="4206960" y="755640"/>
            <a:chExt cx="4583160" cy="1212840"/>
          </a:xfrm>
        </p:grpSpPr>
        <p:pic>
          <p:nvPicPr>
            <p:cNvPr id="63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206960" y="755640"/>
              <a:ext cx="45831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211640" y="765000"/>
              <a:ext cx="45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В 1912 г. опубликовал первое стихотворение — «Ночь» — в футуристическом сборнике «Пощечина общественному вкусу»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" name="Рисунок 2" descr="C:\Users\Евгения\Desktop\Урок по Маяковскому\00192sgk.jpg"/>
          <p:cNvPicPr/>
          <p:nvPr/>
        </p:nvPicPr>
        <p:blipFill>
          <a:blip r:embed="rId2"/>
          <a:stretch/>
        </p:blipFill>
        <p:spPr>
          <a:xfrm rot="20745000">
            <a:off x="755280" y="202680"/>
            <a:ext cx="2165400" cy="2970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395280" y="3500280"/>
            <a:ext cx="4572000" cy="2837160"/>
          </a:xfrm>
          <a:prstGeom prst="rect">
            <a:avLst/>
          </a:prstGeom>
          <a:gradFill rotWithShape="0">
            <a:gsLst>
              <a:gs pos="0">
                <a:srgbClr val="886968"/>
              </a:gs>
              <a:gs pos="100000">
                <a:srgbClr val="e9b6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 трагичности существования человека при капитализме пронизывает крупнейшие вещи Маяковского предреволюционных лет — поэмы «Облако в штанах», «Флейта-позвоночник», «Война и мир». Уже тогда Маяковский стремился создать поэзию «площадей и улиц», обращенную к широким массам. Он верил в близость наступающей револю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Евгения\Desktop\161263.jpg"/>
          <p:cNvPicPr/>
          <p:nvPr/>
        </p:nvPicPr>
        <p:blipFill>
          <a:blip r:embed="rId3"/>
          <a:stretch/>
        </p:blipFill>
        <p:spPr>
          <a:xfrm rot="819000">
            <a:off x="5617800" y="2951280"/>
            <a:ext cx="262908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95280" y="404640"/>
            <a:ext cx="4572000" cy="2288520"/>
          </a:xfrm>
          <a:prstGeom prst="rect">
            <a:avLst/>
          </a:prstGeom>
          <a:gradFill rotWithShape="0">
            <a:gsLst>
              <a:gs pos="0">
                <a:srgbClr val="b5e6f5"/>
              </a:gs>
              <a:gs pos="100000">
                <a:srgbClr val="e8f6f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пос и лирика, разящая сатира и агитационные плакаты РОСТА (Российского телеграфного агентства) — на всем этом многообразии жанров Маяковского лежит печать его самобытности. В лирико-эпических поэмах «Владимир Ильич Ленин» и «Хорошо!» поэт воплотил  черты эпох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Евгения\Desktop\majk_lenin_001.jpg"/>
          <p:cNvPicPr/>
          <p:nvPr/>
        </p:nvPicPr>
        <p:blipFill>
          <a:blip r:embed="rId1"/>
          <a:stretch/>
        </p:blipFill>
        <p:spPr>
          <a:xfrm>
            <a:off x="5732640" y="260280"/>
            <a:ext cx="2361960" cy="3573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3419640" y="4076640"/>
            <a:ext cx="4572000" cy="1465560"/>
          </a:xfrm>
          <a:prstGeom prst="rect">
            <a:avLst/>
          </a:prstGeom>
          <a:gradFill rotWithShape="0">
            <a:gsLst>
              <a:gs pos="0">
                <a:srgbClr val="b5e6f5"/>
              </a:gs>
              <a:gs pos="100000">
                <a:srgbClr val="e8f6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930 году покончил жизнь самоубийством, не вынеся внутреннего конфликта с “бронзовым” советским веком, в 1930 г., похоронен на Новодевичьем кладбищ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C:\Users\Евгения\Desktop\Урок по Маяковскому\j5mmdhllc5gko0ty.jpg"/>
          <p:cNvPicPr/>
          <p:nvPr/>
        </p:nvPicPr>
        <p:blipFill>
          <a:blip r:embed="rId2"/>
          <a:stretch/>
        </p:blipFill>
        <p:spPr>
          <a:xfrm>
            <a:off x="390600" y="2873520"/>
            <a:ext cx="2592360" cy="3452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Прямоугольник 1"/>
          <p:cNvGrpSpPr/>
          <p:nvPr/>
        </p:nvGrpSpPr>
        <p:grpSpPr>
          <a:xfrm>
            <a:off x="-6480" y="396720"/>
            <a:ext cx="9017280" cy="1766880"/>
            <a:chOff x="-6480" y="396720"/>
            <a:chExt cx="9017280" cy="1766880"/>
          </a:xfrm>
        </p:grpSpPr>
        <p:pic>
          <p:nvPicPr>
            <p:cNvPr id="73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6480" y="396720"/>
              <a:ext cx="90172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40464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ее подробно познакомиться с биографией В.В. Маяковского помогут ресурсы, взятые из ФЦОР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http://fcior.edu.ru/card/28531/v-v-mayakovskiy-slovo-o-poete-bazovoe-izuchenie.htm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ово о поэте (ФЦИОР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http://fcior.edu.ru/card/28493/v-v-mayakovskiy-slovo-o-poete-chast-2-bazovoe-izuchenie.htm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ово о поэте, часть 2 (ФЦИОР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Прямоугольник 2"/>
          <p:cNvSpPr/>
          <p:nvPr/>
        </p:nvSpPr>
        <p:spPr>
          <a:xfrm>
            <a:off x="108000" y="2828880"/>
            <a:ext cx="8712000" cy="3080160"/>
          </a:xfrm>
          <a:prstGeom prst="rect">
            <a:avLst/>
          </a:pr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ы по теоретическому бло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им представляется вам поэт, исходя из некоторых представленных вам биографических сведений и портре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м заинтересовало вас авангардистское движение начала 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XX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а Футуриз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4"/>
          <p:cNvSpPr/>
          <p:nvPr/>
        </p:nvSpPr>
        <p:spPr>
          <a:xfrm>
            <a:off x="900000" y="333360"/>
            <a:ext cx="7559640" cy="94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енности поэтики стихотворе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В. Маяков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1092240" y="1722600"/>
            <a:ext cx="7175520" cy="405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лавное в стихотворении – РИТМ. Ритм его стихотворений уподобляется четкому размеренному человеческому шагу - именно двигаясь, размахивая руками и отрабатывая ритм, он и создавал свои необычные стих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Его стих называют ТОНИЧЕСКИМ. Что это значит? Поэт учитывал только ударные слоги. Количество безударных не  имело знач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ифма – необязательна. Главное – смысл, содерж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ение стиха напоминает лесенку, которая облегчает постановку логических ударений  в речи оратора, а именно оратором и был Маяковский, большинство своих произведений он читал со сцены для широкой аудитор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Прямоугольник 1"/>
          <p:cNvGrpSpPr/>
          <p:nvPr/>
        </p:nvGrpSpPr>
        <p:grpSpPr>
          <a:xfrm>
            <a:off x="3773520" y="109440"/>
            <a:ext cx="4584600" cy="2043360"/>
            <a:chOff x="3773520" y="109440"/>
            <a:chExt cx="4584600" cy="2043360"/>
          </a:xfrm>
        </p:grpSpPr>
        <p:pic>
          <p:nvPicPr>
            <p:cNvPr id="7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773520" y="109440"/>
              <a:ext cx="458460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780000" y="115920"/>
              <a:ext cx="4572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Поэт был  бесконечно требователен  к  себе,  ощущая  себя  «должником»  у  читателя, страны, вселенной и работая над созданием произведений, доводил себя до исступления ради одной единственной цели – достичь совершенства в форме стиха и его содержании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Прямоугольник 2"/>
          <p:cNvSpPr/>
          <p:nvPr/>
        </p:nvSpPr>
        <p:spPr>
          <a:xfrm>
            <a:off x="334440" y="2157480"/>
            <a:ext cx="6890760" cy="947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напишите синквейн о ваш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мании творчества В.В. Маяковск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90520" y="3573360"/>
            <a:ext cx="8496360" cy="2891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ИНКВЕЙН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приём технологии развития критического мышления на стадии рефлек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малая стихотворная форма, используемая для фиксации эмоциональных</a:t>
            </a:r>
            <a:r>
              <a:rPr b="1" i="1" lang="ru-RU" sz="16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ценок, описания своих текущих впечатлений, ощущений и ассоциа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роткое литературное произведение, характеризующее предмет (тему);              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произведение, состоящее  из пяти строк,  которое пишется по определённому план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это средство творческого самовыра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468360" y="196920"/>
            <a:ext cx="8675640" cy="4025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авила написания синквейна таков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В первой строчке записывается одно слово – существительное. Это и есть тема синквей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Во второй строчке пишутся два или три прилагательных, раскрывающих тему синквей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В третьей строчке записываются три глагола, описывающих действия, относящиеся к теме синквей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В четвертой строчке размещается целая фраза, предложение, состоящее из нескольких слов, с помощью которого учащийся характеризует тему в целом, высказывает свое отношение к теме, таким предложением может быть крылатое выражение, цитата, пословица или составленная самим учащимся фраза в контексте с тем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Пятая строчка – это слово-резюме, которое дает новую интерпретацию темы,  выражает личное отношение учащегося к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3276720" y="4213080"/>
            <a:ext cx="5184720" cy="2621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0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0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imes New Roman"/>
                <a:ea typeface="Calibri"/>
              </a:rPr>
              <a:t>ПОЭЗ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0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imes New Roman"/>
                <a:ea typeface="Calibri"/>
              </a:rPr>
              <a:t>Притягательная, загадочная, чарующ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0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imes New Roman"/>
                <a:ea typeface="Calibri"/>
              </a:rPr>
              <a:t>Вдохновляет, возвышает, зов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0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imes New Roman"/>
                <a:ea typeface="Calibri"/>
              </a:rPr>
              <a:t>Заставляет задуматься о смысле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0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imes New Roman"/>
                <a:ea typeface="Calibri"/>
              </a:rPr>
              <a:t>ВЕЧ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4:10:34Z</dcterms:created>
  <dc:creator>Евгения</dc:creator>
  <dc:description/>
  <dc:language>en-US</dc:language>
  <cp:lastModifiedBy>Валерия</cp:lastModifiedBy>
  <dcterms:modified xsi:type="dcterms:W3CDTF">2014-03-26T17:59:42Z</dcterms:modified>
  <cp:revision>45</cp:revision>
  <dc:subject/>
  <dc:title>Урок литературы в 7 классе «Поэт – солнце!» (по стихотворению В.В. Маяковского «Необычайное приключение, бывшее с Владимиром Маяковским летом на даче»)</dc:title>
</cp:coreProperties>
</file>