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661-798F-466A-B37B-79FB4719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E3F-9B2D-41A1-929A-087B222E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8B4-719A-4A96-9B7A-2B956D84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32A-4FA6-425E-AFB7-04633F7B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72A4-4471-4EEB-897B-F6F5958D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8A0B-E499-41EA-9718-4A5975D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AC8-1BFB-4E80-8CD8-67CD5FD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B57F-2A81-44BC-A306-00F17C1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AD7-C4E8-4279-BC36-9B9700B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A55-ECC5-4015-8ED2-9CB69F0B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352-8910-41A3-8633-3A763B4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47C-7B1F-4772-804C-FC3F7249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0438-50B3-4AAC-9C35-43D1055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B7FD-52E1-4BE8-A688-C375327C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9A4-7624-4CB2-A7F8-4A767B0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62E2-16B7-4387-B198-0D566CDB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D44F-8B48-4158-893B-89657088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E87B-D5B9-4DC4-83C4-74E5BB10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1559-1DCE-4D43-ADB4-F3FCAD8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86AE-68E9-40B1-9BA3-062FB03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912E-F750-4BE4-B361-8557954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8BC2-6932-41AC-A114-0C1DEE58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771-929E-49AC-9E45-3D3D865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91BB-3894-4C90-9A90-DBC595B0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59D9-216D-4189-8A7B-AB6E49F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F9C5-6207-4E70-BF85-D74655C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8EF2-C62B-49A4-8AC1-3D560F2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071F-19F6-4976-A80A-BA2B5223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AFC4-9063-41FC-A69B-84E224B5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C8D3-EA4A-4052-B3A8-DFE39ED2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70DB-83EB-420A-B41C-845CAD0C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5F55-16E5-41FC-8533-40F9605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2617-7ADC-4D3D-AE6C-E1369E62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818-6419-42DE-BECD-E9A67B6E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AF58-8491-4FC6-9DDC-1AD4083C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EF39-5B08-4283-B348-2970EFAF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A3A7-504F-4E1F-8396-6C8C323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4E5B-5317-444F-B892-87ACAA7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AC97-2815-4979-95BC-CBDF955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D09E-D780-4CD0-B2FD-065BBD2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06A3-14A1-47F1-B403-F76F8119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02DC-DDF5-45BE-8135-AAF6628A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9B11-C6D8-4422-871C-DDC21221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795A-1A4A-4C98-94B3-32887B94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B9E-ADE5-44F7-8CCD-B55298DF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8D5C-5D86-4664-8BDC-999903B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3F56-4E4E-408C-ADEC-2605A6AA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745FB-9462-4275-A212-6C3176A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940D-AF5E-421D-B2CB-05BAAD5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6C56-80D3-4FEE-9422-48655F9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008F-276C-47FE-A7E4-60C1508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B943-420B-42A8-8519-B39A272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18970-DD40-4F2A-A45E-9AFB01B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51C7-F87B-4EE1-A875-23D36EA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30D1-3442-49A9-9A88-9A1A5DC9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747-A311-4B43-9DE8-9DA342CF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640B4-B134-4052-BF87-01E0924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7BAA-1C98-480A-A9AD-F40DDF01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B76E-0CB0-42F7-8E39-2071AD11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8DDC-73B6-4251-9205-E8047C58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A519-B5A6-43B2-A25A-FB3F48E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D6FF-D0E2-4730-86BD-86BA11A2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EC3B-246E-4BC6-A769-9E0406B9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D20A7-11BA-48FD-91E9-B53EDF3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F142-DE2A-4068-AE77-770D443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0C5D-5AEF-4450-8539-BA42160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1B2-9619-4141-B115-79CE27A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A6C4-DE24-4B4A-93D1-8711126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1EE3-92D3-4ED2-A902-ACB5A255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532C-1B78-4DE0-9DF4-73B39BDD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6982F-EB51-46F3-A372-8C9BEA90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E843-6C5E-43EA-8639-2FDB4EBD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59FA4-8F16-4774-AC9F-1CC0356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4B88-DEF6-414E-89B2-3B9429E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E03B-831B-42B6-861A-92BB0056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B52D7-8DAD-43B1-8781-54CA7C8B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A5B63-2485-4650-989C-A6FFB6FA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CAD-A421-4015-9D12-F5FD8D2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0488-1E17-4170-A2EE-CA4E0B1F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1BE68-72F9-426F-8B26-6516581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B88E-0A35-420A-8423-4DE16CE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B0A8E-EBCD-4E15-A383-D763F2A7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F136A-0D73-47BA-B7E6-A34806F2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95734-3CA6-4C49-8DBC-32D05366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C699-4DF0-46CE-AFAF-B5531F35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4E96C-676B-4D70-80B6-ADA35D1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07EC-0B2E-481F-8C0F-BDD2664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B4419-30AD-4242-84A7-8771FB82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29F-C256-4893-A8C3-C309BE1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830C0-24FE-4680-9384-0D35F0C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29B42-75CC-4AB8-9016-A896403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57E8-639E-4A5B-9FFB-6197CFC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B1182-999C-4912-8490-A13B2AB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18F41-84F5-4BAE-BD20-3274A1D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9B32A-02B8-46AB-96CB-2C6DB86B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F8A65-24B1-4717-897A-8B0C3334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497B-8041-41B3-B6EB-3A1FD0D98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26c00"/>
              </a:gs>
              <a:gs pos="50000">
                <a:srgbClr val="ffb03f"/>
              </a:gs>
              <a:gs pos="100000">
                <a:srgbClr val="c26c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c9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16C-4438-40F5-81B7-FC0CC36D5E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A01-6B50-4ED2-A660-53DC0530D4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F111-F56E-4D0F-8304-95EF463E76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208-F21A-4080-A421-34BFEF2AB5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CBE-B725-469E-BBDE-C5D4F6D8BD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A612-60A9-423C-A3D5-AE783B1BB2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5719-45D2-4AFA-B384-D455F2BCDE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alexanderpushkin.ru/stikhi/141-besy-stikhotvorenie-1830.html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Users\user3\Desktop\П.jpg"/>
          <p:cNvPicPr/>
          <p:nvPr/>
        </p:nvPicPr>
        <p:blipFill>
          <a:blip r:embed="rId1"/>
          <a:stretch/>
        </p:blipFill>
        <p:spPr>
          <a:xfrm>
            <a:off x="5003640" y="1484280"/>
            <a:ext cx="3384720" cy="51465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4" descr=""/>
          <p:cNvPicPr/>
          <p:nvPr/>
        </p:nvPicPr>
        <p:blipFill>
          <a:blip r:embed="rId2"/>
          <a:stretch/>
        </p:blipFill>
        <p:spPr>
          <a:xfrm>
            <a:off x="-244440" y="-208080"/>
            <a:ext cx="95346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06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Николай Асеев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«Пушкин стал хозяином языка литературного, постигши все разнообразие сказок и пословиц, прибауток и присказок, заостренных рифмой и неожиданных по размеру. Соединение большой культуры речи с огромным чувственным ощущением жизни, с душевной возбудимостью общественной создало из пушкинского гения еще незнакомое России до его времени явление…»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(Из статьи «Грамотность и культура». 1957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«Пушкина не обоймешь словами. Так многопланово, разнообразно и безгранично его творчество, что человечество ещё века будет разбираться в оставленном им наследстве»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(Из статьи «Мысли о Пушкине».25 января1962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Н. В. Гоголь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«Пушкин есть явление чрезвычайное и, может быть единственное явление русского духа: это русский человек в его развитии, в каком он, может быть, явится через двести лет. В нем русская природа, русская душа, русский язык, русский характер отразились в такой же чистоте, в такой очищенной красоте, в какой отражается ландшафт на выпуклой поверхности оптического стекла»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Иннокентий Анненский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«…все, что было у нас до Пушкина, росло и тянулось именно к нему, к своему ещё не видному, но уже обещанному солнцу. Пушкин был завершителем старой Руси. Пушкин запечатлел эту Русь, радостный её долгим неслышным созреванием и бесконечно гордый её наконец-то из-под сказочных тряпиц засиявшим во лбу алмазом»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з статьи «Эстетика мертвых душ и её наследие». 1911.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1480680"/>
            <a:ext cx="5076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и приезды в Болдино, останавливаясь в усадьбе отца, А.С. Пушкин много и вдохновенно писал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динская осень – необычайно плодотворный период творчества А.С. Пушкин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ому подьему способствовала красота здешней природы, удаленность от мирской суеты и размеренный образ жизни русской глубинк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user3\Desktop\П2.jpg"/>
          <p:cNvPicPr/>
          <p:nvPr/>
        </p:nvPicPr>
        <p:blipFill>
          <a:blip r:embed="rId2"/>
          <a:stretch/>
        </p:blipFill>
        <p:spPr>
          <a:xfrm>
            <a:off x="5219640" y="14130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-360" y="1125360"/>
            <a:ext cx="5003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1125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это время были написан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коло тридцати стихотворений : 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Lucida Sans Unicode"/>
                <a:hlinkClick r:id="rId1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есы", "Элегия" («Безумных лет угасшее веселье…»), "Труд", "Ответ анониму", "Моя родословная", "Два чувства дивно близки нам…", "Рифма", "Прощание", "Заклинание", "На перевод Илиады", "Стихи, сочиненные ночью во время бессонницы"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«Повести Белкина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эма "Домик в Коломне"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ьесы "Каменный гость", "Моцарт и Сальери", "Пир во время чумы", "Скупой рыцарь"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е заключительные главы "Евгения Онегина"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"Сказка о попе и о работнике его Балде"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25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2"/>
          <a:stretch/>
        </p:blipFill>
        <p:spPr>
          <a:xfrm>
            <a:off x="249120" y="-85680"/>
            <a:ext cx="8444160" cy="151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user3\Desktop\П8.jpg"/>
          <p:cNvPicPr/>
          <p:nvPr/>
        </p:nvPicPr>
        <p:blipFill>
          <a:blip r:embed="rId3"/>
          <a:stretch/>
        </p:blipFill>
        <p:spPr>
          <a:xfrm>
            <a:off x="5351400" y="1268280"/>
            <a:ext cx="329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148104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свой приезд сюда в октябре 1833 г. Александром Сергеевичем были созданы: 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эмы "Медный всадник" и "Анджело"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весть "Пиковая дама"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"Сказка о мёртвой царевне и о семи богатырях" и "Сказка о рыбаке и рыбке"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кончена "История Пугачёва"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31840" y="-79200"/>
            <a:ext cx="8461440" cy="1506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user3\Desktop\П7.jpg"/>
          <p:cNvPicPr/>
          <p:nvPr/>
        </p:nvPicPr>
        <p:blipFill>
          <a:blip r:embed="rId2"/>
          <a:stretch/>
        </p:blipFill>
        <p:spPr>
          <a:xfrm>
            <a:off x="4572000" y="3573360"/>
            <a:ext cx="4267080" cy="306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C:\Users\user3\Desktop\П9.jpg"/>
          <p:cNvPicPr/>
          <p:nvPr/>
        </p:nvPicPr>
        <p:blipFill>
          <a:blip r:embed="rId3"/>
          <a:stretch/>
        </p:blipFill>
        <p:spPr>
          <a:xfrm>
            <a:off x="7020000" y="333360"/>
            <a:ext cx="1814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79280" y="1480680"/>
            <a:ext cx="864072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сенью 1834 года в Болдино Пушкиным была написана "Сказка о золотом петушке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5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user3\Desktop\П6.jpg"/>
          <p:cNvPicPr/>
          <p:nvPr/>
        </p:nvPicPr>
        <p:blipFill>
          <a:blip r:embed="rId2"/>
          <a:stretch/>
        </p:blipFill>
        <p:spPr>
          <a:xfrm>
            <a:off x="3203640" y="2349360"/>
            <a:ext cx="558000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148104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Посетив Болдино трижды, Пушкин ни разу не уехал отсюда без новой сказк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830-«Сказка о попе и его работнике Балде»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833-«Сказка о мертвой царевне и семи богатырях», «Сказка о рыбаке и рыбке»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834- «Сказка о золотом петушке»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19240" y="-225360"/>
            <a:ext cx="8638920" cy="1652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user3\Desktop\П4.jpg"/>
          <p:cNvPicPr/>
          <p:nvPr/>
        </p:nvPicPr>
        <p:blipFill>
          <a:blip r:embed="rId2"/>
          <a:stretch/>
        </p:blipFill>
        <p:spPr>
          <a:xfrm>
            <a:off x="4851360" y="549360"/>
            <a:ext cx="3805200" cy="2879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user3\Desktop\П5.jpg"/>
          <p:cNvPicPr/>
          <p:nvPr/>
        </p:nvPicPr>
        <p:blipFill>
          <a:blip r:embed="rId3"/>
          <a:stretch/>
        </p:blipFill>
        <p:spPr>
          <a:xfrm>
            <a:off x="4932360" y="3500280"/>
            <a:ext cx="377496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9T06:37:06Z</dcterms:created>
  <dc:creator>Морозова</dc:creator>
  <dc:description/>
  <dc:language>en-US</dc:language>
  <cp:lastModifiedBy>Морозова</cp:lastModifiedBy>
  <dcterms:modified xsi:type="dcterms:W3CDTF">2019-08-29T08:22:32Z</dcterms:modified>
  <cp:revision>12</cp:revision>
  <dc:subject/>
  <dc:title>220-летие  Александра Сергеевича  Пушкина</dc:title>
</cp:coreProperties>
</file>