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84FE-14BD-4B16-B9E3-90266984CF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42C-9DE5-4A1F-9BB9-FD36F8BCA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B5B4-38BD-4B31-9351-314B6A34F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54B-051A-4B22-BE44-DA29E6C0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C89-0101-4FCB-AABD-796479C4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ED4-D926-4B9E-A032-98E8C4DF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2B-C0F8-4745-B620-C69E45B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B42-1237-49C1-B152-16D5679B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125B-4D6F-4A67-9B12-8B3ECF5B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0585-9782-4B00-9264-3184C6A3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8569-7DC6-455B-9318-AFCA836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212A-B469-473E-B906-3ABED88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0CB-203F-4E86-AC6D-BF0814C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49E8-E706-4114-8A52-356EC4B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0EB-08C7-4D01-AD89-2E1537C9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BC0-31D7-4B56-97AC-7DE0EF2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A13B-FE16-4AFB-90A5-D9922CA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77B0-7B56-48E0-B1E9-E3DCDEF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6477-E2FB-476D-8A2E-1DE3C0DB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EC81-7FD3-4127-A938-351A76AF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19A1-978D-4C1D-9E30-CCA3FDA1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9E20-24A6-40EE-AB39-A992951F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C26F-1018-4515-93B9-577D33A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E08B-C382-43C6-84A2-6340AE5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3A1B-9E5D-4EF3-8A6B-B2537FF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906-ADE7-4A98-90FA-B43551A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561F-5C0C-4940-A88D-C51B427B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CCFA-E9B2-47EC-BCFD-4EB8AB4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A166-E35F-46A5-B92E-D4A0660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E39D-947A-4B5E-84C0-EA610CC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1072-2527-40DF-B4B3-8F4B72F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AE1E-7B09-4CDB-A52E-42E68889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1225-FED6-47DB-8A30-21420B42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35E-453D-4AD3-961A-99185955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366-0BC9-404A-BDBC-70DAA404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9FE-C236-49A1-ABDC-DBE4715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FA4-6B13-4DAD-A927-BDB2005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973-DA5F-4A1D-BD86-3DBF56C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959-1FC3-4D7E-AC57-C92FBE7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4357-65C7-4359-9444-C65580BC59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E83-64E0-4C24-868A-6EAB88402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CBC-CC09-4438-95C6-F99861E75C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.gi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4.gi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otki.yandex.ru/users/oli-el/view/184945/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fotki.yandex.ru/users/oli-el/view/184945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oli-el/view/184945/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fotki.yandex.ru/users/oli-el/view/184945/" TargetMode="Externa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fotki.yandex.ru/users/oli-el/view/184945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fotki.yandex.ru/users/oli-el/view/184945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5400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d06a8"/>
                </a:solidFill>
                <a:latin typeface="Arial"/>
              </a:rPr>
              <a:t>Значение сюжетно-ролевой игры в развитии дошкольн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635280" y="4581360"/>
            <a:ext cx="22305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87ac"/>
                </a:solidFill>
                <a:latin typeface="Arial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87ac"/>
                </a:solidFill>
                <a:latin typeface="Arial"/>
              </a:rPr>
              <a:t>Попсуйко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В мире животных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нципы формирования сюжетно-ролевой иг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91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  играет вместе с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ёртывает  игру  таким  образом,  чтобы  выделить  для  детей  именно  ролевое 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левое  поведение  ребёнка  сразу  ориентируется  на  партн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0_2d271_a4a4afcc_S"/>
          <p:cNvPicPr/>
          <p:nvPr/>
        </p:nvPicPr>
        <p:blipFill>
          <a:blip r:embed="rId1"/>
          <a:stretch/>
        </p:blipFill>
        <p:spPr>
          <a:xfrm flipH="1">
            <a:off x="7308720" y="18900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солнце-прозрачное"/>
          <p:cNvPicPr/>
          <p:nvPr/>
        </p:nvPicPr>
        <p:blipFill>
          <a:blip r:embed="rId2"/>
          <a:stretch/>
        </p:blipFill>
        <p:spPr>
          <a:xfrm>
            <a:off x="179280" y="189000"/>
            <a:ext cx="1008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Уровни игровой деятель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267920"/>
            <a:ext cx="7920360" cy="1029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, 5  – 3 года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е действия с игрушками и предметами-заместителями, выстраивая их в простейшую смысловую цепочку, вступая в кратковременное взаимодействие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Выноска со стрелкой вниз 10"/>
          <p:cNvSpPr/>
          <p:nvPr/>
        </p:nvSpPr>
        <p:spPr>
          <a:xfrm>
            <a:off x="468360" y="2852640"/>
            <a:ext cx="7920000" cy="1728720"/>
          </a:xfrm>
          <a:prstGeom prst="downArrowCallout">
            <a:avLst>
              <a:gd name="adj1" fmla="val -22179"/>
              <a:gd name="adj2" fmla="val 23289"/>
              <a:gd name="adj3" fmla="val 25000"/>
              <a:gd name="adj4" fmla="val 64977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– 5 лет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е принимать и последовательно менять игровые роли, реализовывать их через действия с предметами и ролевую речь, вступая в ролевое взаимодействие с партнёром-сверст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539640" y="4581360"/>
            <a:ext cx="7920000" cy="1224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– 7 ле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вёртывать в игре разнообразие по последовательности событий, комбинируя их  согласно своему замыслу и замыслам 2- 3  партнёров – сверстников. Реализовывать события через ролевые взаимодействия и предмет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108000" y="6093000"/>
            <a:ext cx="720720" cy="63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0_2d271_a4a4afcc_S"/>
          <p:cNvPicPr/>
          <p:nvPr/>
        </p:nvPicPr>
        <p:blipFill>
          <a:blip r:embed="rId2"/>
          <a:stretch/>
        </p:blipFill>
        <p:spPr>
          <a:xfrm>
            <a:off x="8172360" y="5950080"/>
            <a:ext cx="7923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5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3457800" cy="4740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2" descr=""/>
          <p:cNvPicPr/>
          <p:nvPr/>
        </p:nvPicPr>
        <p:blipFill>
          <a:blip r:embed="rId2"/>
          <a:stretch/>
        </p:blipFill>
        <p:spPr>
          <a:xfrm>
            <a:off x="581040" y="1413000"/>
            <a:ext cx="433548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92" name="Diagram 5"/>
          <p:cNvGrpSpPr/>
          <p:nvPr/>
        </p:nvGrpSpPr>
        <p:grpSpPr>
          <a:xfrm>
            <a:off x="638280" y="1395000"/>
            <a:ext cx="7691040" cy="4715280"/>
            <a:chOff x="638280" y="1395000"/>
            <a:chExt cx="7691040" cy="4715280"/>
          </a:xfrm>
        </p:grpSpPr>
        <p:sp>
          <p:nvSpPr>
            <p:cNvPr id="193" name="_s1028"/>
            <p:cNvSpPr/>
            <p:nvPr/>
          </p:nvSpPr>
          <p:spPr>
            <a:xfrm flipH="1" flipV="1">
              <a:off x="2631600" y="3162960"/>
              <a:ext cx="92880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29"/>
            <p:cNvSpPr/>
            <p:nvPr/>
          </p:nvSpPr>
          <p:spPr>
            <a:xfrm>
              <a:off x="638280" y="2280600"/>
              <a:ext cx="2138040" cy="1179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рикма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ерск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30"/>
            <p:cNvSpPr/>
            <p:nvPr/>
          </p:nvSpPr>
          <p:spPr>
            <a:xfrm flipH="1">
              <a:off x="2631600" y="4047120"/>
              <a:ext cx="931680" cy="29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1"/>
            <p:cNvSpPr/>
            <p:nvPr/>
          </p:nvSpPr>
          <p:spPr>
            <a:xfrm>
              <a:off x="641880" y="4048920"/>
              <a:ext cx="2137320" cy="1179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кол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2"/>
            <p:cNvSpPr/>
            <p:nvPr/>
          </p:nvSpPr>
          <p:spPr>
            <a:xfrm>
              <a:off x="4482720" y="4339080"/>
              <a:ext cx="2520" cy="59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3"/>
            <p:cNvSpPr/>
            <p:nvPr/>
          </p:nvSpPr>
          <p:spPr>
            <a:xfrm>
              <a:off x="3418200" y="4930920"/>
              <a:ext cx="2137320" cy="1179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иблиоте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4"/>
            <p:cNvSpPr/>
            <p:nvPr/>
          </p:nvSpPr>
          <p:spPr>
            <a:xfrm>
              <a:off x="5405400" y="4045320"/>
              <a:ext cx="92880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5"/>
            <p:cNvSpPr/>
            <p:nvPr/>
          </p:nvSpPr>
          <p:spPr>
            <a:xfrm>
              <a:off x="6192000" y="4047120"/>
              <a:ext cx="2137320" cy="1179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емь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6"/>
            <p:cNvSpPr/>
            <p:nvPr/>
          </p:nvSpPr>
          <p:spPr>
            <a:xfrm flipV="1">
              <a:off x="5405400" y="3162960"/>
              <a:ext cx="92880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7"/>
            <p:cNvSpPr/>
            <p:nvPr/>
          </p:nvSpPr>
          <p:spPr>
            <a:xfrm>
              <a:off x="6192000" y="2279160"/>
              <a:ext cx="2137320" cy="1179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кли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и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38"/>
            <p:cNvSpPr/>
            <p:nvPr/>
          </p:nvSpPr>
          <p:spPr>
            <a:xfrm flipV="1">
              <a:off x="4482720" y="2572200"/>
              <a:ext cx="0" cy="5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9"/>
            <p:cNvSpPr/>
            <p:nvPr/>
          </p:nvSpPr>
          <p:spPr>
            <a:xfrm>
              <a:off x="3415680" y="1395000"/>
              <a:ext cx="2137320" cy="1179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гази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40"/>
            <p:cNvSpPr/>
            <p:nvPr/>
          </p:nvSpPr>
          <p:spPr>
            <a:xfrm>
              <a:off x="3415680" y="3165120"/>
              <a:ext cx="2137320" cy="11790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левая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г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12" descr="солнце-прозрачное"/>
          <p:cNvPicPr/>
          <p:nvPr/>
        </p:nvPicPr>
        <p:blipFill>
          <a:blip r:embed="rId3"/>
          <a:stretch/>
        </p:blipFill>
        <p:spPr>
          <a:xfrm>
            <a:off x="468360" y="260280"/>
            <a:ext cx="1143000" cy="86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0_2d271_a4a4afcc_S"/>
          <p:cNvPicPr/>
          <p:nvPr/>
        </p:nvPicPr>
        <p:blipFill>
          <a:blip r:embed="rId4"/>
          <a:stretch/>
        </p:blipFill>
        <p:spPr>
          <a:xfrm flipH="1">
            <a:off x="7380360" y="260280"/>
            <a:ext cx="1039680" cy="839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ы игр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79640" y="228600"/>
            <a:ext cx="489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гази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560" y="1413000"/>
            <a:ext cx="403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сширять у детей представления о труде работников магазина. Формировать представление об отделах магазина (фрукты, овощи, хлебные изделия, молочные, колбасные, бытовая техника, игрушки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395280" y="189000"/>
            <a:ext cx="1224000" cy="1071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0_2d271_a4a4afcc_S"/>
          <p:cNvPicPr/>
          <p:nvPr/>
        </p:nvPicPr>
        <p:blipFill>
          <a:blip r:embed="rId2"/>
          <a:stretch/>
        </p:blipFill>
        <p:spPr>
          <a:xfrm flipH="1">
            <a:off x="7236000" y="189000"/>
            <a:ext cx="9712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гра «Каф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341000"/>
            <a:ext cx="41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я о труде людей разных профессий. Расширять представления о труде работников столовых, кафе. Развивать интерес и уважение к профессиям повара, официанта. Знакомство с правилами поведения в общественных места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гра «Театр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557360"/>
            <a:ext cx="41054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у детей представления о труде работников теа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воображение, мышление, речь; умение совместно развертывать игру, договариваться и обсуждать действия всех игр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 rot="1118400">
            <a:off x="4215960" y="184896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089080" cy="1541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187200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йте  детству  состоя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йте   детству   наигра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солнце-прозрачное"/>
          <p:cNvPicPr/>
          <p:nvPr/>
        </p:nvPicPr>
        <p:blipFill>
          <a:blip r:embed="rId3"/>
          <a:stretch/>
        </p:blipFill>
        <p:spPr>
          <a:xfrm>
            <a:off x="395280" y="1159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http://www.vospitalochka.ru/images/styles/nature/misc/fhl.png"/>
          <p:cNvPicPr/>
          <p:nvPr/>
        </p:nvPicPr>
        <p:blipFill>
          <a:blip r:embed="rId4"/>
          <a:stretch/>
        </p:blipFill>
        <p:spPr>
          <a:xfrm>
            <a:off x="6084720" y="189000"/>
            <a:ext cx="1873440" cy="1212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ttp://detsad-kitty.ru/templates/Default/images/disney255.gif"/>
          <p:cNvPicPr/>
          <p:nvPr/>
        </p:nvPicPr>
        <p:blipFill>
          <a:blip r:embed="rId5"/>
          <a:stretch/>
        </p:blipFill>
        <p:spPr>
          <a:xfrm>
            <a:off x="2340000" y="115920"/>
            <a:ext cx="990720" cy="107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6588000" y="414972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tretch/>
        </p:blipFill>
        <p:spPr>
          <a:xfrm>
            <a:off x="684360" y="3645000"/>
            <a:ext cx="1892160" cy="2154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0_2d271_a4a4afcc_S"/>
          <p:cNvPicPr/>
          <p:nvPr/>
        </p:nvPicPr>
        <p:blipFill>
          <a:blip r:embed="rId8"/>
          <a:stretch/>
        </p:blipFill>
        <p:spPr>
          <a:xfrm flipH="1">
            <a:off x="4211640" y="1159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В мире животных.mp3" descr=""/>
          <p:cNvPicPr/>
          <p:nvPr/>
        </p:nvPicPr>
        <p:blipFill>
          <a:blip r:embed="rId9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6"/>
          <p:cNvSpPr txBox="1"/>
          <p:nvPr/>
        </p:nvSpPr>
        <p:spPr>
          <a:xfrm>
            <a:off x="2124000" y="234936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95280" y="1859040"/>
            <a:ext cx="3672000" cy="3298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южетно-ролевая игра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79640" y="1341000"/>
            <a:ext cx="489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сновной вид игры ребенка дошкольного возра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южетно-ролевая иг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т огромное значение в формировании личности ребенка, в его психическом развит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0_2d271_a4a4afcc_S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380360" y="18900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солнце-прозрачное"/>
          <p:cNvPicPr/>
          <p:nvPr/>
        </p:nvPicPr>
        <p:blipFill>
          <a:blip r:embed="rId4"/>
          <a:stretch/>
        </p:blipFill>
        <p:spPr>
          <a:xfrm>
            <a:off x="0" y="189000"/>
            <a:ext cx="1224000" cy="10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точник и компоненты иг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74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ой источник иг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окружающий его мир, жизнь и деятельность взрослых и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0" y="189000"/>
            <a:ext cx="12240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0_2d271_a4a4afcc_S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811640" y="189000"/>
            <a:ext cx="97164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южет иг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южет иг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сфера действительности, которая воспроизводится деть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южеты игр разнообразны. Условно их делят на бытовые (игры в семью, детский сад), производственные, отражающие профессиональный труд людей (игры в больницу, магазин и т. д.), общественные (игры в празднование Дня рождения города, в библиотеку, школу и т.д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1" descr="0_2d271_a4a4afcc_S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7164360" y="18900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солнце-прозрачное"/>
          <p:cNvPicPr/>
          <p:nvPr/>
        </p:nvPicPr>
        <p:blipFill>
          <a:blip r:embed="rId3"/>
          <a:stretch/>
        </p:blipFill>
        <p:spPr>
          <a:xfrm>
            <a:off x="395280" y="189000"/>
            <a:ext cx="1224000" cy="107136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>
            <a:hlinkClick r:id="rId4" action="ppaction://hlinksldjump"/>
          </p:cNvPr>
          <p:cNvSpPr/>
          <p:nvPr/>
        </p:nvSpPr>
        <p:spPr>
          <a:xfrm>
            <a:off x="7885080" y="6381720"/>
            <a:ext cx="934920" cy="287280"/>
          </a:xfrm>
          <a:prstGeom prst="leftArrow">
            <a:avLst>
              <a:gd name="adj1" fmla="val 50000"/>
              <a:gd name="adj2" fmla="val 8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держание иг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иг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заимосвязь игровых действий, взаимоотношения детей. Содержание игры делает ее привлекательной, возбуждает интерес и желание играть. По содержанию игры детей младшего дошкольного возраста отличаются от игр детей, более старшего возраста. Эти отличия связаны с опытом, особенностями развития воображения, мышления,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0" y="115920"/>
            <a:ext cx="1224000" cy="107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0_2d271_a4a4afcc_S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020000" y="189000"/>
            <a:ext cx="1116000" cy="1047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>
            <a:hlinkClick r:id="rId4" action="ppaction://hlinksldjump"/>
          </p:cNvPr>
          <p:cNvSpPr/>
          <p:nvPr/>
        </p:nvSpPr>
        <p:spPr>
          <a:xfrm>
            <a:off x="7596360" y="6381720"/>
            <a:ext cx="936360" cy="287280"/>
          </a:xfrm>
          <a:prstGeom prst="leftArrow">
            <a:avLst>
              <a:gd name="adj1" fmla="val 50000"/>
              <a:gd name="adj2" fmla="val 81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09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Роль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средство реализации сюжета и главный компонент сюжетно-ролевой игры. Для ребенка роль - это его игровая позиция: он соотносит себя с каким-либо персонажем сюжета и действует в соответствии с данным персонажем. Роль содержит свои правила поведения, взятые ребенком из окружающей жизни, заимствованные из отношений в мире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395280" y="24120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0_2d271_a4a4afcc_S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020000" y="18900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начимость игры в педагогическом процессе ДО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средство развит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средств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форма организации детского об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способ обучения и само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средство коррекции развития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диагностическое сре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психотерапевтическое сре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" descr="солнце-прозрачное"/>
          <p:cNvPicPr/>
          <p:nvPr/>
        </p:nvPicPr>
        <p:blipFill>
          <a:blip r:embed="rId1"/>
          <a:stretch/>
        </p:blipFill>
        <p:spPr>
          <a:xfrm>
            <a:off x="108000" y="18900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0_2d271_a4a4afcc_S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667640" y="551664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южетно-ролевая игра –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оролева игр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46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 потенциальные возможност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решающее значение для психического развития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формой моделирования ребёнком социальных отно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дает уникальными особенностями, своеобразной структурой, специфическими чертами, которые отличают её от других видов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http://detsad-kitty.ru/templates/Default/images/disney255.gif"/>
          <p:cNvPicPr/>
          <p:nvPr/>
        </p:nvPicPr>
        <p:blipFill>
          <a:blip r:embed="rId1"/>
          <a:stretch/>
        </p:blipFill>
        <p:spPr>
          <a:xfrm>
            <a:off x="7164360" y="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солнце-прозрачное"/>
          <p:cNvPicPr/>
          <p:nvPr/>
        </p:nvPicPr>
        <p:blipFill>
          <a:blip r:embed="rId2"/>
          <a:stretch/>
        </p:blipFill>
        <p:spPr>
          <a:xfrm>
            <a:off x="250920" y="189000"/>
            <a:ext cx="1081080" cy="946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0_2d271_a4a4afcc_S"/>
          <p:cNvPicPr/>
          <p:nvPr/>
        </p:nvPicPr>
        <p:blipFill>
          <a:blip r:embed="rId3"/>
          <a:stretch/>
        </p:blipFill>
        <p:spPr>
          <a:xfrm flipH="1">
            <a:off x="7308720" y="537372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265480" cy="24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216160" cy="1805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Характеристики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южетно-ролевой иг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619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сувер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ном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(импровизац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высокого эмоционального напря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бы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солнце-прозрачное"/>
          <p:cNvPicPr/>
          <p:nvPr/>
        </p:nvPicPr>
        <p:blipFill>
          <a:blip r:embed="rId3"/>
          <a:stretch/>
        </p:blipFill>
        <p:spPr>
          <a:xfrm>
            <a:off x="395280" y="18900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0_2d271_a4a4afcc_S"/>
          <p:cNvPicPr/>
          <p:nvPr/>
        </p:nvPicPr>
        <p:blipFill>
          <a:blip r:embed="rId4"/>
          <a:stretch/>
        </p:blipFill>
        <p:spPr>
          <a:xfrm flipH="1">
            <a:off x="7020000" y="18900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3:07:36Z</dcterms:created>
  <dc:creator>user</dc:creator>
  <dc:description/>
  <dc:language>en-US</dc:language>
  <cp:lastModifiedBy>home</cp:lastModifiedBy>
  <dcterms:modified xsi:type="dcterms:W3CDTF">2019-10-17T06:01:04Z</dcterms:modified>
  <cp:revision>57</cp:revision>
  <dc:subject/>
  <dc:title>Слайд 1</dc:title>
</cp:coreProperties>
</file>