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2B4-4834-482A-BF4C-7360A64D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932-C7E5-4FA0-A517-7C74BD90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601-228B-4FCC-B904-615181A8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374-E481-4CD5-81BF-0E887C6B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2FF-C865-4E57-893D-86D6A3C1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569-4B79-4839-8D2C-A833F283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A78-32FE-4B0B-A876-01B32981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64A-59AF-4508-A9A8-701E329E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D55-0929-443D-93AF-A725B5A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E68-74C4-4E51-8935-4C277A7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214-C867-4170-A10A-78CCA5BF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579-5818-487A-BB98-8E3C8EFC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7026-B016-4A30-8006-44ACF5C59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75;&#1080;&#1084;&#1085;&#1072;&#1089;&#1090;&#1080;&#1082;&#1072;.mp4" TargetMode="External"/><Relationship Id="rId2" Type="http://schemas.openxmlformats.org/officeDocument/2006/relationships/hyperlink" Target="file:///&#1082;&#1091;&#1087;&#1086;&#1083;&#1072;.mp4" TargetMode="External"/><Relationship Id="rId3" Type="http://schemas.openxmlformats.org/officeDocument/2006/relationships/hyperlink" Target="file:///&#1082;&#1086;&#1085;&#1080;.mp4" TargetMode="External"/><Relationship Id="rId4" Type="http://schemas.openxmlformats.org/officeDocument/2006/relationships/hyperlink" Target="file:///v.v_-&#1087;&#1072;&#1088;&#1091;&#1089;.avi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RomanC"/>
              </a:rPr>
              <a:t>Влади́мир Семёнович Высо́ц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manC"/>
              </a:rPr>
              <a:t>25 января 1938 — 25 июля 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963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76720" y="836640"/>
            <a:ext cx="58672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февраля 1978 года приказом № 103 Министерства культуры СССР Владимиру Высоцкому была присвоена высшая категория вокалиста-солиста эстрады, после чего Высоцкий уже был официально признан «певцом-профессионал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979 году участвует в издании альманаха «Метропол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970-х годах знакомится в Париже с цыганским музыкантом и артистом Алёшей Дмитриевич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месте с актёрами Театра на Таганке ездил с гастролями за границу: в Болгарию, Венгрию, Югославию , Францию, Германию, Польшу. Получив разрешение выехать к жене во Францию с частным визитом, сумел также побывать несколько раз в США (в том числе и с концертами 1979 года), Кан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цкий дал более 1000 концертов в СССР и за рубе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8280" y="1484280"/>
            <a:ext cx="3178440" cy="4892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683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99"/>
                </a:solidFill>
                <a:latin typeface="RomanC"/>
              </a:rPr>
              <a:t>Зрелые год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RomanC"/>
              </a:rPr>
              <a:t>Последние дни и см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35280" y="1198080"/>
            <a:ext cx="5415120" cy="56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юля 1980 года состоялось выступление Высоцкого в Люберецком городском дворце культуры в Московской области, где, по словам очевидцев, он выглядел нездоровым, говорил, что неважно себя чувствует, но на сцене держался бодро и, вместо полутора запланированных часов, отыграл двухчасовой конце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 июня 1980 года состоялся один из последних концертов Высоцкого (в Калининграде), на котором ему стало плохо. 14 июля 1980 года во время выступления в НИИЭМ (Москва) Владимир Высоцкий исполнил одну из своих последних песен — «Грусть моя, тоска моя… Вариация на цыганские темы». 16 июля он провёл свой последний концерт в Короле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 июля 1980 года Высоцкий последний раз появился в своей самой известной роли в Театре на Таганке, в роли Гамлета — одноимённой постановке по Шекспи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 июля 1980 года Высоцкий скончался во сне в своей московской кварт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36100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RomanC"/>
              </a:rPr>
              <a:t>«Дом Высоцкого на Таганк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902120" cy="4273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911920" cy="3921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190600" y="1495440"/>
            <a:ext cx="4762800" cy="3867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RomanC"/>
              </a:rPr>
              <a:t>Могила Высоцкого на Ваганьковском кладбище. Автор — А. Рукавиш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132000" y="1371600"/>
            <a:ext cx="2962440" cy="548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RomanC"/>
              </a:rPr>
              <a:t>Памятник Владимиру Высоцкому и Марине Влади (Екатеринбур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484360" y="11430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RomanC"/>
              </a:rPr>
              <a:t>Памятник Владимиру Высоцкому на Страстном бульваре в Моск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411280" y="1341360"/>
            <a:ext cx="4305600" cy="5153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RomanC"/>
              </a:rPr>
              <a:t>Памятник Владимиру Высоцкому в Сама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927000" y="1903320"/>
            <a:ext cx="7245360" cy="4902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3399"/>
                </a:solidFill>
                <a:latin typeface="RomanC"/>
              </a:rPr>
              <a:t>Памятник в г.Мариупол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971640" y="1628640"/>
            <a:ext cx="6769080" cy="507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1592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RomanC"/>
              </a:rPr>
              <a:t>Именем Владимира Высоцкого </a:t>
            </a:r>
            <a:br>
              <a:rPr sz="3000"/>
            </a:br>
            <a:r>
              <a:rPr b="1" i="1" lang="ru-RU" sz="3000" spc="-1" strike="noStrike">
                <a:solidFill>
                  <a:srgbClr val="333399"/>
                </a:solidFill>
                <a:latin typeface="RomanC"/>
              </a:rPr>
              <a:t>назван самолёт Airbus A3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396720" y="0"/>
            <a:ext cx="93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RomanC"/>
              </a:rPr>
              <a:t>Памятная табличка на доме по Малой Грузинской улице, в котором жил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RomanC"/>
              </a:rPr>
              <a:t>Владимир Высо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RomanC"/>
              </a:rPr>
              <a:t>Птица Гамаюн. Фрагмент памятника Владимиру Высоцкому</a:t>
            </a:r>
            <a:r>
              <a:rPr b="1" i="1" lang="ru-RU" sz="3000" spc="-1" strike="noStrike">
                <a:solidFill>
                  <a:srgbClr val="000000"/>
                </a:solidFill>
                <a:latin typeface="Roman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2916360" y="1238400"/>
            <a:ext cx="3381120" cy="5619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1042920" y="1143000"/>
            <a:ext cx="618192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332000" y="623880"/>
            <a:ext cx="6480000" cy="561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!!!</a:t>
            </a:r>
            <a:endParaRPr b="1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0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4" nodeType="after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2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3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6" nodeType="after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9500"/>
                            </p:stCondLst>
                            <p:childTnLst>
                              <p:par>
                                <p:cTn id="246" nodeType="after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45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5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1500"/>
                            </p:stCondLst>
                            <p:childTnLst>
                              <p:par>
                                <p:cTn id="27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3500"/>
                            </p:stCondLst>
                            <p:childTnLst>
                              <p:par>
                                <p:cTn id="282" nodeType="afterEffect" fill="hold" presetClass="exit" presetID="4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4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8000"/>
                            </p:stCondLst>
                            <p:childTnLst>
                              <p:par>
                                <p:cTn id="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8500"/>
                            </p:stCondLst>
                            <p:childTnLst>
                              <p:par>
                                <p:cTn id="296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3000"/>
                            </p:stCondLst>
                            <p:childTnLst>
                              <p:par>
                                <p:cTn id="3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RomanC"/>
              </a:rPr>
              <a:t>Нагрудный знак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RomanC"/>
              </a:rPr>
              <a:t>«Заслуженный артист РСФС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2854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3399"/>
                </a:solidFill>
                <a:latin typeface="RomanC"/>
              </a:rPr>
              <a:t>Государственная премия ССС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1561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99"/>
                </a:solidFill>
                <a:latin typeface="RomanC"/>
              </a:rPr>
              <a:t>Детств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19280" y="907920"/>
            <a:ext cx="572436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. С. Высоцкий родился 25 января 1938 года в 9 ч 40 мин в Москве, в роддоме на Третьей Мещанской улице, 61/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41—43 гг., жил с матерью в эвакуации в селе Воронцов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1943 году возвратился в Москву, на 1-ю Мещанскую улицу, 12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1945 году пошёл в первый класс 273-й школы в 1947 году, Владимир переезжает жить к отц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1947—1949 годах они проживали в г. Эберсвальде (Германия), где научился играть на фортепиа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ктябре 1949 года он вернулся в Москву, пойдя в 5-й класс мужской средней школы № 186. В это время семья Высоцких живёт в Большом Каретном переулке, 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840" y="1185840"/>
            <a:ext cx="34765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RomanC"/>
              </a:rPr>
              <a:t>Начало карьеры арт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7280" y="691920"/>
            <a:ext cx="5076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1953 года Высоцкий посещал драмкружок в Доме учителя, руководимый артистом МХАТа В. Богомоловым.  В 1955 году закончил среднюю школу № 186, и поступил на механический факультет Московского инженерно-строительного института им. Куйбышева, из которого ушёл после первого семестра. С 1956 по 1960 гг. Высоцкий — студент актёрского отделения Школы-студии МХАТ им. В. И. Немировича-Данченко. В 1959 год Высоцкий получает первую роль — Порфирия Петровича в учебном спектакле «Преступление и наказание». В 1960—1964 гг. Высоцкий работал в Московском драматическом театре им. А. С. Пушкин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1484280"/>
            <a:ext cx="4038480" cy="320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765000"/>
            <a:ext cx="5076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м курсе познакомился с Изой Жуковой, на которой женился весной 1960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61 году на съёмках кинофильма «713-й просит посадку» познакомился с Людмилой Абрамовой, ставшей его второй же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юле 1967 года познакомился с французской актрисой Мариной Влади, ставшей его третьей женой (декабрь 1970 г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2987640" cy="3666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08720" y="1125360"/>
            <a:ext cx="3463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xit" presetID="4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08360" y="-273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RomanC"/>
              </a:rPr>
              <a:t>Начало поэтическ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92360" y="1127160"/>
            <a:ext cx="53438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начале 60-х годов появились первые песни Высоцкого. Песня «Татуировка», написанная в 1961 году в Ленингр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ко существует песня «49 дней», датируемая 1960 год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0080" y="1413000"/>
            <a:ext cx="303192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68360" y="-27000"/>
            <a:ext cx="4464360" cy="71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Татуиров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делили мы тебя и не ласк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что любили — так это позад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ошу в душе твой светлый образ, Ва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Лёша выколол твой образ на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тот день, когда прощались на вокзал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тебя до гроба помнить обеща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казал: "Я не забуду в жизни Вали!"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я — тем более!" — мне Лёша отвеч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еперь реши, кому из нас с ним хуж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ому трудней — попробуй разбе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го — твой профиль выколот снаруж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у меня — душа исколота снут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огда мне так уж тошно, хоть на плах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усть слова мои тебя не оскорбят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рошу, чтоб Лёша расстегнул рубах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ляжу, гляжу часами на т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едавно мой товарищ, друг хороший,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беду мою искусством поборо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скопировал тебя с груди у Лё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а грудь мою твой профиль накол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ю я, своих друзей чернить нелов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ты мне ближе и роднее отт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моя (верней — твоя) татуи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лучше и красивше, чем его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моя (верней — твоя) татуи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лучше и красивше, чем ег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3600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203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99"/>
                </a:solidFill>
                <a:latin typeface="RomanC"/>
              </a:rPr>
              <a:t>Зрелые год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7280" y="764640"/>
            <a:ext cx="5076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работав менее двух месяцев в Московском театре миниатюр, Владимир безуспешно попытался поступить в театр «Современник». В 1964 году Высоцкий создал свои первые песни к кинофильмам и поступил на работу в Московский театр драмы и комедии на Таганке, где проработал до конца жиз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1968 году послал письмо в ЦК КПСС в связи с резкой критикой его ранних песен в центральных газетах. В том же году вышла его первая авторская грампластинка «Песни из кинофильма „Вертикаль“». Летом 1969 года у Высоцкого была клиническая смер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ябрь 1971 года — премьера в театре на Таганке спектакля «Гамлет», главная роль — В. Высоцкий, режиссёр — Ю. Любим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81080" y="155736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RomanC"/>
              </a:rPr>
              <a:t>Поэзия и пес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цкий написал свыше 100 стихотворений, около 600 песен и поэму для детей (в двух частях), то есть его перу принадлежит приблизительно 700 поэтических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вольно много песен было написано специально для кинофильмов, но большая их часть, иногда по техническим причинам, но чаще из-за бюрократических запретов, в окончательные версии не вошла (например, в фильмы «Земля Санникова», «Вторая попытка Виктора Крохина», «Особое мнение» и друг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388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RomanC"/>
                <a:hlinkClick r:id="rId1"/>
              </a:rPr>
              <a:t>Утренняя 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RomanC"/>
                <a:hlinkClick r:id="rId2"/>
              </a:rPr>
              <a:t>Ку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78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RomanC"/>
                <a:hlinkClick r:id="rId3"/>
              </a:rPr>
              <a:t>К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RomanC"/>
                <a:hlinkClick r:id="rId4"/>
              </a:rPr>
              <a:t>Па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9:22:26Z</dcterms:created>
  <dc:creator>Сергей</dc:creator>
  <dc:description/>
  <dc:language>en-US</dc:language>
  <cp:lastModifiedBy>Сергей</cp:lastModifiedBy>
  <dcterms:modified xsi:type="dcterms:W3CDTF">2010-05-10T20:05:06Z</dcterms:modified>
  <cp:revision>23</cp:revision>
  <dc:subject/>
  <dc:title>Влади́мир Семёнович Высо́цкий </dc:title>
</cp:coreProperties>
</file>