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6069-1D85-440E-A456-EE27F80B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36F-3545-4E87-AD04-6AF9CF82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AB6B-8E42-4685-B00F-AC2D792D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9F3-A254-41AE-8DF7-5B2C246B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B22F-9617-4696-A38E-171E18D4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8F1A-6198-4903-845A-7A9BEB47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604A-1CE4-4618-9E44-87416A59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B14D-F930-4C31-9BA2-DC177FF7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D304-5EE2-49D2-BFF6-2297CF5D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73EF-8F1E-4552-B79A-0D9A6724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5EC3-C5DB-4CEB-81AE-F582BA13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A23-10D3-45EA-9577-2371BEF3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F3D3-9A55-4C9F-A168-5D9E0C3B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A195-23E4-42BB-B5C4-F6CB9E57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D493-42DB-476D-A143-C4890BE6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DFB1-8D58-45ED-8999-54F67315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32C0-1D24-46EE-8BA0-855F44A2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44AB-6890-4C62-A073-25B48627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DE7-F5E4-42C2-9E80-3398BBEC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B3F-F94D-4529-85F9-E1AD4CC3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3CDB-0F54-470E-ACF2-1C9F63E9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1828-A041-4734-B845-5EB46352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CE48-6D3A-484E-9C58-A15A0D1C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D30-A957-40D6-8821-C4FF79B3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B79D-3AD1-4AF1-9BE8-CA85B49FEB9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1899-2118-4CA9-80B7-216007DFBA6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_&#1080;&#1102;&#1085;&#1103;" TargetMode="External"/><Relationship Id="rId2" Type="http://schemas.openxmlformats.org/officeDocument/2006/relationships/hyperlink" Target="http://ru.wikipedia.org/wiki/1934" TargetMode="External"/><Relationship Id="rId3" Type="http://schemas.openxmlformats.org/officeDocument/2006/relationships/hyperlink" Target="http://ru.wikipedia.org/wiki/&#1056;&#1072;&#1073;&#1086;&#1095;&#1077;-&#1050;&#1088;&#1077;&#1089;&#1090;&#1100;&#1103;&#1085;&#1089;&#1082;&#1072;&#1103;_&#1050;&#1088;&#1072;&#1089;&#1085;&#1072;&#1103;_&#1040;&#1088;&#1084;&#1080;&#1103;" TargetMode="External"/><Relationship Id="rId4" Type="http://schemas.openxmlformats.org/officeDocument/2006/relationships/hyperlink" Target="http://ru.wikipedia.org/wiki/&#1056;&#1072;&#1073;&#1086;&#1095;&#1077;-&#1050;&#1088;&#1077;&#1089;&#1090;&#1100;&#1103;&#1085;&#1089;&#1082;&#1072;&#1103;_&#1050;&#1088;&#1072;&#1089;&#1085;&#1072;&#1103;_&#1040;&#1088;&#1084;&#1080;&#1103;" TargetMode="External"/><Relationship Id="rId5" Type="http://schemas.openxmlformats.org/officeDocument/2006/relationships/hyperlink" Target="http://ru.wikipedia.org/wiki/1937" TargetMode="External"/><Relationship Id="rId6" Type="http://schemas.openxmlformats.org/officeDocument/2006/relationships/hyperlink" Target="http://ru.wikipedia.org/wiki/&#1057;&#1090;&#1072;&#1083;&#1080;&#1085;&#1089;&#1082;&#1080;&#1077;_&#1088;&#1077;&#1087;&#1088;&#1077;&#1089;&#1089;&#1080;&#1080;" TargetMode="External"/><Relationship Id="rId7" Type="http://schemas.openxmlformats.org/officeDocument/2006/relationships/hyperlink" Target="http://ru.wikipedia.org/wiki/1958" TargetMode="External"/><Relationship Id="rId8" Type="http://schemas.openxmlformats.org/officeDocument/2006/relationships/hyperlink" Target="http://ru.wikipedia.org/wiki/&#1056;&#1077;&#1072;&#1073;&#1080;&#1083;&#1080;&#1090;&#1080;&#1088;&#1086;&#1074;&#1072;&#1085;&#1085;&#1099;&#1077;_&#1078;&#1077;&#1088;&#1090;&#1074;&#1099;_&#1089;&#1090;&#1072;&#1083;&#1080;&#1085;&#1089;&#1082;&#1080;&#1093;_&#1088;&#1077;&#1087;&#1088;&#1077;&#1089;&#1089;&#1080;&#1081;" TargetMode="External"/><Relationship Id="rId9" Type="http://schemas.openxmlformats.org/officeDocument/2006/relationships/hyperlink" Target="http://ru.wikipedia.org/wiki/&#1056;&#1077;&#1072;&#1073;&#1080;&#1083;&#1080;&#1090;&#1080;&#1088;&#1086;&#1074;&#1072;&#1085;&#1085;&#1099;&#1077;_&#1078;&#1077;&#1088;&#1090;&#1074;&#1099;_&#1089;&#1090;&#1072;&#1083;&#1080;&#1085;&#1089;&#1082;&#1080;&#1093;_&#1088;&#1077;&#1087;&#1088;&#1077;&#1089;&#1089;&#1080;&#1081;" TargetMode="External"/><Relationship Id="rId10" Type="http://schemas.openxmlformats.org/officeDocument/2006/relationships/hyperlink" Target="http://ru.wikipedia.org/wiki/1941" TargetMode="External"/><Relationship Id="rId11" Type="http://schemas.openxmlformats.org/officeDocument/2006/relationships/hyperlink" Target="http://ru.wikipedia.org/wiki/&#1057;&#1088;&#1077;&#1090;&#1077;&#1085;&#1082;&#1072;_(&#1091;&#1083;&#1080;&#1094;&#1072;)" TargetMode="External"/><Relationship Id="rId12" Type="http://schemas.openxmlformats.org/officeDocument/2006/relationships/hyperlink" Target="http://newshot.ru/uploads/posts/thumbs/1182577051_01.jpg" TargetMode="External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base.com/rdavid/image/93086339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ontent.foto.mail.ru/mail/p.s.l/_blogs/i-4053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lexpetrov.ru/inc/Visbor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Yuriy_Vizbor_Borman_film.jpg" TargetMode="External"/><Relationship Id="rId2" Type="http://schemas.openxmlformats.org/officeDocument/2006/relationships/hyperlink" Target="http://ru.wikipedia.org/wiki/1967_&#1075;&#1086;&#1076;_&#1074;_&#1082;&#1080;&#1085;&#1086;" TargetMode="External"/><Relationship Id="rId3" Type="http://schemas.openxmlformats.org/officeDocument/2006/relationships/hyperlink" Target="http://ru.wikipedia.org/w/index.php?title=&#1042;&#1086;&#1079;&#1084;&#1077;&#1079;&#1076;&#1080;&#1077;_(&#1092;&#1080;&#1083;&#1100;&#1084;,_1967)&amp;action=edit&amp;redlink=1" TargetMode="External"/><Relationship Id="rId4" Type="http://schemas.openxmlformats.org/officeDocument/2006/relationships/hyperlink" Target="http://ru.wikipedia.org/wiki/1967_&#1075;&#1086;&#1076;_&#1074;_&#1082;&#1080;&#1085;&#1086;" TargetMode="External"/><Relationship Id="rId5" Type="http://schemas.openxmlformats.org/officeDocument/2006/relationships/hyperlink" Target="http://ru.wikipedia.org/wiki/&#1048;&#1102;&#1083;&#1100;&#1089;&#1082;&#1080;&#1081;_&#1076;&#1086;&#1078;&#1076;&#1100;_(&#1092;&#1080;&#1083;&#1100;&#1084;)" TargetMode="External"/><Relationship Id="rId6" Type="http://schemas.openxmlformats.org/officeDocument/2006/relationships/hyperlink" Target="http://ru.wikipedia.org/wiki/1969_&#1075;&#1086;&#1076;_&#1074;_&#1082;&#1080;&#1085;&#1086;" TargetMode="External"/><Relationship Id="rId7" Type="http://schemas.openxmlformats.org/officeDocument/2006/relationships/hyperlink" Target="http://ru.wikipedia.org/wiki/&#1056;&#1091;&#1076;&#1086;&#1083;&#1100;&#1092;&#1080;&#1086;" TargetMode="External"/><Relationship Id="rId8" Type="http://schemas.openxmlformats.org/officeDocument/2006/relationships/hyperlink" Target="http://ru.wikipedia.org/wiki/1969_&#1075;&#1086;&#1076;_&#1074;_&#1082;&#1080;&#1085;&#1086;" TargetMode="External"/><Relationship Id="rId9" Type="http://schemas.openxmlformats.org/officeDocument/2006/relationships/hyperlink" Target="http://ru.wikipedia.org/wiki/&#1052;&#1086;&#1081;_&#1087;&#1072;&#1087;&#1072;_&#8212;_&#1082;&#1072;&#1087;&#1080;&#1090;&#1072;&#1085;_(&#1092;&#1080;&#1083;&#1100;&#1084;)" TargetMode="External"/><Relationship Id="rId10" Type="http://schemas.openxmlformats.org/officeDocument/2006/relationships/hyperlink" Target="http://ru.wikipedia.org/wiki/1969_&#1075;&#1086;&#1076;_&#1074;_&#1082;&#1080;&#1085;&#1086;" TargetMode="External"/><Relationship Id="rId11" Type="http://schemas.openxmlformats.org/officeDocument/2006/relationships/hyperlink" Target="http://ru.wikipedia.org/wiki/&#1050;&#1088;&#1072;&#1089;&#1085;&#1072;&#1103;_&#1087;&#1072;&#1083;&#1072;&#1090;&#1082;&#1072;_(&#1092;&#1080;&#1083;&#1100;&#1084;)" TargetMode="External"/><Relationship Id="rId12" Type="http://schemas.openxmlformats.org/officeDocument/2006/relationships/hyperlink" Target="http://ru.wikipedia.org/wiki/&#1041;&#1077;&#1075;&#1086;&#1091;&#1085;&#1077;&#1082;,_&#1060;&#1088;&#1072;&#1085;&#1090;&#1080;&#1096;&#1077;&#1082;" TargetMode="External"/><Relationship Id="rId13" Type="http://schemas.openxmlformats.org/officeDocument/2006/relationships/hyperlink" Target="http://ru.wikipedia.org/wiki/1970_&#1075;&#1086;&#1076;_&#1074;_&#1082;&#1080;&#1085;&#1086;" TargetMode="External"/><Relationship Id="rId14" Type="http://schemas.openxmlformats.org/officeDocument/2006/relationships/hyperlink" Target="http://ru.wikipedia.org/wiki/&#1053;&#1072;&#1095;&#1072;&#1083;&#1086;_(&#1092;&#1080;&#1083;&#1100;&#1084;)" TargetMode="External"/><Relationship Id="rId15" Type="http://schemas.openxmlformats.org/officeDocument/2006/relationships/hyperlink" Target="http://ru.wikipedia.org/wiki/1970_&#1075;&#1086;&#1076;_&#1074;_&#1082;&#1080;&#1085;&#1086;" TargetMode="External"/><Relationship Id="rId16" Type="http://schemas.openxmlformats.org/officeDocument/2006/relationships/hyperlink" Target="http://ru.wikipedia.org/wiki/&#1041;&#1077;&#1083;&#1086;&#1088;&#1091;&#1089;&#1089;&#1082;&#1080;&#1081;_&#1074;&#1086;&#1082;&#1079;&#1072;&#1083;_(&#1092;&#1080;&#1083;&#1100;&#1084;)" TargetMode="External"/><Relationship Id="rId17" Type="http://schemas.openxmlformats.org/officeDocument/2006/relationships/hyperlink" Target="http://ru.wikipedia.org/wiki/1970_&#1075;&#1086;&#1076;_&#1074;_&#1082;&#1080;&#1085;&#1086;" TargetMode="External"/><Relationship Id="rId18" Type="http://schemas.openxmlformats.org/officeDocument/2006/relationships/hyperlink" Target="http://ru.wikipedia.org/wiki/&#1042;_&#1052;&#1086;&#1089;&#1082;&#1074;&#1077;_&#1087;&#1088;&#1086;&#1077;&#1079;&#1076;&#1086;&#1084;&#8230;_(&#1092;&#1080;&#1083;&#1100;&#1084;)" TargetMode="External"/><Relationship Id="rId19" Type="http://schemas.openxmlformats.org/officeDocument/2006/relationships/hyperlink" Target="http://ru.wikipedia.org/wiki/1970_&#1075;&#1086;&#1076;_&#1074;_&#1082;&#1080;&#1085;&#1086;" TargetMode="External"/><Relationship Id="rId20" Type="http://schemas.openxmlformats.org/officeDocument/2006/relationships/hyperlink" Target="http://ru.wikipedia.org/wiki/&#1055;&#1077;&#1088;&#1077;&#1089;&#1090;&#1091;&#1087;&#1080;_&#1087;&#1086;&#1088;&#1086;&#1075;_(&#1092;&#1080;&#1083;&#1100;&#1084;)" TargetMode="External"/><Relationship Id="rId21" Type="http://schemas.openxmlformats.org/officeDocument/2006/relationships/hyperlink" Target="http://ru.wikipedia.org/wiki/1971_&#1075;&#1086;&#1076;_&#1074;_&#1082;&#1080;&#1085;&#1086;" TargetMode="External"/><Relationship Id="rId22" Type="http://schemas.openxmlformats.org/officeDocument/2006/relationships/hyperlink" Target="http://ru.wikipedia.org/w/index.php?title=&#1058;&#1099;_&#1080;_&#1103;_(&#1092;&#1080;&#1083;&#1100;&#1084;,_1971)&amp;action=edit&amp;redlink=1" TargetMode="External"/><Relationship Id="rId23" Type="http://schemas.openxmlformats.org/officeDocument/2006/relationships/hyperlink" Target="http://ru.wikipedia.org/wiki/1972_&#1075;&#1086;&#1076;_&#1074;_&#1082;&#1080;&#1085;&#1086;" TargetMode="External"/><Relationship Id="rId24" Type="http://schemas.openxmlformats.org/officeDocument/2006/relationships/hyperlink" Target="http://ru.wikipedia.org/wiki/&#1053;&#1086;&#1095;&#1085;&#1072;&#1103;_&#1089;&#1084;&#1077;&#1085;&#1072;_(&#1092;&#1080;&#1083;&#1100;&#1084;)" TargetMode="External"/><Relationship Id="rId25" Type="http://schemas.openxmlformats.org/officeDocument/2006/relationships/hyperlink" Target="http://ru.wikipedia.org/wiki/1973_&#1075;&#1086;&#1076;_&#1074;_&#1082;&#1080;&#1085;&#1086;" TargetMode="External"/><Relationship Id="rId26" Type="http://schemas.openxmlformats.org/officeDocument/2006/relationships/hyperlink" Target="http://ru.wikipedia.org/wiki/&#1057;&#1077;&#1084;&#1085;&#1072;&#1076;&#1094;&#1072;&#1090;&#1100;_&#1084;&#1075;&#1085;&#1086;&#1074;&#1077;&#1085;&#1080;&#1081;_&#1074;&#1077;&#1089;&#1085;&#1099;_(&#1090;&#1077;&#1083;&#1077;&#1089;&#1077;&#1088;&#1080;&#1072;&#1083;)" TargetMode="External"/><Relationship Id="rId27" Type="http://schemas.openxmlformats.org/officeDocument/2006/relationships/hyperlink" Target="http://ru.wikipedia.org/wiki/&#1041;&#1086;&#1088;&#1084;&#1072;&#1085;,_&#1052;&#1072;&#1088;&#1090;&#1080;&#1085;" TargetMode="External"/><Relationship Id="rId28" Type="http://schemas.openxmlformats.org/officeDocument/2006/relationships/hyperlink" Target="http://ru.wikipedia.org/wiki/1975_&#1075;&#1086;&#1076;_&#1074;_&#1082;&#1080;&#1085;&#1086;" TargetMode="External"/><Relationship Id="rId29" Type="http://schemas.openxmlformats.org/officeDocument/2006/relationships/hyperlink" Target="http://ru.wikipedia.org/wiki/&#1044;&#1085;&#1077;&#1074;&#1085;&#1080;&#1082;_&#1076;&#1080;&#1088;&#1077;&#1082;&#1090;&#1086;&#1088;&#1072;_&#1096;&#1082;&#1086;&#1083;&#1099;_(&#1092;&#1080;&#1083;&#1100;&#1084;)" TargetMode="External"/><Relationship Id="rId30" Type="http://schemas.openxmlformats.org/officeDocument/2006/relationships/hyperlink" Target="http://ru.wikipedia.org/wiki/1977_&#1075;&#1086;&#1076;_&#1074;_&#1082;&#1080;&#1085;&#1086;" TargetMode="External"/><Relationship Id="rId31" Type="http://schemas.openxmlformats.org/officeDocument/2006/relationships/hyperlink" Target="http://ru.wikipedia.org/w/index.php?title=&#1052;&#1080;&#1075;_&#1091;&#1076;&#1072;&#1095;&#1080;_(&#1092;&#1080;&#1083;&#1100;&#1084;)&amp;action=edit&amp;redlink=1" TargetMode="External"/><Relationship Id="rId32" Type="http://schemas.openxmlformats.org/officeDocument/2006/relationships/hyperlink" Target="http://ru.wikipedia.org/wiki/1982_&#1075;&#1086;&#1076;_&#1074;_&#1082;&#1080;&#1085;&#1086;" TargetMode="External"/><Relationship Id="rId33" Type="http://schemas.openxmlformats.org/officeDocument/2006/relationships/hyperlink" Target="http://ru.wikipedia.org/w/index.php?title=&#1053;&#1077;&#1078;&#1085;&#1086;&#1089;&#1090;&#1100;_&#1082;_&#1088;&#1077;&#1074;&#1091;&#1097;&#1077;&#1084;&#1091;_&#1079;&#1074;&#1077;&#1088;&#1102;_(&#1092;&#1080;&#1083;&#1100;&#1084;)&amp;action=edit&amp;redlink=1" TargetMode="External"/><Relationship Id="rId34" Type="http://schemas.openxmlformats.org/officeDocument/2006/relationships/hyperlink" Target="http://ru.wikipedia.org/wiki/1961_&#1075;&#1086;&#1076;_&#1074;_&#1082;&#1080;&#1085;&#1086;" TargetMode="External"/><Relationship Id="rId35" Type="http://schemas.openxmlformats.org/officeDocument/2006/relationships/hyperlink" Target="http://ru.wikipedia.org/w/index.php?title=&#1042;&#1099;&#1096;&#1077;_&#1085;&#1077;&#1073;&#1072;_(&#1092;&#1080;&#1083;&#1100;&#1084;)&amp;action=edit&amp;redlink=1" TargetMode="External"/><Relationship Id="rId36" Type="http://schemas.openxmlformats.org/officeDocument/2006/relationships/hyperlink" Target="http://ru.wikipedia.org/wiki/1979_&#1075;&#1086;&#1076;_&#1074;_&#1082;&#1080;&#1085;&#1086;" TargetMode="External"/><Relationship Id="rId37" Type="http://schemas.openxmlformats.org/officeDocument/2006/relationships/hyperlink" Target="http://ru.wikipedia.org/w/index.php?title=&#1052;&#1091;&#1088;&#1084;&#1072;&#1085;&#1089;&#1082;-198_(&#1092;&#1080;&#1083;&#1100;&#1084;)&amp;action=edit&amp;redlink=1" TargetMode="External"/><Relationship Id="rId38" Type="http://schemas.openxmlformats.org/officeDocument/2006/relationships/hyperlink" Target="http://ru.wikipedia.org/wiki/1982_&#1075;&#1086;&#1076;_&#1074;_&#1082;&#1080;&#1085;&#1086;" TargetMode="External"/><Relationship Id="rId39" Type="http://schemas.openxmlformats.org/officeDocument/2006/relationships/hyperlink" Target="http://ru.wikipedia.org/w/index.php?title=&#1043;&#1086;&#1076;_&#1076;&#1088;&#1072;&#1082;&#1086;&#1085;&#1072;_(&#1092;&#1080;&#1083;&#1100;&#1084;,_1982)&amp;action=edit&amp;redlink=1" TargetMode="External"/><Relationship Id="rId40" Type="http://schemas.openxmlformats.org/officeDocument/2006/relationships/hyperlink" Target="http://ru.wikipedia.org/wiki/1985_&#1075;&#1086;&#1076;_&#1074;_&#1082;&#1080;&#1085;&#1086;" TargetMode="External"/><Relationship Id="rId4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lpklubspb.ru/persona/vizbor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peoples.ru/art/music/bard/vizbor/vizbor_grave_12042007103318hYT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475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Юрий Иосифович Визбор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-360" y="2133720"/>
            <a:ext cx="521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Verdana"/>
              </a:rPr>
              <a:t>20 июня 1934 —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Verdana"/>
              </a:rPr>
              <a:t>17 сентября 1984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72200" y="115920"/>
            <a:ext cx="3606840" cy="4033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79280" y="467892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оветский киноактёр, журналист, писатель, сценарист, поэт, бард, один из основоположников жанра авторской песни, создатель жанра песни-репортажа, автор более 300 песе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-46836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8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8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1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757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Ранние годы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800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Юрий Визбор родился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20 июня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1934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Москве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семье командира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Красной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Арми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Вот фрагмен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втобиографии Юрия Визбора: «Я родился п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досмотру 20 июня 1934 года, в Москве, 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одильном доме им. Крупской, что на Миуссах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оя двадцатилетняя к тому времени матушк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ария Шевченко, привезённая в Москву из Краснодара молодым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спыльчивым и ревнивым командиром, бывшим моряком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стремившимся в семнадцатом году из благообразной Литвы в Россию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Юзефом Визборасом (в России непонятное для пролетариата „ас“ был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брошено и отец мой стал просто Визбором)»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1937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отец Юрия был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репрессирован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(в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1958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он был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посмертн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реабилитирован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. В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1941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семья переехала на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Сретенку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, с образо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торой впоследствии связаны многие мотивы в творчестве Визбора-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ард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Картинка 19 из 126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267600" y="0"/>
            <a:ext cx="2876400" cy="38098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684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Учёба в МГПИ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1951 Визбор окончил московскую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реднюю школу № 659 и поступил 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осковский государственный педагогически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ститут им. В. И. Ленина. В это время 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ГПИ учились Юрий Ряшенцев, Юлий Ким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да Якушева, Пётр Фоменко, Юрий Ковал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том же году Визбор, согласно имеющимс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ведениям, сочинил свою первую песню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Мадагаскар». В начале 1950-х МГПИ был одним из центро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рождавшегося жанра самодеятельной, или авторской песни 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избор сразу стал ярчайшим представителем этого жанра. К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риоду учёбы относятся десятки его ранних песен, в том числ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имн МГПИ МПГ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Картинка 1 из 1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72320" y="0"/>
            <a:ext cx="3271680" cy="40766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3320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Распределение и армия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 1955 Визбор окончил МГПИ п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пециальности «Русский язык 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литература», с августа по сентябр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работал по распределению учителем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редней школы на станции Кизем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ечорской железной дороги. В октябр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того же года был призван в ряды Советской Армии. К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онцу службы был радистом 1-го класса, чемпионом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оенного округа по радиосвязи. Сочинял стихи 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есни на армейские темы, публиковал их в окружно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оенной газет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Картинка 6 из 1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38960" y="0"/>
            <a:ext cx="2705040" cy="3809880"/>
          </a:xfrm>
          <a:prstGeom prst="rect">
            <a:avLst/>
          </a:prstGeom>
          <a:ln w="0">
            <a:noFill/>
          </a:ln>
        </p:spPr>
      </p:pic>
    </p:spTree>
  </p:cSld>
  <p:transition advTm="1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1908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Начало журналистской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карьеры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октябре 1957 демобилизовался 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вании старшего сержанта, начал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ботать журналистом. Был одним из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рганизаторов звуковой газеты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Говорит Комсомолия». В 1958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избор женится на А. Якушевой, у ни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ождается дочь Татьяна. Песн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избора, распространяемые 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официальных магнитофонных записях, приобретают популярность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реди студентов, туристов и интеллигенции вообще, сперва в Москве, 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тем и по всей стран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1962 принял участие в создании радиостанции «Юность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1964 выступает как создатель жанра песни-репортажа: в перво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омере журнала «Кругозор» публикуется первая песня-репортаж «Н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лато Расвумчорр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Картинка 4 из 1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80988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Дискография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олночь в зените (1950—1959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росто парень из тайги (1959—1963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Мы впереди планеты всей (1963—1965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Я гляжу сквозь тебя (1965—1966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Осенние дожди (1966—1970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Здравствуй, белый пароходик (1970—1973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Надеюсь видеть вас счастливыми (1973—1976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Когда горит звезда (1976—1978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Я в долгу перед вами (1978—1981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от уходит наше врем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6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ильмография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ктёрские работы</a:t>
            </a:r>
            <a:r>
              <a:rPr b="1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1967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Возмездие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Захаров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1967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Июльский дождь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Алик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1969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Рудольфио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Рудольф, друг Ио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1969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Мой папа — капитан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попутный пассажир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1969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Красная палатка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профессор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Бегоунек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13"/>
              </a:rPr>
              <a:t>1970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14"/>
              </a:rPr>
              <a:t>Начало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Степан Иванович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15"/>
              </a:rPr>
              <a:t>1970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16"/>
              </a:rPr>
              <a:t>Белорусский вокзал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главный инженер Балашов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17"/>
              </a:rPr>
              <a:t>1970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18"/>
              </a:rPr>
              <a:t>В Москве проездом…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секретарь редакции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19"/>
              </a:rPr>
              <a:t>1970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20"/>
              </a:rPr>
              <a:t>Переступи порог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Виктор Васильевич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21"/>
              </a:rPr>
              <a:t>197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22"/>
              </a:rPr>
              <a:t>Ты и я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Саша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23"/>
              </a:rPr>
              <a:t>1972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24"/>
              </a:rPr>
              <a:t>Ночная смена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Коваленков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25"/>
              </a:rPr>
              <a:t>1973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26"/>
              </a:rPr>
              <a:t>Семнадцать мгновений весны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27"/>
              </a:rPr>
              <a:t>Мартин Борман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28"/>
              </a:rPr>
              <a:t>1975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29"/>
              </a:rPr>
              <a:t>Дневник директора школы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Смирнов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30"/>
              </a:rPr>
              <a:t>1977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31"/>
              </a:rPr>
              <a:t>Миг удачи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тренер Юрасов Павел Петрович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32"/>
              </a:rPr>
              <a:t>1982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33"/>
              </a:rPr>
              <a:t>Нежность к ревущему зверю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журналист Одинцов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Фильмы, поставленные по сценариям, написанным Визбором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34"/>
              </a:rPr>
              <a:t>196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35"/>
              </a:rPr>
              <a:t>Выше неба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36"/>
              </a:rPr>
              <a:t>1979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37"/>
              </a:rPr>
              <a:t>Мурманск-198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38"/>
              </a:rPr>
              <a:t>1982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39"/>
              </a:rPr>
              <a:t>Год дракона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40"/>
              </a:rPr>
              <a:t>1985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— Капитан Фракасс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986 — Прыжок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Болезнь и смерть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марте 1984 Визбор пишет свою последнюю песню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«Цейская»). Всего за 33 года написано более 300 песен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более пятидесяти песен на его стихи положено на музык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ругими композиторами. С апреля тяжело болен рако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чени. 17 сентября 1984 Визбор скончался в Москв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хоронен на московском Новокунцевском кладбищ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Картинка 5 из 1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7400" y="0"/>
            <a:ext cx="2406600" cy="4221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Картинка 13 из 12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454560"/>
            <a:ext cx="4219560" cy="340344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22:40:01Z</dcterms:created>
  <dc:creator>BOSS</dc:creator>
  <dc:description/>
  <dc:language>en-US</dc:language>
  <cp:lastModifiedBy>BOSS</cp:lastModifiedBy>
  <dcterms:modified xsi:type="dcterms:W3CDTF">2010-05-13T23:50:10Z</dcterms:modified>
  <cp:revision>6</cp:revision>
  <dc:subject/>
  <dc:title>Юрий Иосифович Визбор </dc:title>
</cp:coreProperties>
</file>