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147-49B3-48F4-B804-AA6B2C6A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E40-7989-4E0E-98DE-F9CA0EE4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F08-0DA7-4EE2-A9B1-F3FFAF9D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2C3-2B0D-4D3E-B819-32151FC9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1E6-6EB0-450C-BA8D-2368039D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548-4E3A-4DEA-BA83-C50CACDB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7B5-729A-4160-97A1-A6F9B470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10D-B8FA-4EB9-8092-9C608F49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21D-F096-4F96-9F9D-5DAE79DA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E3D-F2FD-47FE-AFC1-6BBBC2D7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AF8-8927-4E1B-A3C7-C2C73BA4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D5C-D6B8-408E-841B-BEAD8D86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66F8-B0C9-49C9-9036-B1ED58FD0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20.png"/>
          <p:cNvPicPr/>
          <p:nvPr/>
        </p:nvPicPr>
        <p:blipFill>
          <a:blip r:embed="rId1"/>
          <a:stretch/>
        </p:blipFill>
        <p:spPr>
          <a:xfrm>
            <a:off x="0" y="292896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35804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 108 общеразвивающего вид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ого района Санкт-Петербург</a:t>
            </a:r>
            <a:br>
              <a:rPr sz="1600"/>
            </a:br>
            <a:br>
              <a:rPr sz="1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ая игра по ПД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Знатоки ПДД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57320" y="3886200"/>
            <a:ext cx="5786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пова Евгения Сергеевна, воспит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3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Что здесь не так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95028245.jpg"/>
          <p:cNvPicPr/>
          <p:nvPr/>
        </p:nvPicPr>
        <p:blipFill>
          <a:blip r:embed="rId1"/>
          <a:stretch/>
        </p:blipFill>
        <p:spPr>
          <a:xfrm>
            <a:off x="428760" y="1857240"/>
            <a:ext cx="3735360" cy="3857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43280" y="1857240"/>
            <a:ext cx="375156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здесь не так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4530600" cy="4857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786200" y="1500120"/>
            <a:ext cx="43578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здесь не так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1643040"/>
            <a:ext cx="4470480" cy="489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591080" y="1571760"/>
            <a:ext cx="4552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десь  не та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4529160" cy="4759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643280" y="1339920"/>
            <a:ext cx="435132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4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ери слово по первым букв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00080" y="1643040"/>
            <a:ext cx="7643880" cy="26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857160" y="4214880"/>
          <a:ext cx="7715520" cy="785880"/>
        </p:xfrm>
        <a:graphic>
          <a:graphicData uri="http://schemas.openxmlformats.org/drawingml/2006/table">
            <a:tbl>
              <a:tblPr/>
              <a:tblGrid>
                <a:gridCol w="1384560"/>
                <a:gridCol w="1319040"/>
                <a:gridCol w="1515960"/>
                <a:gridCol w="1649520"/>
                <a:gridCol w="1846440"/>
              </a:tblGrid>
              <a:tr h="785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857160" y="5572080"/>
          <a:ext cx="7643880" cy="630360"/>
        </p:xfrm>
        <a:graphic>
          <a:graphicData uri="http://schemas.openxmlformats.org/drawingml/2006/table">
            <a:tbl>
              <a:tblPr/>
              <a:tblGrid>
                <a:gridCol w="1428840"/>
                <a:gridCol w="1214280"/>
                <a:gridCol w="1571760"/>
                <a:gridCol w="1714680"/>
                <a:gridCol w="171432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ери слово по первым буква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871524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4214880"/>
          <a:ext cx="9144000" cy="1071360"/>
        </p:xfrm>
        <a:graphic>
          <a:graphicData uri="http://schemas.openxmlformats.org/drawingml/2006/table">
            <a:tbl>
              <a:tblPr/>
              <a:tblGrid>
                <a:gridCol w="1306440"/>
                <a:gridCol w="1622520"/>
                <a:gridCol w="1357200"/>
                <a:gridCol w="1071720"/>
                <a:gridCol w="1173240"/>
                <a:gridCol w="1184040"/>
                <a:gridCol w="142884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0" y="5715000"/>
          <a:ext cx="9001080" cy="630360"/>
        </p:xfrm>
        <a:graphic>
          <a:graphicData uri="http://schemas.openxmlformats.org/drawingml/2006/table">
            <a:tbl>
              <a:tblPr/>
              <a:tblGrid>
                <a:gridCol w="1285920"/>
                <a:gridCol w="1643040"/>
                <a:gridCol w="1428840"/>
                <a:gridCol w="1071360"/>
                <a:gridCol w="1143000"/>
                <a:gridCol w="1214640"/>
                <a:gridCol w="121428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ери  слово по первым буква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71720" y="1071720"/>
            <a:ext cx="7572240" cy="27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928800" y="3500280"/>
          <a:ext cx="7715160" cy="11430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1600"/>
                <a:gridCol w="1101960"/>
                <a:gridCol w="996840"/>
                <a:gridCol w="120816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928800" y="5357880"/>
          <a:ext cx="7715160" cy="6300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1600"/>
                <a:gridCol w="1101960"/>
                <a:gridCol w="1103400"/>
                <a:gridCol w="11016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E:\den-rozhdeniya25.jpg"/>
          <p:cNvPicPr/>
          <p:nvPr/>
        </p:nvPicPr>
        <p:blipFill>
          <a:blip r:embed="rId1"/>
          <a:stretch/>
        </p:blipFill>
        <p:spPr>
          <a:xfrm>
            <a:off x="1214280" y="1785960"/>
            <a:ext cx="4943520" cy="468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20.png"/>
          <p:cNvPicPr/>
          <p:nvPr/>
        </p:nvPicPr>
        <p:blipFill>
          <a:blip r:embed="rId2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E:\hello_html_2603fbfd.jpg"/>
          <p:cNvPicPr/>
          <p:nvPr/>
        </p:nvPicPr>
        <p:blipFill>
          <a:blip r:embed="rId3"/>
          <a:stretch/>
        </p:blipFill>
        <p:spPr>
          <a:xfrm>
            <a:off x="6286680" y="1357200"/>
            <a:ext cx="20714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78644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ребят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ас приглашаю со мной сыграть в  игру -  викторину «Знатоки ПДД»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 викторина состоит из 4-х заданий.  Чтобы получить орден знатока вам необходимо выполнить все задания. Будьте внимательны, помогайте друг другу! В конце викторины вас ждет сюрприз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и ва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maxresdefault.jpg"/>
          <p:cNvPicPr/>
          <p:nvPr/>
        </p:nvPicPr>
        <p:blipFill>
          <a:blip r:embed="rId1"/>
          <a:stretch/>
        </p:blipFill>
        <p:spPr>
          <a:xfrm>
            <a:off x="1214280" y="3071880"/>
            <a:ext cx="71438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1856880"/>
            <a:ext cx="7672320" cy="36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й, вниманье, пешеходы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от нет для вас проход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 кружочке синий цв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нем велосипед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9720" y="28548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, о каком дорожном знаке говорится в загадк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E:\игра\photo.jpg"/>
          <p:cNvPicPr/>
          <p:nvPr/>
        </p:nvPicPr>
        <p:blipFill>
          <a:blip r:embed="rId1"/>
          <a:stretch/>
        </p:blipFill>
        <p:spPr>
          <a:xfrm>
            <a:off x="-3286080" y="4286160"/>
            <a:ext cx="1857240" cy="18576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1071720" y="5000760"/>
            <a:ext cx="58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ый знак «Велосипедная дорож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781 0.04398 C 0.21267 0.03078 0.21649 0.01018 0.22448 -0.00047 C 0.22847 -0.00579 0.23333 -0.00926 0.23784 -0.01366 C 0.25538 -0.04954 0.23229 -0.00625 0.25451 -0.03588 C 0.25729 -0.03959 0.25833 -0.04561 0.26111 -0.04931 C 0.27014 -0.06135 0.2835 -0.06436 0.29444 -0.07153 C 0.29809 -0.07385 0.30069 -0.07848 0.30451 -0.08033 C 0.31649 -0.08611 0.32916 -0.08843 0.34114 -0.09375 C 0.36111 -0.09236 0.38125 -0.0926 0.40121 -0.08936 C 0.41701 -0.08681 0.42673 -0.07338 0.44114 -0.06713 C 0.44444 -0.06412 0.44757 -0.06042 0.45121 -0.05811 C 0.45434 -0.05602 0.45833 -0.05648 0.46111 -0.05371 C 0.46423 -0.05047 0.46545 -0.04468 0.46788 -0.04051 C 0.475 -0.02871 0.47621 -0.03033 0.48784 -0.02269 C 0.48889 -0.01829 0.48819 -0.01204 0.49114 -0.00926 C 0.49687 -0.00371 0.50451 -0.00348 0.51111 -0.00047 C 0.53455 0.00972 0.56007 0.02338 0.58455 0.02615 C 0.60677 0.0287 0.62899 0.02916 0.65121 0.03078 C 0.65781 0.02916 0.66493 0.02986 0.67118 0.02615 C 0.67691 0.02268 0.68802 3.33332999999988E-006 0.69114 -0.00486 C 0.70434 -0.025 0.70173 -0.02084 0.71788 -0.03148 C 0.72118 -0.03588 0.72378 -0.04144 0.72778 -0.04491 C 0.73073 -0.04746 0.73507 -0.0463 0.73784 -0.04931 C 0.74097 -0.05255 0.74184 -0.0588 0.74444 -0.06273 C 0.74965 -0.07061 0.75555 -0.07755 0.76111 -0.08496 C 0.7809 -0.10232 0.80208 -0.11505 0.82448 -0.12477 C 0.8684 -0.12199 0.89965 -0.11713 0.94114 -0.11158 C 0.95208 -0.10417 0.96475 -0.09977 0.97448 -0.08936 C 0.98003 -0.08334 0.98229 -0.07292 0.98784 -0.06713 C 0.99062 -0.06436 0.99444 -0.06412 0.99774 -0.06273 C 1.00816 -0.04885 1.021 -0.04653 1.03455 -0.04051 C 1.03784 -0.03912 1.04114 -0.03727 1.04444 -0.03588 C 1.04774 -0.03426 1.05451 -0.03148 1.05451 -0.03148 C 1.06198 -0.02477 1.07118 -0.01875 1.07118 -0.00486 E">
                                      <p:cBhvr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, о каком дорожном знаке говорится в загадке?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00016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этим знаком, как ни стран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ждут  автобуса постоян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сидя, кто-то сто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то здесь так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игра\125e7069005c87d577691f2f5190b137.jpg"/>
          <p:cNvPicPr/>
          <p:nvPr/>
        </p:nvPicPr>
        <p:blipFill>
          <a:blip r:embed="rId1"/>
          <a:stretch/>
        </p:blipFill>
        <p:spPr>
          <a:xfrm>
            <a:off x="-3857760" y="4071960"/>
            <a:ext cx="1582920" cy="2109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428760" y="557208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ый знак «Место остановки автобуса и (или) троллейбус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461 0.03889 C 0.2526 0.03727 0.26771 0.03542 0.27621 0.0301 C 0.30295 0.01297 0.27152 0.02755 0.29739 0.01667 C 0.3059 0.00973 0.31284 0.00024 0.32187 -0.00555 C 0.33298 -0.0125 0.35225 -0.01574 0.36406 -0.01875 C 0.38402 -0.01736 0.40399 -0.01666 0.42378 -0.01435 C 0.42882 -0.01389 0.43385 -0.01296 0.43819 -0.00995 C 0.44236 -0.00671 0.44392 0.00093 0.44861 0.00348 C 0.45712 0.00857 0.46753 0.00926 0.47673 0.01227 C 0.48159 0.01366 0.49097 0.01667 0.49097 0.0169 C 0.4934 0.01968 0.49479 0.02385 0.49774 0.0257 C 0.51423 0.03611 0.53593 0.0419 0.55416 0.04792 C 0.57152 0.0463 0.58993 0.04977 0.60694 0.04329 C 0.61493 0.04028 0.62465 0.02107 0.62465 0.0213 C 0.63125 -0.00416 0.62534 0.01158 0.6493 -0.01875 C 0.65312 -0.02361 0.66857 -0.04676 0.67396 -0.05 C 0.6993 -0.06597 0.72361 -0.08101 0.75104 -0.09004 C 0.78993 -0.08657 0.82864 -0.08564 0.86753 -0.08101 C 0.88055 -0.07939 0.89323 -0.0743 0.90607 -0.07222 C 0.91736 -0.0625 0.92812 -0.05555 0.94132 -0.05 C 0.96111 -0.025 0.98038 -0.02083 1.00486 -0.00555 C 1.00868 -0.00324 1.01146 0.00116 1.01527 0.00348 C 1.0309 0.01343 1.04809 0.01829 1.06458 0.0257 C 1.08333 0.04885 1.10816 0.03889 1.13489 0.03889 E">
                                      <p:cBhvr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1500120"/>
            <a:ext cx="7929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кругу с обводкой красн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начит – тут опас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поймите, запрещень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ого движен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, о каком дорожном знаке говорится в загадке?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:\игра\3.10.png"/>
          <p:cNvPicPr/>
          <p:nvPr/>
        </p:nvPicPr>
        <p:blipFill>
          <a:blip r:embed="rId1"/>
          <a:stretch/>
        </p:blipFill>
        <p:spPr>
          <a:xfrm>
            <a:off x="-3571920" y="428616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6002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жный знак «Движение пешеходов запреще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13 0.03217 C 0.20434 0.00393 0.21059 -0.01343 0.22917 -0.0301 C 0.2382 -0.04838 0.25625 -0.07825 0.27257 -0.08774 C 0.27674 -0.09005 0.28125 -0.09051 0.28559 -0.09237 C 0.29254 -0.09514 0.3059 -0.10116 0.3059 -0.10093 C 0.33056 -0.12315 0.34427 -0.11389 0.3691 -0.10556 C 0.38004 -0.10186 0.39149 -0.10047 0.40243 -0.09676 C 0.40712 -0.07871 0.41424 -0.07153 0.42587 -0.06112 C 0.43941 -0.03403 0.42448 -0.06042 0.44254 -0.03889 C 0.44948 -0.03056 0.45469 -0.01922 0.4625 -0.01227 C 0.46563 -0.00926 0.46927 -0.00672 0.47257 -0.00348 C 0.475 -0.00093 0.47639 0.0037 0.47899 0.00555 C 0.48629 0.01041 0.51684 0.01388 0.5191 0.01435 C 0.53906 0.01296 0.5592 0.0125 0.57917 0.00995 C 0.58872 0.00879 0.59688 0.00092 0.6059 -0.00348 C 0.62049 -0.01065 0.63524 -0.01644 0.64913 -0.0257 C 0.66198 -0.03426 0.67153 -0.04283 0.68559 -0.04792 C 0.69722 -0.06297 0.71059 -0.06042 0.72587 -0.06551 C 0.76302 -0.09954 0.76858 -0.08241 0.83229 -0.07894 C 0.84514 -0.07338 0.85608 -0.06551 0.8691 -0.06112 C 0.88455 -0.04098 0.86441 -0.06366 0.89584 -0.04792 C 0.89879 -0.04653 0.89965 -0.04075 0.90243 -0.03889 C 0.92396 -0.02454 0.95261 -0.02431 0.97587 -0.01667 C 0.99913 -0.01806 1.02327 -0.0132 1.04584 -0.02107 C 1.05504 -0.02431 1.05799 -0.04098 1.0658 -0.04792 C 1.08785 -0.06737 1.07865 -0.06065 1.09254 -0.07014 E">
                                      <p:cBhvr>
                                        <p:cTn id="10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, о каком дорожном знак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ся в загад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85520" y="1856880"/>
            <a:ext cx="76438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ротуара вниз вед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дорогу длинный вх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 двери ни ворот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знак….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E:\игра\podzemnyj-znak-e1504106803274.png"/>
          <p:cNvPicPr/>
          <p:nvPr/>
        </p:nvPicPr>
        <p:blipFill>
          <a:blip r:embed="rId1"/>
          <a:stretch/>
        </p:blipFill>
        <p:spPr>
          <a:xfrm>
            <a:off x="-3643200" y="4524480"/>
            <a:ext cx="2333520" cy="2333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507420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жный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одземный пешеходный перех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239 -0.11065 C 0.18055 -0.14259 0.19757 -0.15278 0.2158 -0.17292 C 0.22187 -0.17963 0.2276 -0.19143 0.23576 -0.19514 C 0.24548 -0.19954 0.25607 -0.19977 0.2658 -0.20393 C 0.31128 -0.20255 0.35677 -0.20208 0.40243 -0.19954 C 0.4276 -0.19815 0.45382 -0.1868 0.47916 -0.18171 C 0.49965 -0.16829 0.52378 -0.1625 0.54566 -0.15509 C 0.57916 -0.14375 0.61128 -0.13704 0.64583 -0.13287 C 0.65451 -0.13356 0.69982 -0.13333 0.71892 -0.1419 C 0.73524 -0.14907 0.7467 -0.17037 0.7625 -0.17731 C 0.79548 -0.19213 0.82014 -0.19606 0.85555 -0.19954 C 0.88021 -0.19815 0.90451 -0.19768 0.92916 -0.19514 C 0.94392 -0.19375 0.95781 -0.18217 0.97239 -0.17731 C 0.98611 -0.16528 0.99618 -0.15949 1.0125 -0.15509 C 1.04427 -0.12685 1.06857 -0.12847 1.10573 -0.12847 E">
                                      <p:cBhvr>
                                        <p:cTn id="14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2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твертый лиш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85880" y="1356840"/>
            <a:ext cx="7786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лишнего участника дорожного движения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E:\игра\main_387201_original.jpg"/>
          <p:cNvPicPr/>
          <p:nvPr/>
        </p:nvPicPr>
        <p:blipFill>
          <a:blip r:embed="rId1"/>
          <a:stretch/>
        </p:blipFill>
        <p:spPr>
          <a:xfrm>
            <a:off x="714240" y="2238480"/>
            <a:ext cx="3173400" cy="232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E:\игра\00000144.jpg"/>
          <p:cNvPicPr/>
          <p:nvPr/>
        </p:nvPicPr>
        <p:blipFill>
          <a:blip r:embed="rId2"/>
          <a:stretch/>
        </p:blipFill>
        <p:spPr>
          <a:xfrm>
            <a:off x="5643720" y="235728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игра\maxresdefault.jpg"/>
          <p:cNvPicPr/>
          <p:nvPr/>
        </p:nvPicPr>
        <p:blipFill>
          <a:blip r:embed="rId3"/>
          <a:stretch/>
        </p:blipFill>
        <p:spPr>
          <a:xfrm>
            <a:off x="1000080" y="4714920"/>
            <a:ext cx="2960640" cy="1665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3" descr="кастрюль.jpg"/>
          <p:cNvPicPr/>
          <p:nvPr/>
        </p:nvPicPr>
        <p:blipFill>
          <a:blip r:embed="rId4"/>
          <a:stretch/>
        </p:blipFill>
        <p:spPr>
          <a:xfrm>
            <a:off x="5572080" y="4643280"/>
            <a:ext cx="2571840" cy="1752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лишнее транспортное средство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E:\игра\item_1917.jpg"/>
          <p:cNvPicPr/>
          <p:nvPr/>
        </p:nvPicPr>
        <p:blipFill>
          <a:blip r:embed="rId1"/>
          <a:stretch/>
        </p:blipFill>
        <p:spPr>
          <a:xfrm>
            <a:off x="428760" y="1428840"/>
            <a:ext cx="335736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E:\игра\Skoda-Yeti Concept-2005-7.jpg"/>
          <p:cNvPicPr/>
          <p:nvPr/>
        </p:nvPicPr>
        <p:blipFill>
          <a:blip r:embed="rId2"/>
          <a:stretch/>
        </p:blipFill>
        <p:spPr>
          <a:xfrm>
            <a:off x="785880" y="4071960"/>
            <a:ext cx="3354480" cy="24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E:\игра\GL000035019_002.jpg"/>
          <p:cNvPicPr/>
          <p:nvPr/>
        </p:nvPicPr>
        <p:blipFill>
          <a:blip r:embed="rId3"/>
          <a:stretch/>
        </p:blipFill>
        <p:spPr>
          <a:xfrm>
            <a:off x="6000840" y="1785960"/>
            <a:ext cx="2009520" cy="215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E:\игра\6520.jpg"/>
          <p:cNvPicPr/>
          <p:nvPr/>
        </p:nvPicPr>
        <p:blipFill>
          <a:blip r:embed="rId4"/>
          <a:stretch/>
        </p:blipFill>
        <p:spPr>
          <a:xfrm>
            <a:off x="5500800" y="414324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529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транспортное средство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ящееся к общественному транспорту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E:\игра\s1200.png"/>
          <p:cNvPicPr/>
          <p:nvPr/>
        </p:nvPicPr>
        <p:blipFill>
          <a:blip r:embed="rId1"/>
          <a:stretch/>
        </p:blipFill>
        <p:spPr>
          <a:xfrm>
            <a:off x="571680" y="4675320"/>
            <a:ext cx="3571560" cy="169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E:\игра\gaz_group-2013-02-26_1.jpg"/>
          <p:cNvPicPr/>
          <p:nvPr/>
        </p:nvPicPr>
        <p:blipFill>
          <a:blip r:embed="rId2"/>
          <a:stretch/>
        </p:blipFill>
        <p:spPr>
          <a:xfrm>
            <a:off x="571680" y="1714680"/>
            <a:ext cx="3728880" cy="2300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:\игра\65ebc567c732bd4b59a1a1e15b9481d0.jpg"/>
          <p:cNvPicPr/>
          <p:nvPr/>
        </p:nvPicPr>
        <p:blipFill>
          <a:blip r:embed="rId3"/>
          <a:stretch/>
        </p:blipFill>
        <p:spPr>
          <a:xfrm>
            <a:off x="5286240" y="1500120"/>
            <a:ext cx="3341880" cy="251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E:\игра\item_1917.jpg"/>
          <p:cNvPicPr/>
          <p:nvPr/>
        </p:nvPicPr>
        <p:blipFill>
          <a:blip r:embed="rId4"/>
          <a:stretch/>
        </p:blipFill>
        <p:spPr>
          <a:xfrm>
            <a:off x="5214960" y="4143240"/>
            <a:ext cx="3718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2T07:58:52Z</dcterms:created>
  <dc:creator>Evgenya</dc:creator>
  <dc:description/>
  <dc:language>en-US</dc:language>
  <cp:lastModifiedBy>Пользователь Windows</cp:lastModifiedBy>
  <dcterms:modified xsi:type="dcterms:W3CDTF">2019-10-17T16:01:50Z</dcterms:modified>
  <cp:revision>16</cp:revision>
  <dc:subject/>
  <dc:title>Дидактическая игра по ПДД «Уроки тетушки Совы»</dc:title>
</cp:coreProperties>
</file>