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0.png"/><Relationship Id="rId17" Type="http://schemas.openxmlformats.org/officeDocument/2006/relationships/image" Target="../media/image11.png"/><Relationship Id="rId18" Type="http://schemas.openxmlformats.org/officeDocument/2006/relationships/image" Target="../media/image10.png"/><Relationship Id="rId19" Type="http://schemas.openxmlformats.org/officeDocument/2006/relationships/image" Target="../media/image8.png"/><Relationship Id="rId20" Type="http://schemas.openxmlformats.org/officeDocument/2006/relationships/slideLayout" Target="../slideLayouts/slideLayout1.xml"/><Relationship Id="rId21" Type="http://schemas.openxmlformats.org/officeDocument/2006/relationships/slideLayout" Target="../slideLayouts/slideLayout2.xml"/><Relationship Id="rId22" Type="http://schemas.openxmlformats.org/officeDocument/2006/relationships/slideLayout" Target="../slideLayouts/slideLayout3.xml"/><Relationship Id="rId23" Type="http://schemas.openxmlformats.org/officeDocument/2006/relationships/slideLayout" Target="../slideLayouts/slideLayout4.xml"/><Relationship Id="rId24" Type="http://schemas.openxmlformats.org/officeDocument/2006/relationships/slideLayout" Target="../slideLayouts/slideLayout5.xml"/><Relationship Id="rId25" Type="http://schemas.openxmlformats.org/officeDocument/2006/relationships/slideLayout" Target="../slideLayouts/slideLayout6.xml"/><Relationship Id="rId26" Type="http://schemas.openxmlformats.org/officeDocument/2006/relationships/slideLayout" Target="../slideLayouts/slideLayout7.xml"/><Relationship Id="rId27" Type="http://schemas.openxmlformats.org/officeDocument/2006/relationships/slideLayout" Target="../slideLayouts/slideLayout8.xml"/><Relationship Id="rId28" Type="http://schemas.openxmlformats.org/officeDocument/2006/relationships/slideLayout" Target="../slideLayouts/slideLayout9.xml"/><Relationship Id="rId29" Type="http://schemas.openxmlformats.org/officeDocument/2006/relationships/slideLayout" Target="../slideLayouts/slideLayout10.xml"/><Relationship Id="rId30" Type="http://schemas.openxmlformats.org/officeDocument/2006/relationships/slideLayout" Target="../slideLayouts/slideLayout11.xml"/><Relationship Id="rId3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270586566_grass-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dd8de1e910f0"/>
          <p:cNvPicPr/>
          <p:nvPr/>
        </p:nvPicPr>
        <p:blipFill>
          <a:blip r:embed="rId3"/>
          <a:stretch/>
        </p:blipFill>
        <p:spPr>
          <a:xfrm>
            <a:off x="0" y="4727520"/>
            <a:ext cx="2268360" cy="213048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dd8de1e910f0"/>
          <p:cNvPicPr/>
          <p:nvPr/>
        </p:nvPicPr>
        <p:blipFill>
          <a:blip r:embed="rId4"/>
          <a:stretch/>
        </p:blipFill>
        <p:spPr>
          <a:xfrm>
            <a:off x="6877080" y="4729320"/>
            <a:ext cx="2266920" cy="21286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dd8de1e910f0"/>
          <p:cNvPicPr/>
          <p:nvPr/>
        </p:nvPicPr>
        <p:blipFill>
          <a:blip r:embed="rId5"/>
          <a:stretch/>
        </p:blipFill>
        <p:spPr>
          <a:xfrm>
            <a:off x="0" y="0"/>
            <a:ext cx="2050920" cy="1925640"/>
          </a:xfrm>
          <a:prstGeom prst="rect">
            <a:avLst/>
          </a:prstGeom>
          <a:ln w="0">
            <a:noFill/>
          </a:ln>
        </p:spPr>
      </p:pic>
      <p:pic>
        <p:nvPicPr>
          <p:cNvPr id="4" name="Picture 6" descr="bae038fc83c1"/>
          <p:cNvPicPr/>
          <p:nvPr/>
        </p:nvPicPr>
        <p:blipFill>
          <a:blip r:embed="rId6"/>
          <a:srcRect l="0" t="41025" r="60000" b="3948"/>
          <a:stretch/>
        </p:blipFill>
        <p:spPr>
          <a:xfrm>
            <a:off x="1476360" y="5229360"/>
            <a:ext cx="1166760" cy="12952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7" descr="bae038fc83c1"/>
          <p:cNvPicPr/>
          <p:nvPr/>
        </p:nvPicPr>
        <p:blipFill>
          <a:blip r:embed="rId7"/>
          <a:srcRect l="0" t="0" r="60000" b="0"/>
          <a:stretch/>
        </p:blipFill>
        <p:spPr>
          <a:xfrm>
            <a:off x="7846920" y="1060560"/>
            <a:ext cx="1297080" cy="26161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bae038fc83c1"/>
          <p:cNvPicPr/>
          <p:nvPr/>
        </p:nvPicPr>
        <p:blipFill>
          <a:blip r:embed="rId8"/>
          <a:srcRect l="0" t="41022" r="60000" b="3938"/>
          <a:stretch/>
        </p:blipFill>
        <p:spPr>
          <a:xfrm>
            <a:off x="1835280" y="260280"/>
            <a:ext cx="1296720" cy="14400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tcvet75"/>
          <p:cNvPicPr/>
          <p:nvPr/>
        </p:nvPicPr>
        <p:blipFill>
          <a:blip r:embed="rId9"/>
          <a:stretch/>
        </p:blipFill>
        <p:spPr>
          <a:xfrm>
            <a:off x="5148360" y="0"/>
            <a:ext cx="1006200" cy="106848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0" descr="tcvet75"/>
          <p:cNvPicPr/>
          <p:nvPr/>
        </p:nvPicPr>
        <p:blipFill>
          <a:blip r:embed="rId10"/>
          <a:stretch/>
        </p:blipFill>
        <p:spPr>
          <a:xfrm rot="5779200">
            <a:off x="-360" y="2277360"/>
            <a:ext cx="1006560" cy="10684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1" descr="tcvet75"/>
          <p:cNvPicPr/>
          <p:nvPr/>
        </p:nvPicPr>
        <p:blipFill>
          <a:blip r:embed="rId11"/>
          <a:stretch/>
        </p:blipFill>
        <p:spPr>
          <a:xfrm>
            <a:off x="4716360" y="5589720"/>
            <a:ext cx="1006560" cy="106812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2" descr="tcvet75"/>
          <p:cNvPicPr/>
          <p:nvPr/>
        </p:nvPicPr>
        <p:blipFill>
          <a:blip r:embed="rId12"/>
          <a:stretch/>
        </p:blipFill>
        <p:spPr>
          <a:xfrm rot="13672800">
            <a:off x="6547680" y="228960"/>
            <a:ext cx="1006560" cy="10684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3" descr="dd8de1e910f0"/>
          <p:cNvPicPr/>
          <p:nvPr/>
        </p:nvPicPr>
        <p:blipFill>
          <a:blip r:embed="rId13"/>
          <a:stretch/>
        </p:blipFill>
        <p:spPr>
          <a:xfrm>
            <a:off x="6732720" y="0"/>
            <a:ext cx="2411280" cy="226368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14" descr="1293027995647"/>
          <p:cNvPicPr/>
          <p:nvPr/>
        </p:nvPicPr>
        <p:blipFill>
          <a:blip r:embed="rId14"/>
          <a:srcRect l="0" t="15748" r="72024" b="66647"/>
          <a:stretch/>
        </p:blipFill>
        <p:spPr>
          <a:xfrm>
            <a:off x="7667640" y="3645000"/>
            <a:ext cx="1224000" cy="11080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15" descr="1293027995647"/>
          <p:cNvPicPr/>
          <p:nvPr/>
        </p:nvPicPr>
        <p:blipFill>
          <a:blip r:embed="rId15"/>
          <a:srcRect l="34655" t="0" r="38688" b="85174"/>
          <a:stretch/>
        </p:blipFill>
        <p:spPr>
          <a:xfrm>
            <a:off x="3348000" y="0"/>
            <a:ext cx="1224000" cy="97956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16" descr="1293027995647"/>
          <p:cNvPicPr/>
          <p:nvPr/>
        </p:nvPicPr>
        <p:blipFill>
          <a:blip r:embed="rId16"/>
          <a:srcRect l="0" t="68569" r="73344" b="12909"/>
          <a:stretch/>
        </p:blipFill>
        <p:spPr>
          <a:xfrm>
            <a:off x="7777080" y="18900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17" descr="1293027995647"/>
          <p:cNvPicPr/>
          <p:nvPr/>
        </p:nvPicPr>
        <p:blipFill>
          <a:blip r:embed="rId17"/>
          <a:srcRect l="34655" t="0" r="38688" b="85174"/>
          <a:stretch/>
        </p:blipFill>
        <p:spPr>
          <a:xfrm>
            <a:off x="3419640" y="5878440"/>
            <a:ext cx="1223640" cy="97956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18" descr="1293027995647"/>
          <p:cNvPicPr/>
          <p:nvPr/>
        </p:nvPicPr>
        <p:blipFill>
          <a:blip r:embed="rId18"/>
          <a:srcRect l="0" t="68569" r="73344" b="12909"/>
          <a:stretch/>
        </p:blipFill>
        <p:spPr>
          <a:xfrm>
            <a:off x="324000" y="3284640"/>
            <a:ext cx="1366560" cy="1366560"/>
          </a:xfrm>
          <a:prstGeom prst="rect">
            <a:avLst/>
          </a:prstGeom>
          <a:ln w="0">
            <a:noFill/>
          </a:ln>
        </p:spPr>
      </p:pic>
      <p:pic>
        <p:nvPicPr>
          <p:cNvPr id="17" name="Picture 19" descr="tcvet75"/>
          <p:cNvPicPr/>
          <p:nvPr/>
        </p:nvPicPr>
        <p:blipFill>
          <a:blip r:embed="rId19"/>
          <a:stretch/>
        </p:blipFill>
        <p:spPr>
          <a:xfrm>
            <a:off x="5796000" y="5789520"/>
            <a:ext cx="1006560" cy="1068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0"/>
    <p:sldLayoutId id="2147483650" r:id="rId21"/>
    <p:sldLayoutId id="2147483651" r:id="rId22"/>
    <p:sldLayoutId id="2147483652" r:id="rId23"/>
    <p:sldLayoutId id="2147483653" r:id="rId24"/>
    <p:sldLayoutId id="2147483654" r:id="rId25"/>
    <p:sldLayoutId id="2147483655" r:id="rId26"/>
    <p:sldLayoutId id="2147483656" r:id="rId27"/>
    <p:sldLayoutId id="2147483657" r:id="rId28"/>
    <p:sldLayoutId id="2147483658" r:id="rId29"/>
    <p:sldLayoutId id="2147483659" r:id="rId30"/>
    <p:sldLayoutId id="2147483660" r:id="rId3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2411280" y="1341360"/>
            <a:ext cx="4608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1835280" y="541080"/>
            <a:ext cx="6048360" cy="50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99"/>
                </a:solidFill>
                <a:uFillTx/>
                <a:latin typeface="Comic Sans MS"/>
              </a:rPr>
              <a:t>ПРОЕК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99"/>
                </a:solidFill>
                <a:uFillTx/>
                <a:latin typeface="Comic Sans MS"/>
              </a:rPr>
              <a:t>в средней группе №5 «Ромаш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333399"/>
                </a:solidFill>
                <a:uFillTx/>
                <a:latin typeface="Arial"/>
              </a:rPr>
              <a:t>Комнатные растения наши друз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9900"/>
                </a:solidFill>
                <a:uFillTx/>
                <a:latin typeface="Comic Sans MS"/>
              </a:rPr>
              <a:t>Авторы проекта:</a:t>
            </a:r>
            <a:r>
              <a:rPr b="1" lang="ru-RU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omic Sans MS"/>
              </a:rPr>
              <a:t>Маркова Елизавета Владими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2987640" y="549360"/>
            <a:ext cx="561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99"/>
                </a:solidFill>
                <a:uFillTx/>
                <a:latin typeface="Comic Sans MS"/>
              </a:rPr>
              <a:t>Стихи о комнатных расте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700360" y="4221000"/>
            <a:ext cx="352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итайской розой назыв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Цветок любви и стр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згляни на красоту ег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абудь про все нап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 rot="20800800">
            <a:off x="-86760" y="1776960"/>
            <a:ext cx="4483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Хрустит за окошком морозный денёк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Стоит на окошке цветок-огонёк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Малиновым цветом цветут лепестки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Как будто и вправду зажглись огоньки.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Его поливаю, его берегу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Его подарить никому не могу!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ж очень он ярок, уж очень хорош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ж очень на мамину сказку похож!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Е.Благин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 rot="616800">
            <a:off x="4768920" y="2059920"/>
            <a:ext cx="41508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Говорят - алоэ, алоэ, - интересно, что это такое?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Какое оно алоэ – алое, голубое?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Доброе или злое? Маленькое или большое?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Хорошее или плохое?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Одного сослуживца папы буквально спасло алоэ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А маминой лучшей подруге алоэ не помогло-э. 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И вот я увидел алоэ на комоде у тёти Зои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На комоде у тёти Зои в горшочке росло алоэ: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Зелёное, небольшое, но колючее и кривое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Б. Заход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4140360" y="907920"/>
            <a:ext cx="36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3399"/>
                </a:solidFill>
                <a:uFillTx/>
                <a:latin typeface="Comic Sans MS"/>
              </a:rPr>
              <a:t>Загадки о комнатных растен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262440" y="1700280"/>
            <a:ext cx="4335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агадки о комнатных растен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Чтобы солнце сквозь стекло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 нам в окошко не пекло,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Я повешу шторочку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 белую оборочку,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е крючком плетеную —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Живую и зеленую. (Традесканц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4379400" y="1629000"/>
            <a:ext cx="4720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Лист с горбочком-желобочком,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Шипы имеет, а ранить не умеет,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ато лечит нас в любой час. (Алоэ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ышла балерина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Блузка, как рябина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Юбочка лиловая, лента васильковая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ожки, как точеные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Туфли золоченые. (Фукс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5243760" y="4076640"/>
            <a:ext cx="334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тоит мокрый Ванек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 кудрях красный огонек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(Бальзами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Щучий хвост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 землю врос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(Сансевьер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185400" y="3789360"/>
            <a:ext cx="5043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уст – оконный и балкон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Лист – пушистый и душисты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н сборчатый и каемчат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А цветы на окне – словно шапка в огне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(Герань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1547640" y="981000"/>
            <a:ext cx="6409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99"/>
                </a:solidFill>
                <a:uFillTx/>
                <a:latin typeface="Comic Sans MS"/>
              </a:rPr>
              <a:t>Результаты  работы проектной деятель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. Повысился  уровень  сформированности  системы  знаний  о комнатных  растениях  у  детей  средней группы  через реализацию проекта «Комнатные  растения  наши -  друзья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. Создан комплекс дидактических и словесных  игр о растения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. Пополнился  уголок природы в группе новыми комнатными расте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4. Разработаны конспекты  НОД, просмотр  иллюстраций о  цве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5. Проведена  НОД «Комнатные растения - наши друзь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6. Повысился уровень экологической культуры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7. 80% родителей проявили активность по данной пробле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Прямоугольник 3" descr=""/>
          <p:cNvPicPr/>
          <p:nvPr/>
        </p:nvPicPr>
        <p:blipFill>
          <a:blip r:embed="rId1"/>
          <a:stretch/>
        </p:blipFill>
        <p:spPr>
          <a:xfrm>
            <a:off x="2266920" y="1773360"/>
            <a:ext cx="433548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067280" y="1052640"/>
            <a:ext cx="36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333399"/>
                </a:solidFill>
                <a:uFillTx/>
                <a:latin typeface="Comic Sans MS"/>
              </a:rPr>
              <a:t>Пробл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1835280" y="1989000"/>
            <a:ext cx="5761080" cy="36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omic Sans MS"/>
              </a:rPr>
              <a:t>У 35% воспитанников отмечается низкий уровень сформированности знаний о комнатных расте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2771640" y="141300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99"/>
                </a:solidFill>
                <a:uFillTx/>
                <a:latin typeface="Comic Sans MS"/>
              </a:rPr>
              <a:t>Прич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692360" y="2492280"/>
            <a:ext cx="576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Comic Sans MS"/>
              </a:rPr>
              <a:t>Недостаточное оснащение  экологической зоны комнатными растения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Comic Sans MS"/>
              </a:rPr>
              <a:t>Не заинтересованность родителей проблемой отсутствия знаний о комнатных растения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Comic Sans MS"/>
              </a:rPr>
              <a:t>Недостаточная сформированность трудовых навыков и умений по уходу за растения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2771640" y="155736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99"/>
                </a:solidFill>
                <a:uFillTx/>
                <a:latin typeface="Comic Sans MS"/>
              </a:rPr>
              <a:t>Ц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1908000" y="2205000"/>
            <a:ext cx="576108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Вызвать интерес к окружающему миру, формировать реалистические представления о природе, расширять у детей знания и представления о цветах, прививать ребенку внимательное и бережное отношение к живой при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3995640" y="1700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99"/>
                </a:solidFill>
                <a:uFillTx/>
                <a:latin typeface="Comic Sans MS"/>
              </a:rPr>
              <a:t>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1763640" y="2492280"/>
            <a:ext cx="57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Comic Sans MS"/>
              </a:rPr>
              <a:t>Повысить уровень экологической культуры и знаний детей по теме: «Комнатные расте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Comic Sans MS"/>
              </a:rPr>
              <a:t>Привлечь родителей к данной пробл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Comic Sans MS"/>
              </a:rPr>
              <a:t>Изготовить дидактические игры и пособий по данному направл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3203640" y="549360"/>
            <a:ext cx="36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99"/>
                </a:solidFill>
                <a:uFillTx/>
                <a:latin typeface="Comic Sans MS"/>
              </a:rPr>
              <a:t>Мероприятия 1задач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258920" y="1628640"/>
            <a:ext cx="6697800" cy="48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Рассматривание демонстрационного материала: картины и плакаты из серии «Комнатные растени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Наблюдение за растениями в д/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Чтение художественной литературы: Е. Благинина «Огонек», А. Латулина «Комнатные цветы», Б.Заходер «Алоэ», М.Марусин «Фикус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Продуктивная деятельность: «Раскраски», «Лепим любимый цветок», «Цветы нашей группы»(конструирование из бумаг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Игры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: «Собери цветок», «Что изменилось», «Найди такой же», «Угадай растение по описанию», «Где спряталась матрешка», «Найди растение по названию», «Чего ни стало», «Опиши, я отгадаю», «Магазин цветов», «Помощники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Беседа – рассу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Картотека загадок о комнатных растени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Просмотр слайдовых презентаций: «Комнатные растения в детском саду», «Цветы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2843280" y="620640"/>
            <a:ext cx="3672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99"/>
                </a:solidFill>
                <a:uFillTx/>
                <a:latin typeface="Comic Sans MS"/>
              </a:rPr>
              <a:t>Мероприят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99"/>
                </a:solidFill>
                <a:uFillTx/>
                <a:latin typeface="Comic Sans MS"/>
              </a:rPr>
              <a:t>2 задач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1835280" y="2060640"/>
            <a:ext cx="5761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Оснащение экологической зоны в группе новыми растения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2. Оформление пособия «Растения нашей групп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3. Составление и заучивание совместно с детьми рассказа о любимом растении груп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4. Привлечь родителей к уходу и разведению растений в груп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5. Оформление папок передвиж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2195640" y="148428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99"/>
                </a:solidFill>
                <a:uFillTx/>
                <a:latin typeface="Comic Sans MS"/>
              </a:rPr>
              <a:t>Мероприятия 3 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619280" y="2781360"/>
            <a:ext cx="576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268360" y="2276640"/>
            <a:ext cx="4572000" cy="36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зготовление д/и «Собери цветок», «Что изменилось», «Найди такой же», «Найди растение по названию», «Чего ни стало», «Магазин цветов», «Помощники»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зготовление пособия «Работа с комнатными растениям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зготовление картотеки «Комнатные расте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зготовление фотоальбома «Растения нашей групп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1619280" y="2781360"/>
            <a:ext cx="576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29"/>
          <p:cNvSpPr/>
          <p:nvPr/>
        </p:nvSpPr>
        <p:spPr>
          <a:xfrm>
            <a:off x="6910560" y="4005360"/>
            <a:ext cx="2233440" cy="20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Чт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художествен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литера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гадк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их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оятель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каз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 раст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30"/>
          <p:cNvSpPr/>
          <p:nvPr/>
        </p:nvSpPr>
        <p:spPr>
          <a:xfrm>
            <a:off x="6588000" y="765000"/>
            <a:ext cx="2305080" cy="151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omic Sans MS"/>
              </a:rPr>
              <a:t>Труд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омощь взрослом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 поливе, рыхлени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прыскиван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отирании и т.д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оручения по уход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а раст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31"/>
          <p:cNvSpPr/>
          <p:nvPr/>
        </p:nvSpPr>
        <p:spPr>
          <a:xfrm>
            <a:off x="6659640" y="2276640"/>
            <a:ext cx="2268360" cy="17269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omic Sans MS"/>
              </a:rPr>
              <a:t>Художественн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omic Sans MS"/>
              </a:rPr>
              <a:t>творчество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Рисование геран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лепка кактус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раскрашивание готов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илуэтов цве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32"/>
          <p:cNvSpPr/>
          <p:nvPr/>
        </p:nvSpPr>
        <p:spPr>
          <a:xfrm>
            <a:off x="5148360" y="4292640"/>
            <a:ext cx="2087640" cy="2232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Здоровь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седа о лечеб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тениях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/и «Чем полезе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т цветок?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33"/>
          <p:cNvSpPr/>
          <p:nvPr/>
        </p:nvSpPr>
        <p:spPr>
          <a:xfrm>
            <a:off x="2771640" y="4508640"/>
            <a:ext cx="2521080" cy="2349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зическая культу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/и «Раз, два, три к бегонии бег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.минутка «Цвето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инг: «Заряд бодро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34"/>
          <p:cNvSpPr/>
          <p:nvPr/>
        </p:nvSpPr>
        <p:spPr>
          <a:xfrm>
            <a:off x="3132000" y="2205000"/>
            <a:ext cx="3168720" cy="2233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3399"/>
                </a:solidFill>
                <a:uFillTx/>
                <a:latin typeface="Comic Sans MS"/>
              </a:rPr>
              <a:t>Интегр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3399"/>
                </a:solidFill>
                <a:uFillTx/>
                <a:latin typeface="Comic Sans MS"/>
              </a:rPr>
              <a:t>образовате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3399"/>
                </a:solidFill>
                <a:uFillTx/>
                <a:latin typeface="Comic Sans MS"/>
              </a:rPr>
              <a:t>обла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3399"/>
                </a:solidFill>
                <a:uFillTx/>
                <a:latin typeface="Comic Sans MS"/>
              </a:rPr>
              <a:t>в ходе реализ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3399"/>
                </a:solidFill>
                <a:uFillTx/>
                <a:latin typeface="Comic Sans MS"/>
              </a:rPr>
              <a:t>про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3399"/>
                </a:solidFill>
                <a:uFillTx/>
                <a:latin typeface="Comic Sans MS"/>
              </a:rPr>
              <a:t>(фор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3399"/>
                </a:solidFill>
                <a:uFillTx/>
                <a:latin typeface="Comic Sans MS"/>
              </a:rPr>
              <a:t>организа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35"/>
          <p:cNvSpPr/>
          <p:nvPr/>
        </p:nvSpPr>
        <p:spPr>
          <a:xfrm>
            <a:off x="1403280" y="0"/>
            <a:ext cx="2376720" cy="206064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Позн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нятие: «Комна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ения -наши друзь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/и, беседы, экспериме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36"/>
          <p:cNvSpPr/>
          <p:nvPr/>
        </p:nvSpPr>
        <p:spPr>
          <a:xfrm>
            <a:off x="4140360" y="0"/>
            <a:ext cx="2735280" cy="2133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Коммуник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/и «Угадай по описанию»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«Опиши, я отгадаю»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«Магазин цветов»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зучивание новых слов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тебель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лоэ, Бегония, Герань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иалка, Кактус.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оставление рассказа о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любимом цветке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итуативные разговоры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37"/>
          <p:cNvSpPr/>
          <p:nvPr/>
        </p:nvSpPr>
        <p:spPr>
          <a:xfrm>
            <a:off x="0" y="3429000"/>
            <a:ext cx="2916360" cy="302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Социализац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Д/и: «Собери цветок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«Чт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изменилось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«Найди такой же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«Угадай раст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по описанию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«Где спряталас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матрешка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«Найди растение по названию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«Чего ни стало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«Опиши, я отгадаю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«Магазин цветов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«Помощники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38"/>
          <p:cNvSpPr/>
          <p:nvPr/>
        </p:nvSpPr>
        <p:spPr>
          <a:xfrm>
            <a:off x="0" y="1773360"/>
            <a:ext cx="2700360" cy="16556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Безопас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есед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Ядовитые комнатные растения»,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Правила ухода за растениям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9"/>
          <p:cNvSpPr/>
          <p:nvPr/>
        </p:nvSpPr>
        <p:spPr>
          <a:xfrm flipH="1">
            <a:off x="4140360" y="4365720"/>
            <a:ext cx="287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0"/>
          <p:cNvSpPr/>
          <p:nvPr/>
        </p:nvSpPr>
        <p:spPr>
          <a:xfrm>
            <a:off x="5076720" y="443700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1"/>
          <p:cNvSpPr/>
          <p:nvPr/>
        </p:nvSpPr>
        <p:spPr>
          <a:xfrm>
            <a:off x="6156360" y="371628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2"/>
          <p:cNvSpPr/>
          <p:nvPr/>
        </p:nvSpPr>
        <p:spPr>
          <a:xfrm flipV="1">
            <a:off x="6300720" y="2923920"/>
            <a:ext cx="576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3"/>
          <p:cNvSpPr/>
          <p:nvPr/>
        </p:nvSpPr>
        <p:spPr>
          <a:xfrm flipV="1">
            <a:off x="5940360" y="1989000"/>
            <a:ext cx="86364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4"/>
          <p:cNvSpPr/>
          <p:nvPr/>
        </p:nvSpPr>
        <p:spPr>
          <a:xfrm flipV="1">
            <a:off x="4716360" y="1844280"/>
            <a:ext cx="7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5"/>
          <p:cNvSpPr/>
          <p:nvPr/>
        </p:nvSpPr>
        <p:spPr>
          <a:xfrm flipH="1" flipV="1">
            <a:off x="3203640" y="1844640"/>
            <a:ext cx="7207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6"/>
          <p:cNvSpPr/>
          <p:nvPr/>
        </p:nvSpPr>
        <p:spPr>
          <a:xfrm flipH="1" flipV="1">
            <a:off x="2626920" y="292392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7"/>
          <p:cNvSpPr/>
          <p:nvPr/>
        </p:nvSpPr>
        <p:spPr>
          <a:xfrm flipH="1">
            <a:off x="2843280" y="3860640"/>
            <a:ext cx="4334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4T16:15:42Z</dcterms:created>
  <dc:creator/>
  <dc:description/>
  <dc:language>en-US</dc:language>
  <cp:lastModifiedBy>Олег Марков</cp:lastModifiedBy>
  <dcterms:modified xsi:type="dcterms:W3CDTF">2019-10-18T04:37:29Z</dcterms:modified>
  <cp:revision>28</cp:revision>
  <dc:subject/>
  <dc:title>Слайд 1</dc:title>
</cp:coreProperties>
</file>