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BA951-7345-4A1B-A557-709D7C20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016A-8BB3-4475-87A9-C1BBFA37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7FF6-4251-4377-A564-E3E08475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618AE-A8F3-462E-919C-B182D621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544D-2C0F-4158-93DE-240E798C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F946-73BC-4E62-943B-0A02F8EE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871D-3605-4B68-A565-F2A94EA2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A7F2-A936-4139-8586-684E36BE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4613-8775-4887-859C-483EA527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C433-E533-4DA1-9378-A3D651A3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C0FC-E8E7-4E4F-8838-EFB9F992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BECA0-27D6-4D35-94C8-C1CCD3F6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109E-5852-453D-8B59-F463E46D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2733-8A22-4733-A5C7-C0627682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C01C-DCC5-4E02-846C-874D0B96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4952-4E63-4C82-92F4-F9F1BEE7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2675-4CED-4D43-9946-19F34F83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7ECC9-5DEC-4B13-A62C-AE92E008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861C0-63FD-47EA-A132-4619814C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2A4A7-7EB4-44AD-B1EF-876E1F83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DC91AE-5DD1-4032-B2B9-2E0C5DB4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DAAA6-C070-4729-82A0-A016CE52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ADB60-5E83-4C16-BA7D-8668BC42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6E08A-3A69-4C78-AC4D-30850298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6A6AE-56BD-4D9E-909A-C4FE5DBD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69D6D-68DB-4C05-BFCD-D4AF3EC5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BE9C2-3B92-4733-B8F5-04AF8838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AA2FD-744B-48B2-8ADB-8C3BD9E2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3BE43-34A7-417A-933E-4036281C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B079E-B654-4647-9D66-9B8CF431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B1A0C-8195-40E8-AA6F-5FF3DF05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E52AE-7CFC-44F9-9CBB-E933DD8D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A9459-9F17-4D1F-AC22-471CDCDF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44923-8A1E-4713-8B8D-29AF0C2C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0BEAB-3E33-4602-AE55-57473655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9D611-88FF-4BA7-B856-D2FED7F3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1627C-D571-4018-9964-87078EEB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683EA-2E9D-4596-B9EC-F12F21F2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C0FC7-3B00-476D-A586-BEDD8FC6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6E4CA-9B4C-43A7-8D63-22F2E3E2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A37B7-6E2A-437D-BCE4-D537AC5D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E21E2-11A8-487D-9CD8-E6D7D83D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B5226-AE27-423C-BBD3-07973AC3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D82FD-2724-48C2-9B9C-4B329E86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2F78C-5341-4A9A-A6B2-B4A685A4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77FD5-7608-497C-9BD9-502BA9DE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B81E9-4CEF-4E6A-BB73-3ADDC26C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F0809-D988-4C5E-97F4-07956059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98D45-A22A-4EB9-94AF-3622D816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5A9B8-6784-4152-80D5-51C98211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613F0-C375-4147-930E-F1F5452B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1A269-D94F-4373-BE47-97D55DDC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76D25-B67E-44D4-A8AB-80D44071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921FD-79D1-4120-A96F-2CC96D68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22CBF-0FFF-4BA7-BAD4-136DDB7E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4138E-6EED-402B-894A-52AF254F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053E1-A145-46C7-AEBB-8936D76C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FD302-D775-472A-8AF7-6AF25688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6AB95-97F9-4BAE-9828-360A4CBE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585A0-5BE0-44B0-B3EA-B6D1FF50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1ED9D-DB6A-4063-9E7B-94F17D7E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C0387-6B11-4D76-870E-AFA68DB8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ADEC5-6C1B-4DF7-9F76-B3B0A218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387F7-2725-430E-B3F3-A1A9BB7A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A97BE-8438-4299-A665-CD8E51A6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0A2B8-921A-49DD-B983-5C9CCF7D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CFC4A-0E0F-4ADE-A1B1-CE807267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3B34D-21E3-4EB9-A066-6557382E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697D2-AC67-49F2-991C-68EEFC87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42980-3336-4F66-80C5-10F83EDC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75F3-DB50-41C5-966E-3EAF993F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46D5F-0A54-4B3D-A584-23BAE86F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5468-B645-4EC1-969F-069185B022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9EDD-3254-4EDF-A7FE-EC1E4995F16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9F40-54C7-456C-89DB-A42E8D0635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37D0-8972-403D-A389-B804E62C82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2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3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4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5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5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6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D446-2AC9-4937-8D6E-71D9554685B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07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08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9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0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1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2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13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C568-7F14-400B-8A58-76CC8A5817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WordArt 4"/>
          <p:cNvSpPr txBox="1"/>
          <p:nvPr/>
        </p:nvSpPr>
        <p:spPr>
          <a:xfrm>
            <a:off x="1403280" y="2781360"/>
            <a:ext cx="66200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гнитные аномалии.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тория открытия Курской магнитной аномалии связана с необычным поведением магнитной стрелки под Курском. Впервые на это явление обратил внимание известный учёный-астроном академик П. Б. Иноходцев в 1773 г. Руководя работами по определению географического положения городов центральной части Европейской России, он обнаружил в районе Белгорода и Курска сильную аномалию поля земного магнетизм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8" name="Picture 12" descr="1231630770_3"/>
          <p:cNvPicPr/>
          <p:nvPr/>
        </p:nvPicPr>
        <p:blipFill>
          <a:blip r:embed="rId1"/>
          <a:stretch/>
        </p:blipFill>
        <p:spPr>
          <a:xfrm>
            <a:off x="4932360" y="907920"/>
            <a:ext cx="3645000" cy="485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 земном шаре встречаются местности, в которых магнитные элементы изменяются очень резко и имеют значения, сильно отличающиеся от соответствующих значений в соседних местностях. Такие области называются областями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магнитной аномали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7" descr="105"/>
          <p:cNvPicPr/>
          <p:nvPr/>
        </p:nvPicPr>
        <p:blipFill>
          <a:blip r:embed="rId1"/>
          <a:stretch/>
        </p:blipFill>
        <p:spPr>
          <a:xfrm>
            <a:off x="2771640" y="3213000"/>
            <a:ext cx="3456000" cy="3456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чиной магнитной аномалии в большинстве случаев является наличие под поверхностью Земли больших масс магнитной железной руды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етальное изучение магнитного поля Земли представляет собой мощное орудие исследования скрытых в недрах Земли богатств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0" name="Picture 8" descr="23882092_banded_iron_formations_700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716360" y="549360"/>
            <a:ext cx="3673440" cy="2441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61" name="Picture 11" descr="1275390994_magnitnaya_anomaliya"/>
          <p:cNvPicPr/>
          <p:nvPr/>
        </p:nvPicPr>
        <p:blipFill>
          <a:blip r:embed="rId2"/>
          <a:stretch/>
        </p:blipFill>
        <p:spPr>
          <a:xfrm>
            <a:off x="4716360" y="3141720"/>
            <a:ext cx="3718080" cy="247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WordArt 9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урская магнитная аномалия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дной из самых больших и хорошо изученных магнитных аномалий является Курская магнитная аномалия, исследованная под руководством академика П.П. Лазаре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гнитные аномалии в районе города Курск открыты П. Б. Иноходцевым в 1783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4" name="Picture 12" descr="lebedinskiy_gok_00"/>
          <p:cNvPicPr/>
          <p:nvPr/>
        </p:nvPicPr>
        <p:blipFill>
          <a:blip r:embed="rId1"/>
          <a:stretch/>
        </p:blipFill>
        <p:spPr>
          <a:xfrm>
            <a:off x="4788000" y="4292640"/>
            <a:ext cx="3322440" cy="2139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65" name="Picture 14" descr="297070"/>
          <p:cNvPicPr/>
          <p:nvPr/>
        </p:nvPicPr>
        <p:blipFill>
          <a:blip r:embed="rId2"/>
          <a:stretch/>
        </p:blipFill>
        <p:spPr>
          <a:xfrm>
            <a:off x="5364000" y="1413000"/>
            <a:ext cx="2048040" cy="2552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539280" y="90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въезде стоит памятник и указаны данные по объемам добычи за прошедшие 50 л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йон курской магнитной аномалии характеризуется сложными гидрогеологическими и инженерно-геологическими условия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7" name="Picture 6" descr="01"/>
          <p:cNvPicPr/>
          <p:nvPr/>
        </p:nvPicPr>
        <p:blipFill>
          <a:blip r:embed="rId1"/>
          <a:stretch/>
        </p:blipFill>
        <p:spPr>
          <a:xfrm>
            <a:off x="4916520" y="765000"/>
            <a:ext cx="3551040" cy="532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урская магнитная аномалия (KMA) — крупнейший железорудный бассейн в CCCP на территории Курской, Белгородской и Орловской облас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щая площадь бассейна 120 тысяч км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ксимальная глубина карьера 320 метр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9" name="Picture 9" descr="0_364a5_b373550d_XL"/>
          <p:cNvPicPr/>
          <p:nvPr/>
        </p:nvPicPr>
        <p:blipFill>
          <a:blip r:embed="rId1"/>
          <a:stretch/>
        </p:blipFill>
        <p:spPr>
          <a:xfrm>
            <a:off x="4356000" y="476280"/>
            <a:ext cx="4473720" cy="540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мышленная добыча железной руды началась в 1956 год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загрузке работают шагающие экскаваторы, размер каждого с пятиэтажный д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сота только колеса грузовика - больше двух метр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1" name="Picture 9" descr="10"/>
          <p:cNvPicPr/>
          <p:nvPr/>
        </p:nvPicPr>
        <p:blipFill>
          <a:blip r:embed="rId1"/>
          <a:stretch/>
        </p:blipFill>
        <p:spPr>
          <a:xfrm>
            <a:off x="4427640" y="981000"/>
            <a:ext cx="4403520" cy="4213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403848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шахте принята этажно-камерная система разработ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крытым способом разрабатываются месторождения богатых железных руд: Лебединского и Михайловского с 1959-60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одовая мощность шахты Лебединского по добыче железистых кварцитов 35 млн. т, Михайловского горно-обогатительного комбината 30 млн. т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3" name="Picture 16" descr="06"/>
          <p:cNvPicPr/>
          <p:nvPr/>
        </p:nvPicPr>
        <p:blipFill>
          <a:blip r:embed="rId1"/>
          <a:stretch/>
        </p:blipFill>
        <p:spPr>
          <a:xfrm>
            <a:off x="4643280" y="3716280"/>
            <a:ext cx="3978360" cy="2652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74" name="Picture 18" descr="07"/>
          <p:cNvPicPr/>
          <p:nvPr/>
        </p:nvPicPr>
        <p:blipFill>
          <a:blip r:embed="rId2"/>
          <a:stretch/>
        </p:blipFill>
        <p:spPr>
          <a:xfrm>
            <a:off x="4643280" y="836640"/>
            <a:ext cx="3978360" cy="2652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8" descr="16"/>
          <p:cNvPicPr/>
          <p:nvPr/>
        </p:nvPicPr>
        <p:blipFill>
          <a:blip r:embed="rId1"/>
          <a:stretch/>
        </p:blipFill>
        <p:spPr>
          <a:xfrm>
            <a:off x="2124000" y="476280"/>
            <a:ext cx="4535640" cy="302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елезные руды приурочены к кристаллическому фундаменту, глубина залегания которого в среднем 60—650 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области замыкания крупных синклинорных зон находятся мощные массивы железистых кварцитов, достигающие в поперечнике нескольких километр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2:53:58Z</dcterms:created>
  <dc:creator>ЮЛИЯ</dc:creator>
  <dc:description/>
  <dc:language>en-US</dc:language>
  <cp:lastModifiedBy>Дашик</cp:lastModifiedBy>
  <dcterms:modified xsi:type="dcterms:W3CDTF">2012-04-04T17:24:15Z</dcterms:modified>
  <cp:revision>6</cp:revision>
  <dc:subject/>
  <dc:title>Слайд 1</dc:title>
</cp:coreProperties>
</file>