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3.png" ContentType="image/png"/>
  <Override PartName="/ppt/media/image13.jpeg" ContentType="image/jpeg"/>
  <Override PartName="/ppt/media/image1.png" ContentType="image/png"/>
  <Override PartName="/ppt/media/laser.wav" ContentType="audio/x-wav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52F4-AE13-406C-B568-B892A698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3CD-971C-4FC8-8BAE-73CEE6A0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7B9-D29F-4277-870B-B20800CB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0E2D-CC18-4BC0-BD79-EF0C9E6E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8A02-CB2C-46D4-9D48-A68464CF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8CCD-D02E-45A2-8FE3-948F5560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8887-1445-4604-868A-1485FFA4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ED75-4A50-432E-B51A-E701F9A9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BF6F-3A88-49BB-ABC4-569927A5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C2A9-1EFB-4BC2-9336-B7ADA996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EF5C-255B-4C5F-A669-54DCEC01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C79-E034-430F-B4E0-BC309D75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F435-3829-483C-B628-A910D441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84DA-0864-471A-BA37-ACD1FD5B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DE21-7C55-4216-9EB5-203269DA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7B56-A761-40B4-95C4-E84ED84D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A2F5-C5E2-480F-8B69-C1BADE05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40FCE-9E82-4AE7-B5F8-880BE314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C96E6-C8EB-46A8-A29E-017E8DA8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8530F-4AEB-4396-8D4D-2B4D8A9D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03DF3-4858-4CD7-9A14-BD98E057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42485-9616-4230-9848-403F06A2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4C65-7173-414E-8A66-FD5662E2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7C677-9F2A-42FA-91CE-DAEF266F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1C1DC-8B42-4223-A515-4C4E6DF3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0549F-9C97-48C7-BAC0-836CA1CD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AE6C1-8252-4599-9608-23896D7B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3D9F0-0F5C-44A5-98E8-419408BE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3D349-020B-43FC-BB94-8BC81044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35C61-24CE-420A-BCB0-2F03C5BC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64E86-EAE5-43DF-BE4F-FCF7F418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B68E6-0741-47B0-A89D-B1BDA40C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B0F4E-EFDE-4868-8EEF-9D9719E2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263D-5121-4C70-A3C2-8C884FF6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FCEB0-110C-4E67-9B1B-A4AAD113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1F548-36FE-4282-AA54-AEC3E258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1A7DF-ADF4-4A2C-A288-E48C36DC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FCEDF-F699-4397-BF66-CDB5934F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75D31-36D4-4CDD-9FB0-03C1A013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B584F-0D01-44CC-B47A-1EF0E531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5C4CC-D1F6-40A8-A6E0-95D08929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328CA-77F2-4F2E-868A-9BDAB9D2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C714D-0C67-457C-BCA9-DA74E7FC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A42C5-5F97-4556-9B4D-51B0D424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729C-03A0-4142-961E-0DFC03FA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48407-A339-4A30-91B2-893CBD63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32A6F-1E7E-494B-9411-8BF79DB5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FF116-28F6-48E4-A7F5-841A4070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DA5FF-C67A-4BAD-A202-6650917B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D91D8-E333-4A8F-9B58-4B6BF792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7B999-7D02-45E5-B1E9-7931E3B5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2AAA7-5504-452E-ACAE-0CBB3C0E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4AF60-6A6E-41F0-BA46-043E4BD1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C5E43-0994-4D5F-9A2F-369C1164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44B20-D813-481D-8716-8B70EF41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AC1-9596-4E95-A932-85849F87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4FECC-717A-4312-BC0F-DBC7DDFD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21C-A36A-4595-A1EC-698095B4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5422-8BC6-4D72-80E7-74947538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25A4-79F9-47E6-804C-1420A424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85E6-E49E-41A1-BEE8-D4C7C16C75A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485B-09BA-4A22-814A-DB2440FD226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3172-C04B-47BE-88C6-2E53BBC178E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E836-82F3-4440-9B80-4829740B74D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836B-212E-4AE7-863D-C6A4CBF2A5F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8.png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8.pn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4"/>
          <p:cNvSpPr txBox="1"/>
          <p:nvPr/>
        </p:nvSpPr>
        <p:spPr>
          <a:xfrm>
            <a:off x="900000" y="765000"/>
            <a:ext cx="7419960" cy="102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348000" y="4292640"/>
            <a:ext cx="57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ыполнила: Беспалова Гал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йон: Калин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БОУ СОШ № 138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м. Святого благоверного князя А. Н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059280" y="6093000"/>
            <a:ext cx="29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т-Петербург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ruki123"/>
          <p:cNvPicPr/>
          <p:nvPr/>
        </p:nvPicPr>
        <p:blipFill>
          <a:blip r:embed="rId1"/>
          <a:stretch/>
        </p:blipFill>
        <p:spPr>
          <a:xfrm>
            <a:off x="250920" y="4149720"/>
            <a:ext cx="2305080" cy="201780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3" descr=""/>
          <p:cNvPicPr/>
          <p:nvPr/>
        </p:nvPicPr>
        <p:blipFill>
          <a:blip r:embed="rId2"/>
          <a:stretch/>
        </p:blipFill>
        <p:spPr>
          <a:xfrm>
            <a:off x="371520" y="615960"/>
            <a:ext cx="8394480" cy="1273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las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C 0.023 0.00133 0.042 0.01199 0.052 0.02797 L 0.075 0.06526 C 0.08 0.07325 0.088 0.07724 0.098 0.07724 C 0.112 0.07724 0.124 0.06659 0.125 0.05061 C 0.124 0.03729 0.112 0.0253 0.098 0.0253 C 0.088 0.0253 0.08 0.03063 0.075 0.03729 L 0.052 0.07458 C 0.042 0.09056 0.023 0.10122 0 0.10255 C -0.023 0.10122 -0.042 0.09056 -0.052 0.07458 L -0.075 0.03729 C -0.08 0.03063 -0.088 0.0253 -0.098 0.0253 C -0.112 0.0253 -0.124 0.03729 -0.125 0.05061 C -0.124 0.06659 -0.112 0.07724 -0.098 0.07724 C -0.088 0.07724 -0.08 0.07325 -0.075 0.06526 L -0.052 0.02797 C -0.042 0.01199 -0.023 0.00133 0 0 Z">
                                      <p:cBhvr>
                                        <p:cTn id="32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незапамятных времён люди поняли, какое важное значение для организма имеет кровь. Самая маленькая царапина, ссадина или порез вызыва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ровотеч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детей около 3 литров крови, у взрослых-5 литров, но если во время аварии или ранения потерять 1 литр крови, то человек умирает. Эти наблюдения привели людей  к мысли, что именно в крови заключается жизненная сил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0" descr="5-1"/>
          <p:cNvPicPr/>
          <p:nvPr/>
        </p:nvPicPr>
        <p:blipFill>
          <a:blip r:embed="rId1"/>
          <a:stretch/>
        </p:blipFill>
        <p:spPr>
          <a:xfrm>
            <a:off x="4932360" y="1844640"/>
            <a:ext cx="3384720" cy="3384720"/>
          </a:xfrm>
          <a:prstGeom prst="rect">
            <a:avLst/>
          </a:prstGeom>
          <a:ln w="0">
            <a:noFill/>
          </a:ln>
        </p:spPr>
      </p:pic>
      <p:sp>
        <p:nvSpPr>
          <p:cNvPr id="212" name="WordArt 18"/>
          <p:cNvSpPr txBox="1"/>
          <p:nvPr/>
        </p:nvSpPr>
        <p:spPr>
          <a:xfrm>
            <a:off x="3132000" y="404640"/>
            <a:ext cx="266400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3" name="Прямоугольник 2" descr=""/>
          <p:cNvPicPr/>
          <p:nvPr/>
        </p:nvPicPr>
        <p:blipFill>
          <a:blip r:embed="rId2"/>
          <a:stretch/>
        </p:blipFill>
        <p:spPr>
          <a:xfrm>
            <a:off x="1603440" y="49320"/>
            <a:ext cx="3047760" cy="1560240"/>
          </a:xfrm>
          <a:prstGeom prst="rect">
            <a:avLst/>
          </a:prstGeom>
          <a:ln w="0">
            <a:noFill/>
          </a:ln>
        </p:spPr>
      </p:pic>
      <p:sp>
        <p:nvSpPr>
          <p:cNvPr id="214" name="Управляющая кнопка: домой 3">
            <a:hlinkClick r:id="rId3" action="ppaction://hlinksldjump"/>
          </p:cNvPr>
          <p:cNvSpPr/>
          <p:nvPr/>
        </p:nvSpPr>
        <p:spPr>
          <a:xfrm>
            <a:off x="7812000" y="602136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10839" y="3837"/>
                </a:moveTo>
                <a:lnTo>
                  <a:pt x="13415" y="6448"/>
                </a:ln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lnTo>
                  <a:pt x="17802" y="10800"/>
                </a:lnTo>
                <a:lnTo>
                  <a:pt x="16148" y="10800"/>
                </a:lnTo>
                <a:lnTo>
                  <a:pt x="16148" y="17989"/>
                </a:lnTo>
                <a:lnTo>
                  <a:pt x="5529" y="17989"/>
                </a:lnTo>
                <a:lnTo>
                  <a:pt x="5529" y="10800"/>
                </a:lnTo>
                <a:lnTo>
                  <a:pt x="3876" y="10800"/>
                </a:lnTo>
                <a:close/>
              </a:path>
              <a:path fill="darkenLess" w="21677" h="21600">
                <a:moveTo>
                  <a:pt x="13415" y="6448"/>
                </a:move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close/>
              </a:path>
              <a:path fill="darkenLess" w="21677" h="21600">
                <a:moveTo>
                  <a:pt x="9916" y="14299"/>
                </a:moveTo>
                <a:lnTo>
                  <a:pt x="11761" y="14299"/>
                </a:lnTo>
                <a:lnTo>
                  <a:pt x="11761" y="17989"/>
                </a:lnTo>
                <a:lnTo>
                  <a:pt x="16148" y="17989"/>
                </a:lnTo>
                <a:lnTo>
                  <a:pt x="16148" y="10800"/>
                </a:lnTo>
                <a:lnTo>
                  <a:pt x="5529" y="10800"/>
                </a:lnTo>
                <a:lnTo>
                  <a:pt x="5529" y="17989"/>
                </a:lnTo>
                <a:lnTo>
                  <a:pt x="9916" y="17989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4" name="laser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1533600" y="157320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1533600" y="157320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1533600" y="1573200"/>
            <a:ext cx="111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533600" y="1573200"/>
            <a:ext cx="1166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1116000" y="177336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же такое кровь и из чего она состоит?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ов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это особая жидкая ткань красного цвета, постоянно движущаяся по сосудам организма. За 27 секунд она успевает пройти всё тело человека. Рассмотрим состав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кровь"/>
          <p:cNvPicPr/>
          <p:nvPr/>
        </p:nvPicPr>
        <p:blipFill>
          <a:blip r:embed="rId1"/>
          <a:stretch/>
        </p:blipFill>
        <p:spPr>
          <a:xfrm>
            <a:off x="971640" y="3703680"/>
            <a:ext cx="3671640" cy="2735280"/>
          </a:xfrm>
          <a:prstGeom prst="rect">
            <a:avLst/>
          </a:prstGeom>
          <a:ln w="0">
            <a:noFill/>
          </a:ln>
        </p:spPr>
      </p:pic>
      <p:sp>
        <p:nvSpPr>
          <p:cNvPr id="221" name="WordArt 9"/>
          <p:cNvSpPr txBox="1"/>
          <p:nvPr/>
        </p:nvSpPr>
        <p:spPr>
          <a:xfrm>
            <a:off x="324000" y="333360"/>
            <a:ext cx="82087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22" name="Прямоугольник 1" descr=""/>
          <p:cNvPicPr/>
          <p:nvPr/>
        </p:nvPicPr>
        <p:blipFill>
          <a:blip r:embed="rId2"/>
          <a:stretch/>
        </p:blipFill>
        <p:spPr>
          <a:xfrm>
            <a:off x="1627200" y="189000"/>
            <a:ext cx="5591160" cy="1560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"/>
          <p:cNvPicPr/>
          <p:nvPr/>
        </p:nvPicPr>
        <p:blipFill>
          <a:blip r:embed="rId3"/>
          <a:stretch/>
        </p:blipFill>
        <p:spPr>
          <a:xfrm>
            <a:off x="8271000" y="6021360"/>
            <a:ext cx="523800" cy="523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laser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6"/>
          <p:cNvSpPr/>
          <p:nvPr/>
        </p:nvSpPr>
        <p:spPr>
          <a:xfrm>
            <a:off x="1533600" y="157320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9" descr="плазма"/>
          <p:cNvPicPr/>
          <p:nvPr/>
        </p:nvPicPr>
        <p:blipFill>
          <a:blip r:embed="rId1"/>
          <a:srcRect l="71861" t="73911" r="0" b="0"/>
          <a:stretch/>
        </p:blipFill>
        <p:spPr>
          <a:xfrm>
            <a:off x="2417760" y="620640"/>
            <a:ext cx="1506600" cy="16113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68"/>
          <p:cNvSpPr/>
          <p:nvPr/>
        </p:nvSpPr>
        <p:spPr>
          <a:xfrm>
            <a:off x="1533600" y="157320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8" descr="эритроциты"/>
          <p:cNvPicPr/>
          <p:nvPr/>
        </p:nvPicPr>
        <p:blipFill>
          <a:blip r:embed="rId2"/>
          <a:srcRect l="21869" t="20986" r="0" b="0"/>
          <a:stretch/>
        </p:blipFill>
        <p:spPr>
          <a:xfrm>
            <a:off x="3924360" y="657360"/>
            <a:ext cx="1584360" cy="15476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70"/>
          <p:cNvSpPr/>
          <p:nvPr/>
        </p:nvSpPr>
        <p:spPr>
          <a:xfrm>
            <a:off x="1533600" y="1573200"/>
            <a:ext cx="111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7" descr="лейкоциты"/>
          <p:cNvPicPr/>
          <p:nvPr/>
        </p:nvPicPr>
        <p:blipFill>
          <a:blip r:embed="rId3"/>
          <a:srcRect l="74421" t="64594" r="0" b="0"/>
          <a:stretch/>
        </p:blipFill>
        <p:spPr>
          <a:xfrm>
            <a:off x="5508720" y="692280"/>
            <a:ext cx="1439640" cy="15127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2"/>
          <p:cNvSpPr/>
          <p:nvPr/>
        </p:nvSpPr>
        <p:spPr>
          <a:xfrm>
            <a:off x="1533600" y="1573200"/>
            <a:ext cx="1166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6" descr="тромбоциты"/>
          <p:cNvPicPr/>
          <p:nvPr/>
        </p:nvPicPr>
        <p:blipFill>
          <a:blip r:embed="rId4"/>
          <a:srcRect l="54554" t="36740" r="0" b="0"/>
          <a:stretch/>
        </p:blipFill>
        <p:spPr>
          <a:xfrm>
            <a:off x="7020000" y="692280"/>
            <a:ext cx="1512720" cy="151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395280" y="260280"/>
          <a:ext cx="8137440" cy="5905440"/>
        </p:xfrm>
        <a:graphic>
          <a:graphicData uri="http://schemas.openxmlformats.org/drawingml/2006/table">
            <a:tbl>
              <a:tblPr/>
              <a:tblGrid>
                <a:gridCol w="2001960"/>
                <a:gridCol w="1530360"/>
                <a:gridCol w="1550880"/>
                <a:gridCol w="1492200"/>
                <a:gridCol w="15620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ритроц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коц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ц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ий в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ая жидкос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ые кровяные тельц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ые кровяные тельц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яные пластин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т питательные вещества, необходимые клеткам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ют дыхательную функцию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ают иммунит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ют свёртыванию кров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.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суток до десятков л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8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ают красный цвет кров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свободно передвигать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еляют вещества, образующие тром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  <p:sndAc>
      <p:stSnd>
        <p:snd r:embed="rId5" name="laser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355640" y="2491920"/>
            <a:ext cx="4103640" cy="35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Сердце расположено в грудной клетке, чуть влево от центра, между лёгкими. Сожмите кулак, и вы увидите приблизительные размеры вашего сердца. </a:t>
            </a: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Сердце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-это мышечный насос, который перекачивает кровь по телу, управляет движением кров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WordArt 3"/>
          <p:cNvSpPr txBox="1"/>
          <p:nvPr/>
        </p:nvSpPr>
        <p:spPr>
          <a:xfrm>
            <a:off x="4500720" y="981000"/>
            <a:ext cx="27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5" name="Picture 4" descr="2"/>
          <p:cNvPicPr/>
          <p:nvPr/>
        </p:nvPicPr>
        <p:blipFill>
          <a:blip r:embed="rId1"/>
          <a:stretch/>
        </p:blipFill>
        <p:spPr>
          <a:xfrm>
            <a:off x="250920" y="189000"/>
            <a:ext cx="4035240" cy="633708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1" descr=""/>
          <p:cNvPicPr/>
          <p:nvPr/>
        </p:nvPicPr>
        <p:blipFill>
          <a:blip r:embed="rId2"/>
          <a:stretch/>
        </p:blipFill>
        <p:spPr>
          <a:xfrm>
            <a:off x="4700520" y="328680"/>
            <a:ext cx="3473640" cy="1560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3"/>
          <a:stretch/>
        </p:blipFill>
        <p:spPr>
          <a:xfrm>
            <a:off x="8244000" y="6045120"/>
            <a:ext cx="523800" cy="523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laser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2238480" y="260280"/>
            <a:ext cx="49258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39" name="Group 5"/>
          <p:cNvGrpSpPr/>
          <p:nvPr/>
        </p:nvGrpSpPr>
        <p:grpSpPr>
          <a:xfrm>
            <a:off x="395280" y="1125360"/>
            <a:ext cx="7612200" cy="792360"/>
            <a:chOff x="395280" y="1125360"/>
            <a:chExt cx="7612200" cy="792360"/>
          </a:xfrm>
        </p:grpSpPr>
        <p:sp>
          <p:nvSpPr>
            <p:cNvPr id="240" name="AutoShape 6"/>
            <p:cNvSpPr/>
            <p:nvPr/>
          </p:nvSpPr>
          <p:spPr>
            <a:xfrm>
              <a:off x="395280" y="1125360"/>
              <a:ext cx="76122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 flipH="1">
              <a:off x="1738440" y="1352160"/>
              <a:ext cx="2385000" cy="33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>
              <a:off x="4126320" y="1352160"/>
              <a:ext cx="2241000" cy="33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9"/>
          <p:cNvSpPr/>
          <p:nvPr/>
        </p:nvSpPr>
        <p:spPr>
          <a:xfrm>
            <a:off x="-181080" y="1699560"/>
            <a:ext cx="97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ердце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овеносные сосу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 flipH="1">
            <a:off x="4500720" y="2060640"/>
            <a:ext cx="17143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7020000" y="2133720"/>
            <a:ext cx="15840" cy="45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7885080" y="2060640"/>
            <a:ext cx="9144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3059280" y="2565000"/>
            <a:ext cx="60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ртери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ены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пиляры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4" descr="артерия"/>
          <p:cNvPicPr/>
          <p:nvPr/>
        </p:nvPicPr>
        <p:blipFill>
          <a:blip r:embed="rId1"/>
          <a:srcRect l="24587" t="0" r="28168" b="22585"/>
          <a:stretch/>
        </p:blipFill>
        <p:spPr>
          <a:xfrm>
            <a:off x="3276720" y="2997360"/>
            <a:ext cx="1800000" cy="1512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6" descr="вены"/>
          <p:cNvPicPr/>
          <p:nvPr/>
        </p:nvPicPr>
        <p:blipFill>
          <a:blip r:embed="rId2"/>
          <a:stretch/>
        </p:blipFill>
        <p:spPr>
          <a:xfrm>
            <a:off x="6089760" y="1901880"/>
            <a:ext cx="1155600" cy="1582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капиляры"/>
          <p:cNvPicPr/>
          <p:nvPr/>
        </p:nvPicPr>
        <p:blipFill>
          <a:blip r:embed="rId3"/>
          <a:srcRect l="0" t="0" r="28282" b="0"/>
          <a:stretch/>
        </p:blipFill>
        <p:spPr>
          <a:xfrm>
            <a:off x="7596360" y="306864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22"/>
          <p:cNvSpPr/>
          <p:nvPr/>
        </p:nvSpPr>
        <p:spPr>
          <a:xfrm>
            <a:off x="395280" y="4918680"/>
            <a:ext cx="85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ердце вместе с артериями и венами образует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кровеносную систему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ртерии несут кровь от сердца. Вены несут кровь в сердце. Капилляры несут кровь ко всем клеткам тела и соединяют вены и артерии. Поэтому кровеносная система является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замкнуто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а такое движение крови в организме называется -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ровообращением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Прямоугольник 1" descr=""/>
          <p:cNvPicPr/>
          <p:nvPr/>
        </p:nvPicPr>
        <p:blipFill>
          <a:blip r:embed="rId4"/>
          <a:stretch/>
        </p:blipFill>
        <p:spPr>
          <a:xfrm>
            <a:off x="384120" y="12600"/>
            <a:ext cx="8375760" cy="1560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7" descr=""/>
          <p:cNvPicPr/>
          <p:nvPr/>
        </p:nvPicPr>
        <p:blipFill>
          <a:blip r:embed="rId5"/>
          <a:stretch/>
        </p:blipFill>
        <p:spPr>
          <a:xfrm>
            <a:off x="8408880" y="5975280"/>
            <a:ext cx="524160" cy="523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6" name="laser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аю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больш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лы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руг кровообращения. Большой круг кровообращения снабжает кислородом  весь организм.   Малый круг кровообращения –только лёгкие и является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лёгоч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4" descr="кровообращение"/>
          <p:cNvPicPr/>
          <p:nvPr/>
        </p:nvPicPr>
        <p:blipFill>
          <a:blip r:embed="rId1"/>
          <a:stretch/>
        </p:blipFill>
        <p:spPr>
          <a:xfrm>
            <a:off x="6012000" y="1268280"/>
            <a:ext cx="2190600" cy="460872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оугольник 3" descr=""/>
          <p:cNvPicPr/>
          <p:nvPr/>
        </p:nvPicPr>
        <p:blipFill>
          <a:blip r:embed="rId2"/>
          <a:stretch/>
        </p:blipFill>
        <p:spPr>
          <a:xfrm>
            <a:off x="-255600" y="-6480"/>
            <a:ext cx="6858000" cy="1567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3"/>
          <a:stretch/>
        </p:blipFill>
        <p:spPr>
          <a:xfrm>
            <a:off x="8317080" y="5950080"/>
            <a:ext cx="523800" cy="523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laser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-360" y="1915920"/>
            <a:ext cx="687708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пля крови, размером с булавочную головку, содержит до 5 миллионов красных кровяных телец, 15000 белых кровяных телец и 250000 кровяных пластин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8" descr="капля крови"/>
          <p:cNvPicPr/>
          <p:nvPr/>
        </p:nvPicPr>
        <p:blipFill>
          <a:blip r:embed="rId1"/>
          <a:stretch/>
        </p:blipFill>
        <p:spPr>
          <a:xfrm>
            <a:off x="6948360" y="1628640"/>
            <a:ext cx="2016360" cy="1944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22"/>
          <p:cNvPicPr/>
          <p:nvPr/>
        </p:nvPicPr>
        <p:blipFill>
          <a:blip r:embed="rId2"/>
          <a:stretch/>
        </p:blipFill>
        <p:spPr>
          <a:xfrm>
            <a:off x="179280" y="3789360"/>
            <a:ext cx="2305080" cy="2735280"/>
          </a:xfrm>
          <a:prstGeom prst="rect">
            <a:avLst/>
          </a:prstGeom>
          <a:ln w="0">
            <a:noFill/>
          </a:ln>
        </p:spPr>
      </p:pic>
      <p:sp>
        <p:nvSpPr>
          <p:cNvPr id="261" name="WordArt 4"/>
          <p:cNvSpPr txBox="1"/>
          <p:nvPr/>
        </p:nvSpPr>
        <p:spPr>
          <a:xfrm>
            <a:off x="684360" y="333360"/>
            <a:ext cx="734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2446200" y="4073760"/>
            <a:ext cx="66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ние египтяне верили, что сердце- это обитель всех чувств мыслей и воспоминаний человека. Поэтому  они клали амулеты в виде сердца в могилы к умершим, чтобы облегчить им путь в загробную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Прямоугольник 1" descr=""/>
          <p:cNvPicPr/>
          <p:nvPr/>
        </p:nvPicPr>
        <p:blipFill>
          <a:blip r:embed="rId3"/>
          <a:stretch/>
        </p:blipFill>
        <p:spPr>
          <a:xfrm>
            <a:off x="609480" y="225360"/>
            <a:ext cx="5931000" cy="1567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laser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C 0.03 -0.05061 0.075 -0.08257 0.125 -0.08257 C 0.175 -0.08257 0.22 -0.05061 0.25 0 C 0.22 0.05061 0.175 0.08257 0.125 0.08257 C 0.075 0.08257 0.03 0.05061 0 0 Z">
                                      <p:cBhvr>
                                        <p:cTn id="156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6:47:45Z</dcterms:created>
  <dc:creator>3.43.14</dc:creator>
  <dc:description/>
  <dc:language>en-US</dc:language>
  <cp:lastModifiedBy>Валера Беспалов</cp:lastModifiedBy>
  <dcterms:modified xsi:type="dcterms:W3CDTF">2019-10-17T07:55:40Z</dcterms:modified>
  <cp:revision>58</cp:revision>
  <dc:subject/>
  <dc:title>Слайд 1</dc:title>
</cp:coreProperties>
</file>