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4A8-857D-44C1-ABD1-DC3E61DC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00B6-0EC7-41E3-9867-84B7251A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E1E2-969A-4084-B52D-2957078E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ECA-5898-4812-96E8-C1A22ACE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3AAEC-29B0-4DB3-8FF0-C866E0F1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21E7C-5D82-4FA6-AA77-E084A933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1ECBF-FFB1-4A2A-84AD-E6FE5FF2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0C1B1-57B2-47AE-BA33-A752B8D3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DAF4C-3CD2-4EA0-94A1-7FA63687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678D1-3482-4732-8D1B-6615E8EF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E1B75-2E73-440E-BD11-94566846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FEF-FD3C-47FF-A1A8-20761C9D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FCED4-C419-4756-BCC3-5F488358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EBEDB-2589-4725-998B-7B784AEA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EEF4C-1B66-4B87-A40B-BBC45F4E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CAD48-18FE-4595-9BC2-CD114802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846D6-AA1C-44CA-87FD-57F29C28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53886-E03A-4D92-BCC1-B5D78824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3128E-2FA9-4A27-8A7E-D8E9557A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C747B-7056-4BA4-A846-04CAC657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8C8FB-B25C-46B8-BCCD-0B97B679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9D433-8CE9-4A18-9189-CC893866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7A2-8C69-437A-92FA-BE934824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B4BF6-7DA6-4945-BD5B-D4CDB350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C29C1-5EF2-421B-9909-E47E7891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88A39-3ABC-450D-83B7-A8A026F1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1C3A-CB2C-403E-BA3F-07DE6145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AF6A2-EFBC-4987-BD79-CF846AFC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6979F-4433-4214-BAC5-1B5750DC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F4AA7-864E-4449-B75C-5D94589D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8C1267-BBA9-4F9E-A80B-886C96FB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BA34FD-5720-43AD-80DF-8F94035B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911DEF-8F0D-45ED-AB9C-FC8D3D72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B8E0-83CB-4CA9-8FAA-970CD00E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79634C-6D0D-4FC7-8731-87433C95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53936F-1B0A-4651-8290-5A395D0E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471BFB-345D-4D4E-BE98-A8FA0C92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07DCBD-2C07-495B-9ECC-57001BC9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77C924-AE7A-4CDE-9043-6954C338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242363-942B-4800-B9D8-F1ED6762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5382A6-188E-4294-A29E-F151752C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47AA17-C52A-40DD-8FBA-5D666039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CECB23-4D29-44E1-90F8-6390BEF5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D08C0-1D03-4B4B-96EE-0128D789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16F-7465-4EF1-BC43-433A58BD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46FE1-BB14-4899-9E5B-8D739A09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E9D1FF-3A63-4EFB-8F09-FC1ED599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817F73-7B28-4BA0-8F82-71607C3F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BC704-3CDF-4CC4-9043-2AC189B6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CFDE57-83B0-4367-8FFE-49362F2E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34ABD-EEFE-405F-A0C0-E13B2F4B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7DCC0-D62F-416F-987E-ED6C0A61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6F522C-7C26-40EB-BEB3-29780640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39CC81-5178-4F30-A4AB-07824190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27C38-CD20-4136-B19C-9416C1AB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9C50-C996-471A-89A0-01D41080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2569C7-A006-451F-853E-CDF3FBA2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21147D-8BE5-4C91-8726-30432BA7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156A79-A056-4C2E-9157-51FDABF6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22B537-D9AE-4BA7-BB55-0C4485B1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5B9BD9-ADAD-4A5F-8F53-8942534F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E2A42B-E664-4387-BE6D-40196E38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8B8CD6-BEA5-4C27-A0AC-3499A8C8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CD3B05-F9B6-4041-9773-A21AD5D7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EF920A-75A3-4F94-B455-A602390C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6929DC-17AB-4707-9E3B-782C7582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954F-E8F8-4FB0-AE52-A8A135CE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8668FA-64F6-4F04-84E8-DC5A66FA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BE4A61-536F-4DFD-A1B9-093768D2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5F766D-FB75-42DF-A94E-3FA0DD0A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332BB-8A4B-4835-8005-27A56DF3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C67C5-24A1-477C-B56D-5EEB923E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2E73D-2389-43C2-A868-8EDB5A85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A186D-2110-445E-943B-093FF4F0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3AF41-F6B6-4D33-A4DF-D566EC3C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BCF7B-2136-4B79-96E0-9D2E72DC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4A58A-6D35-44D3-8852-4416FBA7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E6CF-E198-41B4-B94E-48B81497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ACA1B-0D80-4B55-B84C-37F226D3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8BC5A-ED40-410F-B88C-62D0DBCF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D7798-E700-489B-B780-0A91810E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E27B0-6FEC-42A5-988A-901E68D1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9BDCB-B6EC-43B6-A462-D9AC7076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B8C73-622A-4235-AFF6-76969506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8B0CB-6459-44AF-AFE2-CC0CB541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EDF67-2E2F-464F-8BBA-1C859829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F9B0D-B49A-4AB9-A595-7CE65771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E94B4-A88C-431A-9C54-F06F152C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2DB-29EA-41EB-AB59-556BFE75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1BD83-534A-445D-9E7E-ADB8E806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03FB6-0F6B-4CB0-9B46-64E4BBC2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2E2C8-7772-41FC-97E0-999BE3FB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1DB35-5C76-4804-8106-84CDA60B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DDF95-A5C8-42D2-8864-53FCC694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21449-E58F-4F0E-AF64-541A8547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AC7C0-D302-4BF6-8383-F153624D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A492-D4EB-43F8-81F5-C4FDE060CD8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BDAE-E009-4D66-BBC0-5114084BCAF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67BD-776E-470C-AB29-63B20728759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B01B-C80B-4DB1-B337-3AD82A9040F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3898-FAB7-4D28-A46C-BC174113C5A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8A25-9F33-494E-9E5B-003F291EBBD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1D8C-110C-498D-A2C2-2955724D244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76CB-A524-4272-AB40-F21694D6B28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hyperlink" Target="http://zabygrom.com/puteshestvuem-po-miru/afrika/afrika-obschaya-informatsiya.html" TargetMode="External"/><Relationship Id="rId4" Type="http://schemas.openxmlformats.org/officeDocument/2006/relationships/hyperlink" Target="http://zabygrom.com/puteshestvuem-po-miru/afrika/safari-po-yuzhnoy-afrike.html" TargetMode="External"/><Relationship Id="rId5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450720" y="1103400"/>
            <a:ext cx="8321760" cy="23162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top_10_samuh_popylarnuh_nasionalnuh_parkov_readma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7"/>
          <p:cNvSpPr/>
          <p:nvPr/>
        </p:nvSpPr>
        <p:spPr>
          <a:xfrm>
            <a:off x="914400" y="609480"/>
            <a:ext cx="71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Национальные парки мир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-189000" y="92160"/>
            <a:ext cx="8626680" cy="12859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Национальный парк Крюгер, ЮАР</a:t>
            </a: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Национальный парк Сагарматха, Непал</a:t>
            </a: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Национальный парк Фьордленд, Новая Зеландия</a:t>
            </a: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Национальный парк Галапагос, Эквадор</a:t>
            </a: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Национальный парк Тикаль, Гватемала</a:t>
            </a: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Национальный парк Игуасу, Аргентина</a:t>
            </a: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Национальный парк Какаду, Австрал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7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2" descr="top-krugernationalpark"/>
          <p:cNvPicPr/>
          <p:nvPr/>
        </p:nvPicPr>
        <p:blipFill>
          <a:blip r:embed="rId2"/>
          <a:stretch/>
        </p:blipFill>
        <p:spPr>
          <a:xfrm>
            <a:off x="457200" y="18288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Нет ничего в мире прекраснее и красивее, чем дикая природа </a:t>
            </a: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3"/>
              </a:rPr>
              <a:t>Африки</a:t>
            </a: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. Трудно найти такой огромный по площади национальный парк с нетронутой природой, таким разнообразием животного мира и чудесной погодой.</a:t>
            </a: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4"/>
              </a:rPr>
              <a:t> Сафари</a:t>
            </a: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 в национальном парке Крюгер считается самым лучшим в мире. Всего за один день, вы сможете увидеть самых крупных млекопитающих, различные виды редких птиц, жестоких хищников и их жертв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425080" cy="12938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Национальный парк Сагарматха расположен высоко в Гималаях. Высота парка колеблется от 2850 метров в Монжо, до 8850 на Эвересте. Удивительная местность с обширными ледниками, крутыми скалами и изумительными долинами является одним из любимых мест среди истинных путешественников. Национальный парк Сагарматха является объектом всемирного наследия ЮНЕСКО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5" name="Picture 5" descr="top-sagarmatha"/>
          <p:cNvPicPr/>
          <p:nvPr/>
        </p:nvPicPr>
        <p:blipFill>
          <a:blip r:embed="rId2"/>
          <a:stretch/>
        </p:blipFill>
        <p:spPr>
          <a:xfrm>
            <a:off x="4724280" y="1752480"/>
            <a:ext cx="3886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425080" cy="1293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top-fiordland"/>
          <p:cNvPicPr/>
          <p:nvPr/>
        </p:nvPicPr>
        <p:blipFill>
          <a:blip r:embed="rId2"/>
          <a:stretch/>
        </p:blipFill>
        <p:spPr>
          <a:xfrm>
            <a:off x="457200" y="1752480"/>
            <a:ext cx="4038480" cy="4191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Национальный парк Фьордленд является идеальным местом для любителей водных прогулок на лодках и яхтах. Основной достопримечательностью парка является Милфорд-Саунд — фьорд, который располагается на юго-западе острова. Часто это место называют «Восьмым чудом света»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4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425080" cy="12938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Галапагос, со своими лазурными водами и удивительным ландшафтом является уникальным местом для экзотических диких животных. Незабывайте зарядить свой фотоаппарат, ведь вы захотите запечатлить на память эти удивительные пейзажи и редчайшие виды цветов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1" name="Picture 7" descr="top-galapos"/>
          <p:cNvPicPr/>
          <p:nvPr/>
        </p:nvPicPr>
        <p:blipFill>
          <a:blip r:embed="rId2"/>
          <a:stretch/>
        </p:blipFill>
        <p:spPr>
          <a:xfrm>
            <a:off x="4648320" y="17524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4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425080" cy="1293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top-tikal"/>
          <p:cNvPicPr/>
          <p:nvPr/>
        </p:nvPicPr>
        <p:blipFill>
          <a:blip r:embed="rId2"/>
          <a:stretch/>
        </p:blipFill>
        <p:spPr>
          <a:xfrm>
            <a:off x="457200" y="1752480"/>
            <a:ext cx="4038480" cy="4191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Если вы хотите поехать в национальный парк Тикаль, то приготовьтесь познакомиться с племенем майя. Спрятанные глубоко в джунглях фантастические руины поселений майя жили здесь тысячи лет назад. Насладитесь великолепной архитекурой, мистическими храмами и красотой дикой природой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4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425080" cy="12938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Национальный парк Игуасу, который является объектом культурного наследия, является одной из самых знаменитых природных достопримечательностей Аргентины и Бразилии. Громадные водопады, высота которых составляет более 70 метров не оставят вас равнодушными. А великолепные тропические леса вокруг заставят вас приезжать сюда снова и снова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7" name="Picture 7" descr="top-iguazu"/>
          <p:cNvPicPr/>
          <p:nvPr/>
        </p:nvPicPr>
        <p:blipFill>
          <a:blip r:embed="rId2"/>
          <a:stretch/>
        </p:blipFill>
        <p:spPr>
          <a:xfrm>
            <a:off x="4648320" y="17524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4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425080" cy="12938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top-kakadu"/>
          <p:cNvPicPr/>
          <p:nvPr/>
        </p:nvPicPr>
        <p:blipFill>
          <a:blip r:embed="rId2"/>
          <a:stretch/>
        </p:blipFill>
        <p:spPr>
          <a:xfrm>
            <a:off x="457200" y="1676520"/>
            <a:ext cx="4038480" cy="42670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Национальный парк Какаду располагается в северной части Австралии и является объектом всемирного наследия. Здесь вы увидите захватывающие реки с аллигаторами, белоснежные побережья, таинственные тропические леса и многое другое. В горных частях парка существуют пещеры, в которых сохранились наскальные рисунки аборигенов.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07:55:53Z</dcterms:created>
  <dc:creator>Alert</dc:creator>
  <dc:description/>
  <dc:language>en-US</dc:language>
  <cp:lastModifiedBy>АгафоноваЕГ</cp:lastModifiedBy>
  <dcterms:modified xsi:type="dcterms:W3CDTF">2015-10-22T11:35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