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wmf" ContentType="image/x-wmf"/>
  <Override PartName="/ppt/media/image3.jpeg" ContentType="image/jpeg"/>
  <Override PartName="/ppt/media/image15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0BC-F889-488A-B764-6BD0718C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F6C-41DA-4C57-A35B-A107B7AB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4BA-6165-4EB7-ACF7-7A7E8CFD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FFE-3A46-4D41-9B29-72BD9AC7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BADC-15A9-4BA5-80DB-9BA26D68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CDC2-3D89-4694-894A-A097A1FA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3265-B0AF-410F-A127-2B860C62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E8CE-AC7D-417E-A17C-80830A17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11F7-F6CC-4D23-868E-77858166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807A-4E92-44FB-9B66-20AF6A5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0C88-B970-4AFD-A5E8-EDC88B40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EE2-83BB-4DD8-B64F-473F5E8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9719-7556-4C3C-AFE6-F021D99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135-DB9B-4110-B37D-F19A1D1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7DD7-7056-420C-95F7-A27C12F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90CF-E491-4057-AFD7-8AC13978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0312-6C91-49FF-A143-346D2A7D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0BA-CC7A-4730-8880-ACC0C0CA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BB6-E78A-4A32-B14A-1708AD8E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F91-5B54-4653-89D5-82214A5B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9AD-4972-4966-9CF2-7DE8F46C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E89-3D48-445A-9E38-A8755AF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D9A-876F-442B-ABE9-00516C4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B8B-8DAE-4963-9AB8-BEFC56A7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BD16-6FD5-46EF-BEF5-5126B17795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68B5-BC27-4F97-B888-BEDC938601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Пожарная безопасность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19720" y="28195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а, обязанности и ответственность граждан в области пожарной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00034912"/>
          <p:cNvPicPr/>
          <p:nvPr/>
        </p:nvPicPr>
        <p:blipFill>
          <a:blip r:embed="rId1"/>
          <a:stretch/>
        </p:blipFill>
        <p:spPr>
          <a:xfrm>
            <a:off x="228600" y="4038480"/>
            <a:ext cx="3505320" cy="23986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41a217737875.jpg"/>
          <p:cNvPicPr/>
          <p:nvPr/>
        </p:nvPicPr>
        <p:blipFill>
          <a:blip r:embed="rId2"/>
          <a:stretch/>
        </p:blipFill>
        <p:spPr>
          <a:xfrm>
            <a:off x="6705720" y="228600"/>
            <a:ext cx="2257200" cy="25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6" descr="1boom1-b.jpg"/>
          <p:cNvPicPr/>
          <p:nvPr/>
        </p:nvPicPr>
        <p:blipFill>
          <a:blip r:embed="rId1"/>
          <a:stretch/>
        </p:blipFill>
        <p:spPr>
          <a:xfrm>
            <a:off x="0" y="1143000"/>
            <a:ext cx="4321080" cy="325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111"/>
          <p:cNvPicPr/>
          <p:nvPr/>
        </p:nvPicPr>
        <p:blipFill>
          <a:blip r:embed="rId2"/>
          <a:stretch/>
        </p:blipFill>
        <p:spPr>
          <a:xfrm>
            <a:off x="4427640" y="3886200"/>
            <a:ext cx="471636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иболее распространенные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ричины пожаров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в быту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Неосторожное обращение с огн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Неправильная эксплуатация печного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опления, электрообору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Шалости де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Использование пиротех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бходимость соблюдения правил пожарной безопасности диктуется законами жизни и определена законодательств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граждан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Ф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едеральным законом «О пожарной безопасности» (от 21декабря 1994 г.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усмотрены определенные права, обязанности и ответственность в области пожарной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fire"/>
          <p:cNvPicPr/>
          <p:nvPr/>
        </p:nvPicPr>
        <p:blipFill>
          <a:blip r:embed="rId1"/>
          <a:stretch/>
        </p:blipFill>
        <p:spPr>
          <a:xfrm>
            <a:off x="2895480" y="480060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1306835.jpg"/>
          <p:cNvPicPr/>
          <p:nvPr/>
        </p:nvPicPr>
        <p:blipFill>
          <a:blip r:embed="rId1"/>
          <a:stretch/>
        </p:blipFill>
        <p:spPr>
          <a:xfrm>
            <a:off x="201600" y="841320"/>
            <a:ext cx="8790120" cy="6016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человек в случае пожара имеет право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у жизни, здоровья и имуществ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ещение ущерба в установленном поряд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ие в установлении причин пожара, нанесшего ущерб здоровью и имущест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чение информации по вопросам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ие в мероприятиях по обеспечению пожарной безо­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1519200" y="361800"/>
            <a:ext cx="678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ва граждан в области пожарной безопас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4" descr="f262002068012451c61ee2565c311049_medium.jpg"/>
          <p:cNvPicPr/>
          <p:nvPr/>
        </p:nvPicPr>
        <p:blipFill>
          <a:blip r:embed="rId1"/>
          <a:stretch/>
        </p:blipFill>
        <p:spPr>
          <a:xfrm>
            <a:off x="5486400" y="4371840"/>
            <a:ext cx="333540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ава граждан в области пожарной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человек в случае пожара имеет право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ту жизни, здоровья и имуществ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ещение ущерба в установленном поряд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установлении причин пожара, нанесшего ущерб здоровью и имущест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информации по вопросам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мероприятиях по обеспечению пожарной безо­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-360"/>
            <a:ext cx="5867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В области пожарной безопасности каждый человек обязан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блюдать требования пожарной безопасности (в том чис­ле научиться обращению с огнем в повседневной жизни; иметь подручные средства пожаротушения в доме (квартире), научить­ся ими пользовать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меть в помещении первичные средства тушения пожаров в соответствии с правилами пожарной безопасност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4" descr="full_20091229161610.jpg"/>
          <p:cNvPicPr/>
          <p:nvPr/>
        </p:nvPicPr>
        <p:blipFill>
          <a:blip r:embed="rId1"/>
          <a:stretch/>
        </p:blipFill>
        <p:spPr>
          <a:xfrm>
            <a:off x="228600" y="426708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2941157_f520.jpg"/>
          <p:cNvPicPr/>
          <p:nvPr/>
        </p:nvPicPr>
        <p:blipFill>
          <a:blip r:embed="rId2"/>
          <a:stretch/>
        </p:blipFill>
        <p:spPr>
          <a:xfrm>
            <a:off x="457200" y="228600"/>
            <a:ext cx="2311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457200" y="3048120"/>
            <a:ext cx="81532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обнаружении пожаров немедленно уведомить пожарную охр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 прибытия пожарной охраны принимать посильные меры по тушению пожара, спасению людей, иму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ять все законные требования должностных лиц по­жарной ох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Рисунок 2" descr="photos0-800x600.jpg"/>
          <p:cNvPicPr/>
          <p:nvPr/>
        </p:nvPicPr>
        <p:blipFill>
          <a:blip r:embed="rId1"/>
          <a:srcRect l="20003" t="1335" r="16001" b="8000"/>
          <a:stretch/>
        </p:blipFill>
        <p:spPr>
          <a:xfrm>
            <a:off x="6248520" y="38088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380880" y="304920"/>
            <a:ext cx="33242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кая  техника  используется при тушении пожаров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циализирован-ные пожарны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топом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вертолеты, самол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катера, с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по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4" descr="rrs_FireTrain_2.jpg"/>
          <p:cNvPicPr/>
          <p:nvPr/>
        </p:nvPicPr>
        <p:blipFill>
          <a:blip r:embed="rId1"/>
          <a:stretch/>
        </p:blipFill>
        <p:spPr>
          <a:xfrm>
            <a:off x="6324480" y="114300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samookupaemosty_pogarnih_4.jpg"/>
          <p:cNvPicPr/>
          <p:nvPr/>
        </p:nvPicPr>
        <p:blipFill>
          <a:blip r:embed="rId2"/>
          <a:stretch/>
        </p:blipFill>
        <p:spPr>
          <a:xfrm>
            <a:off x="3381480" y="2514600"/>
            <a:ext cx="244800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Image51.jpg"/>
          <p:cNvPicPr/>
          <p:nvPr/>
        </p:nvPicPr>
        <p:blipFill>
          <a:blip r:embed="rId3"/>
          <a:srcRect l="6003" t="0" r="23332" b="28765"/>
          <a:stretch/>
        </p:blipFill>
        <p:spPr>
          <a:xfrm>
            <a:off x="5867280" y="4038480"/>
            <a:ext cx="27100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5" descr="19889.jpg"/>
          <p:cNvPicPr/>
          <p:nvPr/>
        </p:nvPicPr>
        <p:blipFill>
          <a:blip r:embed="rId1"/>
          <a:stretch/>
        </p:blipFill>
        <p:spPr>
          <a:xfrm>
            <a:off x="5105520" y="3733920"/>
            <a:ext cx="3784320" cy="2838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38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ем тушить огонь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а(кроме электропроводки, нефтепродукт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ок, земля, пена, спецпоро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шма (используется для тушения горюче-смазочных материа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онь(при тушении лесных пожар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j0199541"/>
          <p:cNvPicPr/>
          <p:nvPr/>
        </p:nvPicPr>
        <p:blipFill>
          <a:blip r:embed="rId2"/>
          <a:stretch/>
        </p:blipFill>
        <p:spPr>
          <a:xfrm>
            <a:off x="7358040" y="228600"/>
            <a:ext cx="178596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0254420"/>
          <p:cNvPicPr/>
          <p:nvPr/>
        </p:nvPicPr>
        <p:blipFill>
          <a:blip r:embed="rId1"/>
          <a:stretch/>
        </p:blipFill>
        <p:spPr>
          <a:xfrm>
            <a:off x="5913360" y="4800600"/>
            <a:ext cx="323064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ПОМН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а техники безопасност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 используй  газовые и электрические приборы в бы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 используй  печное обору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 меры безопасности при кур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оставляй  маленьк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ей без присмо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j0233271"/>
          <p:cNvPicPr/>
          <p:nvPr/>
        </p:nvPicPr>
        <p:blipFill>
          <a:blip r:embed="rId2"/>
          <a:stretch/>
        </p:blipFill>
        <p:spPr>
          <a:xfrm>
            <a:off x="7391520" y="0"/>
            <a:ext cx="1584360" cy="11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00034920"/>
          <p:cNvPicPr/>
          <p:nvPr/>
        </p:nvPicPr>
        <p:blipFill>
          <a:blip r:embed="rId1"/>
          <a:stretch/>
        </p:blipFill>
        <p:spPr>
          <a:xfrm>
            <a:off x="533520" y="4114800"/>
            <a:ext cx="4267080" cy="2521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20060213-6"/>
          <p:cNvPicPr/>
          <p:nvPr/>
        </p:nvPicPr>
        <p:blipFill>
          <a:blip r:embed="rId2"/>
          <a:stretch/>
        </p:blipFill>
        <p:spPr>
          <a:xfrm>
            <a:off x="6095880" y="380880"/>
            <a:ext cx="2819520" cy="43815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98280" y="838080"/>
            <a:ext cx="614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мни, соблюдение прав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тиво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это обязанность каждого ж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шей план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о наше с тобо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благосостоя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ждые 4 – 5 минут в нашей стране вспыхивает пожар.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9000" y="1980720"/>
            <a:ext cx="5562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ромышленных предприятиях, объектах сельского хозяйства, в учебных заведениях, детских дошкольных учреждениях и в жилых домах, при перевозках грузов на всех видах транспорт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58"/>
          <p:cNvPicPr/>
          <p:nvPr/>
        </p:nvPicPr>
        <p:blipFill>
          <a:blip r:embed="rId1"/>
          <a:stretch/>
        </p:blipFill>
        <p:spPr>
          <a:xfrm>
            <a:off x="0" y="2666880"/>
            <a:ext cx="35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6781680" y="5638680"/>
            <a:ext cx="18795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гонь наш друг, но иногда приходит с ним в наш дом бе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096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02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518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02"/>
          <p:cNvPicPr/>
          <p:nvPr/>
        </p:nvPicPr>
        <p:blipFill>
          <a:blip r:embed="rId2"/>
          <a:stretch/>
        </p:blipFill>
        <p:spPr>
          <a:xfrm>
            <a:off x="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6" descr="1105_02BC020D.jpg"/>
          <p:cNvPicPr/>
          <p:nvPr/>
        </p:nvPicPr>
        <p:blipFill>
          <a:blip r:embed="rId1"/>
          <a:stretch/>
        </p:blipFill>
        <p:spPr>
          <a:xfrm>
            <a:off x="4724280" y="152280"/>
            <a:ext cx="4048200" cy="2695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41320"/>
            <a:ext cx="3657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32004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49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, пожаром  в Дрездене, был уничтожен весь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4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- 21 июня в Москве, погибло при пожаре 17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2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. г. Осло сгорел в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6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 в Лондоне, со 2  по 6 сентября «большой огонь» поглотил 14000 домов, лишил крова 2000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начение огня на разных этапах развития обществ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410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огрев в холодное время г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Защита от диких живот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риготовление пищ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работка и изготовление орудий тр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свещ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реобразование энергии тепла в другой вид энергии -механическую, электрическу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5" descr="1663382000185aa54b0b6ef051ff42e366f79b70c5.jpg"/>
          <p:cNvPicPr/>
          <p:nvPr/>
        </p:nvPicPr>
        <p:blipFill>
          <a:blip r:embed="rId1"/>
          <a:stretch/>
        </p:blipFill>
        <p:spPr>
          <a:xfrm>
            <a:off x="5686560" y="1523880"/>
            <a:ext cx="30002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жа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никает, когда огонь выходит из-под контроля человека и процесс горения становится неуправляем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00034909"/>
          <p:cNvPicPr/>
          <p:nvPr/>
        </p:nvPicPr>
        <p:blipFill>
          <a:blip r:embed="rId1"/>
          <a:stretch/>
        </p:blipFill>
        <p:spPr>
          <a:xfrm>
            <a:off x="457200" y="3657600"/>
            <a:ext cx="4465800" cy="2990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00034924"/>
          <p:cNvPicPr/>
          <p:nvPr/>
        </p:nvPicPr>
        <p:blipFill>
          <a:blip r:embed="rId2"/>
          <a:stretch/>
        </p:blipFill>
        <p:spPr>
          <a:xfrm>
            <a:off x="5410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жар – это неконтролируемый процесс горения , сопровождающийся уничтожением материальных ценностей и создающий опасность для жизни и здоровья людей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ние – это всякая реакция окисления, при которой выделяется тепло и наблюдается свечение горящих веществ, или продуктов их расп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едение на пожаре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пожаре сообщить учителю(любому взрослому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кричи, выполняй требования руководи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анико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идай школу вместе с класс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выхода из школы не  уходи без раз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редпринимай никаких действий без соглас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3" descr="MCj02902930000[1]"/>
          <p:cNvPicPr/>
          <p:nvPr/>
        </p:nvPicPr>
        <p:blipFill>
          <a:blip r:embed="rId1"/>
          <a:stretch/>
        </p:blipFill>
        <p:spPr>
          <a:xfrm>
            <a:off x="7308720" y="189000"/>
            <a:ext cx="149724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асность огн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ая температура (вызывает ожоги, смерть люд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зованность (удушает, отравляет людей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ымление (мешает тушить пожар, спасать людей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ры и пламя ( вызывают новые очаги возгора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j0285498"/>
          <p:cNvPicPr/>
          <p:nvPr/>
        </p:nvPicPr>
        <p:blipFill>
          <a:blip r:embed="rId1"/>
          <a:stretch/>
        </p:blipFill>
        <p:spPr>
          <a:xfrm>
            <a:off x="6858000" y="152280"/>
            <a:ext cx="13604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7-09-04T06:22:43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