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7C4-87AE-4B1E-9907-6D5FBAC4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9FD9-EB17-487B-B653-D4C0A5DC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C00C-E3CB-483F-A551-C9970623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8FE-6305-4627-9733-7DEC01C5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7FD-BA90-4271-84EA-7B21D947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310-EE9D-402C-A929-197389C5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E0DF-E05A-4C3B-AC7D-6AA8B76A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09B-C038-40D9-A8F8-D146CA8F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8EA9-9193-4EEA-A2FB-A52E006B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32D-F97E-4AA6-8A91-F188CC69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D70-783E-4357-9E8D-70511438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AC63-E1C2-47C8-AADE-A080487D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B0C6-0C4E-453B-8AED-6197B3F0D4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hotoforum.ru/photo/407952/index.ru.html" TargetMode="External"/><Relationship Id="rId2" Type="http://schemas.openxmlformats.org/officeDocument/2006/relationships/hyperlink" Target="http://www.photoforum.ru/photo/407952/index.ru.html" TargetMode="External"/><Relationship Id="rId3" Type="http://schemas.openxmlformats.org/officeDocument/2006/relationships/hyperlink" Target="http://www.photoforum.ru/photo/407952/index.ru.html" TargetMode="External"/><Relationship Id="rId4" Type="http://schemas.openxmlformats.org/officeDocument/2006/relationships/hyperlink" Target="http://www.photoforum.ru/photo/407952/index.ru.html" TargetMode="External"/><Relationship Id="rId5" Type="http://schemas.openxmlformats.org/officeDocument/2006/relationships/hyperlink" Target="http://www.photoforum.ru/photo/407952/index.ru.html" TargetMode="External"/><Relationship Id="rId6" Type="http://schemas.openxmlformats.org/officeDocument/2006/relationships/hyperlink" Target="http://www.photoforum.ru/photo/407952/index.ru.html" TargetMode="External"/><Relationship Id="rId7" Type="http://schemas.openxmlformats.org/officeDocument/2006/relationships/hyperlink" Target="http://www.photoforum.ru/photo/407952/index.ru.html" TargetMode="External"/><Relationship Id="rId8" Type="http://schemas.openxmlformats.org/officeDocument/2006/relationships/hyperlink" Target="http://12mesyatcev.ru/20-noyabrya-fedot-ledostav.html" TargetMode="External"/><Relationship Id="rId9" Type="http://schemas.openxmlformats.org/officeDocument/2006/relationships/hyperlink" Target="http://12mesyatcev.ru/20-noyabrya-fedot-ledostav.html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ТОРОЖНО ЛЕДОСТА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Фото Зима наступает - фотограф Анатолий Туманов - пейзаж - ФотоФорум.ру"/>
          <p:cNvPicPr/>
          <p:nvPr/>
        </p:nvPicPr>
        <p:blipFill>
          <a:blip r:embed="rId1"/>
          <a:stretch/>
        </p:blipFill>
        <p:spPr>
          <a:xfrm>
            <a:off x="838080" y="838080"/>
            <a:ext cx="7524720" cy="5238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Фото Зима наступает - фотограф Анатолий Туманов - пейзаж - ФотоФорум.ру"/>
          <p:cNvPicPr/>
          <p:nvPr/>
        </p:nvPicPr>
        <p:blipFill>
          <a:blip r:embed="rId2"/>
          <a:stretch/>
        </p:blipFill>
        <p:spPr>
          <a:xfrm>
            <a:off x="838080" y="838080"/>
            <a:ext cx="75247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азавшись на тонком, потрескивающем льду, осторожно поверните обратно и скользящими шагами возвращайтесь по пройденному пути к берег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Shahter.by: За нахождение на льду во время ледостава будет полагаться штраф"/>
          <p:cNvPicPr/>
          <p:nvPr/>
        </p:nvPicPr>
        <p:blipFill>
          <a:blip r:embed="rId1"/>
          <a:stretch/>
        </p:blipFill>
        <p:spPr>
          <a:xfrm>
            <a:off x="3962520" y="838080"/>
            <a:ext cx="5181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рыбной ловле со льда не рекомендуется делать лунки одну от другой ближе 5 – 6 метров. Чтобы избежать беды, у рыбака ё должны быть спасательный жилет или нагрудник, а также веревка – 15 – 20 метров длинной с петлей на одном конце и грузом 400 – 500 граммов на друг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Рыбалка- фото Записи в рубрике Рыбалка- фото Дневник Evany :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алившись под лед, следует действовать быстро, широко раскинуть руки в стороны на кромку льда и без резких движений стараться выбраться на прочный лед, а затем лежа на спине или животе, продвигаться в сторону берега, одновременно призывая о помощ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Электронная версия Archives Страница 121 из 208 Информационный центр г Ликино ДулевоИнформационный центр г Ликино Дулево Page 12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огая пострадавшему, будьте осторожны! Приближайтесь к нему только ползком, опираясь на доску лыжи или жердь. Приблизившись на достаточное расстояние, бросьте ему конец веревки (каната, троса, шарфа, ремня, куртки). Деревянные предметы: жердь, доску, лыжу, лестницу – толкайте по льду до места проло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91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Меры безопасности на водных объектах в период ледостава"/>
          <p:cNvPicPr/>
          <p:nvPr/>
        </p:nvPicPr>
        <p:blipFill>
          <a:blip r:embed="rId1"/>
          <a:stretch/>
        </p:blipFill>
        <p:spPr>
          <a:xfrm>
            <a:off x="533520" y="304920"/>
            <a:ext cx="7772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о знать, что человек, попавший в ледяную воду, может окоченеть через 10-15 минут, а через 20 минут потерять сознание. Поэтому жизнь пострадавшего зависит от сообразительности и быстроты действия спаса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МЧС России"/>
          <p:cNvPicPr/>
          <p:nvPr/>
        </p:nvPicPr>
        <p:blipFill>
          <a:blip r:embed="rId1"/>
          <a:stretch/>
        </p:blipFill>
        <p:spPr>
          <a:xfrm>
            <a:off x="609480" y="457200"/>
            <a:ext cx="807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ближается время ледостава, когда с наступлением первых морозов на озерах, прудах и реках образуется тонкий ледяной покров, который не обладает необходимой прочностью, а трещит и проламывается даже под тяжестью ребенка. Продолжительность ледостава на разных водоемах не одинакова. Прочность льда также не одинакова, и не только на разных водоемах, но и в разных местах одного водоема. Это обусловлено многими причинами: глубиной водоема, скоростью течения, наличием грунтовых вод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Foto: Фотовыставки"/>
          <p:cNvPicPr/>
          <p:nvPr/>
        </p:nvPicPr>
        <p:blipFill>
          <a:blip r:embed="rId1"/>
          <a:stretch/>
        </p:blipFill>
        <p:spPr>
          <a:xfrm>
            <a:off x="4343400" y="1143000"/>
            <a:ext cx="4343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МНИТЕ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соблюдение мер предостожности на льду опасно для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Муниципальное бюджетное общеобразовательное учреждение &quot;Гимназия 13&quot; г. Ульяновска - Официальный сайт"/>
          <p:cNvPicPr/>
          <p:nvPr/>
        </p:nvPicPr>
        <p:blipFill>
          <a:blip r:embed="rId1"/>
          <a:stretch/>
        </p:blipFill>
        <p:spPr>
          <a:xfrm>
            <a:off x="380880" y="838080"/>
            <a:ext cx="84582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Администрация города Мурманска - официальный сайт :: Новости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а Картузова Галина Николаевна -учитель начальных классов МОУ-СОШ с. Лип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photoforum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hoto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407952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index.ru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12mesyatcev.ru/20-noyabrya-fedot-ledostav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429000"/>
            <a:ext cx="914400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едует помнить, что лед всегда таит опас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едует помнить, что лед всегда таит опас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Природа Байкала Ледостав"/>
          <p:cNvPicPr/>
          <p:nvPr/>
        </p:nvPicPr>
        <p:blipFill>
          <a:blip r:embed="rId1"/>
          <a:stretch/>
        </p:blipFill>
        <p:spPr>
          <a:xfrm>
            <a:off x="533520" y="1676520"/>
            <a:ext cx="81532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1371600"/>
            <a:ext cx="61722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 пребывании на льду следует знать и соблюдать определенные правила повед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Ледостав Дзержинская районная газета &quot;Новое время&quot;"/>
          <p:cNvPicPr/>
          <p:nvPr/>
        </p:nvPicPr>
        <p:blipFill>
          <a:blip r:embed="rId1"/>
          <a:stretch/>
        </p:blipFill>
        <p:spPr>
          <a:xfrm>
            <a:off x="1600200" y="2819520"/>
            <a:ext cx="59436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жде чем сойти с берега на лед, необходимо внимательно осмотреться, наметить маршрут движения, выбирая безопасные места. Проверяйте прочность льда колом, а не ударами ноги. Помните, что надежный лед – прозрачный, с зеленоватым оттенком, толщиной не менее 7 см. Двигаться по льду надо осторожно, внимательно следить за его поверхностью, обходить опасные и подозрительные места. Особенно осторожным нужно быть в местах покрытых толстым слоем снега, в местах быстрого течения и выхода родников, вблизи выступающих над поверхностью кустов, осоки, травы, в местах впадения в водоемы ручьев, сброса вод промышленных предприя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отографии автора :: Igor Rumov :: Клуб Foto.ru"/>
          <p:cNvPicPr/>
          <p:nvPr/>
        </p:nvPicPr>
        <p:blipFill>
          <a:blip r:embed="rId1"/>
          <a:stretch/>
        </p:blipFill>
        <p:spPr>
          <a:xfrm>
            <a:off x="-190440" y="309600"/>
            <a:ext cx="952488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На реках Архангельской области продолжается ледостав"/>
          <p:cNvPicPr/>
          <p:nvPr/>
        </p:nvPicPr>
        <p:blipFill>
          <a:blip r:embed="rId1"/>
          <a:stretch/>
        </p:blipFill>
        <p:spPr>
          <a:xfrm>
            <a:off x="457200" y="609480"/>
            <a:ext cx="8381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boris zhukov / Портфолио фотографа"/>
          <p:cNvPicPr/>
          <p:nvPr/>
        </p:nvPicPr>
        <p:blipFill>
          <a:blip r:embed="rId1"/>
          <a:stretch/>
        </p:blipFill>
        <p:spPr>
          <a:xfrm>
            <a:off x="155520" y="46080"/>
            <a:ext cx="1095372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Меры безопасности и правила поведения на льду * * * * * * * * * * * * - Картинка 12559/42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16:10:46Z</dcterms:created>
  <dc:creator>Галина</dc:creator>
  <dc:description/>
  <dc:language>en-US</dc:language>
  <cp:lastModifiedBy>Галина</cp:lastModifiedBy>
  <dcterms:modified xsi:type="dcterms:W3CDTF">2014-10-27T17:52:2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