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E9D-D12E-48FE-970C-B91EAABA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618-33BF-4EB4-B59D-C1F1203F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82A-B59C-4C87-85CE-2602A805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0AF-4A8A-4592-9604-565C07FF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441-24CB-46CF-9230-F4B5491D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B71-E817-44DA-A64F-059DEE91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A8F-28C0-4BC5-8E22-5905ECCF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674-5043-42FC-ACFA-92150094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79C-2139-40C5-8ECF-6BC5DE1F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D1A-1660-4D7C-8153-DAE4EBD1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376-2839-4B5B-9D06-CF70750C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C5D-FAD1-4CCA-A4E7-8696DC64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ffcc"/>
            </a:gs>
            <a:gs pos="100000">
              <a:srgbClr val="00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8076-483E-4DF6-A70F-D7DAD61C2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тема:</a:t>
            </a:r>
            <a:r>
              <a:rPr b="0" lang="ru-RU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«Малые формы активного отдыха дошкольнико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5105520"/>
            <a:ext cx="741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втор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тарший воспитатель Торопова Юлия Р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827640" y="1413000"/>
            <a:ext cx="747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онсультация для воспита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1547640" y="189000"/>
            <a:ext cx="626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Санкт-Петербургское государственое казенное учреждение здравоохра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«Психоневрологический дом ребёнка №9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Дыхательные упражнения</a:t>
            </a:r>
            <a:br>
              <a:rPr sz="4800"/>
            </a:b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могут выполняться в и.п. лежа, сидя, стоя, а также</a:t>
            </a:r>
            <a:br>
              <a:rPr sz="2000"/>
            </a:b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 в сочетании с движениями и реч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и выполнении дыхательных упраж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необходимо соблюдать следующие треб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 заниматься в пыльном, непроветре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ли сыром помещ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мпература воздуха должна быть на уровне 18-20</a:t>
            </a:r>
            <a:r>
              <a:rPr b="0" lang="ru-RU" sz="2400" spc="-1" strike="noStrike" baseline="50000">
                <a:solidFill>
                  <a:srgbClr val="333399"/>
                </a:solidFill>
                <a:latin typeface="Arial"/>
              </a:rPr>
              <a:t>о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ежда не должна стеснять дв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 заниматься сразу после приема пищ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 заниматься с ребенком, если у него заболевание органов дыхания в острой стад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омплекс дыхательных упражнений дл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9672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772720" y="3213000"/>
            <a:ext cx="5976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.п. – стоя, ноги слегка расставлены, руки опущены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 – взмах руками вперед – «тик» (вдох)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 - взмах руками назад – «так» (выдо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15920" y="4149720"/>
            <a:ext cx="3260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Петуш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ыльями взмахнул пету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х нас разбудил он вдруг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917440" y="5805360"/>
            <a:ext cx="6246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.п. –  встать прямо, ноги вместе, руки опущены (о. с.)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 – поднять руки в стороны (вдох)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 – хлопать руками по бедрам «ку-ка-ре-ку» (выдо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292720" y="19828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5" descr="MC900192289[1]"/>
          <p:cNvPicPr/>
          <p:nvPr/>
        </p:nvPicPr>
        <p:blipFill>
          <a:blip r:embed="rId1"/>
          <a:stretch/>
        </p:blipFill>
        <p:spPr>
          <a:xfrm>
            <a:off x="4932360" y="4149720"/>
            <a:ext cx="1406520" cy="147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j0234131"/>
          <p:cNvPicPr/>
          <p:nvPr/>
        </p:nvPicPr>
        <p:blipFill>
          <a:blip r:embed="rId2"/>
          <a:stretch/>
        </p:blipFill>
        <p:spPr>
          <a:xfrm>
            <a:off x="7020000" y="1700280"/>
            <a:ext cx="1341360" cy="1427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6"/>
          <p:cNvSpPr/>
          <p:nvPr/>
        </p:nvSpPr>
        <p:spPr>
          <a:xfrm>
            <a:off x="0" y="2060640"/>
            <a:ext cx="2952720" cy="26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 Часик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                   Часики вперед идут,                                                                                                                                                    За собою нас ве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омплекс дыхательных упражнений дл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54160" y="1844640"/>
            <a:ext cx="273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с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качаем мы в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бы поливать ц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20000" y="3357720"/>
            <a:ext cx="5416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.п. – (о.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 -  наклон туловища в правую сторону (вдох);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 – руки скользят, при этом гром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износить звук «с-с-с» (выдо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50920" y="4292640"/>
            <a:ext cx="3085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вето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ый главный на дорог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бывает с ним трев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133800" y="5516640"/>
            <a:ext cx="5709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.п. – сидя, ноги сдвинуть вмест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 – поднимание рук в стороны (вдох);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 – медленное опускание с длительным выдох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произнесением звука «с-с-с» (выдо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MC900354917[1]"/>
          <p:cNvPicPr/>
          <p:nvPr/>
        </p:nvPicPr>
        <p:blipFill>
          <a:blip r:embed="rId1"/>
          <a:stretch/>
        </p:blipFill>
        <p:spPr>
          <a:xfrm>
            <a:off x="5435640" y="1844640"/>
            <a:ext cx="117468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MC900432549[1]"/>
          <p:cNvPicPr/>
          <p:nvPr/>
        </p:nvPicPr>
        <p:blipFill>
          <a:blip r:embed="rId2"/>
          <a:stretch/>
        </p:blipFill>
        <p:spPr>
          <a:xfrm>
            <a:off x="7380360" y="4508640"/>
            <a:ext cx="1274760" cy="1274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омплекс дыхательных упражнений дл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080" y="1413000"/>
            <a:ext cx="3080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Ёж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Ёжик добрый, не колюч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мотри вокруг получ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419280" y="2133720"/>
            <a:ext cx="5057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.п. – (о. с.)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 – поворот головы впра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роткий шумный вдох носом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 - поворот головы вле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ыдох через полуоткрытые губы. (8 раз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78200" y="3500280"/>
            <a:ext cx="28170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ых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ыши одной ноздр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придет к тебе по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9280" y="4797360"/>
            <a:ext cx="914400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И.п. – (о. с.)</a:t>
            </a:r>
            <a:br>
              <a:rPr sz="1600"/>
            </a:b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1 – правую ноздрю закрыть указательным пальцем пр. руки, левой ноздрей делать тихий, продолжительный вдох;</a:t>
            </a:r>
            <a:br>
              <a:rPr sz="1600"/>
            </a:b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2 – как только вдох окончен, открыть пр. ноздрю, а левую закрыть указательным пальцем лев. руки.  Через правую ноздрю делать тихий продолжительный выдох с максимальным освобождением от воздуха легких и подтягиванием диафрагмы максимально ввер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ANd9GcQavSR3khgc6E3qDHoWxubhOk8_mx9vu8pUozcIRkFGpMMXIiAV9xKFhA"/>
          <p:cNvPicPr/>
          <p:nvPr/>
        </p:nvPicPr>
        <p:blipFill>
          <a:blip r:embed="rId1"/>
          <a:stretch/>
        </p:blipFill>
        <p:spPr>
          <a:xfrm>
            <a:off x="5003640" y="3645000"/>
            <a:ext cx="1176480" cy="129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ANd9GcQX7qglAPI29nmWJyX26QOTVdUVvwPlhfpdCkfU-jVgqK5vtbhKe4mB2A"/>
          <p:cNvPicPr/>
          <p:nvPr/>
        </p:nvPicPr>
        <p:blipFill>
          <a:blip r:embed="rId2">
            <a:alphaModFix amt="70000"/>
          </a:blip>
          <a:stretch/>
        </p:blipFill>
        <p:spPr>
          <a:xfrm>
            <a:off x="7524720" y="1052640"/>
            <a:ext cx="1224000" cy="163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ANd9GcTk2Fu12x7AiV8GD8dYepNLXYrxLV2yhyPk6x3GFTcBihjk3zyFzT1Fcvvj"/>
          <p:cNvPicPr/>
          <p:nvPr/>
        </p:nvPicPr>
        <p:blipFill>
          <a:blip r:embed="rId3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5"/>
          <p:cNvSpPr txBox="1"/>
          <p:nvPr/>
        </p:nvSpPr>
        <p:spPr>
          <a:xfrm>
            <a:off x="324000" y="1916280"/>
            <a:ext cx="8569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внимание </a:t>
            </a:r>
            <a:endParaRPr b="1" lang="en-US" sz="7200" spc="1" strike="noStrike">
              <a:ln cap="rnd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500720" y="45752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Times New Roman"/>
              </a:rPr>
              <a:t>Виды</a:t>
            </a:r>
            <a:br>
              <a:rPr sz="6000"/>
            </a:b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малых форм активного отдых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0920" y="2707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изкультурные минутки (Ф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изкультурные паузы (ФП)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инамические переменки (ДП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изкультурные мини - паузы (ФМП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33548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Times New Roman"/>
              </a:rPr>
              <a:t>Цель </a:t>
            </a:r>
            <a:br>
              <a:rPr sz="60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малых форм активного отды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Organization Chart 6"/>
          <p:cNvGrpSpPr/>
          <p:nvPr/>
        </p:nvGrpSpPr>
        <p:grpSpPr>
          <a:xfrm>
            <a:off x="395280" y="2060640"/>
            <a:ext cx="8351280" cy="4462560"/>
            <a:chOff x="395280" y="2060640"/>
            <a:chExt cx="8351280" cy="4462560"/>
          </a:xfrm>
        </p:grpSpPr>
        <p:cxnSp>
          <p:nvCxnSpPr>
            <p:cNvPr id="51" name="_s1028"/>
            <p:cNvCxnSpPr>
              <a:stCxn id="52" idx="0"/>
              <a:endCxn id="53" idx="2"/>
            </p:cNvCxnSpPr>
            <p:nvPr/>
          </p:nvCxnSpPr>
          <p:spPr>
            <a:xfrm flipV="1" rot="16200000">
              <a:off x="5750640" y="2878920"/>
              <a:ext cx="492120" cy="2853360"/>
            </a:xfrm>
            <a:prstGeom prst="bentConnector3">
              <a:avLst>
                <a:gd name="adj1" fmla="val 204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29"/>
            <p:cNvCxnSpPr>
              <a:stCxn id="55" idx="0"/>
              <a:endCxn id="53" idx="2"/>
            </p:cNvCxnSpPr>
            <p:nvPr/>
          </p:nvCxnSpPr>
          <p:spPr>
            <a:xfrm flipV="1">
              <a:off x="4570200" y="4059720"/>
              <a:ext cx="3240" cy="492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30"/>
            <p:cNvCxnSpPr>
              <a:stCxn id="57" idx="0"/>
              <a:endCxn id="53" idx="2"/>
            </p:cNvCxnSpPr>
            <p:nvPr/>
          </p:nvCxnSpPr>
          <p:spPr>
            <a:xfrm flipH="1" flipV="1" rot="5400000">
              <a:off x="2905200" y="2872440"/>
              <a:ext cx="478800" cy="2852640"/>
            </a:xfrm>
            <a:prstGeom prst="bentConnector3">
              <a:avLst>
                <a:gd name="adj1" fmla="val 20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031"/>
            <p:cNvSpPr/>
            <p:nvPr/>
          </p:nvSpPr>
          <p:spPr>
            <a:xfrm>
              <a:off x="3244320" y="2060640"/>
              <a:ext cx="2652480" cy="197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31975"/>
                  </a:solidFill>
                  <a:latin typeface="Times New Roman"/>
                  <a:ea typeface="Arial"/>
                </a:rPr>
                <a:t>В короткие сро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b31975"/>
                  </a:solidFill>
                  <a:latin typeface="Times New Roman"/>
                  <a:ea typeface="Arial"/>
                </a:rPr>
                <a:t>обеспечить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31975"/>
                  </a:solidFill>
                  <a:latin typeface="Times New Roman"/>
                  <a:ea typeface="Arial"/>
                </a:rPr>
                <a:t>срочны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31975"/>
                  </a:solidFill>
                  <a:latin typeface="Times New Roman"/>
                  <a:ea typeface="Arial"/>
                </a:rPr>
                <a:t>активный отды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31975"/>
                  </a:solidFill>
                  <a:latin typeface="Times New Roman"/>
                  <a:ea typeface="Arial"/>
                </a:rPr>
                <a:t> </a:t>
              </a:r>
              <a:r>
                <a:rPr b="1" lang="en-US" sz="2100" spc="-1" strike="noStrike">
                  <a:solidFill>
                    <a:srgbClr val="b31975"/>
                  </a:solidFill>
                  <a:latin typeface="Times New Roman"/>
                  <a:ea typeface="Arial"/>
                </a:rPr>
                <a:t>дете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2"/>
            <p:cNvSpPr/>
            <p:nvPr/>
          </p:nvSpPr>
          <p:spPr>
            <a:xfrm>
              <a:off x="395280" y="4551840"/>
              <a:ext cx="2646720" cy="197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66"/>
                  </a:solidFill>
                  <a:latin typeface="Times New Roman"/>
                  <a:ea typeface="Arial"/>
                </a:rPr>
                <a:t>Восстановит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66"/>
                  </a:solidFill>
                  <a:latin typeface="Times New Roman"/>
                  <a:ea typeface="Arial"/>
                </a:rPr>
                <a:t>работоспособность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66"/>
                  </a:solidFill>
                  <a:latin typeface="Times New Roman"/>
                  <a:ea typeface="Arial"/>
                </a:rPr>
                <a:t>внима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3"/>
            <p:cNvSpPr/>
            <p:nvPr/>
          </p:nvSpPr>
          <p:spPr>
            <a:xfrm>
              <a:off x="3247200" y="4551840"/>
              <a:ext cx="2646720" cy="197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66"/>
                  </a:solidFill>
                  <a:latin typeface="Times New Roman"/>
                  <a:ea typeface="Arial"/>
                </a:rPr>
                <a:t>Снять</a:t>
              </a:r>
              <a:r>
                <a:rPr b="1" lang="en-US" sz="2100" spc="-1" strike="noStrike">
                  <a:solidFill>
                    <a:srgbClr val="ff0066"/>
                  </a:solidFill>
                  <a:latin typeface="Times New Roman"/>
                  <a:ea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66"/>
                  </a:solidFill>
                  <a:latin typeface="Times New Roman"/>
                  <a:ea typeface="Arial"/>
                </a:rPr>
                <a:t>умствен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66"/>
                  </a:solidFill>
                  <a:latin typeface="Times New Roman"/>
                  <a:ea typeface="Arial"/>
                </a:rPr>
                <a:t>и мышеч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66"/>
                  </a:solidFill>
                  <a:latin typeface="Times New Roman"/>
                  <a:ea typeface="Arial"/>
                </a:rPr>
                <a:t>утомл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6099840" y="4551840"/>
              <a:ext cx="2646720" cy="197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66"/>
                  </a:solidFill>
                  <a:latin typeface="Times New Roman"/>
                  <a:ea typeface="Arial"/>
                </a:rPr>
                <a:t>Повысить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66"/>
                  </a:solidFill>
                  <a:latin typeface="Times New Roman"/>
                  <a:ea typeface="Arial"/>
                </a:rPr>
                <a:t>эмоциональны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66"/>
                  </a:solidFill>
                  <a:latin typeface="Times New Roman"/>
                  <a:ea typeface="Arial"/>
                </a:rPr>
                <a:t>уровен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Times New Roman"/>
              </a:rPr>
              <a:t>Основные отличия</a:t>
            </a:r>
            <a:br>
              <a:rPr sz="54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упражнений малых форм активного отды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одолжительность воздейств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авленность воздейств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жидаемый эффект от воздейств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ормы провед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есто в режим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3"/>
          <p:cNvSpPr/>
          <p:nvPr/>
        </p:nvSpPr>
        <p:spPr>
          <a:xfrm>
            <a:off x="6443640" y="2492280"/>
            <a:ext cx="2376360" cy="3384720"/>
          </a:xfrm>
          <a:prstGeom prst="flowChartCollate">
            <a:avLst/>
          </a:prstGeom>
          <a:solidFill>
            <a:srgbClr val="bbe0e3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/>
          <p:cNvSpPr/>
          <p:nvPr/>
        </p:nvSpPr>
        <p:spPr>
          <a:xfrm>
            <a:off x="3348000" y="2492280"/>
            <a:ext cx="2376360" cy="3384720"/>
          </a:xfrm>
          <a:prstGeom prst="flowChartCollate">
            <a:avLst/>
          </a:prstGeom>
          <a:solidFill>
            <a:srgbClr val="bbe0e3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родолжительность воз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324000" y="2492280"/>
            <a:ext cx="2376360" cy="3384720"/>
          </a:xfrm>
          <a:prstGeom prst="flowChartCollate">
            <a:avLst/>
          </a:prstGeom>
          <a:solidFill>
            <a:srgbClr val="bbe0e3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041840" y="2781360"/>
            <a:ext cx="943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Ф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044000" y="5013360"/>
            <a:ext cx="881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,5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н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066200" y="2781360"/>
            <a:ext cx="880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Ф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4137840" y="5013360"/>
            <a:ext cx="76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6875640" y="2708280"/>
            <a:ext cx="1346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ФМ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6951600" y="4869000"/>
            <a:ext cx="139356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0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екун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(до 1 мину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Направленность воздействия</a:t>
            </a:r>
            <a:br>
              <a:rPr sz="4000"/>
            </a:b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упраж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го воз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 утомлении плечевого пояса, шеи, р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а восстановление работо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истей и пальцев р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 утомлении гла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пособствующие повышению возбудимости нервной системы или мобилизирующего харак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аправленные на активизацию вним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действующие формированию и укреплению оса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аправленные на расслабление мыш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ых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Ожидаемый эффект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от воз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М –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нятие утомления с конкретной группы мышц, активизация внимания, мобилизация нервной системы на определенную рабо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П –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сё выше перечисленное + некоторое снижение умственного утомления, улучшение памяти и внимания;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МП –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нятие напряжения с отдельных мышечных групп, усиление кровообращения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Формы провед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37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Arial"/>
              </a:rPr>
              <a:t>Физкультурные минут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физические упражнения на крупные группы мышц, элементы массажа, дыхательной гимнастики, упражнения для глаз, пальцев рук, плечевого пояс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Arial"/>
              </a:rPr>
              <a:t>Физкультурные пау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омплексы общеразвивающих  упражнений, танцевально-ритмическая гимнастика, ритмические тан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Arial"/>
              </a:rPr>
              <a:t>Физкультурные мини - пау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упражнения типа потягиваний, встряхивающие движения руками и ногами, наклоны в стороны, назад, элементы самомассажа рук, спины, головы, глаз, дыхательная гимнас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Место в режиме дн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Arial"/>
              </a:rPr>
              <a:t>Физкультурные минут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о время непосредственно образовательной деятельности, совместной деятельности взрослых и детей; при монотонной работе, а также при разучивании нового материала, требующего усидчивости и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Arial"/>
              </a:rPr>
              <a:t>Физкультурные пау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и переключении с одной деятельности на друг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 перерывах между различными видами непосредственно образо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Arial"/>
              </a:rPr>
              <a:t>Физкультурные мини - пау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о время непосредственно образовательной деятельности, совместной деятельности взрослых и детей; в тех случаях, когда на мелкие и крупные мышечные группы приходится значительная нагрузка динамического и статического характера (лепка, рисование, штриховка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13:31:02Z</dcterms:created>
  <dc:creator>Алька</dc:creator>
  <dc:description/>
  <dc:language>en-US</dc:language>
  <cp:lastModifiedBy>Кристина Торопова</cp:lastModifiedBy>
  <dcterms:modified xsi:type="dcterms:W3CDTF">2019-10-18T16:30:08Z</dcterms:modified>
  <cp:revision>17</cp:revision>
  <dc:subject/>
  <dc:title>Слайд 1</dc:title>
</cp:coreProperties>
</file>