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63.png" ContentType="image/png"/>
  <Override PartName="/ppt/media/image55.jpeg" ContentType="image/jpeg"/>
  <Override PartName="/ppt/media/image3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0.jpeg" ContentType="image/jpeg"/>
  <Override PartName="/ppt/media/image56.jpeg" ContentType="image/jpeg"/>
  <Override PartName="/ppt/media/image3.png" ContentType="image/png"/>
  <Override PartName="/ppt/media/image35.jpeg" ContentType="image/jpeg"/>
  <Override PartName="/ppt/media/image1.jpeg" ContentType="image/jpeg"/>
  <Override PartName="/ppt/media/image21.png" ContentType="image/png"/>
  <Override PartName="/ppt/media/image22.jpeg" ContentType="image/jpeg"/>
  <Override PartName="/ppt/media/image66.png" ContentType="image/png"/>
  <Override PartName="/ppt/media/image65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62.png" ContentType="image/png"/>
  <Override PartName="/ppt/media/image51.jpeg" ContentType="image/jpeg"/>
  <Override PartName="/ppt/media/image17.jpeg" ContentType="image/jpeg"/>
  <Override PartName="/ppt/media/image15.jpeg" ContentType="image/jpeg"/>
  <Override PartName="/ppt/media/image16.jpeg" ContentType="image/jpeg"/>
  <Override PartName="/ppt/media/image64.png" ContentType="image/png"/>
  <Override PartName="/ppt/media/image60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0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8.png" ContentType="image/png"/>
  <Override PartName="/ppt/media/image43.jpeg" ContentType="image/jpeg"/>
  <Override PartName="/ppt/media/image39.jpeg" ContentType="image/jpeg"/>
  <Override PartName="/ppt/media/image5.png" ContentType="image/png"/>
  <Override PartName="/ppt/media/image8.jpeg" ContentType="image/jpeg"/>
  <Override PartName="/ppt/media/image26.png" ContentType="image/png"/>
  <Override PartName="/ppt/media/image27.jpeg" ContentType="image/jpeg"/>
  <Override PartName="/ppt/media/image10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41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ADC-E448-47A3-9BE2-731D2F09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DC5-225A-49F7-9E55-EEC97EBC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09E-5C3D-4942-8A66-B5DFD3BD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F4E1-5E58-429C-899A-FD39BDDF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B018-8AB0-4C60-A707-076CC2DF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BA19-758E-440B-92FD-2FC44C05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9C31-D724-424A-9122-40782448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6A79-0B9D-4DA0-8884-1488796E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7AF7-E2C6-4DB8-8265-ECC5E234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B27D-A7C7-45D4-BAA5-BABFAC69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67F1-ED7E-462C-AE6D-C0A8EC62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BF5-6B4C-4BA0-866F-4BD9A849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5E42-EBD2-4112-ABE9-D1C04F7D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D05B-C5AF-41F7-AC22-AA50B1CD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8B78-0A34-42CD-92A8-E67A8D17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7E52-B9C2-4BAB-8F86-0C803D87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1C3E-073B-4BB5-9A58-0FD574EE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3DB41-0DC2-4833-957B-377EF672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93A60-E561-406B-BF0C-E61A5EE7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ADF03-3688-405A-9FE3-8A135890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86EA8-49FE-4F5F-A9F3-BF0330CD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90D6A-7D64-4399-AB6F-B4F03F7C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7F0-3D66-4890-BA44-70391366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78853-E55C-4526-BBDC-13FA9974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F19A8-E684-41F7-8C39-19BAB6F4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AC2C7-96B5-4105-B682-41C5EBAB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FA9E4-7A01-4F43-A449-BDA2B92A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425ED-87EE-4023-A04A-0BB0429A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D3E9F-F5CE-4A28-8B08-261AD10A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D317-3F55-43B2-8FF1-681B155C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964D2-FF9C-48A8-82D0-C219798D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0E35B-9697-49D9-8B31-D9946BEE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248B6-6F0D-4847-93B9-BFFC0F5F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6B3-F2E2-4CD3-B0E7-6DC1D50D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E3F17-EAEA-45E4-8E43-3A01A3A2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DF87C-AEFB-4DA0-A771-AA59E49A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A6EF9-F265-4994-92D5-2813021D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6309C-16C4-4C0F-B9FF-7F6B0190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E7E20-EC4C-40C7-B6FD-B6C907C3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FDDAE-1EA7-40E5-8F22-D5F794E1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56E7A-9205-4DD3-B776-C87B4582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91BE2-9211-438E-B728-8E08432F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902B4-5256-407A-AD86-CA0803B1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71A-9F50-4D13-AF95-A1830D90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DA60-BA98-403D-9F4C-C1E45CAD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46E5-252D-4EE0-A119-D6643B7B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2B60-7B51-4EDB-A01D-7A969831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0691-0473-4AA2-B4AE-34E14FBA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BBB9-4C65-4983-90E1-9D6B8916B7D2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09C4-D4E8-4A61-9A30-EF727AB5D9AF}" type="slidenum">
              <a:rPr b="0" lang="ru-RU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32AD-E95F-47DB-9ADB-4E7655567AB7}" type="slidenum">
              <a:rPr b="0" lang="ru-RU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082A-0C8B-453F-B538-51F4B68C0346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hyperlink" Target="http://images.yandex.ru/yandsearch?source=wiz&amp;img_url=http://oz.by/data/img/10/207/612/cover/Rebyta-i-utyta-Mihail-Privin_10207612_6aec5f1e.jpg&amp;uinfo=sw-1210-sh-822-fw-985-fh-598-pd-1&amp;p=1&amp;text=&#1087;&#1088;&#1080;&#1096;&#1074;&#1080;&#1085;%20&#1088;&#1077;&#1073;&#1103;&#1090;&#1072;%20&#1080;%20&#1091;&#1090;&#1103;&#1090;&#1072;%20&#1082;&#1072;&#1088;&#1090;&#1080;&#1085;&#1082;&#1080;&amp;noreask=1&amp;pos=51&amp;rpt=simage&amp;lr=213" TargetMode="External"/><Relationship Id="rId9" Type="http://schemas.openxmlformats.org/officeDocument/2006/relationships/image" Target="../media/image13.jpeg"/><Relationship Id="rId10" Type="http://schemas.openxmlformats.org/officeDocument/2006/relationships/hyperlink" Target="http://images.yandex.ru/yandsearch?source=wiz&amp;img_url=http://static.ozone.ru/multimedia/books_covers/small/1002703304.gif&amp;uinfo=sw-1210-sh-822-fw-985-fh-598-pd-1&amp;p=1&amp;text=&#1087;&#1088;&#1080;&#1096;&#1074;&#1080;&#1085;%20&#1088;&#1077;&#1073;&#1103;&#1090;&#1072;%20&#1080;%20&#1091;&#1090;&#1103;&#1090;&#1072;%20&#1082;&#1072;&#1088;&#1090;&#1080;&#1085;&#1082;&#1080;&amp;noreask=1&amp;pos=59&amp;rpt=simage&amp;lr=213" TargetMode="External"/><Relationship Id="rId11" Type="http://schemas.openxmlformats.org/officeDocument/2006/relationships/image" Target="../media/image14.jpeg"/><Relationship Id="rId12" Type="http://schemas.openxmlformats.org/officeDocument/2006/relationships/hyperlink" Target="http://images.yandex.ru/yandsearch?text=&#1087;&#1088;&#1080;&#1096;&#1074;&#1080;&#1085;%20&#1087;&#1088;&#1086;&#1080;&#1079;&#1074;&#1077;&#1076;&#1077;&#1085;&#1080;&#1103;%20&#1082;&#1072;&#1088;&#1090;&#1080;&#1085;&#1082;&#1080;&amp;img_url=http%3A%2F%2Fwww.moscowbooks.ru%2Fimage%2Fbook%2F320%2Fi320945.jpg&amp;pos=17&amp;uinfo=sw-1210-sh-822-fw-985-fh-598-pd-1&amp;rpt=simage" TargetMode="External"/><Relationship Id="rId13" Type="http://schemas.openxmlformats.org/officeDocument/2006/relationships/image" Target="../media/image15.jpeg"/><Relationship Id="rId14" Type="http://schemas.openxmlformats.org/officeDocument/2006/relationships/hyperlink" Target="http://images.yandex.ru/yandsearch?p=3&amp;text=&#1087;&#1088;&#1080;&#1096;&#1074;&#1080;&#1085;%20&#1087;&#1088;&#1086;&#1080;&#1079;&#1074;&#1077;&#1076;&#1077;&#1085;&#1080;&#1103;%20&#1082;&#1072;&#1088;&#1090;&#1080;&#1085;&#1082;&#1080;&amp;img_url=http%3A%2F%2Fwww.buklit.ru%2Fcovers%2Fm%2F27906.jpg&amp;pos=101&amp;uinfo=sw-1210-sh-822-fw-985-fh-598-pd-1&amp;rpt=simage" TargetMode="External"/><Relationship Id="rId15" Type="http://schemas.openxmlformats.org/officeDocument/2006/relationships/image" Target="../media/image16.jpe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hyperlink" Target="http://images.yandex.ru/yandsearch?text=&#1087;&#1088;&#1080;&#1096;&#1074;&#1080;&#1085;%20&#1088;&#1072;&#1089;&#1089;&#1082;&#1072;&#1079;&#1099;%20&#1080;%20&#1089;&#1082;&#1072;&#1079;&#1082;&#1080;%20&#1082;&#1072;&#1088;&#1090;&#1080;&#1085;&#1082;&#1080;&amp;img_url=http%3A%2F%2Fwww.moscowbooks.ru%2Fimage%2Fbook%2F412%2Fi412010.jpg&amp;pos=16&amp;uinfo=sw-1210-sh-822-fw-985-fh-598-pd-1&amp;rpt=simage" TargetMode="External"/><Relationship Id="rId3" Type="http://schemas.openxmlformats.org/officeDocument/2006/relationships/image" Target="../media/image47.jpeg"/><Relationship Id="rId4" Type="http://schemas.openxmlformats.org/officeDocument/2006/relationships/hyperlink" Target="http://images.yandex.ru/yandsearch?text=&#1087;&#1088;&#1080;&#1096;&#1074;&#1080;&#1085;%20&#1088;&#1072;&#1089;&#1089;&#1082;&#1072;&#1079;&#1099;%20&#1080;%20&#1089;&#1082;&#1072;&#1079;&#1082;&#1080;%20&#1082;&#1072;&#1088;&#1090;&#1080;&#1085;&#1082;&#1080;&amp;img_url=http%3A%2F%2Fimages.zone-x.ru%2F22%5C650164.jpg&amp;pos=21&amp;uinfo=sw-1210-sh-822-fw-985-fh-598-pd-1&amp;rpt=simage" TargetMode="External"/><Relationship Id="rId5" Type="http://schemas.openxmlformats.org/officeDocument/2006/relationships/image" Target="../media/image48.jpeg"/><Relationship Id="rId6" Type="http://schemas.openxmlformats.org/officeDocument/2006/relationships/hyperlink" Target="http://images.yandex.ru/yandsearch?p=1&amp;text=&#1087;&#1088;&#1080;&#1096;&#1074;&#1080;&#1085;%20&#1088;&#1072;&#1089;&#1089;&#1082;&#1072;&#1079;&#1099;%20&#1080;%20&#1089;&#1082;&#1072;&#1079;&#1082;&#1080;%20&#1082;&#1072;&#1088;&#1090;&#1080;&#1085;&#1082;&#1080;&amp;img_url=http%3A%2F%2Fm.hotline.ua%2Fimg%2Fbx%2F3209%2F46_1.jpg&amp;pos=47&amp;uinfo=sw-1210-sh-822-fw-985-fh-598-pd-1&amp;rpt=simage" TargetMode="External"/><Relationship Id="rId7" Type="http://schemas.openxmlformats.org/officeDocument/2006/relationships/image" Target="../media/image49.jpeg"/><Relationship Id="rId8" Type="http://schemas.openxmlformats.org/officeDocument/2006/relationships/hyperlink" Target="http://images.yandex.ru/yandsearch?p=2&amp;text=&#1087;&#1088;&#1080;&#1096;&#1074;&#1080;&#1085;%20&#1088;&#1072;&#1089;&#1089;&#1082;&#1072;&#1079;&#1099;%20&#1080;%20&#1089;&#1082;&#1072;&#1079;&#1082;&#1080;%20&#1082;&#1072;&#1088;&#1090;&#1080;&#1085;&#1082;&#1080;&amp;img_url=http%3A%2F%2Fimg.labirint.ru%2Fimages%2Fcomments_pic%2F1150%2F03lab1obq1323815822.jpg&amp;pos=60&amp;uinfo=sw-1210-sh-822-fw-985-fh-598-pd-1&amp;rpt=simage" TargetMode="External"/><Relationship Id="rId9" Type="http://schemas.openxmlformats.org/officeDocument/2006/relationships/image" Target="../media/image50.jpeg"/><Relationship Id="rId10" Type="http://schemas.openxmlformats.org/officeDocument/2006/relationships/hyperlink" Target="http://images.yandex.ru/yandsearch?p=3&amp;text=&#1087;&#1088;&#1080;&#1096;&#1074;&#1080;&#1085;%20&#1088;&#1072;&#1089;&#1089;&#1082;&#1072;&#1079;&#1099;%20&#1080;%20&#1089;&#1082;&#1072;&#1079;&#1082;&#1080;%20&#1082;&#1072;&#1088;&#1090;&#1080;&#1085;&#1082;&#1080;&amp;img_url=http%3A%2F%2Fwww.livelib.ru%2Fboocover%2F1000522403%2Fs%2F8006%2FMihail_Prishvin__Lesnoj_shater.gif&amp;pos=108&amp;uinfo=sw-1210-sh-822-fw-985-fh-598-pd-1&amp;rpt=simage" TargetMode="External"/><Relationship Id="rId11" Type="http://schemas.openxmlformats.org/officeDocument/2006/relationships/image" Target="../media/image51.jpeg"/><Relationship Id="rId12" Type="http://schemas.openxmlformats.org/officeDocument/2006/relationships/hyperlink" Target="http://images.yandex.ru/yandsearch?p=5&amp;text=&#1087;&#1088;&#1080;&#1096;&#1074;&#1080;&#1085;%20&#1088;&#1072;&#1089;&#1089;&#1082;&#1072;&#1079;&#1099;%20&#1080;%20&#1089;&#1082;&#1072;&#1079;&#1082;&#1080;%20&#1082;&#1072;&#1088;&#1090;&#1080;&#1085;&#1082;&#1080;&amp;img_url=http%3A%2F%2Fimages.zone-x.ru%2F117%5C558041.jpg&amp;pos=160&amp;uinfo=sw-1210-sh-822-fw-985-fh-598-pd-1&amp;rpt=simage" TargetMode="External"/><Relationship Id="rId13" Type="http://schemas.openxmlformats.org/officeDocument/2006/relationships/image" Target="../media/image52.jpeg"/><Relationship Id="rId14" Type="http://schemas.openxmlformats.org/officeDocument/2006/relationships/hyperlink" Target="http://images.yandex.ru/yandsearch?p=7&amp;text=&#1087;&#1088;&#1080;&#1096;&#1074;&#1080;&#1085;%20&#1088;&#1072;&#1089;&#1089;&#1082;&#1072;&#1079;&#1099;%20&#1080;%20&#1089;&#1082;&#1072;&#1079;&#1082;&#1080;%20&#1082;&#1072;&#1088;&#1090;&#1080;&#1085;&#1082;&#1080;&amp;img_url=http%3A%2F%2Fimages.zone-x.ru%2F146%5C706595.jpg&amp;pos=227&amp;uinfo=sw-1210-sh-822-fw-985-fh-598-pd-1&amp;rpt=simage" TargetMode="External"/><Relationship Id="rId15" Type="http://schemas.openxmlformats.org/officeDocument/2006/relationships/image" Target="../media/image53.jpeg"/><Relationship Id="rId16" Type="http://schemas.openxmlformats.org/officeDocument/2006/relationships/hyperlink" Target="http://images.yandex.ru/yandsearch?p=11&amp;text=&#1087;&#1088;&#1080;&#1096;&#1074;&#1080;&#1085;%20&#1088;&#1072;&#1089;&#1089;&#1082;&#1072;&#1079;&#1099;%20&#1080;%20&#1089;&#1082;&#1072;&#1079;&#1082;&#1080;%20&#1082;&#1072;&#1088;&#1090;&#1080;&#1085;&#1082;&#1080;&amp;img_url=http%3A%2F%2Fwww.ukazka.ru%2Fimg%2Fb%2Fuk1120120.jpg&amp;pos=352&amp;uinfo=sw-1210-sh-822-fw-985-fh-598-pd-1&amp;rpt=simage" TargetMode="External"/><Relationship Id="rId17" Type="http://schemas.openxmlformats.org/officeDocument/2006/relationships/image" Target="../media/image54.jpeg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image" Target="../media/image58.jpeg"/><Relationship Id="rId13" Type="http://schemas.openxmlformats.org/officeDocument/2006/relationships/image" Target="../media/image59.jpe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hyperlink" Target="http://images.yandex.ru/yandsearch?p=4&amp;text=&#1073;&#1080;&#1086;&#1075;&#1088;&#1072;&#1092;&#1080;&#1103;%20&#1087;&#1088;&#1080;&#1096;&#1074;&#1080;&#1085;&#1072;%20&#1076;&#1083;&#1103;%20&#1076;&#1077;&#1090;&#1077;&#1081;&amp;img_url=http%3A%2F%2Fimg12.nnm.ru%2F0%2F4%2Fd%2F1%2F4%2Ff4587ad9d52fa96ab8670bebff8_prev.jpg&amp;pos=135&amp;uinfo=sw-1210-sh-822-fw-985-fh-598-pd-1&amp;rpt=simage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hyperlink" Target="http://images.yandex.ru/yandsearch?text=&#1073;&#1080;&#1086;&#1075;&#1088;&#1072;&#1092;&#1080;&#1103;%20&#1087;&#1088;&#1080;&#1096;&#1074;&#1080;&#1085;&#1072;%20&#1076;&#1083;&#1103;%20&#1076;&#1077;&#1090;&#1077;&#1081;&amp;img_url=http%3A%2F%2Ffiles.school-collection.edu.ru%2Fdlrstore%2F06722cb0-1a48-4088-92ed-23c648f05b38%2F%5BLI6RK_16-01%5D_%5BIL_01%5D-k.jpg&amp;pos=3&amp;type=clipart&amp;uinfo=sw-1210-sh-822-fw-985-fh-598-pd-1&amp;rpt=simage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hyperlink" Target="http://images.yandex.ru/yandsearch?text=&#1087;&#1088;&#1080;&#1096;&#1074;&#1080;&#1085;%20&#1082;&#1072;&#1083;&#1077;&#1085;&#1076;&#1072;&#1088;&#1100;%20&#1087;&#1088;&#1080;&#1088;&#1086;&#1076;&#1099;%20&#1082;&#1072;&#1088;&#1090;&#1080;&#1085;&#1082;&#1080;&amp;img_url=http%3A%2F%2Fwww.ozon.ru%2Fmultimedia%2Fbooks_covers%2F1001941005.jpg&amp;pos=14&amp;uinfo=sw-1210-sh-822-fw-985-fh-598-pd-1&amp;rpt=simage" TargetMode="External"/><Relationship Id="rId3" Type="http://schemas.openxmlformats.org/officeDocument/2006/relationships/image" Target="../media/image38.jpeg"/><Relationship Id="rId4" Type="http://schemas.openxmlformats.org/officeDocument/2006/relationships/hyperlink" Target="http://images.yandex.ru/yandsearch?text=&#1087;&#1088;&#1080;&#1096;&#1074;&#1080;&#1085;%20&#1083;&#1077;&#1089;&#1085;&#1072;&#1103;%20&#1082;&#1072;&#1087;&#1077;&#1083;&#1100;%20&#1082;&#1072;&#1088;&#1090;&#1080;&#1085;&#1082;&#1080;&amp;img_url=http%3A%2F%2Ffiles.ru.ladoshki.com%2Fdata%2Fgoesdown%2FPrishvin_Mihail%2Fpics%2FM.Prishvin%2520-%2520Ohota.jpg&amp;pos=8&amp;uinfo=sw-1210-sh-822-fw-985-fh-598-pd-1&amp;rpt=simage" TargetMode="External"/><Relationship Id="rId5" Type="http://schemas.openxmlformats.org/officeDocument/2006/relationships/image" Target="../media/image39.jpeg"/><Relationship Id="rId6" Type="http://schemas.openxmlformats.org/officeDocument/2006/relationships/hyperlink" Target="http://images.yandex.ru/yandsearch?p=2&amp;text=&#1087;&#1088;&#1080;&#1096;&#1074;&#1080;&#1085;%20&#1083;&#1077;&#1089;&#1085;&#1072;&#1103;%20&#1082;&#1072;&#1087;&#1077;&#1083;&#1100;%20&#1082;&#1072;&#1088;&#1090;&#1080;&#1085;&#1082;&#1080;&amp;img_url=http%3A%2F%2Fstatic.ozone.ru%2Fmultimedia%2Fbooks_covers%2Fsmall%2F1003166942.gif&amp;pos=70&amp;uinfo=sw-1210-sh-822-fw-985-fh-598-pd-1&amp;rpt=simage" TargetMode="External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hyperlink" Target="http://images.yandex.ru/" TargetMode="External"/><Relationship Id="rId3" Type="http://schemas.openxmlformats.org/officeDocument/2006/relationships/image" Target="../media/image42.jpeg"/><Relationship Id="rId4" Type="http://schemas.openxmlformats.org/officeDocument/2006/relationships/hyperlink" Target="http://images.yandex.ru/yandsearch?text=&#1087;&#1088;&#1080;&#1096;&#1074;&#1080;&#1085;%20&#1077;&#1078;%20&#1082;&#1072;&#1088;&#1090;&#1080;&#1085;&#1082;&#1080;&amp;img_url=http%3A%2F%2Fj.livelib.ru%2Fboocover%2F1000462457%2Fs%2F59a1%2FPrishvin_M.M.__Ezh_hud._Belousov_V.N..gif&amp;pos=2&amp;uinfo=sw-1210-sh-822-fw-985-fh-598-pd-1&amp;rpt=simage" TargetMode="External"/><Relationship Id="rId5" Type="http://schemas.openxmlformats.org/officeDocument/2006/relationships/image" Target="../media/image43.jpeg"/><Relationship Id="rId6" Type="http://schemas.openxmlformats.org/officeDocument/2006/relationships/hyperlink" Target="http://images.yandex.ru/yandsearch?text=&#1087;&#1088;&#1080;&#1096;&#1074;&#1080;&#1085;%20&#1079;&#1086;&#1083;&#1086;&#1090;&#1086;&#1081;%20&#1083;&#1091;&#1075;%20&#1082;&#1072;&#1088;&#1090;&#1080;&#1085;&#1082;&#1080;&amp;img_url=http%3A%2F%2Fwww.livelib.ru%2Fboocover%2F1000505301%2Fs%2F7ead%2FM._Prishvin__Zolotoj_lug.gif&amp;pos=22&amp;uinfo=sw-1210-sh-822-fw-985-fh-598-pd-1&amp;rpt=simage" TargetMode="External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5"/>
          <p:cNvSpPr txBox="1"/>
          <p:nvPr/>
        </p:nvSpPr>
        <p:spPr>
          <a:xfrm>
            <a:off x="457200" y="1066680"/>
            <a:ext cx="818208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6" name="Picture 9" descr="Этажи леса"/>
          <p:cNvPicPr/>
          <p:nvPr/>
        </p:nvPicPr>
        <p:blipFill>
          <a:blip r:embed="rId1"/>
          <a:stretch/>
        </p:blipFill>
        <p:spPr>
          <a:xfrm>
            <a:off x="5486400" y="4952880"/>
            <a:ext cx="1306440" cy="1685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Гости"/>
          <p:cNvPicPr/>
          <p:nvPr/>
        </p:nvPicPr>
        <p:blipFill>
          <a:blip r:embed="rId2"/>
          <a:stretch/>
        </p:blipFill>
        <p:spPr>
          <a:xfrm>
            <a:off x="1371600" y="3200400"/>
            <a:ext cx="1305000" cy="1695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Ёж"/>
          <p:cNvPicPr/>
          <p:nvPr/>
        </p:nvPicPr>
        <p:blipFill>
          <a:blip r:embed="rId3"/>
          <a:stretch/>
        </p:blipFill>
        <p:spPr>
          <a:xfrm>
            <a:off x="2209680" y="4952880"/>
            <a:ext cx="1219320" cy="1743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Кладовая солнца"/>
          <p:cNvPicPr/>
          <p:nvPr/>
        </p:nvPicPr>
        <p:blipFill>
          <a:blip r:embed="rId4"/>
          <a:stretch/>
        </p:blipFill>
        <p:spPr>
          <a:xfrm>
            <a:off x="4038480" y="4876920"/>
            <a:ext cx="1181160" cy="1752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Выскочка"/>
          <p:cNvPicPr/>
          <p:nvPr/>
        </p:nvPicPr>
        <p:blipFill>
          <a:blip r:embed="rId5"/>
          <a:stretch/>
        </p:blipFill>
        <p:spPr>
          <a:xfrm>
            <a:off x="7391520" y="4876920"/>
            <a:ext cx="1220760" cy="1733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9" descr="Медведь"/>
          <p:cNvPicPr/>
          <p:nvPr/>
        </p:nvPicPr>
        <p:blipFill>
          <a:blip r:embed="rId6"/>
          <a:stretch/>
        </p:blipFill>
        <p:spPr>
          <a:xfrm>
            <a:off x="6324480" y="2971800"/>
            <a:ext cx="1203480" cy="1828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1" descr="Синие перышки"/>
          <p:cNvPicPr/>
          <p:nvPr/>
        </p:nvPicPr>
        <p:blipFill>
          <a:blip r:embed="rId7"/>
          <a:stretch/>
        </p:blipFill>
        <p:spPr>
          <a:xfrm>
            <a:off x="380880" y="4800600"/>
            <a:ext cx="1311480" cy="166680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9" descr="http://im4-tub-ru.yandex.net/i?id=692919892-22-72&amp;n=2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696080" y="2286000"/>
            <a:ext cx="1067040" cy="16002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10" descr="http://im2-tub-ru.yandex.net/i?id=383218530-28-72&amp;n=21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52280" y="2286000"/>
            <a:ext cx="1076400" cy="1523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http://im5-tub-ru.yandex.net/i?id=23471065-66-72&amp;n=21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048120" y="3048120"/>
            <a:ext cx="1006200" cy="1676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http://im7-tub-ru.yandex.net/i?id=639879505-20-72&amp;n=21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724280" y="3200400"/>
            <a:ext cx="1076400" cy="15382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М.М.Пришвин - детям о природ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4" descr=""/>
          <p:cNvPicPr/>
          <p:nvPr/>
        </p:nvPicPr>
        <p:blipFill>
          <a:blip r:embed="rId1"/>
          <a:stretch/>
        </p:blipFill>
        <p:spPr>
          <a:xfrm>
            <a:off x="281160" y="682560"/>
            <a:ext cx="9051840" cy="5877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4" descr=""/>
          <p:cNvPicPr/>
          <p:nvPr/>
        </p:nvPicPr>
        <p:blipFill>
          <a:blip r:embed="rId1"/>
          <a:stretch/>
        </p:blipFill>
        <p:spPr>
          <a:xfrm>
            <a:off x="438120" y="-23760"/>
            <a:ext cx="8255160" cy="6662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http://im3-tub-ru.yandex.net/i?id=402748051-52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2920" y="5181480"/>
            <a:ext cx="1085760" cy="1428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http://im5-tub-ru.yandex.net/i?id=345909891-67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3600" y="3124080"/>
            <a:ext cx="1123920" cy="1428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http://im4-tub-ru.yandex.net/i?id=536454953-02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848720" y="1523880"/>
            <a:ext cx="1019160" cy="14288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http://im3-tub-ru.yandex.net/i?id=333795050-16-72&amp;n=2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28600" y="21337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http://im6-tub-ru.yandex.net/i?id=135036126-54-72&amp;n=21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981080" y="3733920"/>
            <a:ext cx="1000080" cy="1428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4" descr="http://im3-tub-ru.yandex.net/i?id=602023165-55-72&amp;n=21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80880" y="5029200"/>
            <a:ext cx="1086120" cy="1428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6" descr="http://im5-tub-ru.yandex.net/i?id=364211963-31-72&amp;n=21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095880" y="76212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8" descr="http://im5-tub-ru.yandex.net/i?id=121040066-62-72&amp;n=21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1066680" y="304920"/>
            <a:ext cx="1057320" cy="1428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ы уже не в первый раз встречаетесь с произведениями М.Пришвина. А я хочу узнать сейчас, настоящие ли вы читатели. Попробуйте по отрывкам узнать произведение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Раз было у нас – поймали мы молодого журавля и дали ему лягушку. Он её проглотил. Дали другую –проглотил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6" name="Picture 2" descr="http://im7-tub-ru.yandex.net/i?id=429544107-21-72&amp;n=17"/>
          <p:cNvPicPr/>
          <p:nvPr/>
        </p:nvPicPr>
        <p:blipFill>
          <a:blip r:embed="rId1"/>
          <a:stretch/>
        </p:blipFill>
        <p:spPr>
          <a:xfrm>
            <a:off x="5181480" y="1974960"/>
            <a:ext cx="3429000" cy="4511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 как раз под заячьей капустой лежал у меня кусок черного хлеба: со мной это постоянно бывает, что, когда не возьму хлеба в лес –голодно. А возьму – забуду съесть и назад принесу.”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3047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Picture 4" descr="http://im6-tub-ru.yandex.net/i?id=273347940-70-72&amp;n=17"/>
          <p:cNvPicPr/>
          <p:nvPr/>
        </p:nvPicPr>
        <p:blipFill>
          <a:blip r:embed="rId1"/>
          <a:stretch/>
        </p:blipFill>
        <p:spPr>
          <a:xfrm>
            <a:off x="3505320" y="2819520"/>
            <a:ext cx="2533680" cy="3878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51920" y="2209680"/>
            <a:ext cx="4343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ихаил Михайлович Пришвин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оставил огромное богатство в виде небольших рассказов описывающих родную природу в прозе во всех ее проявлениях, во всей ее красе, оставленных в виде самых обыкновенных кратких заметках о природ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266720" y="457200"/>
            <a:ext cx="487692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откие рассказы М. М. Пришвина о природе, скорее больше миниатюры природы, небольшие описания тех наблюдений, тех ощущений и чувств от прогулок, которые оставляли в его сердце растения, деревья и маленькие обитатели леса. Интересные события из жизни леса Михаил Михайлович записывал в виде небольших зарисовок. Так он делился теми чувствами, которыми с ним делилась природ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2" descr="рассказы М.М. Пришвина"/>
          <p:cNvPicPr/>
          <p:nvPr/>
        </p:nvPicPr>
        <p:blipFill>
          <a:blip r:embed="rId1"/>
          <a:stretch/>
        </p:blipFill>
        <p:spPr>
          <a:xfrm>
            <a:off x="1371600" y="0"/>
            <a:ext cx="1798560" cy="2209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533160"/>
            <a:ext cx="3809880" cy="4343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Рассказы о весн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Начало весны све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Весенний мороз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Дорога в конце мар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Первые ручь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Весенний ручей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Весна воды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Песня воды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Весенняя уборк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Черёмух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Весенний переворо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723920" y="1904760"/>
            <a:ext cx="4038840" cy="4800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Рассказы о лет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Первый ра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Недовольная лягуш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Осиновый пу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Красные шишк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Пень-муравейни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6" action="ppaction://hlinksldjump"/>
              </a:rPr>
              <a:t>Закат год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7" action="ppaction://hlinksldjump"/>
              </a:rPr>
              <a:t>Темный лес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8" action="ppaction://hlinksldjump"/>
              </a:rPr>
              <a:t>Зарастающая полян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9" action="ppaction://hlinksldjump"/>
              </a:rPr>
              <a:t>Рожь наливае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0" action="ppaction://hlinksldjump"/>
              </a:rPr>
              <a:t>Ель и берез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1" action="ppaction://hlinksldjump"/>
              </a:rPr>
              <a:t>Дяте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есные жилищ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 старого пн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2" descr="рассказы о природе М.М. Пришвина"/>
          <p:cNvPicPr/>
          <p:nvPr/>
        </p:nvPicPr>
        <p:blipFill>
          <a:blip r:embed="rId12"/>
          <a:stretch/>
        </p:blipFill>
        <p:spPr>
          <a:xfrm>
            <a:off x="685800" y="4952880"/>
            <a:ext cx="3048120" cy="17337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3"/>
          <p:cNvSpPr/>
          <p:nvPr/>
        </p:nvSpPr>
        <p:spPr>
          <a:xfrm>
            <a:off x="1259640" y="9720"/>
            <a:ext cx="678996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200" rIns="20520" tIns="31680" bIns="31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0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4" descr="рассказы о природе М.М. Пришвина"/>
          <p:cNvPicPr/>
          <p:nvPr/>
        </p:nvPicPr>
        <p:blipFill>
          <a:blip r:embed="rId13"/>
          <a:stretch/>
        </p:blipFill>
        <p:spPr>
          <a:xfrm>
            <a:off x="5257800" y="0"/>
            <a:ext cx="3048120" cy="1714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solidFill>
            <a:srgbClr val="546422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Рассказы об осен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чало осени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синкам холодно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сенняя роска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етренный день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ос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Листопад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ябина краснеет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аводь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ван-да-Марь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сенние листики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следние цвет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48320" y="228240"/>
            <a:ext cx="4038480" cy="4435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ассказы о зим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ристальный ден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еревья в лесу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Беличья памят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нежк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ождение месяц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3" name="Picture 2" descr="рассказы о природе М.М. Пришвина"/>
          <p:cNvPicPr/>
          <p:nvPr/>
        </p:nvPicPr>
        <p:blipFill>
          <a:blip r:embed="rId1"/>
          <a:stretch/>
        </p:blipFill>
        <p:spPr>
          <a:xfrm>
            <a:off x="762120" y="0"/>
            <a:ext cx="3047760" cy="18478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1260360" y="9360"/>
            <a:ext cx="679284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200" rIns="20520" tIns="31680" bIns="31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09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4" descr="рассказы о природе М.М. Пришвина"/>
          <p:cNvPicPr/>
          <p:nvPr/>
        </p:nvPicPr>
        <p:blipFill>
          <a:blip r:embed="rId2"/>
          <a:stretch/>
        </p:blipFill>
        <p:spPr>
          <a:xfrm>
            <a:off x="5410080" y="4952880"/>
            <a:ext cx="3048120" cy="1743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2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Схема 6" descr=""/>
          <p:cNvPicPr/>
          <p:nvPr/>
        </p:nvPicPr>
        <p:blipFill>
          <a:blip r:embed="rId1"/>
          <a:stretch/>
        </p:blipFill>
        <p:spPr>
          <a:xfrm>
            <a:off x="195120" y="987480"/>
            <a:ext cx="4480200" cy="3133800"/>
          </a:xfrm>
          <a:prstGeom prst="rect">
            <a:avLst/>
          </a:prstGeom>
          <a:ln w="0">
            <a:noFill/>
          </a:ln>
        </p:spPr>
      </p:pic>
      <p:pic>
        <p:nvPicPr>
          <p:cNvPr id="277" name="Схема 7" descr=""/>
          <p:cNvPicPr/>
          <p:nvPr/>
        </p:nvPicPr>
        <p:blipFill>
          <a:blip r:embed="rId2"/>
          <a:stretch/>
        </p:blipFill>
        <p:spPr>
          <a:xfrm>
            <a:off x="4687920" y="530280"/>
            <a:ext cx="4273560" cy="2755800"/>
          </a:xfrm>
          <a:prstGeom prst="rect">
            <a:avLst/>
          </a:prstGeom>
          <a:ln w="0">
            <a:noFill/>
          </a:ln>
        </p:spPr>
      </p:pic>
      <p:pic>
        <p:nvPicPr>
          <p:cNvPr id="278" name="Схема 8" descr=""/>
          <p:cNvPicPr/>
          <p:nvPr/>
        </p:nvPicPr>
        <p:blipFill>
          <a:blip r:embed="rId3"/>
          <a:stretch/>
        </p:blipFill>
        <p:spPr>
          <a:xfrm>
            <a:off x="347760" y="4187880"/>
            <a:ext cx="4632120" cy="2262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http://im8-tub-ru.yandex.net/i?id=585166586-45-72&amp;n=21"/>
          <p:cNvPicPr/>
          <p:nvPr/>
        </p:nvPicPr>
        <p:blipFill>
          <a:blip r:embed="rId4"/>
          <a:stretch/>
        </p:blipFill>
        <p:spPr>
          <a:xfrm>
            <a:off x="4876920" y="3505320"/>
            <a:ext cx="4079880" cy="3154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603360" y="755640"/>
            <a:ext cx="8059680" cy="4029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3352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5" descr="Михаил Пришвин"/>
          <p:cNvPicPr/>
          <p:nvPr/>
        </p:nvPicPr>
        <p:blipFill>
          <a:blip r:embed="rId1"/>
          <a:stretch/>
        </p:blipFill>
        <p:spPr>
          <a:xfrm>
            <a:off x="4267080" y="304920"/>
            <a:ext cx="4407120" cy="3581280"/>
          </a:xfrm>
          <a:prstGeom prst="rect">
            <a:avLst/>
          </a:prstGeom>
          <a:ln w="0">
            <a:noFill/>
          </a:ln>
        </p:spPr>
      </p:pic>
      <p:grpSp>
        <p:nvGrpSpPr>
          <p:cNvPr id="211" name="Загнутый угол 3"/>
          <p:cNvGrpSpPr/>
          <p:nvPr/>
        </p:nvGrpSpPr>
        <p:grpSpPr>
          <a:xfrm>
            <a:off x="231840" y="3925800"/>
            <a:ext cx="8607240" cy="2664000"/>
            <a:chOff x="231840" y="3925800"/>
            <a:chExt cx="8607240" cy="2664000"/>
          </a:xfrm>
        </p:grpSpPr>
        <p:pic>
          <p:nvPicPr>
            <p:cNvPr id="212" name="Загнутый угол 3" descr=""/>
            <p:cNvPicPr/>
            <p:nvPr/>
          </p:nvPicPr>
          <p:blipFill>
            <a:blip r:embed="rId2"/>
            <a:stretch/>
          </p:blipFill>
          <p:spPr>
            <a:xfrm>
              <a:off x="231840" y="3925800"/>
              <a:ext cx="860724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304920" y="3962520"/>
              <a:ext cx="8458200" cy="20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Constantia"/>
                  <a:ea typeface="Aharoni"/>
                </a:rPr>
                <a:t>Михаил Михайлович Пришвин- певец русской природы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Constantia"/>
                  <a:ea typeface="Aharoni"/>
                </a:rPr>
                <a:t>(1873 – 1954)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14" name="Picture 11" descr="http://im2-tub-ru.yandex.net/i?id=498832627-66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304920"/>
            <a:ext cx="2743200" cy="3546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495288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Times New Roman"/>
              </a:rPr>
              <a:t> 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Times New Roman"/>
              </a:rPr>
              <a:t>Михаил Михайлович Пришвин, певец русской природы, родился 4 февраля 1873 года в имении Хрущёво Орловской губернии. Его отец был купцом, который промотал своё состояние и оставил семью без средств к существованию. Благодаря матери, детям удалось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Times New Roman"/>
              </a:rPr>
              <a:t>получить образование.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0" y="54100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ть М.М. Пришви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рия Ивановн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6" descr="Мать М.М. Пришвина Мария Ивановна (1842-1914)"/>
          <p:cNvPicPr/>
          <p:nvPr/>
        </p:nvPicPr>
        <p:blipFill>
          <a:blip r:embed="rId1"/>
          <a:stretch/>
        </p:blipFill>
        <p:spPr>
          <a:xfrm>
            <a:off x="5715000" y="1752480"/>
            <a:ext cx="2392200" cy="341964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Rectangle 4" descr=""/>
          <p:cNvPicPr/>
          <p:nvPr/>
        </p:nvPicPr>
        <p:blipFill>
          <a:blip r:embed="rId1"/>
          <a:stretch/>
        </p:blipFill>
        <p:spPr>
          <a:xfrm>
            <a:off x="212760" y="755640"/>
            <a:ext cx="7218360" cy="5346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Обложка книги: Дремучий медведь и другие истории о животных. Сборник. издательство: М: Олма-Пресс Образование"/>
          <p:cNvPicPr/>
          <p:nvPr/>
        </p:nvPicPr>
        <p:blipFill>
          <a:blip r:embed="rId2"/>
          <a:stretch/>
        </p:blipFill>
        <p:spPr>
          <a:xfrm>
            <a:off x="7086600" y="152280"/>
            <a:ext cx="1174680" cy="1905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В краю дедушки Мазая"/>
          <p:cNvPicPr/>
          <p:nvPr/>
        </p:nvPicPr>
        <p:blipFill>
          <a:blip r:embed="rId3"/>
          <a:stretch/>
        </p:blipFill>
        <p:spPr>
          <a:xfrm>
            <a:off x="7620120" y="2286000"/>
            <a:ext cx="125388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Обложка книги: Кладовая солнца: Рассказы и сказка-быль. Издательство: М: АСТ /Астрель"/>
          <p:cNvPicPr/>
          <p:nvPr/>
        </p:nvPicPr>
        <p:blipFill>
          <a:blip r:embed="rId4"/>
          <a:stretch/>
        </p:blipFill>
        <p:spPr>
          <a:xfrm>
            <a:off x="7162920" y="4572000"/>
            <a:ext cx="1204920" cy="1752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http://im5-tub-ru.yandex.net/i?id=383452296-09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43000" y="0"/>
            <a:ext cx="1828800" cy="1770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4" descr=""/>
          <p:cNvPicPr/>
          <p:nvPr/>
        </p:nvPicPr>
        <p:blipFill>
          <a:blip r:embed="rId1"/>
          <a:stretch/>
        </p:blipFill>
        <p:spPr>
          <a:xfrm>
            <a:off x="208080" y="3193920"/>
            <a:ext cx="8893080" cy="3140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.М. Пришвин (фото)"/>
          <p:cNvPicPr/>
          <p:nvPr/>
        </p:nvPicPr>
        <p:blipFill>
          <a:blip r:embed="rId2"/>
          <a:stretch/>
        </p:blipFill>
        <p:spPr>
          <a:xfrm>
            <a:off x="3581280" y="152280"/>
            <a:ext cx="2362320" cy="3257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4" descr=""/>
          <p:cNvPicPr/>
          <p:nvPr/>
        </p:nvPicPr>
        <p:blipFill>
          <a:blip r:embed="rId1"/>
          <a:stretch/>
        </p:blipFill>
        <p:spPr>
          <a:xfrm>
            <a:off x="4456080" y="2736720"/>
            <a:ext cx="4754520" cy="3902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Общий вид Дома-музея М.М. Пришвина"/>
          <p:cNvPicPr/>
          <p:nvPr/>
        </p:nvPicPr>
        <p:blipFill>
          <a:blip r:embed="rId2"/>
          <a:stretch/>
        </p:blipFill>
        <p:spPr>
          <a:xfrm>
            <a:off x="3505320" y="533520"/>
            <a:ext cx="3352680" cy="236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7"/>
          <p:cNvSpPr/>
          <p:nvPr/>
        </p:nvSpPr>
        <p:spPr>
          <a:xfrm>
            <a:off x="0" y="129960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зей-усадьба М.М. Пришви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сковская обла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9" descr="Дом-музей М.М. Пришвина"/>
          <p:cNvPicPr/>
          <p:nvPr/>
        </p:nvPicPr>
        <p:blipFill>
          <a:blip r:embed="rId3"/>
          <a:stretch/>
        </p:blipFill>
        <p:spPr>
          <a:xfrm>
            <a:off x="914400" y="3276720"/>
            <a:ext cx="2971800" cy="3209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4" descr=""/>
          <p:cNvPicPr/>
          <p:nvPr/>
        </p:nvPicPr>
        <p:blipFill>
          <a:blip r:embed="rId1"/>
          <a:stretch/>
        </p:blipFill>
        <p:spPr>
          <a:xfrm>
            <a:off x="1962000" y="225360"/>
            <a:ext cx="5267520" cy="6181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Дом-музей М.М. Пришвина"/>
          <p:cNvPicPr/>
          <p:nvPr/>
        </p:nvPicPr>
        <p:blipFill>
          <a:blip r:embed="rId2"/>
          <a:stretch/>
        </p:blipFill>
        <p:spPr>
          <a:xfrm>
            <a:off x="7053120" y="914400"/>
            <a:ext cx="1916280" cy="1676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Дом-музей М.М. Пришвина"/>
          <p:cNvPicPr/>
          <p:nvPr/>
        </p:nvPicPr>
        <p:blipFill>
          <a:blip r:embed="rId3"/>
          <a:stretch/>
        </p:blipFill>
        <p:spPr>
          <a:xfrm>
            <a:off x="228600" y="0"/>
            <a:ext cx="1603440" cy="25052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Дом-музей М.М. Пришвина"/>
          <p:cNvPicPr/>
          <p:nvPr/>
        </p:nvPicPr>
        <p:blipFill>
          <a:blip r:embed="rId4"/>
          <a:stretch/>
        </p:blipFill>
        <p:spPr>
          <a:xfrm>
            <a:off x="228600" y="4267080"/>
            <a:ext cx="1731960" cy="2590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Дом-музей М.М.Пришвина"/>
          <p:cNvPicPr/>
          <p:nvPr/>
        </p:nvPicPr>
        <p:blipFill>
          <a:blip r:embed="rId5"/>
          <a:stretch/>
        </p:blipFill>
        <p:spPr>
          <a:xfrm>
            <a:off x="7086600" y="3581280"/>
            <a:ext cx="1884240" cy="2819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4" descr="Дом-музей М.М. Пришвина"/>
          <p:cNvPicPr/>
          <p:nvPr/>
        </p:nvPicPr>
        <p:blipFill>
          <a:blip r:embed="rId6"/>
          <a:stretch/>
        </p:blipFill>
        <p:spPr>
          <a:xfrm>
            <a:off x="380880" y="2209680"/>
            <a:ext cx="1570320" cy="228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4" descr=""/>
          <p:cNvPicPr/>
          <p:nvPr/>
        </p:nvPicPr>
        <p:blipFill>
          <a:blip r:embed="rId1"/>
          <a:stretch/>
        </p:blipFill>
        <p:spPr>
          <a:xfrm>
            <a:off x="-225360" y="1133640"/>
            <a:ext cx="8491320" cy="5505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http://im6-tub-ru.yandex.net/i?id=431607151-45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48720" y="762120"/>
            <a:ext cx="1295280" cy="17348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http://im2-tub-ru.yandex.net/i?id=121654019-06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20120" y="3809880"/>
            <a:ext cx="1218960" cy="1905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http://im7-tub-ru.yandex.net/i?id=490171507-43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00200" y="0"/>
            <a:ext cx="1200240" cy="1428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4" descr=""/>
          <p:cNvPicPr/>
          <p:nvPr/>
        </p:nvPicPr>
        <p:blipFill>
          <a:blip r:embed="rId1"/>
          <a:stretch/>
        </p:blipFill>
        <p:spPr>
          <a:xfrm>
            <a:off x="-92160" y="225360"/>
            <a:ext cx="7504200" cy="64864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4" descr="http://www.libex.ru/dimg/6b9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2920" y="4343400"/>
            <a:ext cx="1773000" cy="2362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http://im4-tub-ru.yandex.net/i?id=323552829-10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238880" y="457200"/>
            <a:ext cx="1409760" cy="2114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http://im8-tub-ru.yandex.net/i?id=335467380-02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924680" y="2666880"/>
            <a:ext cx="1019160" cy="1428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NA7 X86</cp:lastModifiedBy>
  <dcterms:modified xsi:type="dcterms:W3CDTF">2013-04-22T12:33:04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