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31C-2EB7-4932-9386-699A07EE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F32-8D3F-4400-A883-AE43BE3A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45F-9167-470D-9C73-62DE7D84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042-C2FB-4EF9-BB23-DCE6837D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6479-40B9-4AE4-BD48-FBEEF346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A808-FBCE-47E0-A327-91D500C3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06A2-EEA5-4717-B5F5-9F35E355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6DCE-F8BC-411D-A641-0208F50E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CA49-9297-4FB0-97F1-110E39B2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ED23-EBC3-46A5-A660-DDA14327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669B-A7A9-43A8-AB1A-EDD64AE6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5C9-301A-47CC-BE76-99D02103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06A7-6922-4B41-BD30-1D01EFD7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FE5B-3EAC-4F82-965E-C808C9C0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69EF-DA8E-47C4-9F59-E4568083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9CDB-DDC8-430C-9C6C-073DEB5B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B0A9-DB88-4423-B6E9-14B0AB37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A7B-095E-431E-A2F7-506AD764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B66-A6B1-4BAB-8377-3A80CD18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326-9A78-46B9-AAF3-A9A9CACC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862-7092-4746-A50B-71C8E2F4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184-7031-4450-AD34-5504C3D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44D-DD9B-4F10-A764-A5079C71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54A-4724-480D-B09A-159FB748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1CA7-76B9-4F26-8638-F1367389875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2B6B-01EF-495A-B37C-6A5473540D6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Bookman Old Style"/>
              </a:rPr>
              <a:t>ТРИЗ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Bookman Old Style"/>
              </a:rPr>
              <a:t>( ТЕОРИЯ РЕШЕНИЯ ИЗОБРЕТАТЕЛЬСКИХ ЗАДАЧ)</a:t>
            </a:r>
            <a:br>
              <a:rPr sz="4300"/>
            </a:b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500720"/>
            <a:ext cx="7664400" cy="13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Rockwell"/>
              </a:rPr>
              <a:t>Подготовила: Воспитатель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еррамова А. Г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3008160" cy="128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ЕМ ЯВЛЯЕТСЯ ГЕНРИХ САУЛОВИЧ АЛЬТШУЛЛЕР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440" y="609480"/>
            <a:ext cx="464184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Rockwell"/>
              </a:rPr>
              <a:t>      </a:t>
            </a:r>
            <a:r>
              <a:rPr b="1" lang="ru-RU" sz="13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ю использования ТРИЗ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технологии является развитие с одной стороны таких качеств мышления, как  гибкость, подвижность, системность, а с другой стороны поисковой активности, стремления к новизне, развитие речи и творческого воображения.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З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ак универсальный инструментарий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тс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сех занятиях. Это позволяет формировать единую, гармоничную, научно обоснованную модель мира в сознании ребенка. Создается ситуация успеха, идет взаимообмен результатами решения, решение одного ребенка активизирует мысль другого, расширяет диапазон воображения, стимулирует его развитие 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819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38120" y="1622520"/>
            <a:ext cx="28893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Bookman Old Style"/>
              </a:rPr>
              <a:t>ОСНОВНЫЕ ФУНКЦИИ ТРИЗ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1.Решение творческих и изобретательских задач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2. Прогнозирование развития и получение перспективных решений (в том числе и новых)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3. Развитие качеств творческой личности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900000" y="692280"/>
            <a:ext cx="806472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ы построения занятий по ТРИ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Минимум сообщения информации, максимум рассужд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тимальная форма организации обсуждения проблемных ситуаций — мозговой штур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истемный подход 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(все в мире взаимосвязано, и любое явление должно рассматриваться в развити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ключение в процессе познания всех доступных для ребенка мыслительных операций и средств восприятия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(анализаторов, причинно-следственных выводов и заключений, сделанных самостоятельно; предметно-схематичной наглядност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язательная активизация творческого вообра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24000" y="260280"/>
            <a:ext cx="842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етод мозгового штурм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етод катало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етод фокальных объект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етод морфологического анализ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5a1cc"/>
                </a:solidFill>
                <a:uFillTx/>
                <a:latin typeface="Times New Roman"/>
                <a:ea typeface="Times New Roman"/>
              </a:rPr>
              <a:t>Метод обоснования новых идей «Золотая рыб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5a1cc"/>
                </a:solidFill>
                <a:uFillTx/>
                <a:latin typeface="Times New Roman"/>
                <a:ea typeface="Times New Roman"/>
              </a:rPr>
              <a:t>Метод проб и ошиб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1042920" y="765000"/>
            <a:ext cx="69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З, с одной стороны, — занимательная игра, с другой — развивает умственной активности ребенка через творчество. Что дает творчество ребенк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ает возможность проявить себ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тремление получать новую информацию об окружающ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вивает потребность в познаватель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ает возможность созидать, твори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овать умение развивать и доказывать свою точку зрения. Этому помогут приемы и методы ТРИ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11280" y="836640"/>
            <a:ext cx="7345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детей обогащается круг представлений, растет словарный запас, развиваются творческие способ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РИЗ помогает формировать диалектику и логику, способствует преодолению застенчивости, замкнутости, робости; маленький человек учится отстаивать свою точку зрения, а попадая в трудные ситуации самостоятельно находить оригинальные ре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971640" y="476280"/>
            <a:ext cx="6337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ИЗ ТРИ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ешение противоречий – ключ к творческому мышл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о работы с детьми – педагогический поис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ребенок не задает вопроса, то педагог задает его сам: «Что было бы, если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е- не форма, а поиск истин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ru-RU" sz="4900" spc="-1" strike="noStrike">
                <a:solidFill>
                  <a:srgbClr val="ffffff"/>
                </a:solidFill>
                <a:latin typeface="Bookman Old Style"/>
              </a:rPr>
              <a:t>СПАСИБО ЗА ВНИМАНИЕ!</a:t>
            </a:r>
            <a:endParaRPr b="1" lang="en-US" sz="49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04:37:48Z</dcterms:created>
  <dc:creator>user</dc:creator>
  <dc:description/>
  <dc:language>en-US</dc:language>
  <cp:lastModifiedBy>Юсиф</cp:lastModifiedBy>
  <dcterms:modified xsi:type="dcterms:W3CDTF">2019-10-18T18:25:01Z</dcterms:modified>
  <cp:revision>35</cp:revision>
  <dc:subject/>
  <dc:title>Математика в сказках</dc:title>
</cp:coreProperties>
</file>