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E4B-0301-4E10-999D-0121EE1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F0D-EC0E-427A-83C5-E15C202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E6D-3C7D-42BF-BCBF-14147387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E92-13B5-4E18-883E-7305D87D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B7E-22CB-45B1-90F4-A218AE7C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BA1-45E2-48F3-A956-4C3D267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7C7-FC7E-4040-A103-D6B1C9E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B45-30AB-48C3-AD88-385E75C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5B2-5195-4CD8-9247-7BB9777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F9E-5487-4F1A-89F4-A7B0A19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C65-37B4-461D-AA9B-A479D25B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FF6-7C0A-4758-8148-B594574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6323-B885-4575-BA08-526EA82B6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_SimplerDnm"/>
                <a:ea typeface="Times New Roman"/>
              </a:rPr>
              <a:t>Что</a:t>
            </a:r>
            <a:r>
              <a:rPr b="1" lang="ru-RU" sz="3200" spc="-1" strike="noStrike">
                <a:solidFill>
                  <a:srgbClr val="7030a0"/>
                </a:solidFill>
                <a:latin typeface="a_SimplerDnm"/>
              </a:rPr>
              <a:t> даёт проект как технология? Какие его достоинства можно выдел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 – первых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– надёжный фактор мотивации, где каждый ученик находит собственный интерес в предложенном исследо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-вторых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альтернатив, плюрализма, подходов, решений в процессе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-третьих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процессе групповой работы, публичных выступлений, презентаций складываются исследовательские   и    коммуникативные   ум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–четверт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оект создаёт ситуацию успеха в обучении каждого ребёнка, учавствующего в 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g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4" name="Rectangle 5"/>
          <p:cNvSpPr/>
          <p:nvPr/>
        </p:nvSpPr>
        <p:spPr>
          <a:xfrm>
            <a:off x="457200" y="6858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_StamperBrk"/>
              </a:rPr>
              <a:t>Проектная деятельность как успешное средство социализации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43740"/>
                </a:solidFill>
                <a:uFillTx/>
                <a:latin typeface="Arial Black"/>
              </a:rPr>
              <a:t>СИСТЕМНО-ДЕЯТЕЛЬНОСТ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ДИФФЕРЕНЦИРОВА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43740"/>
                </a:solidFill>
                <a:uFillTx/>
                <a:latin typeface="Arial Black"/>
              </a:rPr>
              <a:t>КОМПЕТЕНТНОСТ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ЛИЧНОСТНО-ОРИЕНТИРОВА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ЛИЧНОСТНО-РАЗВИВАЮЩ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ИССЛЕДОВАТЕЛЬС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ПРОБЛЕМ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37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3740"/>
                </a:solidFill>
                <a:latin typeface="Arial Black"/>
              </a:rPr>
              <a:t>РАЗВИВАЮЩ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Заголовок 10" descr=""/>
          <p:cNvPicPr/>
          <p:nvPr/>
        </p:nvPicPr>
        <p:blipFill>
          <a:blip r:embed="rId1"/>
          <a:stretch/>
        </p:blipFill>
        <p:spPr>
          <a:xfrm>
            <a:off x="426960" y="6660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10" descr=""/>
          <p:cNvPicPr/>
          <p:nvPr/>
        </p:nvPicPr>
        <p:blipFill>
          <a:blip r:embed="rId2"/>
          <a:stretch/>
        </p:blipFill>
        <p:spPr>
          <a:xfrm>
            <a:off x="858960" y="5784840"/>
            <a:ext cx="7572240" cy="81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93.gif"/>
          <p:cNvPicPr/>
          <p:nvPr/>
        </p:nvPicPr>
        <p:blipFill>
          <a:blip r:embed="rId3"/>
          <a:stretch/>
        </p:blipFill>
        <p:spPr>
          <a:xfrm>
            <a:off x="571680" y="5786280"/>
            <a:ext cx="666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0520" y="0"/>
            <a:ext cx="912348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0520" y="1219320"/>
            <a:ext cx="9144000" cy="60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атриот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носитель ценностей гражданск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ознающий свою сопричастность к судьбам Роди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важающий ценности иных культур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конфессий и  мировоззрени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осознающий глобальные проблемы соврем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вою роль в их реш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реативны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мотивированный к познанию и творчеству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обучению и самообучению на протяжении всей жизн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важающий других людей, готовый сотрудничать  с ними для достижения совместного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1f497d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ознающий себя личностью, способный принимать  самостоятельные решения и нести за них ответ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Заголовок 10" descr=""/>
          <p:cNvPicPr/>
          <p:nvPr/>
        </p:nvPicPr>
        <p:blipFill>
          <a:blip r:embed="rId1"/>
          <a:stretch/>
        </p:blipFill>
        <p:spPr>
          <a:xfrm>
            <a:off x="463680" y="0"/>
            <a:ext cx="8259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0" y="304920"/>
            <a:ext cx="91440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a_SimplerDnm"/>
                <a:ea typeface="Times New Roman"/>
              </a:rPr>
              <a:t>Что</a:t>
            </a:r>
            <a:r>
              <a:rPr b="1" lang="ru-RU" sz="2900" spc="-1" strike="noStrike">
                <a:solidFill>
                  <a:srgbClr val="7030a0"/>
                </a:solidFill>
                <a:latin typeface="a_SimplerDnm"/>
              </a:rPr>
              <a:t> даёт проект как технология? Какие его достоинства можно выделить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 – первых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– надёжный фактор мотивации, где каждый ученик находит собственный интерес в предложенном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-вторых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альтернатив, плюрализма, подходов, решений в процесс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-третьих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групповой работы, публичных выступлений, презентаций складываются исследовательские   и    коммуникативные  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–четверт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создаёт ситуацию успеха в обучении каждого ребёнка, учавствующего в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0" descr="j0410150.jpg"/>
          <p:cNvPicPr/>
          <p:nvPr/>
        </p:nvPicPr>
        <p:blipFill>
          <a:blip r:embed="rId1"/>
          <a:srcRect l="1356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28600" y="2971800"/>
            <a:ext cx="8915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0868"/>
                </a:solidFill>
                <a:latin typeface="Times New Roman"/>
                <a:ea typeface="Times New Roman"/>
              </a:rPr>
              <a:t>Учебн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1917г в истории России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0868"/>
                </a:solidFill>
                <a:latin typeface="Times New Roman"/>
                <a:ea typeface="Times New Roman"/>
              </a:rPr>
              <a:t>Исследователь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Наш сосед – Япония – далёкая и близкая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0868"/>
                </a:solidFill>
                <a:latin typeface="Times New Roman"/>
                <a:ea typeface="Times New Roman"/>
              </a:rPr>
              <a:t>Информационные</a:t>
            </a:r>
            <a:r>
              <a:rPr b="0" lang="ru-RU" sz="2800" spc="-1" strike="noStrike">
                <a:solidFill>
                  <a:srgbClr val="360868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Легко ли быть молодым?», «Русский крест: демографическая ситуация в Росси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295280" y="6094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Виды проектов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_SimplerDnm"/>
                <a:ea typeface="Times New Roman"/>
              </a:rPr>
              <a:t>Темы социальных проектов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ой радиокомпании «Девятка плюс – быть!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е дети – будущее наци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де я как личность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в школе хозяин?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жна ли символика школе?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фы – наша школьная молодёжная организация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тебя люблю. Чужих детей не бывает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тебе служится…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клуба творческих читател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93680" y="152280"/>
            <a:ext cx="86868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_StamperBrk"/>
                <a:ea typeface="Times New Roman"/>
              </a:rPr>
              <a:t>Первые  успехи учащих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Написал статью в городскую газе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Провёл социологический опрос в микрорайо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Подготовил информационный лист о патронатной сем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Выехал с группой волонтёров в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Провёл акцию «Книга солда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Написал бизнес – план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_SimplerDnm"/>
              </a:rPr>
              <a:t>Приобретённый опыт учащих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мение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ть в коллективе и в команд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амостоятельн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оценива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итуацию и принимать реш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Опы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работы с большим объёмом информ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мен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ндивидуально планировать рабо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мен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труктурировать информац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Организац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 проведение презент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Прямоугольни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6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3"/>
          <p:cNvSpPr/>
          <p:nvPr/>
        </p:nvSpPr>
        <p:spPr>
          <a:xfrm>
            <a:off x="152280" y="152280"/>
            <a:ext cx="861084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_StamperBrk"/>
              </a:rPr>
              <a:t>Результаты проектной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Построен хоккейный корт на территории шко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Создана школьная радиокомпания «9+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Реконструирован читальный зал школьной библиоте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Озеленены классные комнаты и коридоры шко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Проведена спортивная мини-олимпиада для школьников с ограниченными возможностя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Организована работа отряда волонтёров в приюте посёлка Пионе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Построена беговая дорожка на школьном стадион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Произведен ремонт спортивного зала школы, укреплена его материальная баз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Созданы дворовые команды по хоккею, футболу, пионер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09:07Z</dcterms:created>
  <dc:creator>User</dc:creator>
  <dc:description/>
  <dc:language>en-US</dc:language>
  <cp:lastModifiedBy>Надежда Балашова</cp:lastModifiedBy>
  <dcterms:modified xsi:type="dcterms:W3CDTF">2019-10-18T14:07:53Z</dcterms:modified>
  <cp:revision>26</cp:revision>
  <dc:subject/>
  <dc:title>Slide 1</dc:title>
</cp:coreProperties>
</file>