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DA7-8F2F-43D1-8A4C-9A574C88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4A1-0288-4E58-B97E-85B0AA4F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B2DD1-8672-43CB-A429-CF6220BB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76A7B-C03A-4C41-AF52-B8ED5AC4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160DB-2FCB-40EB-BF2C-A2CE17CD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E6E27-972A-4CEA-9E87-34C8D1A1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77194-01F6-4155-B874-B16D372C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7EA28-67C0-48B9-9A50-EDAECA0D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77360-2493-4E47-9880-D70FA8B3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375BB-6B40-4CF7-8737-1FB6BEDA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F36C8-5A71-406D-AE80-8521B1DF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32296-6FC9-4AD8-9164-B6272221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C11-95A1-466E-9400-F14F2F23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F7641-B239-40EA-A935-7F593A3C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B481D-26AB-4895-83C7-940205BD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FA179-4062-4990-86DF-F34B279A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5C7FC-98E7-4F91-AB40-AE1CE701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0296B-F1A4-41EE-BA85-4DD8A2CE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811E6-F3B0-4474-9F7E-A23278A8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E244A-1565-4072-981C-E993727D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34075-06BC-4DC9-AD1C-EE740642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88417-D04E-4AA1-A580-FC732C08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C8C65-B081-4A4D-BF49-FAEC44FC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19B-DCAE-438C-9EB2-5F13F6D8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7681A-8C29-4ABD-B948-13F9550C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2D6A4-FB75-4F77-91A2-D18850FF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4EEE2-9EE3-4E28-8E3E-BE62E217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132B9-EEC9-415F-B6D1-4461C7B6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CEB9F-7E19-4BEF-B798-A8EAAB3E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5B1AC-EE36-4A22-AFAD-6B126655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74D1E-434B-4B04-9AE8-002BF626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860F7-3F7B-4902-B583-9CD6D7A7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5985F-D217-42E6-ADEA-8EAB46DF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614AA-40F2-45CE-B768-0CA301ED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995A-C1B3-4EDD-8B82-CF346D0F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67CA0-1E04-4D2D-A479-E2A27B7D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5A28E-FFD2-47E3-8B4C-57237DAD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2D253-F87E-470C-ACC2-7DFA08C3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8E9F0-EE0C-4D12-90A2-D7D7F3F7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19860-C2C2-49F7-BA1F-DAFDAA8C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14A45-A1F5-41A7-A5E7-EACC2A2F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3273B-34B9-42F1-BA88-888AB1C8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235F4-98DA-46E6-8DC1-C350C838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96465-E4CF-4E19-8BCA-26C25BE6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E5458-6025-428E-A3A3-3D1EF855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597A-B666-4416-954E-4FACF1F3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8578B-25C7-4EAC-830C-3FE7D35E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B39F9-F53F-43B9-BB96-28F0AD72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1E0FF-FAEE-460C-8D9F-01E617FB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FB80B-685A-4F1C-BB4B-0FD95B13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9E538-3ACE-4510-9568-307ACCEE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76D8-3577-4460-A912-24AFFF27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900A-57C0-42D2-9556-A401EAA6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76DF-55C8-4A0F-B9D1-19E0D0A6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9B96-E4EA-4DCA-BAD0-A857581C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7A4A-0A70-4B73-BD70-1DACA1D7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72F-6A4C-4777-AA99-FDDA1D37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2C53-A6BF-4CA7-AD1B-2FFB8BA0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80AF-4CDA-4CAB-A25D-85139205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BAFE-BE84-4C35-9883-423A62F0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A4DE-23D3-4E7C-8466-9004623F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435B-A8D5-4C42-B5AA-0340C7A0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06ACB-4B51-478C-82B0-CE47C44A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9240B-7136-4FBF-8522-6C009436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5C6D8-5CA4-4835-B7EA-71ECBF08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FA861-16CB-4B61-AF29-F8BC2B71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D93F7-373E-483B-8A11-DC725726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D9A-59A0-42A4-B32C-B9F3C4CA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48BF9-FB30-40F2-8A95-80BE2B30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13FA0-053D-4BCD-98E4-304F851A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025FD-6EA5-4F50-B650-8F655EDA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CBC0-CF2C-4BD9-BDEE-91160C3E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9C829-504E-4708-A0FA-AB05B50D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091B3-65FC-4098-B40B-2446009D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AB378-DAEA-42E7-A5F7-B0A5A479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839E3-2B6E-4835-A3A0-26CFD825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48B47-FE5F-407F-8DE8-39518D48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2B737-C3DF-41A3-8973-2D4FACFD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1DC-B043-4737-B636-C94B7EB2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DAA02-D314-48E7-AC74-25A237B3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221DE-91CD-4B1D-BEDD-444DD597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F923F-0C7F-4BCD-86C7-F6B9745D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2DAD6-8CFE-4A24-A4E6-0FC2C62E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925F-DA38-486F-AF54-68FE335D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803B0-24BD-4000-8A7A-BE8A7269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5597E-E938-4D14-AC61-3D5403E3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AD39F-8088-459D-8907-F85E385A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D1DFB-3E73-43C7-BF9B-BFC1446D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0E02D-4B6D-41AF-A7D8-FBB9D99B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DAA0-E0DA-46BA-9DB8-BE1E2006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DC618-3E8D-4E0D-A4A6-ED6DB369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0D0C7-C2E6-4FCC-BD22-4D974CE2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A27E8-CA29-431A-AD53-7A3D2F4D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19AA7-B982-4052-9210-526C4EF4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A35E9-99FC-4AD4-B620-8EE24AE7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0A5EB-7637-4A05-A27B-E52DDCBA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56460-2BF2-4A84-8594-A4427DB4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D1CD0-192A-45DB-88E2-3FA8B767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EF060-130F-429B-8848-E85AB2F3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0DA65-2262-4903-AC3E-5C54E2DD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F15-F614-4590-95DF-8C9190CD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4628F-EBAD-4031-A4B0-7ECE8E51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2D659-E270-43AA-BA92-440C9908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A148E-43CC-48F2-A363-37352246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62EF1-BEA5-4E04-8FD5-E282C3EB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7FDB4-B261-41E1-872C-A980856B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D1796-6B30-40B6-9706-D7672D0F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62511-16B2-4631-9E9A-D1A33FC5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D08E7-1C00-41E0-AF43-51713129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532C9-2CCE-4EAC-8DAB-5DA8ACCA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C14BA-4617-4DA4-A0C0-43889417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EE9-47AB-4671-88F3-CCD02279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93379-1134-4814-8B68-172572A9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0441D-36FD-48D0-849A-1C7DD1B2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17CD6-0F5A-4018-BD9A-F57C5331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7DDF9-CCFE-4318-B101-39F90593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AC01A-74E1-4D1A-B756-AA9411B5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C10F1-C500-4BBD-8EDB-A973DC25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F2352-C602-45B3-B027-3F56A95A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4DBAE-437D-4C20-A552-9828B6D2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15A72-2417-4E4E-B4BF-F5ED9791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A3FDA-AD09-47A8-8BF8-253B24A6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816-B766-48DC-A6F1-D5CEC6C7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3ACE6-FC61-432D-9F80-5804CDCC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A9BBE-3AD6-4C47-868C-B79B0C8C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7F3DF-8270-46E2-92D8-48EB8A10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416B9-9A70-4361-BD6B-DB22BBF6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86606-9697-43D0-B972-3907BF06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EC60E-B869-40AD-B387-0696BE22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ACACF-AA0F-4AD8-A479-E4F330A6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B603D-24AE-429E-8393-1A06C48D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E501F-83A5-4BF7-8651-35F2C9D5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BEA08-2185-4622-97B4-C6E6F77D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95B2-1E2F-48BE-9934-2DE463EA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A7B89-0238-42B6-AB0A-DA3C35F7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0A098-90B3-4E70-8242-E4C37004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66C38-BECD-45DC-8EC9-BE6522FF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28C58-BC7F-428B-8001-FE479366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E0FEB-D21A-4192-A98E-D21481E6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9831C-CDFB-4CCB-9FCE-20458511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6118E-3527-4C94-8A4E-1188B3C4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4B93C-E3E2-49EE-82E5-71A3EE75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B7A6D-08C9-4A7B-8D9A-ED784480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D9DEB-B277-40A6-ADD1-4714289A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03F9-0945-428F-970D-CCC285017B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F47F-7C6A-4863-89B8-483209CF61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EF0F-A147-40F9-8583-B327921142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854B-413D-46E0-9463-5232ADD742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E641-64A0-4D55-A708-E3C6806437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6E34-B810-4041-B7F1-3C0EAF922D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91FA-A423-42C0-9BEA-BB97A8228D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4CEB-0B73-4BF8-B665-F9B697C814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D795-6469-42A3-9960-6CE49E7DAF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D031-3A86-43C9-A660-DDFFD289CB4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BFAB-495A-43AC-B58B-2F1EF84D76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DBCF-7AC6-49D3-9B93-E7CBCC0E86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6" descr="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1800360"/>
          </a:xfrm>
          <a:prstGeom prst="rect">
            <a:avLst/>
          </a:prstGeom>
          <a:ln w="0">
            <a:noFill/>
          </a:ln>
        </p:spPr>
      </p:pic>
      <p:sp>
        <p:nvSpPr>
          <p:cNvPr id="493" name="TextBox 3"/>
          <p:cNvSpPr/>
          <p:nvPr/>
        </p:nvSpPr>
        <p:spPr>
          <a:xfrm>
            <a:off x="2354040" y="4218120"/>
            <a:ext cx="581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шая группа «Колокольчи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тел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дакова Василина Васил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сова Елена Евген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1"/>
          <p:cNvSpPr/>
          <p:nvPr/>
        </p:nvSpPr>
        <p:spPr>
          <a:xfrm>
            <a:off x="931320" y="2879640"/>
            <a:ext cx="762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Вариативность предметной среды на улич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астк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163440" y="18900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523" name="Прямоугольник 2"/>
          <p:cNvSpPr/>
          <p:nvPr/>
        </p:nvSpPr>
        <p:spPr>
          <a:xfrm>
            <a:off x="3995640" y="3068640"/>
            <a:ext cx="46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бята по своему желанию, используя содержимое «волшебного сундучка» (крышки разного размера), выкладывают  различные геометрические фигуры, животны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7" descr="C:\Users\12345\Pictures\атестация\Рисунок11.jpg"/>
          <p:cNvPicPr/>
          <p:nvPr/>
        </p:nvPicPr>
        <p:blipFill>
          <a:blip r:embed="rId2"/>
          <a:stretch/>
        </p:blipFill>
        <p:spPr>
          <a:xfrm>
            <a:off x="795240" y="1844640"/>
            <a:ext cx="32004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4" descr=""/>
          <p:cNvPicPr/>
          <p:nvPr/>
        </p:nvPicPr>
        <p:blipFill>
          <a:blip r:embed="rId1"/>
          <a:stretch/>
        </p:blipFill>
        <p:spPr>
          <a:xfrm>
            <a:off x="368280" y="333360"/>
            <a:ext cx="8229600" cy="974880"/>
          </a:xfrm>
          <a:prstGeom prst="rect">
            <a:avLst/>
          </a:prstGeom>
          <a:ln w="0">
            <a:noFill/>
          </a:ln>
        </p:spPr>
      </p:pic>
      <p:sp>
        <p:nvSpPr>
          <p:cNvPr id="526" name="TextBox 3"/>
          <p:cNvSpPr/>
          <p:nvPr/>
        </p:nvSpPr>
        <p:spPr>
          <a:xfrm>
            <a:off x="923040" y="5388120"/>
            <a:ext cx="805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держимое «Волшебного сундучка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вочки решили устроить соревнование по бросанию шишек в ведр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Picture 8" descr="C:\Users\12345\Pictures\атестация\Рисунок16.jpg"/>
          <p:cNvPicPr/>
          <p:nvPr/>
        </p:nvPicPr>
        <p:blipFill>
          <a:blip r:embed="rId2"/>
          <a:stretch/>
        </p:blipFill>
        <p:spPr>
          <a:xfrm>
            <a:off x="3276720" y="1174680"/>
            <a:ext cx="3162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х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Picture 7" descr="C:\Users\12345\Pictures\атестация\Рисунок13.jpg"/>
          <p:cNvPicPr/>
          <p:nvPr/>
        </p:nvPicPr>
        <p:blipFill>
          <a:blip r:embed="rId1"/>
          <a:stretch/>
        </p:blipFill>
        <p:spPr>
          <a:xfrm>
            <a:off x="3124080" y="1728720"/>
            <a:ext cx="2895840" cy="42674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2"/>
          <p:cNvSpPr/>
          <p:nvPr/>
        </p:nvSpPr>
        <p:spPr>
          <a:xfrm>
            <a:off x="250920" y="2205000"/>
            <a:ext cx="208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южетно-ролевая игра «Семья» по замыслу воспитателя. Девочки учатся сервировать  и накрывать на стол. Распределение ролей сделали самостоятель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атрализации сказк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Курочка ряб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6" descr="C:\Users\12345\Pictures\атестация\Рисунок17.jpg"/>
          <p:cNvPicPr/>
          <p:nvPr/>
        </p:nvPicPr>
        <p:blipFill>
          <a:blip r:embed="rId1"/>
          <a:stretch/>
        </p:blipFill>
        <p:spPr>
          <a:xfrm>
            <a:off x="2971800" y="1757520"/>
            <a:ext cx="3200400" cy="4209840"/>
          </a:xfrm>
          <a:prstGeom prst="rect">
            <a:avLst/>
          </a:prstGeom>
          <a:ln w="0">
            <a:noFill/>
          </a:ln>
        </p:spPr>
      </p:pic>
      <p:sp>
        <p:nvSpPr>
          <p:cNvPr id="533" name="Прямоугольник 2"/>
          <p:cNvSpPr/>
          <p:nvPr/>
        </p:nvSpPr>
        <p:spPr>
          <a:xfrm>
            <a:off x="1476360" y="1844640"/>
            <a:ext cx="266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атрализация сказки по замыслу дет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бята самостоятельно выбирали место (театральный уголок) и атрибуты к сказке. Сами распределили роли. Остальные ребята были зрител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631600" y="-36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абл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1"/>
          <a:srcRect l="0" t="12209" r="2110" b="0"/>
          <a:stretch/>
        </p:blipFill>
        <p:spPr>
          <a:xfrm>
            <a:off x="2700360" y="1216080"/>
            <a:ext cx="3006720" cy="4425840"/>
          </a:xfrm>
          <a:prstGeom prst="rect">
            <a:avLst/>
          </a:prstGeom>
          <a:ln w="0">
            <a:noFill/>
          </a:ln>
        </p:spPr>
      </p:pic>
      <p:sp>
        <p:nvSpPr>
          <p:cNvPr id="536" name="TextBox 2"/>
          <p:cNvSpPr/>
          <p:nvPr/>
        </p:nvSpPr>
        <p:spPr>
          <a:xfrm>
            <a:off x="1332000" y="56484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южетно-ролевая игра «Моряки» по замыслу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68000" y="1404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атральный угол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3" descr=""/>
          <p:cNvPicPr/>
          <p:nvPr/>
        </p:nvPicPr>
        <p:blipFill>
          <a:blip r:embed="rId1"/>
          <a:stretch/>
        </p:blipFill>
        <p:spPr>
          <a:xfrm>
            <a:off x="1620720" y="1160640"/>
            <a:ext cx="3238560" cy="5005080"/>
          </a:xfrm>
          <a:prstGeom prst="rect">
            <a:avLst/>
          </a:prstGeom>
          <a:ln w="0">
            <a:noFill/>
          </a:ln>
        </p:spPr>
      </p:pic>
      <p:sp>
        <p:nvSpPr>
          <p:cNvPr id="539" name="Прямоугольник 5"/>
          <p:cNvSpPr/>
          <p:nvPr/>
        </p:nvSpPr>
        <p:spPr>
          <a:xfrm>
            <a:off x="5148360" y="2205000"/>
            <a:ext cx="2663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атрализация сказки «Колобок» по замыслу детей с помощью пальчиковых куко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сто проведения – переносная ширма с окном. Остальные ребята - зрит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87160" y="4042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оса препятств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7" descr="C:\Users\12345\Pictures\атестация\Рисунок20.jpg"/>
          <p:cNvPicPr/>
          <p:nvPr/>
        </p:nvPicPr>
        <p:blipFill>
          <a:blip r:embed="rId1"/>
          <a:stretch/>
        </p:blipFill>
        <p:spPr>
          <a:xfrm>
            <a:off x="2195640" y="2060640"/>
            <a:ext cx="4267080" cy="2266920"/>
          </a:xfrm>
          <a:prstGeom prst="rect">
            <a:avLst/>
          </a:prstGeom>
          <a:ln w="0">
            <a:noFill/>
          </a:ln>
        </p:spPr>
      </p:pic>
      <p:sp>
        <p:nvSpPr>
          <p:cNvPr id="542" name="TextBox 2"/>
          <p:cNvSpPr/>
          <p:nvPr/>
        </p:nvSpPr>
        <p:spPr>
          <a:xfrm>
            <a:off x="782280" y="5283360"/>
            <a:ext cx="79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ревнование «Кто дольше простоит и не упадет» по замыслу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834920" y="115560"/>
            <a:ext cx="651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ивный угол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3112920" y="1600200"/>
            <a:ext cx="2918160" cy="4525920"/>
          </a:xfrm>
          <a:prstGeom prst="rect">
            <a:avLst/>
          </a:prstGeom>
          <a:ln w="0">
            <a:noFill/>
          </a:ln>
        </p:spPr>
      </p:pic>
      <p:sp>
        <p:nvSpPr>
          <p:cNvPr id="545" name="TextBox 1"/>
          <p:cNvSpPr/>
          <p:nvPr/>
        </p:nvSpPr>
        <p:spPr>
          <a:xfrm>
            <a:off x="826920" y="2612880"/>
            <a:ext cx="3480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готовка к проведению спортивного квеста «В здоровом теле – здоровый дух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мощь воспитателю по инициативе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47280" y="280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оса препятств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7" descr="C:\Users\12345\Pictures\атестация\Рисунок22.jpg"/>
          <p:cNvPicPr/>
          <p:nvPr/>
        </p:nvPicPr>
        <p:blipFill>
          <a:blip r:embed="rId1"/>
          <a:stretch/>
        </p:blipFill>
        <p:spPr>
          <a:xfrm>
            <a:off x="2971800" y="1947960"/>
            <a:ext cx="3200400" cy="3828960"/>
          </a:xfrm>
          <a:prstGeom prst="rect">
            <a:avLst/>
          </a:prstGeom>
          <a:ln w="0">
            <a:noFill/>
          </a:ln>
        </p:spPr>
      </p:pic>
      <p:sp>
        <p:nvSpPr>
          <p:cNvPr id="548" name="TextBox 3"/>
          <p:cNvSpPr/>
          <p:nvPr/>
        </p:nvSpPr>
        <p:spPr>
          <a:xfrm>
            <a:off x="755640" y="5300640"/>
            <a:ext cx="77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ортивный квест «В здоровом теле – здоровый дух» по замыслу воспитателя. Чтобы дойти до финиша ребята должны пройти ряд физических и интеллектуальных зад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ч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"/>
          <p:cNvSpPr/>
          <p:nvPr/>
        </p:nvSpPr>
        <p:spPr>
          <a:xfrm>
            <a:off x="1042920" y="4724280"/>
            <a:ext cx="72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дактическая игра по замыслу воспитателя «Мой друг». Ребята разбились на пары и сели на качели, при каждом отталкивании ног от земли ребенок должен описать одним словом своего товарищ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8" descr="C:\Users\12345\Pictures\атестация\Рисунок25.jpg"/>
          <p:cNvPicPr/>
          <p:nvPr/>
        </p:nvPicPr>
        <p:blipFill>
          <a:blip r:embed="rId2"/>
          <a:stretch/>
        </p:blipFill>
        <p:spPr>
          <a:xfrm>
            <a:off x="2433600" y="1498680"/>
            <a:ext cx="4248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410920" y="14040"/>
            <a:ext cx="651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ранд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Picture 6" descr="C:\Users\12345\Pictures\атестация\Рисунок1.jpg"/>
          <p:cNvPicPr/>
          <p:nvPr/>
        </p:nvPicPr>
        <p:blipFill>
          <a:blip r:embed="rId1"/>
          <a:stretch/>
        </p:blipFill>
        <p:spPr>
          <a:xfrm>
            <a:off x="2268360" y="1268280"/>
            <a:ext cx="4267440" cy="2390760"/>
          </a:xfrm>
          <a:prstGeom prst="rect">
            <a:avLst/>
          </a:prstGeom>
          <a:ln w="0">
            <a:noFill/>
          </a:ln>
        </p:spPr>
      </p:pic>
      <p:sp>
        <p:nvSpPr>
          <p:cNvPr id="497" name="TextBox 3"/>
          <p:cNvSpPr/>
          <p:nvPr/>
        </p:nvSpPr>
        <p:spPr>
          <a:xfrm>
            <a:off x="1150920" y="3908520"/>
            <a:ext cx="68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ранда оборудована разнообразным и многофункциональным материалом для физического, умственного, речевого развития детей: спортивный уголок, уголок с разними бросовыми материалами, театральный уголок, кухня 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ш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4"/>
          <p:cNvSpPr/>
          <p:nvPr/>
        </p:nvSpPr>
        <p:spPr>
          <a:xfrm>
            <a:off x="5330880" y="1996920"/>
            <a:ext cx="2841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дактическая игра по замыслу воспитателя «Что машинка в кузове везет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бята по очереди садятся в машинку и рассказывают, что у них в кузове, откуда груз и куда этот груз ед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6" descr="C:\Users\12345\Pictures\атестация\Рисунок26.jpg"/>
          <p:cNvPicPr/>
          <p:nvPr/>
        </p:nvPicPr>
        <p:blipFill>
          <a:blip r:embed="rId1"/>
          <a:stretch/>
        </p:blipFill>
        <p:spPr>
          <a:xfrm>
            <a:off x="1042920" y="1628640"/>
            <a:ext cx="32004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39440" y="1404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нек-сце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2"/>
          <p:cNvSpPr/>
          <p:nvPr/>
        </p:nvSpPr>
        <p:spPr>
          <a:xfrm>
            <a:off x="1116000" y="544500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нение ребятами по памяти разных стихов, песенок, сказок (выбор и участие по желанию). Остальные ребята – зрит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6" descr="C:\Users\12345\Pictures\атестация\Рисунок27.jpg"/>
          <p:cNvPicPr/>
          <p:nvPr/>
        </p:nvPicPr>
        <p:blipFill>
          <a:blip r:embed="rId1"/>
          <a:stretch/>
        </p:blipFill>
        <p:spPr>
          <a:xfrm>
            <a:off x="2971800" y="129528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39560" y="11556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оша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6" descr="C:\Users\12345\Pictures\атестация\Рисунок28.jpg"/>
          <p:cNvPicPr/>
          <p:nvPr/>
        </p:nvPicPr>
        <p:blipFill>
          <a:blip r:embed="rId1"/>
          <a:stretch/>
        </p:blipFill>
        <p:spPr>
          <a:xfrm>
            <a:off x="2971800" y="2043000"/>
            <a:ext cx="3200400" cy="3638520"/>
          </a:xfrm>
          <a:prstGeom prst="rect">
            <a:avLst/>
          </a:prstGeom>
          <a:ln w="0">
            <a:noFill/>
          </a:ln>
        </p:spPr>
      </p:pic>
      <p:sp>
        <p:nvSpPr>
          <p:cNvPr id="561" name="TextBox 4"/>
          <p:cNvSpPr/>
          <p:nvPr/>
        </p:nvSpPr>
        <p:spPr>
          <a:xfrm>
            <a:off x="625320" y="5373720"/>
            <a:ext cx="812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дактическая игра по замыслу воспитателя «Куда и зачем я еду на лошадке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Box 3"/>
          <p:cNvSpPr/>
          <p:nvPr/>
        </p:nvSpPr>
        <p:spPr>
          <a:xfrm>
            <a:off x="2484360" y="1197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4"/>
          <p:cNvSpPr/>
          <p:nvPr/>
        </p:nvSpPr>
        <p:spPr>
          <a:xfrm>
            <a:off x="2837880" y="477720"/>
            <a:ext cx="34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ень «Дружб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5"/>
          <p:cNvSpPr/>
          <p:nvPr/>
        </p:nvSpPr>
        <p:spPr>
          <a:xfrm>
            <a:off x="611280" y="552276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замыслу воспитателя исполнение и театрализация песни «Мы едем, едем, едем в далекие края.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8" descr="C:\Users\12345\Pictures\атестация\Рисунок29.jpg"/>
          <p:cNvPicPr/>
          <p:nvPr/>
        </p:nvPicPr>
        <p:blipFill>
          <a:blip r:embed="rId1"/>
          <a:stretch/>
        </p:blipFill>
        <p:spPr>
          <a:xfrm>
            <a:off x="2438280" y="2316240"/>
            <a:ext cx="4267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льцеб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Picture 6" descr="C:\Users\12345\Pictures\атестация\Рисунок2.jpg"/>
          <p:cNvPicPr/>
          <p:nvPr/>
        </p:nvPicPr>
        <p:blipFill>
          <a:blip r:embed="rId1"/>
          <a:stretch/>
        </p:blipFill>
        <p:spPr>
          <a:xfrm>
            <a:off x="2438280" y="2662200"/>
            <a:ext cx="4267440" cy="2400480"/>
          </a:xfrm>
          <a:prstGeom prst="rect">
            <a:avLst/>
          </a:prstGeom>
          <a:ln w="0">
            <a:noFill/>
          </a:ln>
        </p:spPr>
      </p:pic>
      <p:sp>
        <p:nvSpPr>
          <p:cNvPr id="500" name="TextBox 2"/>
          <p:cNvSpPr/>
          <p:nvPr/>
        </p:nvSpPr>
        <p:spPr>
          <a:xfrm>
            <a:off x="569880" y="5589720"/>
            <a:ext cx="817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ревнование по замыслу детей. Ребята сами придумали правила игры: забросить мяч в самый большой круг по очереди, остальные считают количество попавших мяч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607840" y="198000"/>
            <a:ext cx="651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ровоз-гусе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6" descr="C:\Users\12345\Pictures\атестация\Рисунок3.jpg"/>
          <p:cNvPicPr/>
          <p:nvPr/>
        </p:nvPicPr>
        <p:blipFill>
          <a:blip r:embed="rId1"/>
          <a:stretch/>
        </p:blipFill>
        <p:spPr>
          <a:xfrm>
            <a:off x="2438280" y="2392200"/>
            <a:ext cx="4267440" cy="2943360"/>
          </a:xfrm>
          <a:prstGeom prst="rect">
            <a:avLst/>
          </a:prstGeom>
          <a:ln w="0">
            <a:noFill/>
          </a:ln>
        </p:spPr>
      </p:pic>
      <p:sp>
        <p:nvSpPr>
          <p:cNvPr id="503" name="TextBox 3"/>
          <p:cNvSpPr/>
          <p:nvPr/>
        </p:nvSpPr>
        <p:spPr>
          <a:xfrm>
            <a:off x="379440" y="1341360"/>
            <a:ext cx="3112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идактическая игра «Кого везет паровоз» по замыслу воспитате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ти: Паровозик чух – чух – чух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чит по рельсам во весь дух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зоопарк зверей везет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ух – чух- чух, он им пое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атель: Кто в этом вагончике приехал?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ти поочереди: Гав-гав. Му-у. Ква-ква. Кукареку. Иго-го. Мя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тоцик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9" descr="C:\Users\12345\Pictures\атестация\Рисунок4.jpg"/>
          <p:cNvPicPr/>
          <p:nvPr/>
        </p:nvPicPr>
        <p:blipFill>
          <a:blip r:embed="rId1"/>
          <a:stretch/>
        </p:blipFill>
        <p:spPr>
          <a:xfrm>
            <a:off x="2438280" y="2602080"/>
            <a:ext cx="4267440" cy="252396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2"/>
          <p:cNvSpPr/>
          <p:nvPr/>
        </p:nvSpPr>
        <p:spPr>
          <a:xfrm>
            <a:off x="890640" y="5589720"/>
            <a:ext cx="74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митация езды на мотоцикле по замыслу воспитателя. Закрепление ПП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34880" y="-1717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атрализация сказки «Реп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6" descr="C:\Users\12345\Pictures\атестация\Рисунок5.jpg"/>
          <p:cNvPicPr/>
          <p:nvPr/>
        </p:nvPicPr>
        <p:blipFill>
          <a:blip r:embed="rId1"/>
          <a:stretch/>
        </p:blipFill>
        <p:spPr>
          <a:xfrm>
            <a:off x="3191040" y="1728720"/>
            <a:ext cx="2761920" cy="4267440"/>
          </a:xfrm>
          <a:prstGeom prst="rect">
            <a:avLst/>
          </a:prstGeom>
          <a:ln w="0">
            <a:noFill/>
          </a:ln>
        </p:spPr>
      </p:pic>
      <p:sp>
        <p:nvSpPr>
          <p:cNvPr id="512" name="TextBox 2"/>
          <p:cNvSpPr/>
          <p:nvPr/>
        </p:nvSpPr>
        <p:spPr>
          <a:xfrm>
            <a:off x="374760" y="3257640"/>
            <a:ext cx="367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атрализация сказки по замыслу дет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бята сами выбирали место (домик, находящийся на территории детской площадки), маски. Сами распределили рол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у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Picture 7" descr="C:\Users\12345\Pictures\атестация\Рисунок7.jpg"/>
          <p:cNvPicPr/>
          <p:nvPr/>
        </p:nvPicPr>
        <p:blipFill>
          <a:blip r:embed="rId1"/>
          <a:stretch/>
        </p:blipFill>
        <p:spPr>
          <a:xfrm>
            <a:off x="2438280" y="2290680"/>
            <a:ext cx="4267440" cy="31431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2"/>
          <p:cNvSpPr/>
          <p:nvPr/>
        </p:nvSpPr>
        <p:spPr>
          <a:xfrm>
            <a:off x="684360" y="5373720"/>
            <a:ext cx="77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ревнование среди девочек «Кто дольше прокрутит обруч» по замыслу ребят. Мальчики –  судьи выявляют победите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етягивание кана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6" descr="C:\Users\12345\Pictures\атестация\Рисунок8.jpg"/>
          <p:cNvPicPr/>
          <p:nvPr/>
        </p:nvPicPr>
        <p:blipFill>
          <a:blip r:embed="rId1"/>
          <a:stretch/>
        </p:blipFill>
        <p:spPr>
          <a:xfrm>
            <a:off x="2050920" y="2205000"/>
            <a:ext cx="4267440" cy="2400480"/>
          </a:xfrm>
          <a:prstGeom prst="rect">
            <a:avLst/>
          </a:prstGeom>
          <a:ln w="0">
            <a:noFill/>
          </a:ln>
        </p:spPr>
      </p:pic>
      <p:sp>
        <p:nvSpPr>
          <p:cNvPr id="518" name="TextBox 2"/>
          <p:cNvSpPr/>
          <p:nvPr/>
        </p:nvSpPr>
        <p:spPr>
          <a:xfrm>
            <a:off x="593640" y="5659560"/>
            <a:ext cx="790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ревнование «Кто сильнее» по замыслу детей. Ребята поделились на 2 команды: девочек и мальчиков. Воспитатель по желанию ребят судья. Мальчишки оказались сильне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лшебный сундуч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7" descr="C:\Users\12345\Pictures\атестация\Рисунок9.jpg"/>
          <p:cNvPicPr/>
          <p:nvPr/>
        </p:nvPicPr>
        <p:blipFill>
          <a:blip r:embed="rId1"/>
          <a:stretch/>
        </p:blipFill>
        <p:spPr>
          <a:xfrm>
            <a:off x="2700360" y="1082520"/>
            <a:ext cx="2971800" cy="42674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2"/>
          <p:cNvSpPr/>
          <p:nvPr/>
        </p:nvSpPr>
        <p:spPr>
          <a:xfrm>
            <a:off x="676440" y="5445000"/>
            <a:ext cx="778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вочки по своей инициативе, используя камни «волшебного сундучка», выкладывают  цифры, другие ребята называют полечившуюся циф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45</dc:creator>
  <dc:description/>
  <dc:language>en-US</dc:language>
  <cp:lastModifiedBy>Васлина</cp:lastModifiedBy>
  <dcterms:modified xsi:type="dcterms:W3CDTF">2019-10-19T08:11:30Z</dcterms:modified>
  <cp:revision>38</cp:revision>
  <dc:subject/>
  <dc:title>Слайд 1</dc:title>
</cp:coreProperties>
</file>