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BAB-6A33-4B51-A8AD-2462B037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CC5-9CF2-4334-B071-5F5FE002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6D3-7603-4782-8F50-8A061318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621-8B49-45C8-83E6-6621F7DD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E956-F1DE-4EE3-AE6A-AB024BA7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72FB-F945-45E5-9DBA-C80C8065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9732-B739-4D91-96DF-9C97A7B6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61D2-E965-42DF-9C3B-6C1CC52B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534D-482B-47C6-8FE9-0061A29A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BAAB-2554-4B7C-AFB4-918F24C6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DC70-1528-40FF-BA47-8E577537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03C-C916-48D4-9E4E-E518E31D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0879-916A-42AB-85C5-05ADF2F9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C908-C1B9-4D2B-8862-FA28F18B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6423-AC2F-4F7D-BFA5-8555BF54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F0F8-D1EB-41E6-A650-DAFFF34F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9546-2246-4680-9C8F-7494BA94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8CD-ECBE-4591-BAD0-65AE18E1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72C-0901-486D-992C-E87FFC3C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9DD-83F7-4246-80C1-45142903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0F9-2FC4-4CE4-A5B6-BA17ED37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0E9-E8A0-4245-B26A-A9A5F871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A5E-A151-4F9B-BF82-B2C77DF8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1D58-C445-4021-BCA7-CD1F52D6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B940-14AB-4F19-8925-4198162253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9067-AA5A-4E40-8B1F-351EFA6CCC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990033"/>
                </a:solidFill>
                <a:latin typeface="Times New Roman"/>
              </a:rPr>
              <a:t>Здоровый образ </a:t>
            </a:r>
            <a:br>
              <a:rPr sz="6000"/>
            </a:br>
            <a:r>
              <a:rPr b="0" i="1" lang="en-US" sz="6000" spc="-1" strike="noStrike">
                <a:solidFill>
                  <a:srgbClr val="990033"/>
                </a:solidFill>
                <a:latin typeface="Times New Roman"/>
              </a:rPr>
              <a:t>жизни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4149720"/>
            <a:ext cx="489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700360" y="4076640"/>
            <a:ext cx="343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мс Анаста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1570320" cy="173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71640" y="115920"/>
            <a:ext cx="4105440" cy="72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Физкультур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960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тимальный двигательный режим - важнейшее условие здорового образа жизни. Его основу составляют систематические занятия физическими упражнениями и спортом, эффективно решающие задачи укрепления здоровья и развития физических способностей молодежи, сохранения здоровья и двигательных навыков, усиления профилактики неблагоприятных возрастных изменений. При этом физическая культура и спорт выступают как важнейшее средство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4360" y="4508640"/>
            <a:ext cx="2952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129 -0.00347 L 0.41129 -0.00347 E">
                                      <p:cBhvr>
                                        <p:cTn id="75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07960" y="361440"/>
            <a:ext cx="366876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ff"/>
                </a:solidFill>
                <a:latin typeface="Times New Roman"/>
              </a:rPr>
              <a:t>Закали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453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им из методов закаливания являются водные процедуры. Купание в проруби относится именно к этому виду закаливания. Начинать, разумеется, с него не следует, т.к. это подходит только хорошо закаленным людям, приучившим свое тело к низким температурам. Однако для них купание в проруби очень полезно для организма: холодная вода воздействует на рецепторы кожи, восстанавливает тонус мышц, повышает иммуни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292720" y="2495520"/>
            <a:ext cx="32418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af458"/>
                </a:solidFill>
                <a:latin typeface="Times New Roman"/>
              </a:rPr>
              <a:t>Правильное пит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862360" cy="183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3709800" cy="1800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843280" y="4005360"/>
            <a:ext cx="39322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онятие здоровья и ЗОЖ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95280" y="1628280"/>
            <a:ext cx="482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Здоровь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важнейш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требность человека, определяющая способность его к труду и обеспечивающая гармоническое развитие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о является важнейшей предпосылкой к счастью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6282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1519200" cy="1519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732720" y="191628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11280" y="501336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2963 L 0.00087 0.30371 E">
                                      <p:cBhvr>
                                        <p:cTn id="1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99ff"/>
                </a:solidFill>
                <a:latin typeface="Times New Roman"/>
              </a:rPr>
              <a:t>Резервы здоровья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2560" y="1628640"/>
            <a:ext cx="8496720" cy="4404240"/>
            <a:chOff x="322560" y="1628640"/>
            <a:chExt cx="8496720" cy="4404240"/>
          </a:xfrm>
        </p:grpSpPr>
        <p:cxnSp>
          <p:nvCxnSpPr>
            <p:cNvPr id="109" name="_s10253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5415840" y="2257560"/>
              <a:ext cx="1082160" cy="2844360"/>
            </a:xfrm>
            <a:prstGeom prst="bentConnector3">
              <a:avLst>
                <a:gd name="adj1" fmla="val 105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252"/>
            <p:cNvCxnSpPr>
              <a:stCxn id="113" idx="0"/>
              <a:endCxn id="111" idx="2"/>
            </p:cNvCxnSpPr>
            <p:nvPr/>
          </p:nvCxnSpPr>
          <p:spPr>
            <a:xfrm flipH="1" flipV="1" rot="5400000">
              <a:off x="3976200" y="3661560"/>
              <a:ext cx="1082160" cy="36720"/>
            </a:xfrm>
            <a:prstGeom prst="bentConnector3">
              <a:avLst>
                <a:gd name="adj1" fmla="val 105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251"/>
            <p:cNvCxnSpPr>
              <a:stCxn id="115" idx="0"/>
              <a:endCxn id="111" idx="2"/>
            </p:cNvCxnSpPr>
            <p:nvPr/>
          </p:nvCxnSpPr>
          <p:spPr>
            <a:xfrm flipH="1" flipV="1" rot="5400000">
              <a:off x="2553480" y="2239560"/>
              <a:ext cx="1082160" cy="2880720"/>
            </a:xfrm>
            <a:prstGeom prst="bentConnector3">
              <a:avLst>
                <a:gd name="adj1" fmla="val 105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1" name="_s10247"/>
            <p:cNvSpPr/>
            <p:nvPr/>
          </p:nvSpPr>
          <p:spPr>
            <a:xfrm>
              <a:off x="2482920" y="1628640"/>
              <a:ext cx="4107240" cy="1510560"/>
            </a:xfrm>
            <a:prstGeom prst="roundRect">
              <a:avLst>
                <a:gd name="adj" fmla="val 16667"/>
              </a:avLst>
            </a:prstGeom>
            <a:solidFill>
              <a:srgbClr val="31c6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50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истема функциональн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зервов организ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248"/>
            <p:cNvSpPr/>
            <p:nvPr/>
          </p:nvSpPr>
          <p:spPr>
            <a:xfrm>
              <a:off x="322560" y="4221000"/>
              <a:ext cx="2664000" cy="1811880"/>
            </a:xfrm>
            <a:prstGeom prst="roundRect">
              <a:avLst>
                <a:gd name="adj" fmla="val 16667"/>
              </a:avLst>
            </a:prstGeom>
            <a:solidFill>
              <a:srgbClr val="83dd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Биохим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зерв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реакции обмена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249"/>
            <p:cNvSpPr/>
            <p:nvPr/>
          </p:nvSpPr>
          <p:spPr>
            <a:xfrm>
              <a:off x="3203280" y="4221000"/>
              <a:ext cx="2592000" cy="1811880"/>
            </a:xfrm>
            <a:prstGeom prst="roundRect">
              <a:avLst>
                <a:gd name="adj" fmla="val 16667"/>
              </a:avLst>
            </a:prstGeom>
            <a:solidFill>
              <a:srgbClr val="83dd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сихические резервы.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250"/>
            <p:cNvSpPr/>
            <p:nvPr/>
          </p:nvSpPr>
          <p:spPr>
            <a:xfrm>
              <a:off x="5938920" y="4221000"/>
              <a:ext cx="2880360" cy="1811880"/>
            </a:xfrm>
            <a:prstGeom prst="roundRect">
              <a:avLst>
                <a:gd name="adj" fmla="val 16667"/>
              </a:avLst>
            </a:prstGeom>
            <a:solidFill>
              <a:srgbClr val="83dd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изиолог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зерв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на</a:t>
              </a:r>
              <a:r>
                <a:rPr b="0" lang="en-US" sz="1800" spc="-1" strike="noStrike">
                  <a:solidFill>
                    <a:srgbClr val="0af458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ровне клеток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рганов, систем органов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Пагубные привычки вредящие нашему здоровью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806560" y="2060640"/>
            <a:ext cx="32022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д никот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6000" y="333360"/>
            <a:ext cx="6624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ур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1990080"/>
            <a:ext cx="432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е никотина особенно опасно в определенные периоды жизни - юность, старческий возраст, когда даже слабое возбуждающее действие нарушает нервную регуляцию. Особенно вреден никотин беременным, так как весом приводит к рождению слабых, с низким детей, и кормящим женщинам, так как повышает заболеваемость и смертность детей в первые годы жизни. Большинство же курильщиков удивительно бесцеремонны по отношению к окружающи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43640" y="278136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езультате систематического потребления алкоголя развивается симтомокомплекс болезненного пристрастия к н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теря чувства меры и контроля над количеством потребляемого алког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арушение деятельности центральной и периферической нервной системы (психозы, невриты и т.п.) и функций внутренних орга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549360"/>
            <a:ext cx="75614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кого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809880" cy="4464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отребление наркотиков, помимо психической и физической зависимости, всегда приводит к необратимому грубому нарушению жизнедеятельности организма и со­циальной деградации наркомана. Именно эти последствия составляют наибольшую опасность для здоровья и жизн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21440" y="2062080"/>
            <a:ext cx="3454200" cy="3598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560" y="1530360"/>
            <a:ext cx="3809880" cy="69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401796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организм получает энергии больше, чем расходует, то есть если мы получаем пищи больше, чем это необходимо для нормального развития человека, для работы и хорошего самочувствия, - мы полне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7280" y="333360"/>
            <a:ext cx="712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збыточный ве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052720" cy="1827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71640" y="4581360"/>
            <a:ext cx="489564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йчас более трети нашей страны, включая детей, имеет лишний вес. А причина одна - избыточное питание, что в итоге приводит к атеросклерозу, ишемической болезни сердца, гипертонии, сахарному диабету, целому ряду других неду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56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Times New Roman"/>
              </a:rPr>
              <a:t>Гигиена</a:t>
            </a:r>
            <a:br>
              <a:rPr sz="6000"/>
            </a:b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детей и подрост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муналь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труда или профессиональ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2808360" cy="3743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71640" y="4508640"/>
            <a:ext cx="27129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08:46:08Z</dcterms:created>
  <dc:creator>лёха</dc:creator>
  <dc:description/>
  <dc:language>en-US</dc:language>
  <cp:lastModifiedBy>Томс</cp:lastModifiedBy>
  <dcterms:modified xsi:type="dcterms:W3CDTF">2010-05-22T08:21:12Z</dcterms:modified>
  <cp:revision>14</cp:revision>
  <dc:subject/>
  <dc:title>Здоровый образ  жизни</dc:title>
</cp:coreProperties>
</file>