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D00-CC20-4481-8F76-D2173953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4DE-248B-429D-A769-04FCCDE0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D74-54FC-47B5-B7E3-D832D2D0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4F7-7837-4D10-B012-A5D35C9D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CF95-A7FD-4839-8693-86D28E5A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BC0D-BAA7-4FC7-BE0B-A5E09CC1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CDAC-1580-4E1F-B506-66982928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2AA4-DA4C-49E3-9151-DD29D5C4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4E31-E05F-40B3-B5F3-2D342481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6B84-1134-4BE6-A2B9-ED839332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B9B0-572E-4B24-BDF0-F6F95961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3FF-2D27-413D-89D5-A22B5C8C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394A-B5A8-4CDB-A11E-AD334832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DC11-5B68-4317-84FD-08B4C14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D8E9-39EE-4D6B-BEEC-76834C93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5627-E751-4BDF-A5B2-C7C78E88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7816-F6FA-4E42-A5BB-65B18CF0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31B-5CF3-497C-B2D6-241DF92A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B21-C7C2-4BBB-8D1D-B239B066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F0B-C6FF-42FD-A0F3-B700C592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675-C9B0-41E6-8E1C-3A88C5F1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9D5-F9DD-4909-94E3-24994DB4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944-5CB8-4B2E-BB7B-4709D5AE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9F1-A949-4F80-8866-C06E8C91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791C-5FDF-4FD0-8C35-BB95481154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E46C-2014-4B50-A104-EAECC85EF4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90033"/>
                </a:solidFill>
                <a:latin typeface="Times New Roman"/>
              </a:rPr>
              <a:t>Здоровый образ </a:t>
            </a:r>
            <a:br>
              <a:rPr sz="6000"/>
            </a:br>
            <a:r>
              <a:rPr b="0" i="1" lang="en-US" sz="6000" spc="-1" strike="noStrike">
                <a:solidFill>
                  <a:srgbClr val="990033"/>
                </a:solidFill>
                <a:latin typeface="Times New Roman"/>
              </a:rPr>
              <a:t>жизни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4149720"/>
            <a:ext cx="48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700360" y="4076640"/>
            <a:ext cx="343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мс Анаста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1570320" cy="173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71640" y="115920"/>
            <a:ext cx="4105440" cy="72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Физкультур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960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тимальный двигательный режим - важнейшее условие здорового образа жизни. Его основу составляют систематические занятия физическими упражнениями и спортом, эффективно решающие задачи укрепления здоровья и развития физических способностей молодежи, сохранения здоровья и двигательных навыков, усиления профилактики неблагоприятных возрастных изменений. При этом физическая культура и спорт выступают как важнейшее средство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2952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129 -0.00347 L 0.41129 -0.00347 E">
                                      <p:cBhvr>
                                        <p:cTn id="7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7960" y="361440"/>
            <a:ext cx="366876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Times New Roman"/>
              </a:rPr>
              <a:t>Закали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им из методов закаливания являются водные процедуры. Купание в проруби относится именно к этому виду закаливания. Начинать, разумеется, с него не следует, т.к. это подходит только хорошо закаленным людям, приучившим свое тело к низким температурам. Однако для них купание в проруби очень полезно для организма: холодная вода воздействует на рецепторы кожи, восстанавливает тонус мышц, повышает иммуни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292720" y="2495520"/>
            <a:ext cx="32418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af458"/>
                </a:solidFill>
                <a:latin typeface="Times New Roman"/>
              </a:rPr>
              <a:t>Правильное пит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62360" cy="183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709800" cy="1800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843280" y="4005360"/>
            <a:ext cx="39322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онятие здоровья и ЗОЖ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95280" y="1628280"/>
            <a:ext cx="482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Здоров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важнейш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требность человека, определяющая способность его к труду и обеспечивающая гармоническое развитие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о является важнейшей предпосылкой к счастью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6282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1519200" cy="151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19162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1280" y="501336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3 L 0.00087 0.30371 E">
                                      <p:cBhvr>
                                        <p:cTn id="1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9ff"/>
                </a:solidFill>
                <a:latin typeface="Times New Roman"/>
              </a:rPr>
              <a:t>Резервы здоровья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2560" y="1628640"/>
            <a:ext cx="8496720" cy="4404240"/>
            <a:chOff x="322560" y="1628640"/>
            <a:chExt cx="8496720" cy="4404240"/>
          </a:xfrm>
        </p:grpSpPr>
        <p:cxnSp>
          <p:nvCxnSpPr>
            <p:cNvPr id="109" name="_s10253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5415840" y="2257560"/>
              <a:ext cx="1082160" cy="2844360"/>
            </a:xfrm>
            <a:prstGeom prst="bentConnector3">
              <a:avLst>
                <a:gd name="adj1" fmla="val 105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252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3976200" y="3661560"/>
              <a:ext cx="1082160" cy="36720"/>
            </a:xfrm>
            <a:prstGeom prst="bentConnector3">
              <a:avLst>
                <a:gd name="adj1" fmla="val 105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251"/>
            <p:cNvCxnSpPr>
              <a:stCxn id="115" idx="0"/>
              <a:endCxn id="111" idx="2"/>
            </p:cNvCxnSpPr>
            <p:nvPr/>
          </p:nvCxnSpPr>
          <p:spPr>
            <a:xfrm flipH="1" flipV="1" rot="5400000">
              <a:off x="2553480" y="2239560"/>
              <a:ext cx="1082160" cy="2880720"/>
            </a:xfrm>
            <a:prstGeom prst="bentConnector3">
              <a:avLst>
                <a:gd name="adj1" fmla="val 105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1" name="_s10247"/>
            <p:cNvSpPr/>
            <p:nvPr/>
          </p:nvSpPr>
          <p:spPr>
            <a:xfrm>
              <a:off x="2482920" y="1628640"/>
              <a:ext cx="4107240" cy="1510560"/>
            </a:xfrm>
            <a:prstGeom prst="roundRect">
              <a:avLst>
                <a:gd name="adj" fmla="val 16667"/>
              </a:avLst>
            </a:prstGeom>
            <a:solidFill>
              <a:srgbClr val="31c6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50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истема функциональн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ервов организ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248"/>
            <p:cNvSpPr/>
            <p:nvPr/>
          </p:nvSpPr>
          <p:spPr>
            <a:xfrm>
              <a:off x="322560" y="4221000"/>
              <a:ext cx="2664000" cy="181188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иохи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ерв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реакции обмена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49"/>
            <p:cNvSpPr/>
            <p:nvPr/>
          </p:nvSpPr>
          <p:spPr>
            <a:xfrm>
              <a:off x="3203280" y="4221000"/>
              <a:ext cx="2592000" cy="181188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сихические резервы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250"/>
            <p:cNvSpPr/>
            <p:nvPr/>
          </p:nvSpPr>
          <p:spPr>
            <a:xfrm>
              <a:off x="5938920" y="4221000"/>
              <a:ext cx="2880360" cy="181188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изиолог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ер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на</a:t>
              </a:r>
              <a:r>
                <a:rPr b="0" lang="en-US" sz="1800" spc="-1" strike="noStrike">
                  <a:solidFill>
                    <a:srgbClr val="0af458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ровне клеток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ганов, систем органов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Пагубные привычки вредящие нашему здоровью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06560" y="2060640"/>
            <a:ext cx="32022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д никот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6000" y="333360"/>
            <a:ext cx="662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у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990080"/>
            <a:ext cx="432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никотина особенно опасно в определенные периоды жизни - юность, старческий возраст, когда даже слабое возбуждающее действие нарушает нервную регуляцию. Особенно вреден никотин беременным, так как весом приводит к рождению слабых, с низким детей, и кормящим женщинам, так как повышает заболеваемость и смертность детей в первые годы жизни. Большинство же курильщиков удивительно бесцеремонны по отношению к окружающи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3640" y="2781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езультате систематического потребления алкоголя развивается симтомокомплекс болезненного пристрастия к н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теря чувства меры и контроля над количеством потребляемого алког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арушение деятельности центральной и периферической нервной системы (психозы, невриты и т.п.) и функций внутренних орга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549360"/>
            <a:ext cx="7561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809880" cy="446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отребление наркотиков, помимо психической и физической зависимости, всегда приводит к необратимому грубому нарушению жизнедеятельности организма и со­циальной деградации наркомана. Именно эти последствия составляют наибольшую опасность для здоровья и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21440" y="2062080"/>
            <a:ext cx="3454200" cy="359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560" y="1530360"/>
            <a:ext cx="3809880" cy="69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40179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организм получает энергии больше, чем расходует, то есть если мы получаем пищи больше, чем это необходимо для нормального развития человека, для работы и хорошего самочувствия, - мы полне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7280" y="333360"/>
            <a:ext cx="712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быточный в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052720" cy="1827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71640" y="4581360"/>
            <a:ext cx="489564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йчас более трети нашей страны, включая детей, имеет лишний вес. А причина одна - избыточное питание, что в итоге приводит к атеросклерозу, ишемической болезни сердца, гипертонии, сахарному диабету, целому ряду других неду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5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Times New Roman"/>
              </a:rPr>
              <a:t>Гигиена</a:t>
            </a:r>
            <a:br>
              <a:rPr sz="6000"/>
            </a:b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детей и подрост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муналь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труда или профессиональ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27129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08:46:08Z</dcterms:created>
  <dc:creator>лёха</dc:creator>
  <dc:description/>
  <dc:language>en-US</dc:language>
  <cp:lastModifiedBy>Томс</cp:lastModifiedBy>
  <dcterms:modified xsi:type="dcterms:W3CDTF">2010-05-22T08:21:12Z</dcterms:modified>
  <cp:revision>14</cp:revision>
  <dc:subject/>
  <dc:title>Здоровый образ  жизни</dc:title>
</cp:coreProperties>
</file>