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CE5FFD-30DA-43B1-A1A6-0BFACD05F8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dd1"/>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0E5D7C-056B-44F7-8D3B-C56865BA00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dd1"/>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1A0208-B0E9-4EBE-AEF1-B8B43498A2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dd1"/>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DA1F8D-A512-4973-AE3B-399F5216BC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6428E2-7105-41C4-9C65-BCFA7C2C7B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dd1"/>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E87EB6-03FA-4D07-ACF0-0A28CDCCB5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dd1"/>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74F622-F402-4D63-B597-0CABE2099A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dd1"/>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F30090-D4B7-4FCC-A522-B237361C59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dd1"/>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E02641-DAEE-44BC-A045-496DAA3F56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1E733B-0C48-44F7-9591-8B8754F365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dd1"/>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1A78F6-C5EA-4539-B7DD-A2E208557C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dd1"/>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1CBDB5-7BEE-42E8-8D0A-8A33200051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dd1"/>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C4433F-77EA-4042-93FA-64A5ECA32F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dd1"/>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709431-BD40-4B1B-9A0B-8D52B92250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dd1"/>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1C2931-66DC-465C-AAE2-046873C865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dd1"/>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FD76F9-CBFE-49A5-AE18-06FEBAA73B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dd1"/>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1ECF4D-FD31-49DD-B048-F01214FDF5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dd1"/>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13298C-AECE-41AF-BC1D-C945B9C9F9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dd1"/>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DBDF83-CA30-4B5E-866F-DDAAD899AF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dd1"/>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ED97D6-8D40-4481-8C2A-89FB9CC0A1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5F58E4-C2F7-4046-8978-F79449F30E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dd1"/>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FB1F44-6556-488E-9911-43F741FB9A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dd1"/>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86B135-592C-48F7-9A65-91491D54CD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dd1"/>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C82083-3FEC-4720-9F5C-8659093289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9306"/>
            </a:gs>
            <a:gs pos="100000">
              <a:srgbClr val="fac12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ea9306"/>
                </a:gs>
                <a:gs pos="50000">
                  <a:srgbClr val="fac120"/>
                </a:gs>
                <a:gs pos="100000">
                  <a:srgbClr val="ea930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ff9933"/>
                </a:gs>
                <a:gs pos="100000">
                  <a:srgbClr val="fac12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ea9306"/>
                </a:gs>
                <a:gs pos="100000">
                  <a:srgbClr val="fac12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ea9306"/>
                </a:gs>
                <a:gs pos="100000">
                  <a:srgbClr val="fac12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ea9306"/>
                </a:gs>
                <a:gs pos="100000">
                  <a:srgbClr val="fac12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ff9933"/>
                </a:gs>
                <a:gs pos="100000">
                  <a:srgbClr val="fac12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ff9933"/>
                </a:gs>
                <a:gs pos="100000">
                  <a:srgbClr val="fac12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ff9933"/>
                </a:gs>
                <a:gs pos="100000">
                  <a:srgbClr val="fac12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ff9933"/>
                </a:gs>
                <a:gs pos="100000">
                  <a:srgbClr val="fac12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fac120"/>
                </a:gs>
                <a:gs pos="100000">
                  <a:srgbClr val="74590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fac120"/>
                </a:gs>
                <a:gs pos="100000">
                  <a:srgbClr val="74590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835203"/>
                </a:gs>
                <a:gs pos="100000">
                  <a:srgbClr val="ea930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ea9306"/>
                </a:gs>
                <a:gs pos="100000">
                  <a:srgbClr val="fac12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ff9933"/>
                </a:gs>
                <a:gs pos="100000">
                  <a:srgbClr val="fac12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ea9306"/>
                </a:gs>
                <a:gs pos="50000">
                  <a:srgbClr val="fac120"/>
                </a:gs>
                <a:gs pos="100000">
                  <a:srgbClr val="ea930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ff9933"/>
                </a:gs>
                <a:gs pos="100000">
                  <a:srgbClr val="fac12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dd1"/>
                </a:solidFill>
                <a:latin typeface="Times New Roman"/>
              </a:rPr>
              <a:t>Click to edit the title text format</a:t>
            </a:r>
            <a:endParaRPr b="1" lang="en-US" sz="4400" spc="-1" strike="noStrike">
              <a:solidFill>
                <a:srgbClr val="fffdd1"/>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dd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6666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C56C7-0C8F-4FEA-9662-2C418497E98F}"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9306"/>
            </a:gs>
            <a:gs pos="100000">
              <a:srgbClr val="fac12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ea9306"/>
                </a:gs>
                <a:gs pos="50000">
                  <a:srgbClr val="fac120"/>
                </a:gs>
                <a:gs pos="100000">
                  <a:srgbClr val="ea930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ff9933"/>
                </a:gs>
                <a:gs pos="100000">
                  <a:srgbClr val="fac12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ea9306"/>
                </a:gs>
                <a:gs pos="100000">
                  <a:srgbClr val="fac12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ea9306"/>
                </a:gs>
                <a:gs pos="100000">
                  <a:srgbClr val="fac12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ea9306"/>
                </a:gs>
                <a:gs pos="100000">
                  <a:srgbClr val="fac12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ff9933"/>
                </a:gs>
                <a:gs pos="100000">
                  <a:srgbClr val="fac12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ff9933"/>
                </a:gs>
                <a:gs pos="100000">
                  <a:srgbClr val="fac12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ff9933"/>
                </a:gs>
                <a:gs pos="100000">
                  <a:srgbClr val="fac12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ff9933"/>
                </a:gs>
                <a:gs pos="100000">
                  <a:srgbClr val="fac12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fac120"/>
                </a:gs>
                <a:gs pos="100000">
                  <a:srgbClr val="74590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fac120"/>
                </a:gs>
                <a:gs pos="100000">
                  <a:srgbClr val="74590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835203"/>
                </a:gs>
                <a:gs pos="100000">
                  <a:srgbClr val="ea930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ea9306"/>
                </a:gs>
                <a:gs pos="100000">
                  <a:srgbClr val="fac12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ff9933"/>
                </a:gs>
                <a:gs pos="100000">
                  <a:srgbClr val="fac12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ea9306"/>
                </a:gs>
                <a:gs pos="50000">
                  <a:srgbClr val="fac120"/>
                </a:gs>
                <a:gs pos="100000">
                  <a:srgbClr val="ea930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ff9933"/>
                </a:gs>
                <a:gs pos="100000">
                  <a:srgbClr val="fac12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dd1"/>
                </a:solidFill>
                <a:latin typeface="Times New Roman"/>
              </a:rPr>
              <a:t>Click to edit the title text format</a:t>
            </a:r>
            <a:endParaRPr b="1" lang="en-US" sz="4400" spc="-1" strike="noStrike">
              <a:solidFill>
                <a:srgbClr val="fffdd1"/>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dd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6666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57BB1-F467-449F-8693-849F8FC54AEB}"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dd1"/>
                </a:solidFill>
                <a:latin typeface="Times New Roman"/>
              </a:rPr>
              <a:t>Проект «Наш храм»</a:t>
            </a:r>
            <a:endParaRPr b="1" lang="en-US" sz="4400" spc="-1" strike="noStrike">
              <a:solidFill>
                <a:srgbClr val="fffdd1"/>
              </a:solidFill>
              <a:latin typeface="Times New Roman"/>
            </a:endParaRPr>
          </a:p>
        </p:txBody>
      </p:sp>
      <p:sp>
        <p:nvSpPr>
          <p:cNvPr id="121" name=""/>
          <p:cNvSpPr txBox="1"/>
          <p:nvPr/>
        </p:nvSpPr>
        <p:spPr>
          <a:xfrm>
            <a:off x="3995280" y="1915920"/>
            <a:ext cx="4691160" cy="3384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ffffff"/>
                </a:solidFill>
                <a:uFillTx/>
                <a:latin typeface="Times New Roman"/>
              </a:rPr>
              <a:t>Подготовил воспитанник </a:t>
            </a:r>
            <a:r>
              <a:rPr b="0" lang="ru-RU" sz="3200" spc="-1" strike="noStrike">
                <a:solidFill>
                  <a:srgbClr val="ffffff"/>
                </a:solidFill>
                <a:latin typeface="Times New Roman"/>
              </a:rPr>
              <a:t>ГПД Крючков Д.</a:t>
            </a:r>
            <a:endParaRPr b="0" lang="en-US" sz="32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ffffff"/>
                </a:solidFill>
                <a:uFillTx/>
                <a:latin typeface="Times New Roman"/>
              </a:rPr>
              <a:t>Руководитель: </a:t>
            </a:r>
            <a:r>
              <a:rPr b="0" lang="ru-RU" sz="3200" spc="-1" strike="noStrike">
                <a:solidFill>
                  <a:srgbClr val="ffffff"/>
                </a:solidFill>
                <a:latin typeface="Times New Roman"/>
              </a:rPr>
              <a:t>воспитатель ГПД Литикова Н. А.</a:t>
            </a:r>
            <a:endParaRPr b="0" lang="en-US" sz="3200" spc="-1" strike="noStrike">
              <a:solidFill>
                <a:srgbClr val="ffffff"/>
              </a:solidFill>
              <a:latin typeface="Times New Roman"/>
            </a:endParaRPr>
          </a:p>
        </p:txBody>
      </p:sp>
      <p:sp>
        <p:nvSpPr>
          <p:cNvPr id="122" name="Заголовок 1"/>
          <p:cNvSpPr/>
          <p:nvPr/>
        </p:nvSpPr>
        <p:spPr>
          <a:xfrm>
            <a:off x="-6480" y="522612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63636"/>
                </a:solidFill>
                <a:latin typeface="Times New Roman"/>
              </a:rPr>
              <a:t>МБОУ СОШ с. Панино</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63636"/>
                </a:solidFill>
                <a:latin typeface="Times New Roman"/>
              </a:rPr>
              <a:t>2018 г.</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4" descr="5"/>
          <p:cNvPicPr/>
          <p:nvPr/>
        </p:nvPicPr>
        <p:blipFill>
          <a:blip r:embed="rId1"/>
          <a:stretch/>
        </p:blipFill>
        <p:spPr>
          <a:xfrm>
            <a:off x="539640" y="0"/>
            <a:ext cx="8136000" cy="6858000"/>
          </a:xfrm>
          <a:prstGeom prst="rect">
            <a:avLst/>
          </a:prstGeom>
          <a:ln w="0">
            <a:noFill/>
          </a:ln>
        </p:spPr>
      </p:pic>
      <p:sp>
        <p:nvSpPr>
          <p:cNvPr id="124" name="Text Box 5"/>
          <p:cNvSpPr/>
          <p:nvPr/>
        </p:nvSpPr>
        <p:spPr>
          <a:xfrm>
            <a:off x="1619280" y="620640"/>
            <a:ext cx="612144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4100"/>
                </a:solidFill>
                <a:latin typeface="Bookman Old Style"/>
              </a:rPr>
              <a:t>          </a:t>
            </a:r>
            <a:r>
              <a:rPr b="1" lang="ru-RU" sz="2000" spc="-1" strike="noStrike">
                <a:solidFill>
                  <a:srgbClr val="004100"/>
                </a:solidFill>
                <a:latin typeface="Times New Roman"/>
              </a:rPr>
              <a:t>В селе Панино находится православная церковь Илии Пророка. В обиходе ее еще называют – Ильинская церковь, Ильи Пророка церковь, Пророко-Ильинская церковь. Храм каменный, построен на средства прихожан в 1858 году. Престолов четыре: главный – пророка Илии и предельные – Святого Флора и Лавра, Святой мученицы Параскевы,  Рождества Пресвятой Богородицы. Илиинская церковь одна их немногих в районе, которая не была закрыта в советское время.</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5" descr="9"/>
          <p:cNvPicPr/>
          <p:nvPr/>
        </p:nvPicPr>
        <p:blipFill>
          <a:blip r:embed="rId1"/>
          <a:stretch/>
        </p:blipFill>
        <p:spPr>
          <a:xfrm>
            <a:off x="108000" y="189000"/>
            <a:ext cx="4459320" cy="6553080"/>
          </a:xfrm>
          <a:prstGeom prst="rect">
            <a:avLst/>
          </a:prstGeom>
          <a:ln w="0">
            <a:noFill/>
          </a:ln>
        </p:spPr>
      </p:pic>
      <p:pic>
        <p:nvPicPr>
          <p:cNvPr id="126" name="Picture 7" descr="15888_20101208_020548"/>
          <p:cNvPicPr/>
          <p:nvPr/>
        </p:nvPicPr>
        <p:blipFill>
          <a:blip r:embed="rId2"/>
          <a:stretch/>
        </p:blipFill>
        <p:spPr>
          <a:xfrm>
            <a:off x="4716360" y="189000"/>
            <a:ext cx="4334040" cy="6553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4" descr="a6d0519ac4"/>
          <p:cNvPicPr/>
          <p:nvPr/>
        </p:nvPicPr>
        <p:blipFill>
          <a:blip r:embed="rId1"/>
          <a:stretch/>
        </p:blipFill>
        <p:spPr>
          <a:xfrm>
            <a:off x="179280" y="260280"/>
            <a:ext cx="8820360" cy="6332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14" descr="5"/>
          <p:cNvPicPr/>
          <p:nvPr/>
        </p:nvPicPr>
        <p:blipFill>
          <a:blip r:embed="rId1"/>
          <a:stretch/>
        </p:blipFill>
        <p:spPr>
          <a:xfrm>
            <a:off x="539640" y="0"/>
            <a:ext cx="8136000" cy="6858000"/>
          </a:xfrm>
          <a:prstGeom prst="rect">
            <a:avLst/>
          </a:prstGeom>
          <a:ln w="0">
            <a:noFill/>
          </a:ln>
        </p:spPr>
      </p:pic>
      <p:sp>
        <p:nvSpPr>
          <p:cNvPr id="129" name="Text Box 15"/>
          <p:cNvSpPr/>
          <p:nvPr/>
        </p:nvSpPr>
        <p:spPr>
          <a:xfrm>
            <a:off x="1332000" y="189000"/>
            <a:ext cx="6696000" cy="490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4100"/>
                </a:solidFill>
                <a:latin typeface="Times New Roman"/>
              </a:rPr>
              <a:t>                          </a:t>
            </a:r>
            <a:r>
              <a:rPr b="0" lang="ru-RU" sz="1800" spc="-1" strike="noStrike">
                <a:solidFill>
                  <a:srgbClr val="004100"/>
                </a:solidFill>
                <a:latin typeface="Times New Roman"/>
              </a:rPr>
              <a:t>Село названо по Богородицкой церкви.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4100"/>
                </a:solidFill>
                <a:latin typeface="Times New Roman"/>
              </a:rPr>
              <a:t>    </a:t>
            </a:r>
            <a:r>
              <a:rPr b="0" lang="ru-RU" sz="1800" spc="-1" strike="noStrike">
                <a:solidFill>
                  <a:srgbClr val="004100"/>
                </a:solidFill>
                <a:latin typeface="Times New Roman"/>
              </a:rPr>
              <a:t>Сейчас в селе одна церковь – Успения Пресвятой Богородицы, построенная в 1864 году. Но в годы Великой Отечественной войны церковь была практически совсем разрушена, остались лишь стены из красного кирпича и руины недостроенного летнего храма. В 2003 году началась реставрация церкви, но очень медленными темпами. В 2005 году церковь начали активно восстанавливать на средства прихожан и спонсоров. 24 марта 2007 года в праздник Похвалы Пресвятой Богородицы в селе Богородицком Добровского района Липецкой области Преосвященнейшим Никоном, епископом Липецким и Елецким, был освящен храм в честь Успения Божией Матери. Престолов два: главный – Успения Пресвятой Богородицы и предельный – Святой мученицы Параскевы. Сейчас церковь практически полностью восстановлена и является главной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4100"/>
                </a:solidFill>
                <a:latin typeface="Times New Roman"/>
              </a:rPr>
              <a:t>                                                     </a:t>
            </a:r>
            <a:r>
              <a:rPr b="0" lang="ru-RU" sz="1800" spc="-1" strike="noStrike">
                <a:solidFill>
                  <a:srgbClr val="004100"/>
                </a:solidFill>
                <a:latin typeface="Times New Roman"/>
              </a:rPr>
              <a:t>достопримечательность села.</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4" descr="5"/>
          <p:cNvPicPr/>
          <p:nvPr/>
        </p:nvPicPr>
        <p:blipFill>
          <a:blip r:embed="rId1"/>
          <a:stretch/>
        </p:blipFill>
        <p:spPr>
          <a:xfrm>
            <a:off x="539640" y="0"/>
            <a:ext cx="8136000" cy="6858000"/>
          </a:xfrm>
          <a:prstGeom prst="rect">
            <a:avLst/>
          </a:prstGeom>
          <a:ln w="0">
            <a:noFill/>
          </a:ln>
        </p:spPr>
      </p:pic>
      <p:sp>
        <p:nvSpPr>
          <p:cNvPr id="131" name="Text Box 5"/>
          <p:cNvSpPr/>
          <p:nvPr/>
        </p:nvSpPr>
        <p:spPr>
          <a:xfrm>
            <a:off x="1332000" y="189000"/>
            <a:ext cx="6769080" cy="4626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              </a:t>
            </a:r>
            <a:r>
              <a:rPr b="0" lang="ru-RU" sz="1800" spc="-1" strike="noStrike">
                <a:solidFill>
                  <a:srgbClr val="004100"/>
                </a:solidFill>
                <a:latin typeface="Times New Roman"/>
              </a:rPr>
              <a:t>В центре села Филатовка возвышается Церковь      Покрова Пресвятой Богородицы, каменная, холодная, построена в 1872 году на средства прихожан. Престолов два: главный – Покрова Пресвятой Богородицы, придельный – Казанской иконы Божией Матери. При церкви существовала церковно-приходская школа. Штат Покровской церкви состоял из священника и псаломщика. По данным 1893 года священником служил Владимир Алексеевич Жданов, 28 лет, рукоположен в 1891 году, псаломщиком – Иван Гаврилович Товитский, 53 лет, в должности с 1855 года. За 1909 год в наградных документах упоминается священник Клавдий Никовский (награждён скуфьёй). Храм начали восстанавливать летом 2008 года, вставлены новые окна, сделаны новые двери, поставлены кресты, на колокольне появились колокола, покрыта крыша. Колокола были изготовлены в воронежской мастерской. В настоящее время в храме уже  </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4100"/>
                </a:solidFill>
                <a:latin typeface="Times New Roman"/>
              </a:rPr>
              <a:t>                                                         </a:t>
            </a:r>
            <a:r>
              <a:rPr b="0" lang="ru-RU" sz="1800" spc="-1" strike="noStrike">
                <a:solidFill>
                  <a:srgbClr val="004100"/>
                </a:solidFill>
                <a:latin typeface="Times New Roman"/>
              </a:rPr>
              <a:t>проходят богослужения.</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5" descr="11785_20110121_194607"/>
          <p:cNvPicPr/>
          <p:nvPr/>
        </p:nvPicPr>
        <p:blipFill>
          <a:blip r:embed="rId1"/>
          <a:stretch/>
        </p:blipFill>
        <p:spPr>
          <a:xfrm>
            <a:off x="179280" y="549360"/>
            <a:ext cx="8785440" cy="5751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4T08:27:37Z</dcterms:created>
  <dc:creator>school011</dc:creator>
  <dc:description/>
  <dc:language>en-US</dc:language>
  <cp:lastModifiedBy>Пользователь</cp:lastModifiedBy>
  <dcterms:modified xsi:type="dcterms:W3CDTF">2019-10-19T14:06:02Z</dcterms:modified>
  <cp:revision>3</cp:revision>
  <dc:subject/>
  <dc:title>Слайд 1</dc:title>
</cp:coreProperties>
</file>