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690B-F9E2-459D-AFE7-B2A8548E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106D-74AE-4BD1-9BB2-CB89F055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2E4B-D7D6-4796-9C1E-832DD0E4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0A9-6F0F-43EE-834A-FB26C433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DB0A-BF3B-495A-ABD5-2B50DB38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FF20-C1C0-4E8A-9708-FCE11433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182A-BF81-41F9-AF0E-2A1E733A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C36A-76C4-4057-89AD-6ECB35E9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6AFA-D416-4427-878E-B66A0858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7AF1-2087-4C1D-8145-50846FEB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21D6-63A0-4EAE-BC89-5B1630DD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0C3-F59D-499E-BDF4-F21EB1D7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47E4-4FC9-4D85-A5AB-5C9624C9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DFD7-9884-44CF-A325-F3AB348F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62BB-EAC1-49AC-8EF4-D58D106F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742F-5B0D-4DC2-8668-7223AFF3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8C8B-7958-487E-89DF-854DEDF7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252DC-7B61-4F0B-ABBC-BB1E2957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B5745-4E9A-42F2-8A1E-9558C38A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812EF-0F5E-4117-9B42-5BDC9D9C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56C94-9E09-46BF-9BFA-941E8F17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470E2-81F8-495A-BEFB-33FB2AED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4B5-70FB-401F-93AE-B3C987A1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2631B-9A58-4D5B-80CF-CFD0D3B9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8CB80-BD54-4023-825A-3BEABA60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D267F-94BB-4052-ADE5-8C8C5A18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5CCF2-4699-499B-A978-3243D724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3914F-2FB0-4FEE-8709-BF245904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D5874-27DD-4705-A9A0-2E0A0657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9068E-1838-469D-BBAD-99359578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9FA2D-6AB5-4D23-B7BD-53301D57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D4B32-F961-457D-BCFC-428A0A0F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D6299-BB0F-41D7-8642-BCC0A896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9BD6-8F3F-435D-AE41-872B34EB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2FB5E-85FF-4F3C-B53D-B6930C89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64FD6-E242-4BD9-87C5-2B6F01CA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79DD9-0B38-4880-80C9-97E3BF16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E11BF-1851-4109-B177-FCFCEC54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18E3C-745D-4653-95D4-9E70EFE3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CC29D-4B8C-4FBF-8770-3A12CF1F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02414-F71E-43AB-B6F2-178E9923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27BB8-C420-4FD9-A86F-14E51110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55611-EBE4-4E22-B866-0B86633D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1DCEF-6F04-45B3-BEDE-4509FA25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F5D-6024-4160-9DD4-B8B457D3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A68E2-86D9-4EAF-B73B-EFF85692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A3AA3-4D6C-4200-B180-8C4080D4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F21B0-191C-4514-94A7-52D3058A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DD263-3264-424E-B2C7-0970E060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23ED3-D3E4-483D-BE41-9BAA3DE1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9F9CC-1C58-48DB-B174-22805B44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E3CB6-E3B0-483E-9DB8-5B0E237B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785A5-6EC6-419B-B3CF-D995E398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C417B-8045-40B8-B517-36ADD281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EC6BF-393D-4195-A08C-7832EEAE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9D33-88F7-4B01-999E-99178D60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E57A5-3CC1-4485-B6FD-9A72B856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46CB4-09A5-434F-92ED-599925C9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DD03D-4AFF-4A99-A21E-69102F9B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8D1D4-8397-4420-9183-CC61C421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CB2E0-97EA-42AB-B378-F26757D4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179CF-8106-4A1E-90E3-E606587B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6D669-81AF-443D-8FC4-2BB4E4A6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7A040-7348-47F0-BD84-4F0F1D21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20EEE-1EE5-4050-925E-31DCE1A0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AE0B9-2C16-419A-80F7-EC9E5AE4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CE63-2438-4FCE-AEC0-0D20A434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1E763-FA68-4227-AA33-2964933C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17A00-324D-44B4-8860-080CCC11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BDE58-E5EE-43AC-B9B7-95396754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8ACFA-4CCA-48F7-BB90-74E0EB92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80124-4A9B-45B7-AC4E-6A9EC289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A88BE-45D1-4CE0-B6EA-F66875C3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A9F71-90F1-4F5D-A9F7-4A4A67FB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EA9E7-CB7E-45AF-AD59-E147AF93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9EFEC-2C8F-4211-BD75-737845BD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7243A-8117-4AD0-AC6F-CD8CA4C0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6D1B-BE46-4588-9F6A-A2531098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87E1A-CF7B-4C2B-A1C8-6BD2505E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EF92B-3159-476C-AB76-8FE65F09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B1919-E42C-4F92-8FC5-6CB3BD97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6E2E7-569C-4E23-9143-B50CB043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2FF5C-2D07-4054-ABAF-B99D8F66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EDB-8800-40B0-8BB6-D7F31B7C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EC9A-48C7-495D-BC19-AE74F0AA4C9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26A3-C332-4ADA-870E-E5FD4DE2530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B447-480D-4FC8-A4EE-F9407895D8D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4FBA-46AB-4C62-BA52-4DD1F195056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8CAA-90D2-47B0-BFCB-0E3D26B2C4C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B7DC-66E6-4FA3-B5C5-76309BF4888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5F9F-1C9D-437A-B9B5-84EACB81227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17360" y="285480"/>
            <a:ext cx="812628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знавательно-исследовательская деятельность в условиях ФГОС в ДОУ»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5071680" y="3642840"/>
            <a:ext cx="34765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спитатель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АДОУ д/с «Родничок»,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г. Советский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Язенок Юлия Викторовн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6" descr=""/>
          <p:cNvPicPr/>
          <p:nvPr/>
        </p:nvPicPr>
        <p:blipFill>
          <a:blip r:embed="rId1"/>
          <a:stretch/>
        </p:blipFill>
        <p:spPr>
          <a:xfrm>
            <a:off x="1357200" y="2714760"/>
            <a:ext cx="441504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142640" y="214200"/>
            <a:ext cx="8001000" cy="64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825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Times New Roman"/>
              </a:rPr>
              <a:t>Структура предметно-развивающей среды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f271c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2a6d7d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и проведение познавательно-исследовательской деятельности педагогами, накопление, систематизация, использование и преобразование опыта детей в деятельности опосредовано естественными и специально созданными условия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Times New Roman"/>
              </a:rPr>
              <a:t>Требования к предметно-развивающей среде:</a:t>
            </a:r>
            <a:r>
              <a:rPr b="0" lang="ru-RU" sz="30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. Развивающий характер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 Создание условий для формирования ведущих видов деятельности с одновременным учетом особенностей  других видов деятельност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. Соответствие возможностям ребенка для перехода к следующему этапу развития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4. Включение известных ребенку объектов, а также новых, которые побуждают его к последующей деятельност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5. Учет исходной инициативности ребенка, его стремления на деле применять свои зна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071360" y="260280"/>
            <a:ext cx="7893000" cy="60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82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Содержание уголков познавательно-исследовательской деятельност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100000"/>
              </a:lnSpc>
              <a:spcBef>
                <a:spcPts val="601"/>
              </a:spcBef>
              <a:buClr>
                <a:srgbClr val="35436a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сто для постоянной выставки, где размещают музей, различные коллекции – экспонаты, редкие предметы (раковины, камни, кристаллы, перья и т.п.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100000"/>
              </a:lnSpc>
              <a:spcBef>
                <a:spcPts val="601"/>
              </a:spcBef>
              <a:buClr>
                <a:srgbClr val="35436a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сто для приборо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100000"/>
              </a:lnSpc>
              <a:spcBef>
                <a:spcPts val="601"/>
              </a:spcBef>
              <a:buClr>
                <a:srgbClr val="35436a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сто для хранения материалов (природного, "бросового"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100000"/>
              </a:lnSpc>
              <a:spcBef>
                <a:spcPts val="601"/>
              </a:spcBef>
              <a:buClr>
                <a:srgbClr val="35436a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сто для проведения опыто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100000"/>
              </a:lnSpc>
              <a:spcBef>
                <a:spcPts val="601"/>
              </a:spcBef>
              <a:buClr>
                <a:srgbClr val="35436a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сто для неструктурированных материалов (песок, вода, опилки, стружка, пенопласт и др.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071360" y="333360"/>
            <a:ext cx="7894440" cy="62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бенок рождается исследователем. Неутолимая жажда новых впечатлений, любопытство, постоянное стремление наблюдать и экспериментировать, самостоятельно искать новые сведения о мире, традиционно рассматриваются как важнейшие черты детского поведения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f271c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4f271c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3адача педагога – не пресекать исследовательскую, поисковую активность детей, а наоборот, активно помогать.</a:t>
            </a:r>
            <a:r>
              <a:rPr b="0" lang="ru-RU" sz="2600" spc="-1" strike="noStrike">
                <a:solidFill>
                  <a:srgbClr val="99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71c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4"/>
          <p:cNvSpPr/>
          <p:nvPr/>
        </p:nvSpPr>
        <p:spPr>
          <a:xfrm>
            <a:off x="1143000" y="314316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142640" y="428400"/>
            <a:ext cx="4000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1767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Малыш – природный исследователь окружающего мира.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1767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Мир открывается ребёнку через опыт его личных ощущений, действий, переживани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1767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Развитие познавательных интересов дошкольников является одной из актуальных проблем педагогики, призванной воспитать личность, способную к саморазвитию и самосовершенствованию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6" descr=""/>
          <p:cNvPicPr/>
          <p:nvPr/>
        </p:nvPicPr>
        <p:blipFill>
          <a:blip r:embed="rId1"/>
          <a:stretch/>
        </p:blipFill>
        <p:spPr>
          <a:xfrm>
            <a:off x="5500800" y="1071720"/>
            <a:ext cx="338904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071720" y="2286000"/>
            <a:ext cx="785808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дна из основных задач ФГОС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00"/>
                </a:solidFill>
                <a:latin typeface="Times New Roman"/>
              </a:rPr>
              <a:t>– </a:t>
            </a:r>
            <a:r>
              <a:rPr b="0" lang="ru-RU" sz="3000" spc="-1" strike="noStrike">
                <a:solidFill>
                  <a:srgbClr val="990000"/>
                </a:solidFill>
                <a:latin typeface="Times New Roman"/>
              </a:rPr>
              <a:t>поддержка детской инициативы и   самостоятельности в разных видах детской деятельности: игровой, коммуникативной, творческой, конструктивной, трудовой, познавательной, исследовательской, проектной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2" descr="C:\Users\Nastya\Desktop\logo.png"/>
          <p:cNvPicPr/>
          <p:nvPr/>
        </p:nvPicPr>
        <p:blipFill>
          <a:blip r:embed="rId1"/>
          <a:stretch/>
        </p:blipFill>
        <p:spPr>
          <a:xfrm>
            <a:off x="928800" y="285840"/>
            <a:ext cx="799920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57160" y="357120"/>
            <a:ext cx="803448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82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f271c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990000"/>
                </a:solidFill>
                <a:latin typeface="Times New Roman"/>
              </a:rPr>
              <a:t>Становление познавательно-исследовательской деятельности в значительной мере зависит от условий жизни ребенка. Чем полнее и разнообразнее предоставляемый ему материал для исследовательской деятельности, тем более вероятным будет своевременное прохождение этапов развития восприятия, мышления, речи.</a:t>
            </a:r>
            <a:r>
              <a:rPr b="0" lang="ru-RU" sz="2600" spc="-1" strike="noStrike">
                <a:solidFill>
                  <a:srgbClr val="990000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9" descr=""/>
          <p:cNvPicPr/>
          <p:nvPr/>
        </p:nvPicPr>
        <p:blipFill>
          <a:blip r:embed="rId1"/>
          <a:stretch/>
        </p:blipFill>
        <p:spPr>
          <a:xfrm>
            <a:off x="2714760" y="3000240"/>
            <a:ext cx="402408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071720" y="1356840"/>
            <a:ext cx="792936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</a:rPr>
              <a:t>- </a:t>
            </a:r>
            <a:r>
              <a:rPr b="0" lang="ru-RU" sz="2600" spc="-1" strike="noStrike">
                <a:solidFill>
                  <a:srgbClr val="990000"/>
                </a:solidFill>
                <a:latin typeface="Times New Roman"/>
              </a:rPr>
              <a:t>обеспечение психологического благополучия и здоровья детей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00"/>
                </a:solidFill>
                <a:latin typeface="Times New Roman"/>
              </a:rPr>
              <a:t>- развитие познавательных способностей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00"/>
                </a:solidFill>
                <a:latin typeface="Times New Roman"/>
              </a:rPr>
              <a:t>- развитие творческого воображения и мышления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00"/>
                </a:solidFill>
                <a:latin typeface="Times New Roman"/>
              </a:rPr>
              <a:t>- развитие коммуникативных навыков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00"/>
                </a:solidFill>
                <a:latin typeface="Times New Roman"/>
              </a:rPr>
              <a:t>- формирование основ безопасного поведения в быту, социуме, природе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оугольник 4"/>
          <p:cNvSpPr/>
          <p:nvPr/>
        </p:nvSpPr>
        <p:spPr>
          <a:xfrm>
            <a:off x="250920" y="260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ознавательно-исследовательской деятельнос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"/>
          <p:cNvPicPr/>
          <p:nvPr/>
        </p:nvPicPr>
        <p:blipFill>
          <a:blip r:embed="rId1"/>
          <a:stretch/>
        </p:blipFill>
        <p:spPr>
          <a:xfrm>
            <a:off x="3857760" y="4143240"/>
            <a:ext cx="47386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6" descr=""/>
          <p:cNvPicPr/>
          <p:nvPr/>
        </p:nvPicPr>
        <p:blipFill>
          <a:blip r:embed="rId1"/>
          <a:stretch/>
        </p:blipFill>
        <p:spPr>
          <a:xfrm>
            <a:off x="4143240" y="2928960"/>
            <a:ext cx="4822920" cy="3616200"/>
          </a:xfrm>
          <a:prstGeom prst="rect">
            <a:avLst/>
          </a:prstGeom>
          <a:ln w="57240">
            <a:solidFill>
              <a:srgbClr val="ffff00"/>
            </a:solidFill>
            <a:round/>
          </a:ln>
        </p:spPr>
      </p:pic>
      <p:pic>
        <p:nvPicPr>
          <p:cNvPr id="331" name="Picture 4" descr="C:\Users\Admin\Desktop\НА КОТЕГОРИЮ\самообразование\IMG_6178.JPG"/>
          <p:cNvPicPr/>
          <p:nvPr/>
        </p:nvPicPr>
        <p:blipFill>
          <a:blip r:embed="rId2"/>
          <a:stretch/>
        </p:blipFill>
        <p:spPr>
          <a:xfrm>
            <a:off x="357120" y="28584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7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4875120" cy="36558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333" name="Picture 4" descr="C:\Users\Admin\Desktop\НА КОТЕГОРИЮ\самообразование\IMG_6136.JPG"/>
          <p:cNvPicPr/>
          <p:nvPr/>
        </p:nvPicPr>
        <p:blipFill>
          <a:blip r:embed="rId2"/>
          <a:stretch/>
        </p:blipFill>
        <p:spPr>
          <a:xfrm>
            <a:off x="3786120" y="2786040"/>
            <a:ext cx="51436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071720" y="260280"/>
            <a:ext cx="7821360" cy="638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825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Формы работы при организации познавательно-исследовательской деятельности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70000"/>
              </a:lnSpc>
              <a:spcBef>
                <a:spcPts val="601"/>
              </a:spcBef>
              <a:buClr>
                <a:srgbClr val="3543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Times New Roman"/>
              </a:rPr>
              <a:t>непрерывная образовательная деятельность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70000"/>
              </a:lnSpc>
              <a:spcBef>
                <a:spcPts val="601"/>
              </a:spcBef>
              <a:buClr>
                <a:srgbClr val="3543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Times New Roman"/>
              </a:rPr>
              <a:t>беседы познавательного, эвристического характера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70000"/>
              </a:lnSpc>
              <a:spcBef>
                <a:spcPts val="601"/>
              </a:spcBef>
              <a:buClr>
                <a:srgbClr val="3543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Times New Roman"/>
              </a:rPr>
              <a:t>опыты, эксперименты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70000"/>
              </a:lnSpc>
              <a:spcBef>
                <a:spcPts val="601"/>
              </a:spcBef>
              <a:buClr>
                <a:srgbClr val="3543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Times New Roman"/>
              </a:rPr>
              <a:t>просмотр фильмов, слайдов, презентаций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70000"/>
              </a:lnSpc>
              <a:spcBef>
                <a:spcPts val="601"/>
              </a:spcBef>
              <a:buClr>
                <a:srgbClr val="3543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Times New Roman"/>
              </a:rPr>
              <a:t>игры (сюжетно-ролевые, развивающие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70000"/>
              </a:lnSpc>
              <a:spcBef>
                <a:spcPts val="601"/>
              </a:spcBef>
              <a:buClr>
                <a:srgbClr val="3543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Times New Roman"/>
              </a:rPr>
              <a:t>чтение книг, энциклопедий, рассматривание картин и иллюстраций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70000"/>
              </a:lnSpc>
              <a:spcBef>
                <a:spcPts val="601"/>
              </a:spcBef>
              <a:buClr>
                <a:srgbClr val="3543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Times New Roman"/>
              </a:rPr>
              <a:t>наблюдение за явлениями природы и живыми объектам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70000"/>
              </a:lnSpc>
              <a:spcBef>
                <a:spcPts val="601"/>
              </a:spcBef>
              <a:buClr>
                <a:srgbClr val="3543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Times New Roman"/>
              </a:rPr>
              <a:t>экскурсии и целевые прогулк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70000"/>
              </a:lnSpc>
              <a:spcBef>
                <a:spcPts val="601"/>
              </a:spcBef>
              <a:buClr>
                <a:srgbClr val="3543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Times New Roman"/>
              </a:rPr>
              <a:t>труд в природе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70000"/>
              </a:lnSpc>
              <a:spcBef>
                <a:spcPts val="601"/>
              </a:spcBef>
              <a:buClr>
                <a:srgbClr val="3543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Times New Roman"/>
              </a:rPr>
              <a:t>тематические дни и недел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70000"/>
              </a:lnSpc>
              <a:spcBef>
                <a:spcPts val="601"/>
              </a:spcBef>
              <a:buClr>
                <a:srgbClr val="3543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Times New Roman"/>
              </a:rPr>
              <a:t>конкурсы, выставки, мини-музеи, коллекци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70000"/>
              </a:lnSpc>
              <a:spcBef>
                <a:spcPts val="601"/>
              </a:spcBef>
              <a:buClr>
                <a:srgbClr val="3543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Times New Roman"/>
              </a:rPr>
              <a:t>праздники, развлечения, вечера досуга, театрализованная деятельность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70000"/>
              </a:lnSpc>
              <a:spcBef>
                <a:spcPts val="601"/>
              </a:spcBef>
              <a:buClr>
                <a:srgbClr val="3543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Times New Roman"/>
              </a:rPr>
              <a:t>художественная и конструктивная деятельность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70000"/>
              </a:lnSpc>
              <a:spcBef>
                <a:spcPts val="601"/>
              </a:spcBef>
              <a:buClr>
                <a:srgbClr val="3543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Times New Roman"/>
              </a:rPr>
              <a:t>речевое творчество: сочинение сказок, загадок, разгадывание кроссворд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182520">
              <a:lnSpc>
                <a:spcPct val="80000"/>
              </a:lnSpc>
              <a:spcBef>
                <a:spcPts val="601"/>
              </a:spcBef>
              <a:buClr>
                <a:srgbClr val="3543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50920" y="404640"/>
            <a:ext cx="8642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82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Содержание познавательно-исследовательской деятельности представлено несколькими темам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Прямоугольник 1"/>
          <p:cNvSpPr/>
          <p:nvPr/>
        </p:nvSpPr>
        <p:spPr>
          <a:xfrm>
            <a:off x="1143000" y="2000160"/>
            <a:ext cx="7781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я природа (многообразие живых организмов, характерные особенности сезонов в разных природно-климатических зонах и т.д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ивая природа (вода, воздух, почва, земля, песок их свойства, планета Земля – её рельеф, климат, природные явления, Космос и Солнечная систем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явления (цвет, звук, магнетизм, земное притяжение, электричество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(человек – живой организм, человек – пользователь природ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творный мир: (материалы и их свойства, предмет – результат деятельности человека, преобразования предметов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12:22:47Z</dcterms:created>
  <dc:creator>Nastya</dc:creator>
  <dc:description/>
  <dc:language>en-US</dc:language>
  <cp:lastModifiedBy>Admin</cp:lastModifiedBy>
  <dcterms:modified xsi:type="dcterms:W3CDTF">2019-10-19T15:17:28Z</dcterms:modified>
  <cp:revision>51</cp:revision>
  <dc:subject/>
  <dc:title>Профессиональный стандарт педагога</dc:title>
</cp:coreProperties>
</file>