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29.gif" ContentType="image/gif"/>
  <Override PartName="/ppt/media/image13.png" ContentType="image/png"/>
  <Override PartName="/ppt/media/image8.png" ContentType="image/png"/>
  <Override PartName="/ppt/media/image28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27.gif" ContentType="image/gif"/>
  <Override PartName="/ppt/media/image11.png" ContentType="image/png"/>
  <Override PartName="/ppt/media/image6.png" ContentType="image/png"/>
  <Override PartName="/ppt/media/image26.gif" ContentType="image/gif"/>
  <Override PartName="/ppt/media/image4.png" ContentType="image/png"/>
  <Override PartName="/ppt/media/image24.gif" ContentType="image/gif"/>
  <Override PartName="/ppt/media/image3.jpeg" ContentType="image/jpeg"/>
  <Override PartName="/ppt/media/image15.png" ContentType="image/png"/>
  <Override PartName="/ppt/media/image23.gif" ContentType="image/gif"/>
  <Override PartName="/ppt/media/image20.png" ContentType="image/png"/>
  <Override PartName="/ppt/media/image17.gif" ContentType="image/gif"/>
  <Override PartName="/ppt/media/image21.gif" ContentType="image/gif"/>
  <Override PartName="/ppt/media/image19.gif" ContentType="image/gif"/>
  <Override PartName="/ppt/media/image10.png" ContentType="image/png"/>
  <Override PartName="/ppt/media/image18.gif" ContentType="image/gif"/>
  <Override PartName="/ppt/media/image16.png" ContentType="image/png"/>
  <Override PartName="/ppt/media/image14.png" ContentType="image/png"/>
  <Override PartName="/ppt/media/image5.png" ContentType="image/png"/>
  <Override PartName="/ppt/media/image25.gif" ContentType="image/gif"/>
  <Override PartName="/ppt/media/image22.gif" ContentType="image/gif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E4C1-A94F-4B4C-902A-56DBCC48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475C-BB1D-4F2D-9A7A-F1751B98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0E82-B141-4CE9-984B-546C2FD8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74AD-BFD2-4FF8-8661-1984D820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8F8C6-77AA-42EA-871B-D7EC2182EE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EC27E-D119-45FF-A2DB-A3FE28FE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80AFE-78F1-49E9-BC9A-B2729F76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BD5C3-5B97-45DC-9142-EBCDA3D1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CF7AC-ACA8-40A3-ACFC-7CAF8769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C7310-D1D7-493C-AF46-DC6158E4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40048-75A1-49D5-8748-AD3F5ACD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6E68-F124-4792-879B-4E579FEF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D4969-DF96-484E-8AAD-75A53D3A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E7DF3-1EC8-4DDF-88D7-1FDC55E7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8D906-1F38-4C34-90DA-8EC54EC6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79B5E-30D7-40C2-B5AF-5A2BC109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DF7DD-7C2A-4B75-BA13-E3A5AD4305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08B0B6-2D64-4410-8071-8ED0A732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DB145-0074-4400-A718-F8ADBA54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FE7B08-B97D-4188-9CE5-7E80E97B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67D08D-13FC-4BAD-8E6B-B86B261C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56D10D-AB1B-4240-A206-941A5E16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EEE7-F60B-4DF6-A15D-14284B53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2C370C-F03D-44B6-8AED-0782DB8E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6860FF-6ECF-4830-930F-33F6A697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3DEB36-D4C9-4DF7-B7C5-6B3BB7AE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D18C74-E239-4766-985B-9513FB71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214A32-2D11-48F2-8EE2-974DC4C4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D058A8-C62A-4FBC-AEED-397355B9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1563E7-53DD-4ACC-8698-784F0CC80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6E40AA-61EE-454E-8C1A-444DAFB3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CA953D-B047-40DE-980A-B855F9CF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DC0E08-6F00-494A-BCD2-8EF2F27B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5765-ACE6-4FD1-B9F0-CBD72EB4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F2EB54-C3BA-414A-8D21-B5C3C55C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3138DB-1550-47D1-9758-B46854AF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A5E6A0-6779-4AB9-B0F2-9F5AA4EE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282375-5E88-4054-AB15-62C02389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008121-81A9-4EBE-BD64-C59BA1E7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F0432E-FF9B-4E4E-A005-A58772A7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74AB9E-0A4D-40F0-B21D-E01123BC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09148C-C6F2-43E5-85B7-73AEEE5D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609938-19C3-4694-B9CE-47A6F33A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A8891D-7ABA-461A-AE08-3214F189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DB07-2528-47F2-877B-30A60401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7E0229-6DBA-4610-A54F-909285EF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BC4576-060D-40A5-BD67-9EA06140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70129D-469C-47A0-9C0B-26CEF45F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86BAA7-3C73-4F51-8306-3180AEE8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87387A-A736-4639-933C-4F9E5845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8DE3DE-8D37-45EA-964A-69AFDD7E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70C097-8659-4F7E-A714-C2749278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3C9E41-2EE3-4D8D-881C-77524646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15ED1F-A4FD-4A23-B0E1-7ABC7FEC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A26540-70CB-46B2-81C6-A6EDA8A2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BCBF-CB4B-4828-A1E9-64C3A7F1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F6BC42-5F45-43F0-9D60-F1935B9C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1DF15E-AE03-4377-B5B5-CEB643C5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1FE324-A202-423C-9513-656D92C8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AA3917-AD38-441E-806B-2A140809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C5ABCA-A8AE-4693-AC1B-76CDEC84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B32210-F24B-4F19-9EB6-B383A9F4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6BC8C3-449D-4781-9D04-AC838E41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E1CC87-9318-45D9-A8C3-A030D175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437C75-72AD-477B-B937-ADC2323A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987FEB-464D-4119-ACB5-35E5E522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A528-4C2F-4021-9D02-8178E31A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55394B-509A-4128-9593-E35B3DEE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B1677E-4F28-497B-A212-528B93CB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4919D8-9F8B-491E-B475-9B2C8FE8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08CFE5-824F-441A-9E2A-C7DFAD70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793FF5-9C31-42CA-B6FA-B8D438E4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CDE6F5-4ABB-4427-A02C-97307CA6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925B58-1631-4D5F-AA21-10470BCF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D9E1EB-06AF-4507-B5A8-19CA063A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EA059C-646E-4F82-8393-AEEC1DD7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EDB879-43AA-44D3-B585-1AE7CFE6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A008-007E-4A69-8A28-00E79394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406736-4149-4DA3-97B5-F9E43CCC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7AAE4D-8AE5-4114-909C-9EC61180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061CD2-46F3-412D-B9AE-41267234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938D88-9F1F-4FA0-BFA1-D5E8F6BAA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B5C20C-59B2-44F2-934E-5425BE79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BA94-0E46-410E-9553-855CFF10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D2FD-5369-4C66-A16C-9741AADB076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DE8A-6903-46B9-A432-4B56A07EFE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Рамка 7"/>
          <p:cNvGrpSpPr/>
          <p:nvPr/>
        </p:nvGrpSpPr>
        <p:grpSpPr>
          <a:xfrm>
            <a:off x="-30240" y="-30240"/>
            <a:ext cx="9198000" cy="5199120"/>
            <a:chOff x="-30240" y="-30240"/>
            <a:chExt cx="9198000" cy="5199120"/>
          </a:xfrm>
        </p:grpSpPr>
        <p:pic>
          <p:nvPicPr>
            <p:cNvPr id="6" name="Рамка 7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919800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50760" y="50760"/>
              <a:ext cx="9042480" cy="50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Рамка 7"/>
          <p:cNvGrpSpPr/>
          <p:nvPr/>
        </p:nvGrpSpPr>
        <p:grpSpPr>
          <a:xfrm>
            <a:off x="-30240" y="-30240"/>
            <a:ext cx="9198000" cy="5199120"/>
            <a:chOff x="-30240" y="-30240"/>
            <a:chExt cx="9198000" cy="5199120"/>
          </a:xfrm>
        </p:grpSpPr>
        <p:pic>
          <p:nvPicPr>
            <p:cNvPr id="45" name="Рамка 7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919800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0760" y="50760"/>
              <a:ext cx="9042480" cy="50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Капля 8"/>
          <p:cNvGrpSpPr/>
          <p:nvPr/>
        </p:nvGrpSpPr>
        <p:grpSpPr>
          <a:xfrm>
            <a:off x="-60480" y="-36360"/>
            <a:ext cx="9259920" cy="5254560"/>
            <a:chOff x="-60480" y="-36360"/>
            <a:chExt cx="9259920" cy="5254560"/>
          </a:xfrm>
        </p:grpSpPr>
        <p:pic>
          <p:nvPicPr>
            <p:cNvPr id="48" name="Капля 8" descr=""/>
            <p:cNvPicPr/>
            <p:nvPr/>
          </p:nvPicPr>
          <p:blipFill>
            <a:blip r:embed="rId4"/>
            <a:stretch/>
          </p:blipFill>
          <p:spPr>
            <a:xfrm>
              <a:off x="-60480" y="-36360"/>
              <a:ext cx="925992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339920" y="752400"/>
              <a:ext cx="6464160" cy="363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Рисунок 9" descr="1.jpg"/>
          <p:cNvPicPr/>
          <p:nvPr/>
        </p:nvPicPr>
        <p:blipFill>
          <a:blip r:embed="rId5"/>
          <a:stretch/>
        </p:blipFill>
        <p:spPr>
          <a:xfrm>
            <a:off x="71280" y="2643120"/>
            <a:ext cx="571680" cy="9669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3" descr="istockphoto-512060613-612x612.jpg"/>
          <p:cNvPicPr/>
          <p:nvPr/>
        </p:nvPicPr>
        <p:blipFill>
          <a:blip r:embed="rId6"/>
          <a:stretch/>
        </p:blipFill>
        <p:spPr>
          <a:xfrm>
            <a:off x="7858080" y="3714840"/>
            <a:ext cx="928800" cy="10825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4" descr="8710d920d76daa18adf8e4d5cd3e437b.image.271x280.gif"/>
          <p:cNvPicPr/>
          <p:nvPr/>
        </p:nvPicPr>
        <p:blipFill>
          <a:blip r:embed="rId7"/>
          <a:stretch/>
        </p:blipFill>
        <p:spPr>
          <a:xfrm>
            <a:off x="3143160" y="4286160"/>
            <a:ext cx="760680" cy="7858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5" descr="june2516.gif"/>
          <p:cNvPicPr/>
          <p:nvPr/>
        </p:nvPicPr>
        <p:blipFill>
          <a:blip r:embed="rId8"/>
          <a:stretch/>
        </p:blipFill>
        <p:spPr>
          <a:xfrm>
            <a:off x="5572080" y="4357800"/>
            <a:ext cx="714600" cy="7603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6" descr="зд.jpg"/>
          <p:cNvPicPr/>
          <p:nvPr/>
        </p:nvPicPr>
        <p:blipFill>
          <a:blip r:embed="rId9"/>
          <a:srcRect l="6067" t="8720" r="53220" b="6982"/>
          <a:stretch/>
        </p:blipFill>
        <p:spPr>
          <a:xfrm>
            <a:off x="857160" y="3500280"/>
            <a:ext cx="785880" cy="10130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7" descr="зд.jpg"/>
          <p:cNvPicPr/>
          <p:nvPr/>
        </p:nvPicPr>
        <p:blipFill>
          <a:blip r:embed="rId10"/>
          <a:srcRect l="56435" t="8713" r="5002" b="1847"/>
          <a:stretch/>
        </p:blipFill>
        <p:spPr>
          <a:xfrm>
            <a:off x="8286840" y="2643120"/>
            <a:ext cx="857160" cy="12384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8" descr="11.jpg"/>
          <p:cNvPicPr/>
          <p:nvPr/>
        </p:nvPicPr>
        <p:blipFill>
          <a:blip r:embed="rId11"/>
          <a:stretch/>
        </p:blipFill>
        <p:spPr>
          <a:xfrm>
            <a:off x="6643800" y="3786120"/>
            <a:ext cx="1089000" cy="12445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9" descr="clip-art-playing-342512.jpg"/>
          <p:cNvPicPr/>
          <p:nvPr/>
        </p:nvPicPr>
        <p:blipFill>
          <a:blip r:embed="rId12"/>
          <a:stretch/>
        </p:blipFill>
        <p:spPr>
          <a:xfrm>
            <a:off x="1928880" y="4138560"/>
            <a:ext cx="785880" cy="862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037C-25F0-4F4F-8E41-E055299DE85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9570-871D-4CAF-82B7-248DE3A7B8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Рамка 7"/>
          <p:cNvGrpSpPr/>
          <p:nvPr/>
        </p:nvGrpSpPr>
        <p:grpSpPr>
          <a:xfrm>
            <a:off x="-30240" y="-30240"/>
            <a:ext cx="9198000" cy="5199120"/>
            <a:chOff x="-30240" y="-30240"/>
            <a:chExt cx="9198000" cy="5199120"/>
          </a:xfrm>
        </p:grpSpPr>
        <p:pic>
          <p:nvPicPr>
            <p:cNvPr id="99" name="Рамка 7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919800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0760" y="50760"/>
              <a:ext cx="9042480" cy="50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Рисунок 8" descr="зд.jpg"/>
          <p:cNvPicPr/>
          <p:nvPr/>
        </p:nvPicPr>
        <p:blipFill>
          <a:blip r:embed="rId4"/>
          <a:srcRect l="6064" t="8716" r="53229" b="6984"/>
          <a:stretch/>
        </p:blipFill>
        <p:spPr>
          <a:xfrm>
            <a:off x="0" y="3929040"/>
            <a:ext cx="857160" cy="11048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73F3-8B8B-4183-A32A-CFE99F64787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5120-BFBC-47F9-A193-925C45B513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Рамка 7"/>
          <p:cNvGrpSpPr/>
          <p:nvPr/>
        </p:nvGrpSpPr>
        <p:grpSpPr>
          <a:xfrm>
            <a:off x="-30240" y="-30240"/>
            <a:ext cx="9198000" cy="5199120"/>
            <a:chOff x="-30240" y="-30240"/>
            <a:chExt cx="9198000" cy="5199120"/>
          </a:xfrm>
        </p:grpSpPr>
        <p:pic>
          <p:nvPicPr>
            <p:cNvPr id="144" name="Рамка 7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919800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0760" y="50760"/>
              <a:ext cx="9042480" cy="50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Рисунок 8" descr="boy-clipart-baseball-player-16.jpg"/>
          <p:cNvPicPr/>
          <p:nvPr/>
        </p:nvPicPr>
        <p:blipFill>
          <a:blip r:embed="rId4"/>
          <a:stretch/>
        </p:blipFill>
        <p:spPr>
          <a:xfrm>
            <a:off x="79200" y="3828960"/>
            <a:ext cx="1011240" cy="25164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4AE9-6F6C-41E4-A305-8E2F398A6A2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5590-2965-4154-9117-32F5DB89FB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Рамка 7"/>
          <p:cNvGrpSpPr/>
          <p:nvPr/>
        </p:nvGrpSpPr>
        <p:grpSpPr>
          <a:xfrm>
            <a:off x="-30240" y="-30240"/>
            <a:ext cx="9198000" cy="5199120"/>
            <a:chOff x="-30240" y="-30240"/>
            <a:chExt cx="9198000" cy="5199120"/>
          </a:xfrm>
        </p:grpSpPr>
        <p:pic>
          <p:nvPicPr>
            <p:cNvPr id="189" name="Рамка 7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919800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0760" y="50760"/>
              <a:ext cx="9042480" cy="50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Рисунок 8" descr="1817e40a6bcb61d74b0c3eedd2b5637f_t.jpeg"/>
          <p:cNvPicPr/>
          <p:nvPr/>
        </p:nvPicPr>
        <p:blipFill>
          <a:blip r:embed="rId4"/>
          <a:stretch/>
        </p:blipFill>
        <p:spPr>
          <a:xfrm>
            <a:off x="285840" y="3857760"/>
            <a:ext cx="785880" cy="11174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00F6-0787-414E-BA40-1D8E6CF4361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472D-8570-4CFD-973F-3A16D70295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Рамка 7"/>
          <p:cNvGrpSpPr/>
          <p:nvPr/>
        </p:nvGrpSpPr>
        <p:grpSpPr>
          <a:xfrm>
            <a:off x="-30240" y="-30240"/>
            <a:ext cx="9198000" cy="5199120"/>
            <a:chOff x="-30240" y="-30240"/>
            <a:chExt cx="9198000" cy="5199120"/>
          </a:xfrm>
        </p:grpSpPr>
        <p:pic>
          <p:nvPicPr>
            <p:cNvPr id="234" name="Рамка 7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919800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0760" y="50760"/>
              <a:ext cx="9042480" cy="50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Рисунок 8" descr="зд.jpg"/>
          <p:cNvPicPr/>
          <p:nvPr/>
        </p:nvPicPr>
        <p:blipFill>
          <a:blip r:embed="rId4"/>
          <a:srcRect l="56435" t="8713" r="5002" b="1847"/>
          <a:stretch/>
        </p:blipFill>
        <p:spPr>
          <a:xfrm>
            <a:off x="8143920" y="3714840"/>
            <a:ext cx="857160" cy="12380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05BD-0D78-4F58-8DCA-82C92CF9FB9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F73A-AE07-47F6-A518-391E7C950D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Рамка 7"/>
          <p:cNvGrpSpPr/>
          <p:nvPr/>
        </p:nvGrpSpPr>
        <p:grpSpPr>
          <a:xfrm>
            <a:off x="-30240" y="-30240"/>
            <a:ext cx="9198000" cy="5199120"/>
            <a:chOff x="-30240" y="-30240"/>
            <a:chExt cx="9198000" cy="5199120"/>
          </a:xfrm>
        </p:grpSpPr>
        <p:pic>
          <p:nvPicPr>
            <p:cNvPr id="279" name="Рамка 7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919800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50760" y="50760"/>
              <a:ext cx="9042480" cy="50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Рисунок 8" descr="Baby Pooh and Friends 65 iron on stickers (heat transfer).gif"/>
          <p:cNvPicPr/>
          <p:nvPr/>
        </p:nvPicPr>
        <p:blipFill>
          <a:blip r:embed="rId4"/>
          <a:stretch/>
        </p:blipFill>
        <p:spPr>
          <a:xfrm>
            <a:off x="8072280" y="3786120"/>
            <a:ext cx="762120" cy="12146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F522-3BFA-4F8F-9FE9-EAAF38B4B64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D5EE-5759-4033-8F19-C8BD61CD26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Папа, мама, я – счастливая семь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7357680" y="4000320"/>
            <a:ext cx="41436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Calibri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ижний колонтитул 3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4"/>
          <p:cNvSpPr/>
          <p:nvPr/>
        </p:nvSpPr>
        <p:spPr>
          <a:xfrm>
            <a:off x="1069560" y="285840"/>
            <a:ext cx="735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е казенное дошкольное образовательное 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ский сад «Берез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6"/>
          <p:cNvSpPr/>
          <p:nvPr/>
        </p:nvSpPr>
        <p:spPr>
          <a:xfrm>
            <a:off x="4574160" y="45720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8" descr="C:\Users\Администратор\Desktop\семья поект\7ec2d732c0f6.gif"/>
          <p:cNvPicPr/>
          <p:nvPr/>
        </p:nvPicPr>
        <p:blipFill>
          <a:blip r:embed="rId1"/>
          <a:stretch/>
        </p:blipFill>
        <p:spPr>
          <a:xfrm>
            <a:off x="4324320" y="23526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9" descr="C:\Users\Администратор\Desktop\семья поект\7ec2d732c0f6.gif"/>
          <p:cNvPicPr/>
          <p:nvPr/>
        </p:nvPicPr>
        <p:blipFill>
          <a:blip r:embed="rId2"/>
          <a:stretch/>
        </p:blipFill>
        <p:spPr>
          <a:xfrm>
            <a:off x="4324320" y="23526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0" descr="C:\Users\Администратор\Desktop\семья поект\7ec2d732c0f6.gif"/>
          <p:cNvPicPr/>
          <p:nvPr/>
        </p:nvPicPr>
        <p:blipFill>
          <a:blip r:embed="rId3"/>
          <a:stretch/>
        </p:blipFill>
        <p:spPr>
          <a:xfrm>
            <a:off x="2786040" y="29289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1" descr="C:\Users\Администратор\Desktop\семья поект\9114736e31d2.gif"/>
          <p:cNvPicPr/>
          <p:nvPr/>
        </p:nvPicPr>
        <p:blipFill>
          <a:blip r:embed="rId4"/>
          <a:stretch/>
        </p:blipFill>
        <p:spPr>
          <a:xfrm>
            <a:off x="5715000" y="32148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2" descr="C:\Users\Администратор\Desktop\семья поект\9114736e31d2.gif"/>
          <p:cNvPicPr/>
          <p:nvPr/>
        </p:nvPicPr>
        <p:blipFill>
          <a:blip r:embed="rId5"/>
          <a:stretch/>
        </p:blipFill>
        <p:spPr>
          <a:xfrm>
            <a:off x="1857240" y="8571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3" descr="C:\Users\Администратор\Desktop\семья поект\9114736e31d2.gif"/>
          <p:cNvPicPr/>
          <p:nvPr/>
        </p:nvPicPr>
        <p:blipFill>
          <a:blip r:embed="rId6"/>
          <a:stretch/>
        </p:blipFill>
        <p:spPr>
          <a:xfrm>
            <a:off x="7858080" y="7142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9" descr="C:\Users\Администратор\Desktop\семья поект\7ec2d732c0f6.gif"/>
          <p:cNvPicPr/>
          <p:nvPr/>
        </p:nvPicPr>
        <p:blipFill>
          <a:blip r:embed="rId7"/>
          <a:stretch/>
        </p:blipFill>
        <p:spPr>
          <a:xfrm>
            <a:off x="785880" y="3214800"/>
            <a:ext cx="495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Содержимое 6" descr="orig.gif"/>
          <p:cNvPicPr/>
          <p:nvPr/>
        </p:nvPicPr>
        <p:blipFill>
          <a:blip r:embed="rId1"/>
          <a:stretch/>
        </p:blipFill>
        <p:spPr>
          <a:xfrm>
            <a:off x="1571760" y="1285920"/>
            <a:ext cx="6018120" cy="3128760"/>
          </a:xfrm>
          <a:prstGeom prst="rect">
            <a:avLst/>
          </a:prstGeom>
          <a:ln w="0">
            <a:noFill/>
          </a:ln>
        </p:spPr>
      </p:pic>
      <p:pic>
        <p:nvPicPr>
          <p:cNvPr id="337" name="How Russian locomotive class L works. Как работает паровоз серии Л.mp3" descr=""/>
          <p:cNvPicPr/>
          <p:nvPr/>
        </p:nvPicPr>
        <p:blipFill>
          <a:blip r:embed="rId2"/>
          <a:stretch/>
        </p:blipFill>
        <p:spPr>
          <a:xfrm>
            <a:off x="8072280" y="1428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701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«Разминочная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Нижний колонтитул 3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C:\Users\Администратор\Desktop\23995812.gif"/>
          <p:cNvPicPr/>
          <p:nvPr/>
        </p:nvPicPr>
        <p:blipFill>
          <a:blip r:embed="rId1"/>
          <a:stretch/>
        </p:blipFill>
        <p:spPr>
          <a:xfrm>
            <a:off x="3571920" y="1214280"/>
            <a:ext cx="194004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«Спортивная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Содержимое 4" descr="Volleyball_Kids.gif"/>
          <p:cNvPicPr/>
          <p:nvPr/>
        </p:nvPicPr>
        <p:blipFill>
          <a:blip r:embed="rId1"/>
          <a:stretch/>
        </p:blipFill>
        <p:spPr>
          <a:xfrm>
            <a:off x="2190600" y="1468440"/>
            <a:ext cx="4762800" cy="2857320"/>
          </a:xfrm>
          <a:prstGeom prst="rect">
            <a:avLst/>
          </a:prstGeom>
          <a:ln w="0">
            <a:noFill/>
          </a:ln>
        </p:spPr>
      </p:pic>
      <p:sp>
        <p:nvSpPr>
          <p:cNvPr id="343" name="Нижний колонтитул 3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«Пальчиковые игры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Содержимое 4" descr="0_107a4e_a7692323_XL.gif"/>
          <p:cNvPicPr/>
          <p:nvPr/>
        </p:nvPicPr>
        <p:blipFill>
          <a:blip r:embed="rId1"/>
          <a:stretch/>
        </p:blipFill>
        <p:spPr>
          <a:xfrm>
            <a:off x="2786040" y="1928880"/>
            <a:ext cx="2500200" cy="2214360"/>
          </a:xfrm>
          <a:prstGeom prst="rect">
            <a:avLst/>
          </a:prstGeom>
          <a:ln w="0">
            <a:noFill/>
          </a:ln>
        </p:spPr>
      </p:pic>
      <p:sp>
        <p:nvSpPr>
          <p:cNvPr id="346" name="Нижний колонтитул 3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Станция «Загад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Содержимое 4" descr="7a0ad79e3da1ad6a420b7dbd534029de.gif"/>
          <p:cNvPicPr/>
          <p:nvPr/>
        </p:nvPicPr>
        <p:blipFill>
          <a:blip r:embed="rId1"/>
          <a:stretch/>
        </p:blipFill>
        <p:spPr>
          <a:xfrm>
            <a:off x="4857840" y="1143000"/>
            <a:ext cx="2057400" cy="1724040"/>
          </a:xfrm>
          <a:prstGeom prst="rect">
            <a:avLst/>
          </a:prstGeom>
          <a:ln w="0">
            <a:noFill/>
          </a:ln>
        </p:spPr>
      </p:pic>
      <p:sp>
        <p:nvSpPr>
          <p:cNvPr id="349" name="Нижний колонтитул 3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Рисунок 5" descr="11927213.gif"/>
          <p:cNvPicPr/>
          <p:nvPr/>
        </p:nvPicPr>
        <p:blipFill>
          <a:blip r:embed="rId2"/>
          <a:stretch/>
        </p:blipFill>
        <p:spPr>
          <a:xfrm>
            <a:off x="357120" y="428760"/>
            <a:ext cx="2400480" cy="281916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6" descr="adce1445ec42.gif"/>
          <p:cNvPicPr/>
          <p:nvPr/>
        </p:nvPicPr>
        <p:blipFill>
          <a:blip r:embed="rId3"/>
          <a:stretch/>
        </p:blipFill>
        <p:spPr>
          <a:xfrm>
            <a:off x="7286760" y="2428920"/>
            <a:ext cx="1380960" cy="189540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7" descr="orig.gif"/>
          <p:cNvPicPr/>
          <p:nvPr/>
        </p:nvPicPr>
        <p:blipFill>
          <a:blip r:embed="rId4"/>
          <a:stretch/>
        </p:blipFill>
        <p:spPr>
          <a:xfrm>
            <a:off x="2857680" y="1428840"/>
            <a:ext cx="1218960" cy="132372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8" descr="корова Gif (36).gif"/>
          <p:cNvPicPr/>
          <p:nvPr/>
        </p:nvPicPr>
        <p:blipFill>
          <a:blip r:embed="rId5"/>
          <a:stretch/>
        </p:blipFill>
        <p:spPr>
          <a:xfrm>
            <a:off x="3071880" y="3429000"/>
            <a:ext cx="19288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Станция «Чаепити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Содержимое 4" descr="hello_html_m13e03498.png"/>
          <p:cNvPicPr/>
          <p:nvPr/>
        </p:nvPicPr>
        <p:blipFill>
          <a:blip r:embed="rId1"/>
          <a:stretch/>
        </p:blipFill>
        <p:spPr>
          <a:xfrm>
            <a:off x="3286080" y="1200240"/>
            <a:ext cx="2571840" cy="3394080"/>
          </a:xfrm>
          <a:prstGeom prst="rect">
            <a:avLst/>
          </a:prstGeom>
          <a:ln w="0">
            <a:noFill/>
          </a:ln>
        </p:spPr>
      </p:pic>
      <p:sp>
        <p:nvSpPr>
          <p:cNvPr id="356" name="Нижний колонтитул 3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9" descr="C:\Users\Администратор\Desktop\семья поект\7ec2d732c0f6.gif"/>
          <p:cNvPicPr/>
          <p:nvPr/>
        </p:nvPicPr>
        <p:blipFill>
          <a:blip r:embed="rId2"/>
          <a:stretch/>
        </p:blipFill>
        <p:spPr>
          <a:xfrm>
            <a:off x="1357200" y="1357200"/>
            <a:ext cx="495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7T16:34:52Z</dcterms:created>
  <dc:creator>12345</dc:creator>
  <dc:description/>
  <dc:language>en-US</dc:language>
  <cp:lastModifiedBy>BEST</cp:lastModifiedBy>
  <dcterms:modified xsi:type="dcterms:W3CDTF">2019-03-05T07:33:52Z</dcterms:modified>
  <cp:revision>156</cp:revision>
  <dc:subject/>
  <dc:title>Слайд 1</dc:title>
</cp:coreProperties>
</file>