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58E-B56D-463C-8CEA-16FA8CF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B3A-9ECC-4A52-B91D-0FEF0A6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865-7C22-4012-9789-3226CEDA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658-CEA1-4D5B-8AAC-39B4367F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B97-EA8C-4156-93A8-5A60CFF1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C61-7020-4F53-819F-9C0C8360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32C-1956-454E-8E66-90C3399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829A-ADB3-4363-A9DD-1431E2A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641-59BD-4D8A-BA5E-6ABF2E0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8DD-0A6D-413F-8DF6-83EE243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C77-15BC-443D-8E48-712AA25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B2F-0366-4FB1-8967-AC8F2F7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66A-3B79-40C0-9121-17301CC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130-A858-449D-A08E-A18EFDE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293-9C73-4260-BC4C-B534B3F8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E92F-A490-498D-BE41-60DF837A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768-21F6-4D12-9938-2C8FCED1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803A-90A4-4005-976A-DD0CB950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913B-5FF5-4CFE-9BE8-709261B8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895C-2666-4947-BC38-02F527A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B6D8-9619-4EB4-8FD7-98579C5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4EDC-A355-48BE-8620-C49D7EE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8A3-EB92-4B95-8418-C7192B1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DE21-B268-4E09-890D-22C6144B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9585-7D24-4D3D-A133-5989C335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BD40-9AB9-4421-9B4E-DE630A4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0A83-7AAF-4EBA-9F86-682FCF8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FE28-BCF9-4ABB-9DD1-027E5964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C2DA-1108-48F1-A81B-2722A69D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8822-228C-478B-B0B6-A657A6B6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9426-5093-4370-9B44-AE0E434D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3C42-29ED-4CFF-9C48-DDEA24D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340E-D132-43AF-A263-2DBAD90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0E8-188B-49BB-BBC6-FE5FEFC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560F-6EDE-4C7B-B2A4-F8C0CBD2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66D2-55A6-4F8C-B98E-E268897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32E1-8B7E-47F1-839F-8F59F58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D450-045A-4159-A334-1ABE730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9A19-A463-43A6-A38C-9B519AC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8D9E-A293-4CF0-9025-D74E8AD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2E11-F49F-43FA-8710-51DD75F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4335-BBC4-4049-B466-2F6D1FC4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B905-2C26-4949-9102-123AF28B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CC4-1C93-4642-B958-8C76199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FB-2AEC-47C7-8792-1A78644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2DC-C06C-4434-A5DD-467268A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A6D-9995-4AE3-B5C1-12ACA2E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98F-7488-461B-953C-B2FA1F9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F1A-DFA8-4666-B013-9810DDDCC0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157D-8E69-4BD4-B2F5-118FDBF36E7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840-D152-4B0B-A85B-7B880385901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78B-C34E-4623-9881-64332CF55A1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МУНИЦИПАЛЬНОЕ БЮДЖЕТНОЕ ОБЩЕОБРАЗОВАТЕЛЬНОЕ УЧРЕЖДЕНИЕ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СРЕДНЯЯ ОБЩЕОБРАЗОВАТЕЛЬНАЯ ШКОЛА С. ПАНИНО ДОБРОВСКОГО РАЙОНА</a:t>
            </a:r>
            <a:endParaRPr b="0" lang="en-US" sz="1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547640" y="22766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00000" y="30686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Духовно – нравственное воспитание младших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81480" y="508464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икова Н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90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мках месячника по военно – патриотическому воспитанию – общешкольной конкурс чтецов «Я о России буду говорить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5320" y="777600"/>
            <a:ext cx="7915680" cy="838800"/>
          </a:xfrm>
          <a:prstGeom prst="rect">
            <a:avLst/>
          </a:prstGeom>
          <a:solidFill>
            <a:srgbClr val="ffff66">
              <a:alpha val="70000"/>
            </a:srgbClr>
          </a:solidFill>
          <a:ln w="31680">
            <a:solidFill>
              <a:srgbClr val="00ffcc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атриотическое воспитани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5292720" y="2349360"/>
            <a:ext cx="3456000" cy="3456000"/>
          </a:xfrm>
          <a:prstGeom prst="wedgeEllipseCallout">
            <a:avLst>
              <a:gd name="adj1" fmla="val -34013"/>
              <a:gd name="adj2" fmla="val 4499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Прошла война, прошла б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 боль взывает к люд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Давайте, люди, никогда об э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 ЗАБУДЕМ!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P1000436"/>
          <p:cNvPicPr/>
          <p:nvPr/>
        </p:nvPicPr>
        <p:blipFill>
          <a:blip r:embed="rId1"/>
          <a:stretch/>
        </p:blipFill>
        <p:spPr>
          <a:xfrm>
            <a:off x="1187280" y="3645000"/>
            <a:ext cx="3718080" cy="2657520"/>
          </a:xfrm>
          <a:prstGeom prst="rect">
            <a:avLst/>
          </a:prstGeom>
          <a:ln w="9360">
            <a:solidFill>
              <a:srgbClr val="00ff99"/>
            </a:solidFill>
            <a:miter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амках недели краеведения - посещение этнографического уголка в Панинской сельской библиоте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4040" y="663120"/>
            <a:ext cx="7855920" cy="997920"/>
          </a:xfrm>
          <a:prstGeom prst="rect">
            <a:avLst/>
          </a:prstGeom>
          <a:solidFill>
            <a:srgbClr val="ff0000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общение к культуре русского народ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54" name="Picture 5" descr="пати"/>
          <p:cNvPicPr/>
          <p:nvPr/>
        </p:nvPicPr>
        <p:blipFill>
          <a:blip r:embed="rId1"/>
          <a:stretch/>
        </p:blipFill>
        <p:spPr>
          <a:xfrm>
            <a:off x="5435640" y="3271680"/>
            <a:ext cx="2808360" cy="1836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255" name="Picture 7" descr="5"/>
          <p:cNvPicPr/>
          <p:nvPr/>
        </p:nvPicPr>
        <p:blipFill>
          <a:blip r:embed="rId2"/>
          <a:stretch/>
        </p:blipFill>
        <p:spPr>
          <a:xfrm>
            <a:off x="2268360" y="4581360"/>
            <a:ext cx="2911680" cy="192564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256" name="AutoShape 8"/>
          <p:cNvSpPr/>
          <p:nvPr/>
        </p:nvSpPr>
        <p:spPr>
          <a:xfrm>
            <a:off x="684360" y="3230640"/>
            <a:ext cx="3419280" cy="107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иблиотекарь Лыткина Е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сказывает о предм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льзования в ста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73200" y="765000"/>
            <a:ext cx="7797600" cy="1152360"/>
          </a:xfrm>
          <a:prstGeom prst="rect">
            <a:avLst/>
          </a:prstGeom>
          <a:solidFill>
            <a:srgbClr val="66ff66">
              <a:alpha val="50000"/>
            </a:srgbClr>
          </a:solidFill>
          <a:ln w="31680">
            <a:solidFill>
              <a:srgbClr val="ffff66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иобщение к православной культур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30258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тренник «Рождество и святочные дни», проведенный в храме Ильи Пророка в с. Пани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24000" y="2565360"/>
            <a:ext cx="296244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ас общения с протоиереем Олегом – настоятелем храма Ильи Пророка в с. Панино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6" descr="DSC09916"/>
          <p:cNvPicPr/>
          <p:nvPr/>
        </p:nvPicPr>
        <p:blipFill>
          <a:blip r:embed="rId1"/>
          <a:stretch/>
        </p:blipFill>
        <p:spPr>
          <a:xfrm>
            <a:off x="468360" y="4149720"/>
            <a:ext cx="2793960" cy="18399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261" name="Picture 7" descr="DSC07789"/>
          <p:cNvPicPr/>
          <p:nvPr/>
        </p:nvPicPr>
        <p:blipFill>
          <a:blip r:embed="rId2"/>
          <a:stretch/>
        </p:blipFill>
        <p:spPr>
          <a:xfrm>
            <a:off x="6227640" y="4365720"/>
            <a:ext cx="2303640" cy="22716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1911240" cy="24494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454644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амках недели «Театр и дети» - инсценированное представление по русским народным сказкам «На острове Буяне…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51160" y="560160"/>
            <a:ext cx="7917840" cy="831240"/>
          </a:xfrm>
          <a:prstGeom prst="rect">
            <a:avLst/>
          </a:pr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Эстетическое воспитани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4788000" y="2205000"/>
            <a:ext cx="3671640" cy="2087640"/>
          </a:xfrm>
          <a:prstGeom prst="cloudCallout">
            <a:avLst>
              <a:gd name="adj1" fmla="val 48745"/>
              <a:gd name="adj2" fmla="val -4962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Сказка – ложь, да в ней намек, добру молодцу – урок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P1030578"/>
          <p:cNvPicPr/>
          <p:nvPr/>
        </p:nvPicPr>
        <p:blipFill>
          <a:blip r:embed="rId1"/>
          <a:stretch/>
        </p:blipFill>
        <p:spPr>
          <a:xfrm>
            <a:off x="324000" y="3933720"/>
            <a:ext cx="2808000" cy="210672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  <p:pic>
        <p:nvPicPr>
          <p:cNvPr id="267" name="Picture 9" descr="P1030577"/>
          <p:cNvPicPr/>
          <p:nvPr/>
        </p:nvPicPr>
        <p:blipFill>
          <a:blip r:embed="rId2"/>
          <a:stretch/>
        </p:blipFill>
        <p:spPr>
          <a:xfrm>
            <a:off x="3419640" y="4365720"/>
            <a:ext cx="2889000" cy="216828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0f6f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6440" y="860400"/>
            <a:ext cx="8186040" cy="831240"/>
          </a:xfrm>
          <a:prstGeom prst="rect">
            <a:avLst/>
          </a:prstGeom>
          <a:solidFill>
            <a:srgbClr val="ff6699">
              <a:alpha val="50000"/>
            </a:srgbClr>
          </a:solidFill>
          <a:ln w="31680">
            <a:solidFill>
              <a:srgbClr val="00ff00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Экологическое воспитани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179280" y="2060640"/>
            <a:ext cx="3024360" cy="19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кскурсия в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Берег реки Ворон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940360" y="2060640"/>
            <a:ext cx="2987640" cy="19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кскурсия в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Не разоря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уравейни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3203640" y="4724280"/>
            <a:ext cx="2879640" cy="19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ездная экс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зоопарк-террари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Липец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P1020901"/>
          <p:cNvPicPr/>
          <p:nvPr/>
        </p:nvPicPr>
        <p:blipFill>
          <a:blip r:embed="rId1"/>
          <a:stretch/>
        </p:blipFill>
        <p:spPr>
          <a:xfrm>
            <a:off x="539640" y="4653000"/>
            <a:ext cx="2232000" cy="189072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  <p:pic>
        <p:nvPicPr>
          <p:cNvPr id="274" name="Picture 11" descr="P1020212"/>
          <p:cNvPicPr/>
          <p:nvPr/>
        </p:nvPicPr>
        <p:blipFill>
          <a:blip r:embed="rId2"/>
          <a:stretch/>
        </p:blipFill>
        <p:spPr>
          <a:xfrm>
            <a:off x="6300720" y="4508640"/>
            <a:ext cx="2590920" cy="194472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  <p:pic>
        <p:nvPicPr>
          <p:cNvPr id="275" name="Picture 12" descr="2012-12-16-1209"/>
          <p:cNvPicPr/>
          <p:nvPr/>
        </p:nvPicPr>
        <p:blipFill>
          <a:blip r:embed="rId3"/>
          <a:stretch/>
        </p:blipFill>
        <p:spPr>
          <a:xfrm>
            <a:off x="3348000" y="2205000"/>
            <a:ext cx="2522520" cy="189216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  <p:sp>
        <p:nvSpPr>
          <p:cNvPr id="276" name="AutoShape 14"/>
          <p:cNvSpPr/>
          <p:nvPr/>
        </p:nvSpPr>
        <p:spPr>
          <a:xfrm>
            <a:off x="1476360" y="4076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7380360" y="4076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>
            <a:off x="4500720" y="4221000"/>
            <a:ext cx="358560" cy="360360"/>
          </a:xfrm>
          <a:prstGeom prst="upArrow">
            <a:avLst>
              <a:gd name="adj1" fmla="val 50000"/>
              <a:gd name="adj2" fmla="val 25126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13080" y="860400"/>
            <a:ext cx="7917840" cy="831240"/>
          </a:xfrm>
          <a:prstGeom prst="rect">
            <a:avLst/>
          </a:pr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Georgia"/>
              </a:rPr>
              <a:t>Трудовое воспит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удовой десант по убор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ритории вокруг школ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бор шиповника для школьной столов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P1050480"/>
          <p:cNvPicPr/>
          <p:nvPr/>
        </p:nvPicPr>
        <p:blipFill>
          <a:blip r:embed="rId1"/>
          <a:stretch/>
        </p:blipFill>
        <p:spPr>
          <a:xfrm>
            <a:off x="4572000" y="3357720"/>
            <a:ext cx="2521080" cy="189072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283" name="Picture 7" descr="P1050491"/>
          <p:cNvPicPr/>
          <p:nvPr/>
        </p:nvPicPr>
        <p:blipFill>
          <a:blip r:embed="rId2"/>
          <a:stretch/>
        </p:blipFill>
        <p:spPr>
          <a:xfrm>
            <a:off x="6659640" y="4726080"/>
            <a:ext cx="2233440" cy="186192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sp>
        <p:nvSpPr>
          <p:cNvPr id="284" name="AutoShape 8"/>
          <p:cNvSpPr/>
          <p:nvPr/>
        </p:nvSpPr>
        <p:spPr>
          <a:xfrm>
            <a:off x="900000" y="1989000"/>
            <a:ext cx="741708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амках районной акции «Неделя молодежного служ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1020204"/>
          <p:cNvPicPr/>
          <p:nvPr/>
        </p:nvPicPr>
        <p:blipFill>
          <a:blip r:embed="rId3"/>
          <a:stretch/>
        </p:blipFill>
        <p:spPr>
          <a:xfrm>
            <a:off x="684360" y="3645000"/>
            <a:ext cx="3240000" cy="243036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64200" y="745200"/>
            <a:ext cx="7826040" cy="1047240"/>
          </a:xfrm>
          <a:prstGeom prst="rect">
            <a:avLst/>
          </a:prstGeom>
          <a:solidFill>
            <a:srgbClr val="00ffcc">
              <a:alpha val="50000"/>
            </a:srgbClr>
          </a:solidFill>
          <a:ln w="31680">
            <a:solidFill>
              <a:srgbClr val="ffff00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«Мы за здоровый образ жизни»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7" descr="P1000495"/>
          <p:cNvPicPr/>
          <p:nvPr/>
        </p:nvPicPr>
        <p:blipFill>
          <a:blip r:embed="rId1"/>
          <a:stretch/>
        </p:blipFill>
        <p:spPr>
          <a:xfrm>
            <a:off x="5364000" y="2205000"/>
            <a:ext cx="2953080" cy="2214720"/>
          </a:xfrm>
          <a:prstGeom prst="rect">
            <a:avLst/>
          </a:prstGeom>
          <a:ln w="25560">
            <a:solidFill>
              <a:srgbClr val="ffff66"/>
            </a:solidFill>
            <a:miter/>
          </a:ln>
        </p:spPr>
      </p:pic>
      <p:pic>
        <p:nvPicPr>
          <p:cNvPr id="290" name="Picture 8" descr="P1030723"/>
          <p:cNvPicPr/>
          <p:nvPr/>
        </p:nvPicPr>
        <p:blipFill>
          <a:blip r:embed="rId2"/>
          <a:stretch/>
        </p:blipFill>
        <p:spPr>
          <a:xfrm>
            <a:off x="468360" y="3284640"/>
            <a:ext cx="3527280" cy="2646360"/>
          </a:xfrm>
          <a:prstGeom prst="rect">
            <a:avLst/>
          </a:prstGeom>
          <a:ln w="25560">
            <a:solidFill>
              <a:srgbClr val="ffff99"/>
            </a:solidFill>
            <a:miter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3780000" y="2637000"/>
            <a:ext cx="1831680" cy="2519280"/>
          </a:xfrm>
          <a:prstGeom prst="rect">
            <a:avLst/>
          </a:prstGeom>
          <a:ln w="25560">
            <a:solidFill>
              <a:srgbClr val="00ffcc"/>
            </a:solidFill>
            <a:miter/>
          </a:ln>
        </p:spPr>
      </p:pic>
      <p:sp>
        <p:nvSpPr>
          <p:cNvPr id="292" name="AutoShape 10"/>
          <p:cNvSpPr/>
          <p:nvPr/>
        </p:nvSpPr>
        <p:spPr>
          <a:xfrm>
            <a:off x="5867280" y="4724280"/>
            <a:ext cx="2952720" cy="1366920"/>
          </a:xfrm>
          <a:prstGeom prst="cloudCallout">
            <a:avLst>
              <a:gd name="adj1" fmla="val -34032"/>
              <a:gd name="adj2" fmla="val -11086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имние 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826920" y="1989000"/>
            <a:ext cx="2592720" cy="1368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имние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б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900000" y="6093000"/>
            <a:ext cx="576108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В здоровом теле – здоровый ду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755640" y="1989000"/>
            <a:ext cx="784872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ccff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ктуальность проблемы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уховно-нравственного воспитания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амо по себе образование не гарантирует высокого уровня нравственной воспитан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0fd"/>
            </a:gs>
            <a:gs pos="50000">
              <a:srgbClr val="8cf4ef"/>
            </a:gs>
            <a:gs pos="100000">
              <a:srgbClr val="fcd0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7120" y="980640"/>
            <a:ext cx="82296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Цель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духовности и чувства сопричастности к истории Росс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отребности в здоровом образе жиз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культуры семейных отно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общечеловеческих норм гуманистической мора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уважения к правам каждой лич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чувства патриотизма, чести, достоинства и справедлив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экологической культуры учащихся в окружающей сред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оложительного отношения к труду и проблемам     экономическ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4" descr=""/>
          <p:cNvPicPr/>
          <p:nvPr/>
        </p:nvPicPr>
        <p:blipFill>
          <a:blip r:embed="rId1"/>
          <a:stretch/>
        </p:blipFill>
        <p:spPr>
          <a:xfrm>
            <a:off x="347760" y="1712880"/>
            <a:ext cx="8521560" cy="49323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>
            <a:off x="214200" y="214200"/>
            <a:ext cx="8713800" cy="1428840"/>
          </a:xfrm>
          <a:custGeom>
            <a:avLst/>
            <a:gdLst>
              <a:gd name="textAreaLeft" fmla="*/ 194760 w 8713800"/>
              <a:gd name="textAreaRight" fmla="*/ 8519040 w 8713800"/>
              <a:gd name="textAreaTop" fmla="*/ 194760 h 1428840"/>
              <a:gd name="textAreaBottom" fmla="*/ 1234080 h 1428840"/>
            </a:gdLst>
            <a:ahLst/>
            <a:rect l="textAreaLeft" t="textAreaTop" r="textAreaRight" b="textAreaBottom"/>
            <a:pathLst>
              <a:path w="131700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7535" y="21600"/>
                </a:lnTo>
                <a:arcTo wR="4165" hR="4165" stAng="10800000" swAng="5400000"/>
                <a:lnTo>
                  <a:pt x="131700" y="4165"/>
                </a:lnTo>
                <a:arcTo wR="4165" hR="4165" stAng="5400000" swAng="5400000"/>
                <a:close/>
              </a:path>
            </a:pathLst>
          </a:custGeom>
          <a:solidFill>
            <a:srgbClr val="0000ff">
              <a:alpha val="50000"/>
            </a:srgbClr>
          </a:solidFill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50920" y="115920"/>
            <a:ext cx="87138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Georgia"/>
              </a:rPr>
              <a:t>Основные принципы организации духовно-нравственного развития и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dfd0"/>
            </a:gs>
            <a:gs pos="100000">
              <a:srgbClr val="0f7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4"/>
          <p:cNvSpPr/>
          <p:nvPr/>
        </p:nvSpPr>
        <p:spPr>
          <a:xfrm>
            <a:off x="2340000" y="189000"/>
            <a:ext cx="1873080" cy="1511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атрио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2916360" y="2924280"/>
            <a:ext cx="1800000" cy="151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олид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250920" y="620640"/>
            <a:ext cx="2449440" cy="18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раждан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24000" y="2205000"/>
            <a:ext cx="1873080" cy="1511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755640" y="4508640"/>
            <a:ext cx="1873440" cy="151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ру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042920" y="3068640"/>
            <a:ext cx="1873440" cy="1511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268360" y="5013360"/>
            <a:ext cx="1873440" cy="1511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ли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4067280" y="4653000"/>
            <a:ext cx="187308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скусств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5724360" y="3860640"/>
            <a:ext cx="1873440" cy="1511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6804000" y="5157720"/>
            <a:ext cx="1873440" cy="15112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5364000" y="1268280"/>
            <a:ext cx="2664000" cy="1729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рав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цен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 flipV="1">
            <a:off x="4140000" y="1197000"/>
            <a:ext cx="122364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H="1" flipV="1">
            <a:off x="2627280" y="1916280"/>
            <a:ext cx="2736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 flipH="1">
            <a:off x="2050560" y="2276640"/>
            <a:ext cx="331308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7308720" y="2997360"/>
            <a:ext cx="648000" cy="21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 flipH="1">
            <a:off x="3635280" y="2997360"/>
            <a:ext cx="2376720" cy="20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5292360" y="2997360"/>
            <a:ext cx="93492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H="1">
            <a:off x="2484000" y="2637000"/>
            <a:ext cx="287964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4500360" y="2924280"/>
            <a:ext cx="93492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2484360" y="3068640"/>
            <a:ext cx="3022560" cy="18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Georgia"/>
              </a:rPr>
              <a:t>Программа 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Georgia"/>
              </a:rPr>
              <a:t>«Новое поколение»</a:t>
            </a: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а школа работает п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е «Новое поко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. Приоритетным смысловым стержнем программы является воспитание духовно-нравственного развития ребенка, т.е. формирование у него качеств, отвечающих представлениям об истинной человечности, о доброте и культурной полноценности в восприятии мира. Культуросозидающая роль программы состоит также в воспитании гражданственности и патриотизм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ыми задачами программы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статуса воспитания в школьном образовательном процес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в ребёнке активной жизненной позиции, воспитание гражданственности, любви к Отечеству, семье, окружающему ми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реализации  и самораскрыт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buClr>
                <a:srgbClr val="ff66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включение семьи в процесс формирования личности; стремление понизить негативное влияние социум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4200" y="214200"/>
            <a:ext cx="8750520" cy="1414440"/>
          </a:xfrm>
          <a:custGeom>
            <a:avLst/>
            <a:gdLst>
              <a:gd name="textAreaLeft" fmla="*/ 192600 w 8750520"/>
              <a:gd name="textAreaRight" fmla="*/ 8557920 w 8750520"/>
              <a:gd name="textAreaTop" fmla="*/ 192600 h 1414440"/>
              <a:gd name="textAreaBottom" fmla="*/ 1221840 h 1414440"/>
            </a:gdLst>
            <a:ahLst/>
            <a:rect l="textAreaLeft" t="textAreaTop" r="textAreaRight" b="textAreaBottom"/>
            <a:pathLst>
              <a:path w="133601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9436" y="21600"/>
                </a:lnTo>
                <a:arcTo wR="4165" hR="4165" stAng="10800000" swAng="5400000"/>
                <a:lnTo>
                  <a:pt x="133601" y="4165"/>
                </a:lnTo>
                <a:arcTo wR="4165" hR="4165" stAng="5400000" swAng="5400000"/>
                <a:close/>
              </a:path>
            </a:pathLst>
          </a:custGeom>
          <a:solidFill>
            <a:srgbClr val="cc99ff">
              <a:alpha val="29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ализация программы невозможна без постоянного взаимодействия с родителями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 flipV="1" rot="10800000">
            <a:off x="213840" y="548280"/>
            <a:ext cx="8713800" cy="1366920"/>
          </a:xfrm>
          <a:custGeom>
            <a:avLst/>
            <a:gdLst>
              <a:gd name="textAreaLeft" fmla="*/ 186120 w 8713800"/>
              <a:gd name="textAreaRight" fmla="*/ 8527680 w 8713800"/>
              <a:gd name="textAreaTop" fmla="*/ 186120 h 1366920"/>
              <a:gd name="textAreaBottom" fmla="*/ 1180800 h 1366920"/>
            </a:gdLst>
            <a:ahLst/>
            <a:rect l="textAreaLeft" t="textAreaTop" r="textAreaRight" b="textAreaBottom"/>
            <a:pathLst>
              <a:path w="137664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33499" y="21600"/>
                </a:lnTo>
                <a:arcTo wR="4165" hR="4165" stAng="10800000" swAng="5400000"/>
                <a:lnTo>
                  <a:pt x="137664" y="4165"/>
                </a:lnTo>
                <a:arcTo wR="4165" hR="4165" stAng="5400000" swAng="5400000"/>
                <a:close/>
              </a:path>
            </a:pathLst>
          </a:custGeom>
          <a:solidFill>
            <a:srgbClr val="ff66ff">
              <a:alpha val="50000"/>
            </a:srgbClr>
          </a:solid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ля реализации программы «Новое поколе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иболее эффективными фор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спитательной работы выступ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0" y="2205000"/>
            <a:ext cx="3097080" cy="136836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азвлека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84360" y="3500280"/>
            <a:ext cx="2016000" cy="136872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ходы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экскур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2771640" y="2133720"/>
            <a:ext cx="2880000" cy="201600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нтера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нтеллекту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5508720" y="2205000"/>
            <a:ext cx="2663640" cy="136836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пор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оман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гры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оревн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1224000" y="3716280"/>
            <a:ext cx="7920000" cy="237672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оянное взаимодейств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ультурно - досуговым цент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тской музыкальной школ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иблиотеками, спортивной школ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мом 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7054920" y="3284640"/>
            <a:ext cx="2089080" cy="1368360"/>
          </a:xfrm>
          <a:prstGeom prst="diamond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стреч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нтерес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люд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1834920" y="1989000"/>
            <a:ext cx="21564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 flipH="1">
            <a:off x="2195640" y="1989000"/>
            <a:ext cx="576000" cy="18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4211640" y="1916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5435640" y="1916280"/>
            <a:ext cx="288720" cy="19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6156360" y="1916280"/>
            <a:ext cx="21600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7308720" y="1916280"/>
            <a:ext cx="79236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муниципальном уровне – праздник «Чтобы радость людям дарить, надо добрым и вежливым быт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33960" y="725760"/>
            <a:ext cx="7876080" cy="945000"/>
          </a:xfrm>
          <a:prstGeom prst="rect">
            <a:avLst/>
          </a:prstGeom>
          <a:solidFill>
            <a:srgbClr val="00ff99">
              <a:alpha val="50000"/>
            </a:srgbClr>
          </a:solidFill>
          <a:ln w="31680">
            <a:solidFill>
              <a:srgbClr val="ff9900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равственно - эстетическое воспитани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9" name="Picture 5" descr="SDC10942"/>
          <p:cNvPicPr/>
          <p:nvPr/>
        </p:nvPicPr>
        <p:blipFill>
          <a:blip r:embed="rId2"/>
          <a:stretch/>
        </p:blipFill>
        <p:spPr>
          <a:xfrm>
            <a:off x="687240" y="2997360"/>
            <a:ext cx="2952720" cy="221436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sp>
        <p:nvSpPr>
          <p:cNvPr id="240" name="AutoShape 6"/>
          <p:cNvSpPr/>
          <p:nvPr/>
        </p:nvSpPr>
        <p:spPr>
          <a:xfrm>
            <a:off x="3995640" y="2997360"/>
            <a:ext cx="4753080" cy="3166920"/>
          </a:xfrm>
          <a:prstGeom prst="octagon">
            <a:avLst>
              <a:gd name="adj" fmla="val 2928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 стой в стороне равнодуш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гда у кого – то 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вануться на выручку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любую минуту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если кому – то, кому - то по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воя Доброта, улыбка тво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ы счастлив, что день не напр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ыл про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 годы живешь ты не з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2152800" y="5165640"/>
            <a:ext cx="237636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астие в районной акции по безопасности дорожного движения «Правила дорожные выучить несложно нам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4040" y="663120"/>
            <a:ext cx="7855920" cy="997920"/>
          </a:xfrm>
          <a:prstGeom prst="rect">
            <a:avLst/>
          </a:prstGeom>
          <a:solidFill>
            <a:srgbClr val="00ccff">
              <a:alpha val="50000"/>
            </a:srgbClr>
          </a:solidFill>
          <a:ln w="31680">
            <a:solidFill>
              <a:srgbClr val="ffff00"/>
            </a:solidFill>
            <a:miter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равственно – правовое воспитани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4" name="Picture 5" descr="SDC10105"/>
          <p:cNvPicPr/>
          <p:nvPr/>
        </p:nvPicPr>
        <p:blipFill>
          <a:blip r:embed="rId1"/>
          <a:stretch/>
        </p:blipFill>
        <p:spPr>
          <a:xfrm>
            <a:off x="1042920" y="3284640"/>
            <a:ext cx="2303640" cy="1726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45" name="Picture 6" descr="SDC10108"/>
          <p:cNvPicPr/>
          <p:nvPr/>
        </p:nvPicPr>
        <p:blipFill>
          <a:blip r:embed="rId2"/>
          <a:stretch/>
        </p:blipFill>
        <p:spPr>
          <a:xfrm>
            <a:off x="5940360" y="4149720"/>
            <a:ext cx="2735280" cy="2050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46" name="Picture 7" descr=""/>
          <p:cNvPicPr/>
          <p:nvPr/>
        </p:nvPicPr>
        <p:blipFill>
          <a:blip r:embed="rId3"/>
          <a:stretch/>
        </p:blipFill>
        <p:spPr>
          <a:xfrm>
            <a:off x="3708360" y="2924280"/>
            <a:ext cx="2102040" cy="28796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900000" y="508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ручение зна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ше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7:26:03Z</dcterms:created>
  <dc:creator>Лена</dc:creator>
  <dc:description/>
  <dc:language>en-US</dc:language>
  <cp:lastModifiedBy>USER</cp:lastModifiedBy>
  <dcterms:modified xsi:type="dcterms:W3CDTF">2014-11-23T16:51:43Z</dcterms:modified>
  <cp:revision>110</cp:revision>
  <dc:subject/>
  <dc:title>Реферат по географии</dc:title>
</cp:coreProperties>
</file>