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949FD-6DD5-418C-9DB4-DA7E61693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CB4E2-8133-46C2-8A4D-E1656F57C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C6FA3-13BB-4367-B8AA-1F73A0FE4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4F57-43B1-4BA8-B4BD-3026AEF02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08A7-1A5D-4AE8-8D93-994763E4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E402-AD36-4F17-928B-8E3150D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2B84-73D9-4564-ADF1-547370E69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A9396-43D5-4168-A388-3939C60BE6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8F531-812E-4F93-BEE6-575EFA00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CE871-DE2E-48EE-86AC-7D95D18A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584CF-6B50-4398-BA85-0C674F6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DC502-B11B-4EDE-A789-F89DA4B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311F2-DA10-407B-B1B0-9C0F0AD4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1A4DD-E044-4DB2-B9BF-9AEC5CD2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7F9B-D071-4250-B8AC-4B4F095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BBD18-6478-4A2E-87F9-C8F23563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B4F98-200C-46B8-979B-274EC793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CB2F8-7C08-47E1-9A9F-122EF46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C0813-8238-468E-A5CF-554C1DC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ADA0E-7242-4372-9F56-0A202B7D0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D27B-46A0-4F69-9DDA-89D904694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6583-0892-4423-8CB8-65E69984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A56C-396E-4C34-A9BD-5F2C912C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6A4E-B5DB-442E-BAD0-7B7887C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E67C-BB2C-4567-ABD1-9F221424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4B12-D399-422F-BD7E-29E6D4A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52EE-B906-442F-82BF-A3F2E5AC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FD24-9B4F-40B2-B387-2BCA440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4ABB-4D33-489C-9F31-6629A50B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139A-DFD4-43A6-B02C-FCB77C3B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C98E-8543-498D-A5BC-C986D28A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730A-16D8-49FD-B172-C18D4321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148D-16AC-490D-96CD-2366ED321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469B-471A-426B-9F99-E626DCD7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0F5B-D6C0-4680-BA88-7E4308E7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D378-5F18-4597-940C-72695457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1680-D636-4713-80F3-0DB52A47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A4C3-99F1-41DC-8698-48D2A37D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9CF0-46BF-4C90-8198-CBDF11E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9212E-804B-41D7-9F98-406B5A82493A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292B2-D92A-4D0F-ABE6-F621C0542E8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B4A0C-E5A3-4DFB-9841-5591D8A1394E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B9D6D-092B-4BBE-A65D-89F7F202793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F06EC-E0C2-4EF3-A9E3-005F53D924DF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09FCA-370E-4D5E-A9FF-1FB8B547CDE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511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в группе компенсирующей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направленности №1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«Речецвет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-171360"/>
            <a:ext cx="341964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альне у нас имеется спортивны уголок, атрибуты для подвижн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каждый день в спальне мы проводим утренний круг, имеется зона театрализации, где имеются маски, костюмы. Так же в спальне имеется уголок у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4" descr=""/>
          <p:cNvPicPr/>
          <p:nvPr/>
        </p:nvPicPr>
        <p:blipFill>
          <a:blip r:embed="rId1"/>
          <a:stretch/>
        </p:blipFill>
        <p:spPr>
          <a:xfrm>
            <a:off x="6229440" y="1380960"/>
            <a:ext cx="3679560" cy="49071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"/>
          <p:cNvPicPr/>
          <p:nvPr/>
        </p:nvPicPr>
        <p:blipFill>
          <a:blip r:embed="rId2"/>
          <a:stretch/>
        </p:blipFill>
        <p:spPr>
          <a:xfrm>
            <a:off x="3419640" y="1413000"/>
            <a:ext cx="2895480" cy="4965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"/>
          <p:cNvPicPr/>
          <p:nvPr/>
        </p:nvPicPr>
        <p:blipFill>
          <a:blip r:embed="rId3"/>
          <a:stretch/>
        </p:blipFill>
        <p:spPr>
          <a:xfrm>
            <a:off x="6480" y="3500280"/>
            <a:ext cx="3592440" cy="36165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7"/>
          <p:cNvSpPr/>
          <p:nvPr/>
        </p:nvSpPr>
        <p:spPr>
          <a:xfrm>
            <a:off x="684360" y="117360"/>
            <a:ext cx="8135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но-развивающая среда спортивного уголка и спаль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туал создания сказо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Объект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432240" cy="3711600"/>
          </a:xfrm>
          <a:prstGeom prst="rect">
            <a:avLst/>
          </a:prstGeom>
          <a:ln w="0">
            <a:noFill/>
          </a:ln>
        </p:spPr>
      </p:pic>
      <p:sp>
        <p:nvSpPr>
          <p:cNvPr id="170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3D2FE-21C0-438A-8908-629E90286F28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F:\с.ю\IMG_5563.JPG"/>
          <p:cNvPicPr/>
          <p:nvPr/>
        </p:nvPicPr>
        <p:blipFill>
          <a:blip r:embed="rId2"/>
          <a:stretch/>
        </p:blipFill>
        <p:spPr>
          <a:xfrm>
            <a:off x="3708360" y="1268280"/>
            <a:ext cx="53402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E0D16-4E10-4769-ACDB-0CDA0839CC16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99096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662360" y="115920"/>
            <a:ext cx="4481640" cy="316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-396720" y="3429000"/>
            <a:ext cx="4713120" cy="3182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4"/>
          <a:stretch/>
        </p:blipFill>
        <p:spPr>
          <a:xfrm>
            <a:off x="4684680" y="3429000"/>
            <a:ext cx="42004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-343080"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6F2BC-27E9-43D8-AF39-B4740AD918E1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о — эстетическое развит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находится материал и оборудование для художественно-творческой деятельности: рисования, лепки и аппликации. По желанию ребенок может найти и воспользоваться необходимым, для воплощения своих творческих идей, замыслов, фантазии. К данному центру имеется свободный дост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0" y="2276640"/>
            <a:ext cx="4776840" cy="3582720"/>
          </a:xfrm>
          <a:prstGeom prst="rect">
            <a:avLst/>
          </a:prstGeom>
          <a:ln w="0">
            <a:noFill/>
          </a:ln>
        </p:spPr>
      </p:pic>
      <p:pic>
        <p:nvPicPr>
          <p:cNvPr id="134" name="Объект 8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центре   играет существенную роль в формировании у детей интереса и любви к художественной литератур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в нашей группе имеется логопедический уголо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29080" cy="4353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919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: Познавательное развити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опытно-экспериментальной деятельности.  В нем находится материал, для осуществления опытной деятельности:  лупы, колбы, мерные стаканчики, воронки, грунт, семена, крупы и т.д. Так же имеется календарь погоды и дневник наблюдения за рассадой.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Объект 4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"/>
          <p:cNvPicPr/>
          <p:nvPr/>
        </p:nvPicPr>
        <p:blipFill>
          <a:blip r:embed="rId3"/>
          <a:stretch/>
        </p:blipFill>
        <p:spPr>
          <a:xfrm>
            <a:off x="420840" y="4292640"/>
            <a:ext cx="3693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70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троительный» (конструктивный) цент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материал (конструктор различного вида, крупный и мелкий конструктор) можно перемещаться в любое место группы и организовывать дан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Объект 2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975120" cy="3813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4092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-171720"/>
            <a:ext cx="8217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тр «Дидактических игр и мелкой моторики»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5" descr=""/>
          <p:cNvPicPr/>
          <p:nvPr/>
        </p:nvPicPr>
        <p:blipFill>
          <a:blip r:embed="rId1"/>
          <a:stretch/>
        </p:blipFill>
        <p:spPr>
          <a:xfrm>
            <a:off x="4971960" y="3357720"/>
            <a:ext cx="3975120" cy="2981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"/>
          <p:cNvPicPr/>
          <p:nvPr/>
        </p:nvPicPr>
        <p:blipFill>
          <a:blip r:embed="rId2"/>
          <a:stretch/>
        </p:blipFill>
        <p:spPr>
          <a:xfrm>
            <a:off x="28440" y="1989000"/>
            <a:ext cx="4764240" cy="35737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"/>
          <p:cNvPicPr/>
          <p:nvPr/>
        </p:nvPicPr>
        <p:blipFill>
          <a:blip r:embed="rId3"/>
          <a:stretch/>
        </p:blipFill>
        <p:spPr>
          <a:xfrm>
            <a:off x="4910040" y="1141560"/>
            <a:ext cx="4023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: Социально-личностное развити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бодном доступе для детей находятся атрибуты для зарождающихся в этом возрасте сюжетно- ролевых игр. Игра - основной вид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0320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ем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9280" y="2204640"/>
            <a:ext cx="3826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82000"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льниц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2" descr=""/>
          <p:cNvPicPr/>
          <p:nvPr/>
        </p:nvPicPr>
        <p:blipFill>
          <a:blip r:embed="rId1"/>
          <a:stretch/>
        </p:blipFill>
        <p:spPr>
          <a:xfrm>
            <a:off x="4700520" y="295596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53" name="Объект 4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4041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Объект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40280" cy="3527280"/>
          </a:xfrm>
          <a:prstGeom prst="rect">
            <a:avLst/>
          </a:prstGeom>
          <a:ln w="0">
            <a:noFill/>
          </a:ln>
        </p:spPr>
      </p:pic>
      <p:pic>
        <p:nvPicPr>
          <p:cNvPr id="155" name="Объект 6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4042080" cy="3030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19280" y="1699920"/>
            <a:ext cx="38163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еатрализац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880" y="47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Центр ПД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042080" cy="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23000"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ой край родной –Яма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Объект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681360" cy="4908600"/>
          </a:xfrm>
          <a:prstGeom prst="rect">
            <a:avLst/>
          </a:prstGeom>
          <a:ln w="0">
            <a:noFill/>
          </a:ln>
        </p:spPr>
      </p:pic>
      <p:pic>
        <p:nvPicPr>
          <p:cNvPr id="160" name="Объект 4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670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alexandr_konev57@outlook.com</cp:lastModifiedBy>
  <dcterms:modified xsi:type="dcterms:W3CDTF">2019-10-19T10:46:14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