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6074-0566-4D84-9F00-D280C03591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0AB4-C808-4E3C-B9C2-6403B7087EF2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902-E179-486A-B9E7-1DC9685B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0F0-D54D-425C-ACAD-D21A2334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02D-28C9-4827-882A-2C2EE879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971-8354-4695-8ABD-7357BF90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21B5-0D3C-4DBB-A3FF-DC58A435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BB1-6B04-4B01-8C26-6FF9F0EE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19B-C0CA-42E7-8CA5-476477AB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248-630D-417C-9027-D51919E4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70C2-3AA8-4FDD-9D95-979B62EF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554-33D0-4D26-8572-9861C09F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7508-0B2D-4F75-ACC2-0C6C9F11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286-4AB3-4A3A-986B-4B2CDAA2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59B7-D4A9-4940-B021-7BAFFEC9F7A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97F8-7756-4223-B277-80BAFB178BD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714840" y="5715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4000680" y="6000840"/>
            <a:ext cx="409320" cy="285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504036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600" spc="-1" strike="noStrike">
                <a:solidFill>
                  <a:srgbClr val="2115b7"/>
                </a:solidFill>
                <a:latin typeface="Calibri"/>
              </a:rPr>
              <a:t>Отчет о проведении летней оздоровительной работы </a:t>
            </a:r>
            <a:br>
              <a:rPr sz="4000"/>
            </a:br>
            <a:r>
              <a:rPr b="1" lang="ru-RU" sz="2400" spc="-1" strike="noStrike">
                <a:solidFill>
                  <a:srgbClr val="2115b7"/>
                </a:solidFill>
                <a:latin typeface="Times New Roman"/>
                <a:ea typeface="Times New Roman"/>
              </a:rPr>
              <a:t>Подготовительная группа «А»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3492360" y="4797360"/>
            <a:ext cx="5256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дготовили воспитатели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Моисеева Елена Михайловна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ватеева Татьяна Викторовна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Работа с родителями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3C5A-806E-40BF-9E5C-43C40713B05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CA21-E653-449C-BB40-0570DA319A13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971640" y="523080"/>
            <a:ext cx="7129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15b7"/>
                </a:solidFill>
                <a:latin typeface="Times New Roman"/>
                <a:ea typeface="Calibri"/>
              </a:rPr>
              <a:t>Силами родителей было приобретено игровое выносное оборудование(мячи, кегли, наборы для игр с песком и воды) и была подготовлена летняя площадка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15b7"/>
                </a:solidFill>
                <a:latin typeface="Times New Roman"/>
                <a:ea typeface="Calibri"/>
              </a:rPr>
              <a:t>Родители принимали активное участие по благоустройству территории детского сада, групповой комнаты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15b7"/>
                </a:solidFill>
                <a:latin typeface="Times New Roman"/>
                <a:ea typeface="Calibri"/>
              </a:rPr>
              <a:t>Для родителей была оформлена наглядная агитация, памятки, консультации т.д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15b7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3" name="Рисунок 6" descr="IMG_20160820_093747.JPG"/>
          <p:cNvPicPr/>
          <p:nvPr/>
        </p:nvPicPr>
        <p:blipFill>
          <a:blip r:embed="rId1"/>
          <a:srcRect l="0" t="0" r="6981" b="0"/>
          <a:stretch/>
        </p:blipFill>
        <p:spPr>
          <a:xfrm>
            <a:off x="5435640" y="3141720"/>
            <a:ext cx="2592360" cy="17272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7" descr="IMG_20160818_172651.jpg"/>
          <p:cNvPicPr/>
          <p:nvPr/>
        </p:nvPicPr>
        <p:blipFill>
          <a:blip r:embed="rId2"/>
          <a:srcRect l="0" t="20694" r="7324" b="0"/>
          <a:stretch/>
        </p:blipFill>
        <p:spPr>
          <a:xfrm>
            <a:off x="1547640" y="3213000"/>
            <a:ext cx="2519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17AB-64AC-42C9-A5D0-C0E72151E310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6D3D-C251-4990-9BFA-441D920BE03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15b7"/>
                </a:solidFill>
                <a:latin typeface="Times New Roman"/>
                <a:ea typeface="Times New Roman"/>
              </a:rPr>
              <a:t>Травм или несчастных случаев с воспитанниками не было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2115b7"/>
                </a:solidFill>
                <a:latin typeface="Times New Roman"/>
                <a:ea typeface="Times New Roman"/>
              </a:rPr>
              <a:t>   Посещаемость составила:   250    дня, что составляет 16.5 %.</a:t>
            </a:r>
            <a:br>
              <a:rPr sz="2800"/>
            </a:br>
            <a:r>
              <a:rPr b="1" lang="ru-RU" sz="2800" spc="-1" strike="noStrike">
                <a:solidFill>
                  <a:srgbClr val="2115b7"/>
                </a:solidFill>
                <a:latin typeface="Times New Roman"/>
                <a:ea typeface="Times New Roman"/>
              </a:rPr>
              <a:t>Заболеваемость: нет</a:t>
            </a:r>
            <a:br>
              <a:rPr sz="2800"/>
            </a:br>
            <a:r>
              <a:rPr b="1" lang="ru-RU" sz="2800" spc="-1" strike="noStrike">
                <a:solidFill>
                  <a:srgbClr val="2115b7"/>
                </a:solidFill>
                <a:latin typeface="Times New Roman"/>
                <a:ea typeface="Times New Roman"/>
              </a:rPr>
              <a:t>     </a:t>
            </a:r>
            <a:br>
              <a:rPr sz="2800"/>
            </a:br>
            <a:r>
              <a:rPr b="1" lang="ru-RU" sz="2800" spc="-1" strike="noStrike">
                <a:solidFill>
                  <a:srgbClr val="2115b7"/>
                </a:solidFill>
                <a:latin typeface="Times New Roman"/>
                <a:ea typeface="Times New Roman"/>
              </a:rPr>
              <a:t>Отпуск составил:      дней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2115b7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D52D-56EF-4551-AC88-280D95EABE8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0" y="0"/>
            <a:ext cx="9396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2" name="Picture 2" descr="C:\Users\Админ\Desktop\anaokulu_1.jpg"/>
          <p:cNvPicPr/>
          <p:nvPr/>
        </p:nvPicPr>
        <p:blipFill>
          <a:blip r:embed="rId1"/>
          <a:stretch/>
        </p:blipFill>
        <p:spPr>
          <a:xfrm>
            <a:off x="1187280" y="765000"/>
            <a:ext cx="6743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Цели и задачи ЛОК: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15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15b7"/>
                </a:solidFill>
                <a:latin typeface="Times New Roman"/>
                <a:ea typeface="Times New Roman"/>
              </a:rPr>
              <a:t>сохранение и укрепление физического и психического здоровья воспитанников в летний период с учётом их индивидуальных особенностей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15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15b7"/>
                </a:solidFill>
                <a:latin typeface="Times New Roman"/>
                <a:ea typeface="Times New Roman"/>
              </a:rPr>
              <a:t>удовлетворение потребностей растущего организма в  летнем отдыхе, творческой деятельности и движении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CC8F-A0AA-42C5-9E71-374730EF547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61DB-8A15-4594-BD64-7996FD20A77F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Calibri"/>
              </a:rPr>
              <a:t>При подготовке к ЛОК </a:t>
            </a:r>
            <a:br>
              <a:rPr sz="2800"/>
            </a:br>
            <a:r>
              <a:rPr b="1" lang="ru-RU" sz="2800" spc="-1" strike="noStrike">
                <a:solidFill>
                  <a:srgbClr val="cc0099"/>
                </a:solidFill>
                <a:latin typeface="Calibri"/>
              </a:rPr>
              <a:t>в группе были проведены соответствующие</a:t>
            </a:r>
            <a:br>
              <a:rPr sz="2800"/>
            </a:br>
            <a:r>
              <a:rPr b="1" lang="ru-RU" sz="2800" spc="-1" strike="noStrike">
                <a:solidFill>
                  <a:srgbClr val="cc0099"/>
                </a:solidFill>
                <a:latin typeface="Calibri"/>
              </a:rPr>
              <a:t>подготовительные мероприятия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2115b7"/>
                </a:solidFill>
                <a:latin typeface="Calibri"/>
              </a:rPr>
              <a:t>  -</a:t>
            </a:r>
            <a:r>
              <a:rPr b="1" lang="en-US" sz="2000" spc="-1" strike="noStrike">
                <a:solidFill>
                  <a:srgbClr val="2115b7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115b7"/>
                </a:solidFill>
                <a:latin typeface="Calibri"/>
              </a:rPr>
              <a:t>составлен  режим дня групп с учетом теплого времени года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2115b7"/>
                </a:solidFill>
                <a:latin typeface="Calibri"/>
              </a:rPr>
              <a:t>-</a:t>
            </a:r>
            <a:r>
              <a:rPr b="1" lang="en-US" sz="2000" spc="-1" strike="noStrike">
                <a:solidFill>
                  <a:srgbClr val="2115b7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115b7"/>
                </a:solidFill>
                <a:latin typeface="Calibri"/>
              </a:rPr>
              <a:t>пересмотрено комплексно- тематическое планирование, тематические  недели были отображены в календарном плане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2115b7"/>
                </a:solidFill>
                <a:latin typeface="Calibri"/>
              </a:rPr>
              <a:t>-разработана система физкультурно-оздоровительных и закаливающих мероприятий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2115b7"/>
                </a:solidFill>
                <a:latin typeface="Calibri"/>
              </a:rPr>
              <a:t> -составлен цикл бесед для родителей « Как обезопасить свою жизнь»,</a:t>
            </a:r>
            <a:br>
              <a:rPr sz="2000"/>
            </a:br>
            <a:r>
              <a:rPr b="1" lang="ru-RU" sz="2000" spc="-1" strike="noStrike">
                <a:solidFill>
                  <a:srgbClr val="2115b7"/>
                </a:solidFill>
                <a:latin typeface="Calibri"/>
              </a:rPr>
              <a:t>«В здоровом теле – здоровый дух!»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16D7-300B-4EB1-8AEB-EF2FAA94505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BF53-EF1C-440C-BACD-65E6E907AEB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800" y="2916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1258920" y="549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900000" y="62064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1042920" y="155736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1116000" y="32112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15b7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2115b7"/>
                </a:solidFill>
                <a:latin typeface="Times New Roman"/>
                <a:ea typeface="Calibri"/>
              </a:rPr>
              <a:t>Воспитательно - образовательная деятельность планировалась, согласна сетки НОД на летний период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15b7"/>
                </a:solidFill>
                <a:latin typeface="Times New Roman"/>
                <a:ea typeface="Calibri"/>
              </a:rPr>
              <a:t>Для достижения оздоровительного эффекта режимом дня предусматривалось максимально возможное пребывание детей на открытом воздухе, соответствующая возрасту продолжительность сна и других видов отдыха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7" name="Рисунок 8" descr="IMG_20160718_101345.jpg"/>
          <p:cNvPicPr/>
          <p:nvPr/>
        </p:nvPicPr>
        <p:blipFill>
          <a:blip r:embed="rId1"/>
          <a:srcRect l="0" t="5000" r="20881" b="0"/>
          <a:stretch/>
        </p:blipFill>
        <p:spPr>
          <a:xfrm>
            <a:off x="5940360" y="4149720"/>
            <a:ext cx="2664000" cy="19432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0" descr="C:\Users\1\AppData\Local\Microsoft\Windows\INetCache\Content.Word\IMG-20190627-WA0005.jpg"/>
          <p:cNvPicPr/>
          <p:nvPr/>
        </p:nvPicPr>
        <p:blipFill>
          <a:blip r:embed="rId2"/>
          <a:stretch/>
        </p:blipFill>
        <p:spPr>
          <a:xfrm>
            <a:off x="2556000" y="4221000"/>
            <a:ext cx="2781000" cy="19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1640" y="1413000"/>
            <a:ext cx="6553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15b7"/>
                </a:solidFill>
                <a:latin typeface="Times New Roman"/>
                <a:ea typeface="Times New Roman"/>
              </a:rPr>
              <a:t>Физкультурно-оздоровительная работа осуществлялась через проведение</a:t>
            </a:r>
            <a:br>
              <a:rPr sz="2400"/>
            </a:br>
            <a:r>
              <a:rPr b="1" lang="ru-RU" sz="2400" spc="-1" strike="noStrike">
                <a:solidFill>
                  <a:srgbClr val="2115b7"/>
                </a:solidFill>
                <a:latin typeface="Times New Roman"/>
                <a:ea typeface="Times New Roman"/>
              </a:rPr>
              <a:t>световоздушных и солнечных ванн, игр с водой, обширного умывания, обливания ног, сна без маек, хождения босиком, </a:t>
            </a:r>
            <a:br>
              <a:rPr sz="2400"/>
            </a:b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00A7-0EBD-44F3-B4AD-79ADD5682AD3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1" name="Содержимое 10" descr="C:\Users\1\AppData\Local\Microsoft\Windows\INetCache\Content.Word\IMG-20190627-WA0005.jpg"/>
          <p:cNvPicPr/>
          <p:nvPr/>
        </p:nvPicPr>
        <p:blipFill>
          <a:blip r:embed="rId1"/>
          <a:stretch/>
        </p:blipFill>
        <p:spPr>
          <a:xfrm>
            <a:off x="1619280" y="2781360"/>
            <a:ext cx="2922480" cy="21924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IMG_20160718_100934.jpg"/>
          <p:cNvPicPr/>
          <p:nvPr/>
        </p:nvPicPr>
        <p:blipFill>
          <a:blip r:embed="rId2"/>
          <a:srcRect l="5265" t="20003" r="10544" b="0"/>
          <a:stretch/>
        </p:blipFill>
        <p:spPr>
          <a:xfrm>
            <a:off x="5364000" y="2924280"/>
            <a:ext cx="2664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E38D-A9C1-41AE-A04F-2D4FF2F505F9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C2DC-A56C-4ECB-9974-CD0D0EA9EA5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10920" y="836280"/>
            <a:ext cx="80643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Летом прошли спортивные соревнования « Веселые старты» в рамках Олимпийской недели , а так же  во время проведения недели ,посвященной туризму , был организован досуг «Дошколята идут в поход»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77" name="Рисунок 9" descr="C:\Users\1\AppData\Local\Microsoft\Windows\INetCache\Content.Word\IMG-20190627-WA0012.jpg"/>
          <p:cNvPicPr/>
          <p:nvPr/>
        </p:nvPicPr>
        <p:blipFill>
          <a:blip r:embed="rId1"/>
          <a:srcRect l="0" t="0" r="0" b="37145"/>
          <a:stretch/>
        </p:blipFill>
        <p:spPr>
          <a:xfrm>
            <a:off x="5024520" y="2924280"/>
            <a:ext cx="3076560" cy="21603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C:\Users\1\Desktop\Camera\IMG-20190802-WA0019.jpg"/>
          <p:cNvPicPr/>
          <p:nvPr/>
        </p:nvPicPr>
        <p:blipFill>
          <a:blip r:embed="rId2"/>
          <a:stretch/>
        </p:blipFill>
        <p:spPr>
          <a:xfrm>
            <a:off x="1619280" y="2997360"/>
            <a:ext cx="2881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942D-18B2-4CFF-B0BD-FF462FE27BF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13CA-6202-4712-965C-4417DDB34BB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2" name="Рисунок 10" descr="C:\Users\1\AppData\Local\Microsoft\Windows\INetCache\Content.Word\IMG-20190627-WA0027.jpg"/>
          <p:cNvPicPr/>
          <p:nvPr/>
        </p:nvPicPr>
        <p:blipFill>
          <a:blip r:embed="rId1"/>
          <a:stretch/>
        </p:blipFill>
        <p:spPr>
          <a:xfrm>
            <a:off x="4788000" y="3716280"/>
            <a:ext cx="3009960" cy="22575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2" descr="C:\Users\1\Desktop\Camera\IMG-20190802-WA0021.jpg"/>
          <p:cNvPicPr/>
          <p:nvPr/>
        </p:nvPicPr>
        <p:blipFill>
          <a:blip r:embed="rId2"/>
          <a:stretch/>
        </p:blipFill>
        <p:spPr>
          <a:xfrm>
            <a:off x="1476360" y="1125360"/>
            <a:ext cx="316872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15b7"/>
                </a:solidFill>
                <a:latin typeface="Calibri"/>
              </a:rPr>
              <a:t>12 июня прошло тематическое занятие посвященное  Дню независимости России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5" name="Содержимое 7" descr="20190802_101239.jpg"/>
          <p:cNvPicPr/>
          <p:nvPr/>
        </p:nvPicPr>
        <p:blipFill>
          <a:blip r:embed="rId1"/>
          <a:stretch/>
        </p:blipFill>
        <p:spPr>
          <a:xfrm>
            <a:off x="1547640" y="1413000"/>
            <a:ext cx="2424240" cy="352872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8" descr="20190802_101214.jpg"/>
          <p:cNvPicPr/>
          <p:nvPr/>
        </p:nvPicPr>
        <p:blipFill>
          <a:blip r:embed="rId2"/>
          <a:stretch/>
        </p:blipFill>
        <p:spPr>
          <a:xfrm>
            <a:off x="5003640" y="1413000"/>
            <a:ext cx="2554560" cy="3413160"/>
          </a:xfrm>
          <a:prstGeom prst="rect">
            <a:avLst/>
          </a:prstGeom>
          <a:ln w="0">
            <a:noFill/>
          </a:ln>
        </p:spPr>
      </p:pic>
      <p:sp>
        <p:nvSpPr>
          <p:cNvPr id="8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E85B-7DED-4160-A2B2-AAE63C9931C1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FA9F-DDD8-4C5F-B253-7B8E00EB0C4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 Black"/>
              </a:rPr>
              <a:t>22 АВГУСТА  прошли мероприятия посвященные Дню Флага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518A-73F7-4F55-9AA4-32090BC3222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2488-BD8C-4E5B-95B9-46F289FC173A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6" name="Picture 2" descr="C:\Users\Orion\Desktop\22 августа\IMG-20190823-WA0001.jpg"/>
          <p:cNvPicPr/>
          <p:nvPr/>
        </p:nvPicPr>
        <p:blipFill>
          <a:blip r:embed="rId3"/>
          <a:stretch/>
        </p:blipFill>
        <p:spPr>
          <a:xfrm>
            <a:off x="611280" y="162864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Orion\Desktop\22 августа\20190822_104822-1.jpg"/>
          <p:cNvPicPr/>
          <p:nvPr/>
        </p:nvPicPr>
        <p:blipFill>
          <a:blip r:embed="rId4"/>
          <a:stretch/>
        </p:blipFill>
        <p:spPr>
          <a:xfrm>
            <a:off x="4788000" y="1628640"/>
            <a:ext cx="3600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8:35:13Z</dcterms:created>
  <dc:creator>mihail and olga</dc:creator>
  <dc:description>http://aida.ucoz.ru</dc:description>
  <dc:language>en-US</dc:language>
  <cp:lastModifiedBy>Orion</cp:lastModifiedBy>
  <dcterms:modified xsi:type="dcterms:W3CDTF">2019-08-25T14:38:02Z</dcterms:modified>
  <cp:revision>80</cp:revision>
  <dc:subject/>
  <dc:title>Слайд 1</dc:title>
</cp:coreProperties>
</file>