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5197A-48AF-4CEE-94E0-2022F00F1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E7A5B-ECC0-4A96-80A3-8810DBC10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41D38-C122-4FDA-85FB-7CB367FA1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B173E-E5A4-43BE-9897-80F44888B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35E98-759D-4021-922D-95BBCE7E3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D9412-31A9-4D26-B2BA-9DF93431E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24C77-8577-4E66-8F08-F3D7B0B90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E23BE-7DF1-42BD-B92E-61D3CA89C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DAC4A-1DAF-4D1B-8962-075552DCC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DB455-A0E7-4DF2-B61A-FA8892300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5458C-7727-4781-8508-DC61A6D72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A9087-BDF9-4CBD-96AF-BA5341659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F86BB-9FF3-4776-A468-618E2FDCD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3B34E-90D8-47BB-8284-03239B8D8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81FDD-79AA-4639-979C-7D52CEF65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466BE-5611-4388-B75E-AEB176DED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6572D-5184-40BD-B479-E46C76F8C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0D9B3-6F12-47A3-9DF1-75F27FA7D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37115-57E0-4A72-865F-1BCD891FF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07B64-CBA8-43DF-97B8-79AF96931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760E4-CCE8-4530-87EE-F6D8A93D4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0B9AB-20C9-4BD1-8399-58DEE42E7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07B3D-23A8-4C65-BBA0-9A61FD5DA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A3F75-B32E-47D9-BA0E-7B93E1587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100000">
              <a:srgbClr val="3b81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E9D58-E36B-4E72-85B6-45C48F713E3D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100000">
              <a:srgbClr val="3b81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2632E-139B-4276-8610-3FCE77D35C13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26920" y="14130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ffff66"/>
                </a:solidFill>
                <a:latin typeface="Garamond"/>
              </a:rPr>
              <a:t>Тема: «Развитие звуковой стороны речи дошкольников с помощью комплекса методов»</a:t>
            </a:r>
            <a:endParaRPr b="0" lang="en-US" sz="33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5041440" y="4349520"/>
            <a:ext cx="3435480" cy="92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Попова Галина Викторовна – воспитатель МБОУ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«Гимназия «Планета детства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SAM_2058"/>
          <p:cNvPicPr/>
          <p:nvPr/>
        </p:nvPicPr>
        <p:blipFill>
          <a:blip r:embed="rId1"/>
          <a:stretch/>
        </p:blipFill>
        <p:spPr>
          <a:xfrm>
            <a:off x="755640" y="3987720"/>
            <a:ext cx="2579760" cy="1935360"/>
          </a:xfrm>
          <a:prstGeom prst="rect">
            <a:avLst/>
          </a:prstGeom>
          <a:ln w="0">
            <a:noFill/>
          </a:ln>
        </p:spPr>
      </p:pic>
      <p:sp>
        <p:nvSpPr>
          <p:cNvPr id="89" name="Text Box 6"/>
          <p:cNvSpPr/>
          <p:nvPr/>
        </p:nvSpPr>
        <p:spPr>
          <a:xfrm>
            <a:off x="3420720" y="6237360"/>
            <a:ext cx="195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убцовск 2014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3"/>
          <p:cNvSpPr/>
          <p:nvPr/>
        </p:nvSpPr>
        <p:spPr>
          <a:xfrm>
            <a:off x="468360" y="260280"/>
            <a:ext cx="8136000" cy="58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3300"/>
                </a:solidFill>
                <a:latin typeface="Arial"/>
              </a:rPr>
              <a:t>   </a:t>
            </a:r>
            <a:r>
              <a:rPr b="0" lang="ru-RU" sz="1600" spc="-1" strike="noStrike">
                <a:solidFill>
                  <a:srgbClr val="663300"/>
                </a:solidFill>
                <a:latin typeface="Arial"/>
              </a:rPr>
              <a:t>Остановимся на одной из них – развитие звуковой культуры речи. Она включает </a:t>
            </a:r>
            <a:r>
              <a:rPr b="1" i="1" lang="ru-RU" sz="1600" spc="-1" strike="noStrike">
                <a:solidFill>
                  <a:srgbClr val="663300"/>
                </a:solidFill>
                <a:latin typeface="Arial"/>
              </a:rPr>
              <a:t>работу по обучению правильному звукопроизношению. Которая всегда выделялась, как ведущая линия развития речи 3 – 4 ле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3300"/>
                </a:solidFill>
                <a:latin typeface="Arial"/>
              </a:rPr>
              <a:t>   </a:t>
            </a:r>
            <a:r>
              <a:rPr b="0" lang="ru-RU" sz="1600" spc="-1" strike="noStrike">
                <a:solidFill>
                  <a:srgbClr val="663300"/>
                </a:solidFill>
                <a:latin typeface="Arial"/>
              </a:rPr>
              <a:t>Сначала ребенок осваивает звуковую речь, на основе которой позже развивается лексическая, грамматическая, а затем и связная речь. Многие специалисты подчеркивают неразрывную связь развития звуковой культуры речи с подготовкой к усвоению грамоты. Очевидна важность ранней пропедевтической (подготовительной) работы  с детьми. Исправить недостатки звукопроизношения в более старшем возрасте, когда уже достаточно сформирован характер, значительно труднее, чем предупредить их на ранних стадиях ребенк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3300"/>
                </a:solidFill>
                <a:latin typeface="Arial"/>
              </a:rPr>
              <a:t>   </a:t>
            </a:r>
            <a:r>
              <a:rPr b="0" lang="ru-RU" sz="1600" spc="-1" strike="noStrike">
                <a:solidFill>
                  <a:srgbClr val="663300"/>
                </a:solidFill>
                <a:latin typeface="Arial"/>
              </a:rPr>
              <a:t>При определение последовательности работы с детьми нужно учитывать степень трудности артикуляции звуков, а также возрастные особенности усвоения. В младших группах отрабатывают наиболее простые гласные и согласные звуки. В средних осваивают произношение звуков, наиболее трудных по артикуляции (свистящих, шипящих и сонорных). В группах старшего дошкольного возраста основное внимание уделяется часто смешиваемых звуков, а также подготовке детей к обучению грамот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3300"/>
                </a:solidFill>
                <a:latin typeface="Arial"/>
              </a:rPr>
              <a:t>   </a:t>
            </a:r>
            <a:r>
              <a:rPr b="0" lang="ru-RU" sz="1600" spc="-1" strike="noStrike">
                <a:solidFill>
                  <a:srgbClr val="663300"/>
                </a:solidFill>
                <a:latin typeface="Arial"/>
              </a:rPr>
              <a:t>Овладевая звуковыми средствами языка, ребенок опирается на речевой слух (общую способность воспринимать фонологические средства языка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3"/>
          <p:cNvSpPr/>
          <p:nvPr/>
        </p:nvSpPr>
        <p:spPr>
          <a:xfrm>
            <a:off x="468360" y="260280"/>
            <a:ext cx="8136000" cy="313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3300"/>
                </a:solidFill>
                <a:latin typeface="Arial"/>
              </a:rPr>
              <a:t>   </a:t>
            </a:r>
            <a:r>
              <a:rPr b="0" lang="ru-RU" sz="1600" spc="-1" strike="noStrike">
                <a:solidFill>
                  <a:srgbClr val="663300"/>
                </a:solidFill>
                <a:latin typeface="Arial"/>
              </a:rPr>
              <a:t>Линейные звуковые единицы (звук – слог – слово – фраза - текст) обладают самостоятельной протяженностью, следуют друг за другом. Одновременно с ними особенности звуковой стороны речи отражают просодические единицы: словесное ударение, интонация ( мелодика речи, сила голоса, темп и тембр речи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3300"/>
                </a:solidFill>
                <a:latin typeface="Arial"/>
              </a:rPr>
              <a:t>   </a:t>
            </a:r>
            <a:r>
              <a:rPr b="0" lang="ru-RU" sz="1600" spc="-1" strike="noStrike">
                <a:solidFill>
                  <a:srgbClr val="663300"/>
                </a:solidFill>
                <a:latin typeface="Arial"/>
              </a:rPr>
              <a:t>Практическое владение языком предполагает различать на слух и адекватно воспроизводить все звуковые единицы родного языка. Поэтому работа по формированию звукопроизношения у дошкольников должна производиться систематическ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3300"/>
                </a:solidFill>
                <a:latin typeface="Arial"/>
              </a:rPr>
              <a:t>   </a:t>
            </a:r>
            <a:r>
              <a:rPr b="0" lang="ru-RU" sz="1600" spc="-1" strike="noStrike">
                <a:solidFill>
                  <a:srgbClr val="663300"/>
                </a:solidFill>
                <a:latin typeface="Arial"/>
              </a:rPr>
              <a:t>Важными средствами звуковой выразительности речи являются тон, тембр, паузы, разные типы ударени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0f141"/>
            </a:gs>
            <a:gs pos="100000">
              <a:srgbClr val="3b81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2"/>
          <p:cNvSpPr/>
          <p:nvPr/>
        </p:nvSpPr>
        <p:spPr>
          <a:xfrm>
            <a:off x="395280" y="260280"/>
            <a:ext cx="8496360" cy="58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3300"/>
                </a:solidFill>
                <a:latin typeface="Arial"/>
              </a:rPr>
              <a:t>Обоснование комплексности метод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3300"/>
                </a:solidFill>
                <a:latin typeface="Arial"/>
              </a:rPr>
              <a:t>   </a:t>
            </a:r>
            <a:r>
              <a:rPr b="0" lang="ru-RU" sz="1600" spc="-1" strike="noStrike">
                <a:solidFill>
                  <a:srgbClr val="663300"/>
                </a:solidFill>
                <a:latin typeface="Arial"/>
              </a:rPr>
              <a:t>Особый пласт образовательной работы связан с развитием у детей умения интонаций – строить интонационный рисунок высказывания, передавая не только его значение, но и </a:t>
            </a:r>
            <a:r>
              <a:rPr b="1" i="1" lang="ru-RU" sz="1600" spc="-1" strike="noStrike">
                <a:solidFill>
                  <a:srgbClr val="663300"/>
                </a:solidFill>
                <a:latin typeface="Arial"/>
              </a:rPr>
              <a:t>эмоциональный «заряд».</a:t>
            </a:r>
            <a:r>
              <a:rPr b="0" lang="ru-RU" sz="1600" spc="-1" strike="noStrike">
                <a:solidFill>
                  <a:srgbClr val="663300"/>
                </a:solidFill>
                <a:latin typeface="Arial"/>
              </a:rPr>
              <a:t> Кроме этого, опираясь на свой опыт, я заметила, что на </a:t>
            </a:r>
            <a:r>
              <a:rPr b="1" i="1" lang="ru-RU" sz="1600" spc="-1" strike="noStrike">
                <a:solidFill>
                  <a:srgbClr val="663300"/>
                </a:solidFill>
                <a:latin typeface="Arial"/>
              </a:rPr>
              <a:t>развитие речи плохое влияние оказывают</a:t>
            </a:r>
            <a:r>
              <a:rPr b="0" lang="ru-RU" sz="1600" spc="-1" strike="noStrike">
                <a:solidFill>
                  <a:srgbClr val="663300"/>
                </a:solidFill>
                <a:latin typeface="Arial"/>
              </a:rPr>
              <a:t> различные </a:t>
            </a:r>
            <a:r>
              <a:rPr b="1" i="1" lang="ru-RU" sz="1600" spc="-1" strike="noStrike">
                <a:solidFill>
                  <a:srgbClr val="663300"/>
                </a:solidFill>
                <a:latin typeface="Arial"/>
              </a:rPr>
              <a:t>опасения, страхи</a:t>
            </a:r>
            <a:r>
              <a:rPr b="0" lang="ru-RU" sz="1600" spc="-1" strike="noStrike">
                <a:solidFill>
                  <a:srgbClr val="663300"/>
                </a:solidFill>
                <a:latin typeface="Arial"/>
              </a:rPr>
              <a:t> у детей. Страхи повышают у тревожность, что ведет к понижению самооценки и выражается </a:t>
            </a:r>
            <a:r>
              <a:rPr b="1" i="1" lang="ru-RU" sz="1600" spc="-1" strike="noStrike">
                <a:solidFill>
                  <a:srgbClr val="663300"/>
                </a:solidFill>
                <a:latin typeface="Arial"/>
              </a:rPr>
              <a:t>в нежелании общаться</a:t>
            </a:r>
            <a:r>
              <a:rPr b="0" lang="ru-RU" sz="1600" spc="-1" strike="noStrike">
                <a:solidFill>
                  <a:srgbClr val="663300"/>
                </a:solidFill>
                <a:latin typeface="Arial"/>
              </a:rPr>
              <a:t>, проявлять свои способности. Психогимнастические упражнения являются средством преодоления данных проблем у дете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3300"/>
                </a:solidFill>
                <a:latin typeface="Arial"/>
              </a:rPr>
              <a:t>   </a:t>
            </a:r>
            <a:r>
              <a:rPr b="0" lang="ru-RU" sz="1600" spc="-1" strike="noStrike">
                <a:solidFill>
                  <a:srgbClr val="663300"/>
                </a:solidFill>
                <a:latin typeface="Arial"/>
              </a:rPr>
              <a:t>Параллельно с развитием умения пользоваться интонацией осуществляется формирование умений использовать темп, громкость произношения в зависимости от ситуации, отчетливо произносить звуки, слова, фразы. Предложения (дикция). Обращая внимание ребенка на интонацию, педагог развивает его речевой слух, чувство тембра и ритма, ощущение силы звука, что в дальнейшем оказывает на развитие музыкального слуха. Таким образом возможности использования своего </a:t>
            </a:r>
            <a:r>
              <a:rPr b="1" i="1" lang="ru-RU" sz="1600" spc="-1" strike="noStrike">
                <a:solidFill>
                  <a:srgbClr val="663300"/>
                </a:solidFill>
                <a:latin typeface="Arial"/>
              </a:rPr>
              <a:t>голосового аппарата</a:t>
            </a:r>
            <a:r>
              <a:rPr b="0" lang="ru-RU" sz="1600" spc="-1" strike="noStrike">
                <a:solidFill>
                  <a:srgbClr val="663300"/>
                </a:solidFill>
                <a:latin typeface="Arial"/>
              </a:rPr>
              <a:t> значительно расширяются.    Важным подспорьем в процессе развития речи является </a:t>
            </a:r>
            <a:r>
              <a:rPr b="1" i="1" lang="ru-RU" sz="1600" spc="-1" strike="noStrike">
                <a:solidFill>
                  <a:srgbClr val="663300"/>
                </a:solidFill>
                <a:latin typeface="Arial"/>
              </a:rPr>
              <a:t>гимнастика для пальчик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3300"/>
                </a:solidFill>
                <a:latin typeface="Arial"/>
              </a:rPr>
              <a:t>   </a:t>
            </a:r>
            <a:r>
              <a:rPr b="0" lang="ru-RU" sz="1600" spc="-1" strike="noStrike">
                <a:solidFill>
                  <a:srgbClr val="663300"/>
                </a:solidFill>
                <a:latin typeface="Arial"/>
              </a:rPr>
              <a:t>Немаловажное значение для произношения звуков имеет </a:t>
            </a:r>
            <a:r>
              <a:rPr b="1" i="1" lang="ru-RU" sz="1600" spc="-1" strike="noStrike">
                <a:solidFill>
                  <a:srgbClr val="663300"/>
                </a:solidFill>
                <a:latin typeface="Arial"/>
              </a:rPr>
              <a:t>правильный вдох и выдох.</a:t>
            </a:r>
            <a:r>
              <a:rPr b="0" lang="ru-RU" sz="1600" spc="-1" strike="noStrike">
                <a:solidFill>
                  <a:srgbClr val="663300"/>
                </a:solidFill>
                <a:latin typeface="Arial"/>
              </a:rPr>
              <a:t> Выработать его поможет </a:t>
            </a:r>
            <a:r>
              <a:rPr b="1" i="1" lang="ru-RU" sz="1600" spc="-1" strike="noStrike">
                <a:solidFill>
                  <a:srgbClr val="663300"/>
                </a:solidFill>
                <a:latin typeface="Arial"/>
              </a:rPr>
              <a:t>дыхательная гимнастика</a:t>
            </a:r>
            <a:r>
              <a:rPr b="0" lang="ru-RU" sz="1600" spc="-1" strike="noStrike">
                <a:solidFill>
                  <a:srgbClr val="6633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0f141"/>
            </a:gs>
            <a:gs pos="100000">
              <a:srgbClr val="3b81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2"/>
          <p:cNvSpPr/>
          <p:nvPr/>
        </p:nvSpPr>
        <p:spPr>
          <a:xfrm>
            <a:off x="468360" y="333360"/>
            <a:ext cx="84963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3300"/>
                </a:solidFill>
                <a:latin typeface="Arial"/>
              </a:rPr>
              <a:t>   </a:t>
            </a:r>
            <a:r>
              <a:rPr b="0" lang="ru-RU" sz="1600" spc="-1" strike="noStrike">
                <a:solidFill>
                  <a:srgbClr val="663300"/>
                </a:solidFill>
                <a:latin typeface="Arial"/>
              </a:rPr>
              <a:t>В программах ДОУ есть специальный раздел «Звуковая культура речи», в котором обозначены задачи по формированию правильного звукопроизношения детей. К сожалению, </a:t>
            </a:r>
            <a:r>
              <a:rPr b="1" i="1" lang="ru-RU" sz="1600" spc="-1" strike="noStrike">
                <a:solidFill>
                  <a:srgbClr val="663300"/>
                </a:solidFill>
                <a:latin typeface="Arial"/>
              </a:rPr>
              <a:t>этому разделу не уделяется должного внимания в том объеме</a:t>
            </a:r>
            <a:r>
              <a:rPr b="0" lang="ru-RU" sz="1600" spc="-1" strike="noStrike">
                <a:solidFill>
                  <a:srgbClr val="663300"/>
                </a:solidFill>
                <a:latin typeface="Arial"/>
              </a:rPr>
              <a:t>, который необходим в настоящее время, когда наблюдается рост числа детей с отклонениями в речевом развитии. (Занятие по развитию правильного звукопроизношения проводится 1 раз в месяц). Поэтому крайне важно </a:t>
            </a:r>
            <a:r>
              <a:rPr b="1" i="1" lang="ru-RU" sz="1600" spc="-1" strike="noStrike">
                <a:solidFill>
                  <a:srgbClr val="663300"/>
                </a:solidFill>
                <a:latin typeface="Arial"/>
              </a:rPr>
              <a:t>увеличить количество игр по звуковой культуре речи</a:t>
            </a:r>
            <a:r>
              <a:rPr b="0" lang="ru-RU" sz="1600" spc="-1" strike="noStrike">
                <a:solidFill>
                  <a:srgbClr val="663300"/>
                </a:solidFill>
                <a:latin typeface="Arial"/>
              </a:rPr>
              <a:t>. Особенно это касается игр по развитию фонематического восприятия, </a:t>
            </a:r>
            <a:r>
              <a:rPr b="1" i="1" lang="ru-RU" sz="1600" spc="-1" strike="noStrike">
                <a:solidFill>
                  <a:srgbClr val="663300"/>
                </a:solidFill>
                <a:latin typeface="Arial"/>
              </a:rPr>
              <a:t>артикуляционной моторики и речевого выдоха</a:t>
            </a:r>
            <a:r>
              <a:rPr b="0" lang="ru-RU" sz="1600" spc="-1" strike="noStrike">
                <a:solidFill>
                  <a:srgbClr val="663300"/>
                </a:solidFill>
                <a:latin typeface="Arial"/>
              </a:rPr>
              <a:t>. Необходимо также более широкое использование этих игр не только на речевых занятиях и </a:t>
            </a:r>
            <a:r>
              <a:rPr b="1" i="1" lang="ru-RU" sz="1600" spc="-1" strike="noStrike">
                <a:solidFill>
                  <a:srgbClr val="663300"/>
                </a:solidFill>
                <a:latin typeface="Arial"/>
              </a:rPr>
              <a:t>в первую очередь в режимных моментах</a:t>
            </a:r>
            <a:r>
              <a:rPr b="0" lang="ru-RU" sz="1600" spc="-1" strike="noStrike">
                <a:solidFill>
                  <a:srgbClr val="6633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3300"/>
                </a:solidFill>
                <a:latin typeface="Arial"/>
              </a:rPr>
              <a:t>   </a:t>
            </a:r>
            <a:r>
              <a:rPr b="0" lang="ru-RU" sz="1600" spc="-1" strike="noStrike">
                <a:solidFill>
                  <a:srgbClr val="663300"/>
                </a:solidFill>
                <a:latin typeface="Arial"/>
              </a:rPr>
              <a:t>Таким образом, на основании вышесказанного педагогам и родителям необходимо проводить работу с детьми в комплексе сразу по нескольким направлениям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66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663300"/>
                </a:solidFill>
                <a:latin typeface="Arial"/>
              </a:rPr>
              <a:t>развитие речевого дыхани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66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663300"/>
                </a:solidFill>
                <a:latin typeface="Arial"/>
              </a:rPr>
              <a:t>развитие речевого аппарата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66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663300"/>
                </a:solidFill>
                <a:latin typeface="Arial"/>
              </a:rPr>
              <a:t>развитие мелкой моторик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66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663300"/>
                </a:solidFill>
                <a:latin typeface="Arial"/>
              </a:rPr>
              <a:t>развитие эмоциональности, мимической мускулатуры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66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663300"/>
                </a:solidFill>
                <a:latin typeface="Arial"/>
              </a:rPr>
              <a:t>развитие правильного звукопроизношения, слухового внимания, силы голоса, речевого слух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c8b00"/>
            </a:gs>
            <a:gs pos="100000">
              <a:srgbClr val="49a03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2"/>
          <p:cNvSpPr/>
          <p:nvPr/>
        </p:nvSpPr>
        <p:spPr>
          <a:xfrm>
            <a:off x="1042920" y="1052640"/>
            <a:ext cx="8496360" cy="249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Средствами (методами) развития звуковой стороны речи стал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дыхательная гимнастик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пальчиковая гимнастик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артикуляционная гимнастик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психогимнастические упражне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дидактическая иг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c8b00"/>
            </a:gs>
            <a:gs pos="100000">
              <a:srgbClr val="49a03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2"/>
          <p:cNvSpPr/>
          <p:nvPr/>
        </p:nvSpPr>
        <p:spPr>
          <a:xfrm>
            <a:off x="468360" y="549360"/>
            <a:ext cx="83516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Дыхательная гимнасти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У детей с речевыми нарушениями часто наблюдается нарушение дыха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Неправильное речевое дыхание – нередко причина ряда речевых нарушений. Например, нарушения плавности речи, когда ребенок нерационально использует выдох воздуха и вынужден добирать его в середине фразы или слова, проглатывание окончаний и т.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Дыхание, с одной стороны, служит физиологической основой речи, а с другой – является важной составляющей произвольной саморегуляции и, если оно правильное, способствует оздоровлению всего организма в целом. Правильное дыхание – смешанно-диафрагмально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Развитие правильного речевого дыхания вырабатывается с помощью комплекса дыхательной гимнастики. Из-за неправильного речевого выдоха некоторые звуки могут осваиваться позднее или неправильно. Для формирования правильного речевого дыхания полезно ежедневно выполнять с детьми различные дыхательные упражне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c8b00"/>
            </a:gs>
            <a:gs pos="100000">
              <a:srgbClr val="49a03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2"/>
          <p:cNvSpPr/>
          <p:nvPr/>
        </p:nvSpPr>
        <p:spPr>
          <a:xfrm>
            <a:off x="468360" y="189000"/>
            <a:ext cx="8280360" cy="58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Пальчиковая гимнасти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Arial"/>
              </a:rPr>
              <a:t>Исследования отечественных физиологов подтверждают связь развития рук с развитием мозга. Работы В.М. Бахтерева доказали влияние манипуляции рук на функции высшей нервной деятельности, развитие реч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Arial"/>
              </a:rPr>
              <a:t>Простые движения рук помогают убрать напряжение не только с самих рук, но и с губ, снимают умственную усталость. Они способны улучшить произношение многих звуков, а значит – развить речь ребенка. Сделать речь более четкой, ритмичной, яркой, научить вслушиваться и понимать смысл речи, повысить речевую активность ребенка поможет пальчиковая гимнастик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Артикуляционная гимнасти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Основной причиной несовершенства звукопроизношения у детей становится несовершенство движений артикуляционных органов (языка, губ, неба и т.д.) или их недоразвития. Поэтому важнейшим этапом в профилактике возникновения нарушений звукопроизношения является работа по подготовке артикуляционного аппарата. Выработать четкие и согласованные движения органов артикуляционного аппарата помогает артикуляционная гимнастик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«Коррекция  речевых нарушений у детей 5-7 лет»/Токарева С.И.-Изд-во «Учитель», Волгоград, 2012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c8b00"/>
            </a:gs>
            <a:gs pos="100000">
              <a:srgbClr val="49a03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2"/>
          <p:cNvSpPr/>
          <p:nvPr/>
        </p:nvSpPr>
        <p:spPr>
          <a:xfrm>
            <a:off x="468360" y="476280"/>
            <a:ext cx="84963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Психогимнастические упражн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Arial"/>
              </a:rPr>
              <a:t>Уже научно доказано, что у детей с различными нарушениями в речевом развитии часто наблюдаются проблемы в эмоционально-личностной сфере: страхи и неуверенность, бедность мимики и эмоци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00"/>
                </a:solidFill>
                <a:latin typeface="Arial"/>
              </a:rPr>
              <a:t>Подобные нарушения заслуживают пристального внимания потому, что неумение правильно выразить свои чувства. Скованность, неловкость или неадекватность мимико-жестовой речи затрудняют общение детей со сверстниками и взрослы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00"/>
                </a:solidFill>
                <a:latin typeface="Arial"/>
              </a:rPr>
              <a:t>Психогимнастика – психолого-педагогическая и психотерапевтическая методика, направленная на развитие и коррекцию различных сторон психики ребенка (познавательной и эмоционально-личностной сферы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00"/>
                </a:solidFill>
                <a:latin typeface="Arial"/>
              </a:rPr>
              <a:t>Детям, регулярно выполняющим психосоматические упражнения становится проще общаться со сверстниками, легче выражать свои чувства и лучше понимать чувства других. У них вырабатываются положительные черты характера уверенность, честность, смелость, доброта и т.п., изживаются невротические состояния: страхи, различные опасения, неуверенност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Arial"/>
              </a:rPr>
              <a:t>Мимика говорит нам без слов о тех или иных чувствах и настроениях человек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Arial"/>
              </a:rPr>
              <a:t>Выражение лица играет важную роль в общении: К.Изард (1980) отмечал, что эмоции, отражающиеся на лице, «слышны лучше, чем речь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c8b00"/>
            </a:gs>
            <a:gs pos="100000">
              <a:srgbClr val="49a03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2"/>
          <p:cNvSpPr/>
          <p:nvPr/>
        </p:nvSpPr>
        <p:spPr>
          <a:xfrm>
            <a:off x="539640" y="692280"/>
            <a:ext cx="8207640" cy="222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Дидактические игр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Систематическое проведение дидактических игр способствует развитию речи. Ребенок легко усваивает трудные лексико-грамматические категории русского языка, упражняется в звукопроизношении. Постепенно в его речи появляются новые слова, эпитеты, загадки, образные выражения, сравнения и высказывания из художественных произведений. Речь детей становится четкой, правильной, выразительно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4"/>
          <p:cNvSpPr/>
          <p:nvPr/>
        </p:nvSpPr>
        <p:spPr>
          <a:xfrm>
            <a:off x="468360" y="549360"/>
            <a:ext cx="8351640" cy="43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инципы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истематичности и последовательности (материал подобран в определенном порядке, системе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оступности (характер и объем заданий соответствует уровню развития и подготовленности детей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глядности (большинство заданий предполагает опору на картинный материал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мплексности (все упражнения включены в общую систему воспитательно-образовательного процесса, успешность и результативность которого зависит прежде всего от сотрудничества всех педагогов ДОУ и родителей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4"/>
          <p:cNvSpPr/>
          <p:nvPr/>
        </p:nvSpPr>
        <p:spPr>
          <a:xfrm>
            <a:off x="751320" y="1557360"/>
            <a:ext cx="8035560" cy="27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Любой из нас пришёл на свет на это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ворить добро, надеяться, люб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меяться, плакать, но при всём при эт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олжны мы научиться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ГОВОР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strips dir="r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b812f"/>
            </a:gs>
            <a:gs pos="50000">
              <a:srgbClr val="f2f9ad"/>
            </a:gs>
            <a:gs pos="100000">
              <a:srgbClr val="3b812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2"/>
          <p:cNvSpPr/>
          <p:nvPr/>
        </p:nvSpPr>
        <p:spPr>
          <a:xfrm>
            <a:off x="539640" y="765000"/>
            <a:ext cx="8137800" cy="404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a1d"/>
                </a:solidFill>
                <a:latin typeface="Arial"/>
              </a:rPr>
              <a:t>Формы работы с семь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buClr>
                <a:srgbClr val="003a1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a1d"/>
                </a:solidFill>
                <a:latin typeface="Arial"/>
              </a:rPr>
              <a:t>Анкетирование «Развитие речи дома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buClr>
                <a:srgbClr val="003a1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a1d"/>
                </a:solidFill>
                <a:latin typeface="Arial"/>
              </a:rPr>
              <a:t>Родительское собрание «Речь и развитие ребенка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buClr>
                <a:srgbClr val="003a1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a1d"/>
                </a:solidFill>
                <a:latin typeface="Arial"/>
              </a:rPr>
              <a:t>Консультация «Игры с пальчиками», «Разноцветные физкультминутки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buClr>
                <a:srgbClr val="003a1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a1d"/>
                </a:solidFill>
                <a:latin typeface="Arial"/>
              </a:rPr>
              <a:t>Папка-передвижка «Комплекс методов и звуковая  сторона речи ребенка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buClr>
                <a:srgbClr val="003a1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a1d"/>
                </a:solidFill>
                <a:latin typeface="Arial"/>
              </a:rPr>
              <a:t>Ширма «Мы растем», «Учите, играя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buClr>
                <a:srgbClr val="003a1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a1d"/>
                </a:solidFill>
                <a:latin typeface="Arial"/>
              </a:rPr>
              <a:t>Индивидуальная беседа «Использование артикуляционной гимнастики в формирование речевого аппарата дошкольников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buClr>
                <a:srgbClr val="003a1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a1d"/>
                </a:solidFill>
                <a:latin typeface="Arial"/>
              </a:rPr>
              <a:t>Совместная игровая творческая деятельность детей и родителей (родительские собрания в нетрадиционной форме, праздники, развлечения, досуги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a1d"/>
                </a:solidFill>
                <a:latin typeface="Arial"/>
              </a:rPr>
              <a:t>и т.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strips dir="r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b812f"/>
            </a:gs>
            <a:gs pos="50000">
              <a:srgbClr val="f2f9ad"/>
            </a:gs>
            <a:gs pos="100000">
              <a:srgbClr val="3b812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2"/>
          <p:cNvSpPr/>
          <p:nvPr/>
        </p:nvSpPr>
        <p:spPr>
          <a:xfrm>
            <a:off x="611280" y="333360"/>
            <a:ext cx="813744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a50021"/>
                </a:solidFill>
                <a:latin typeface="Arial"/>
              </a:rPr>
              <a:t>МБОУ «Гимназия «Планета Детств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684360" y="1844640"/>
            <a:ext cx="813744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Перспективный план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с детьми старшей группы по теме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«Развитие звуковой стороны речи дошкольнико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с помощью комплекса методов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4"/>
          <p:cNvSpPr/>
          <p:nvPr/>
        </p:nvSpPr>
        <p:spPr>
          <a:xfrm>
            <a:off x="6227640" y="4149720"/>
            <a:ext cx="2448000" cy="11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a50021"/>
                </a:solidFill>
                <a:latin typeface="Arial"/>
              </a:rPr>
              <a:t>Разработал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a50021"/>
                </a:solidFill>
                <a:latin typeface="Arial"/>
              </a:rPr>
              <a:t>воспитат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a50021"/>
                </a:solidFill>
                <a:latin typeface="Arial"/>
              </a:rPr>
              <a:t>Попова Г.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3419640" y="5734080"/>
            <a:ext cx="244764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a50021"/>
                </a:solidFill>
                <a:latin typeface="Arial"/>
              </a:rPr>
              <a:t>Рубцовск – 2014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strips dir="r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b812f"/>
            </a:gs>
            <a:gs pos="50000">
              <a:srgbClr val="f2f9ad"/>
            </a:gs>
            <a:gs pos="100000">
              <a:srgbClr val="3b812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3"/>
          <p:cNvSpPr/>
          <p:nvPr/>
        </p:nvSpPr>
        <p:spPr>
          <a:xfrm>
            <a:off x="539640" y="549360"/>
            <a:ext cx="81378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Цель</a:t>
            </a:r>
            <a:r>
              <a:rPr b="0" lang="ru-RU" sz="2000" spc="-1" strike="noStrike">
                <a:solidFill>
                  <a:srgbClr val="a50021"/>
                </a:solidFill>
                <a:latin typeface="Arial"/>
              </a:rPr>
              <a:t>: развитие звуковой стороны речи дошкольников с помощью комплекса метод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Задачи</a:t>
            </a:r>
            <a:r>
              <a:rPr b="0" lang="ru-RU" sz="2000" spc="-1" strike="noStrike">
                <a:solidFill>
                  <a:srgbClr val="a50021"/>
                </a:solidFill>
                <a:latin typeface="Arial"/>
              </a:rPr>
              <a:t>: 1. Закреплять правильное произношение всех звуко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a50021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a50021"/>
                </a:solidFill>
                <a:latin typeface="Arial"/>
              </a:rPr>
              <a:t>родного язы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a50021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a50021"/>
                </a:solidFill>
                <a:latin typeface="Arial"/>
              </a:rPr>
              <a:t>2. Научить детей различать на слух и отчетливо </a:t>
            </a:r>
            <a:r>
              <a:rPr b="0" lang="ru-RU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a50021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a50021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a50021"/>
                </a:solidFill>
                <a:latin typeface="Arial"/>
              </a:rPr>
              <a:t>произносить часто смешиваемые звуки; развивать </a:t>
            </a:r>
            <a:r>
              <a:rPr b="0" lang="ru-RU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a50021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a50021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a50021"/>
                </a:solidFill>
                <a:latin typeface="Arial"/>
              </a:rPr>
              <a:t>четкую дикци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a50021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a50021"/>
                </a:solidFill>
                <a:latin typeface="Arial"/>
              </a:rPr>
              <a:t>3. Воспитывать культуру реч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strips dir="r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b812f"/>
            </a:gs>
            <a:gs pos="50000">
              <a:srgbClr val="f2f9ad"/>
            </a:gs>
            <a:gs pos="100000">
              <a:srgbClr val="3b812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4" name=""/>
          <p:cNvGraphicFramePr/>
          <p:nvPr/>
        </p:nvGraphicFramePr>
        <p:xfrm>
          <a:off x="468360" y="277920"/>
          <a:ext cx="8218440" cy="5884920"/>
        </p:xfrm>
        <a:graphic>
          <a:graphicData uri="http://schemas.openxmlformats.org/drawingml/2006/table">
            <a:tbl>
              <a:tblPr/>
              <a:tblGrid>
                <a:gridCol w="1079280"/>
                <a:gridCol w="7139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меся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f5f5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Содержа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f5f5f">
                        <a:alpha val="50000"/>
                      </a:srgbClr>
                    </a:solidFill>
                  </a:tcPr>
                </a:tc>
              </a:tr>
              <a:tr h="1757160"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сентябр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Психогимнастическое упражнение «Считалочка-бормоталочка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Дидактическая игра «Что, кому нужно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           </a:t>
                      </a:r>
                      <a:r>
                        <a:rPr b="0" lang="ru-RU" sz="1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Цель: учить называть предметы, необходимые людям определенной профессии, активизировать словарь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51280"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октябр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Артикуляционное упражнение «Окошечко в домике открыто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                                                   </a:t>
                      </a:r>
                      <a:r>
                        <a:rPr b="0" lang="ru-RU" sz="1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«Улыбка-дудочка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Дидактическая игра «Кто лучше слушает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            </a:t>
                      </a:r>
                      <a:r>
                        <a:rPr b="0" lang="ru-RU" sz="1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Цель: учить детей дифференцировать звуки м-ж, отрабатывать отчетливое произношение звуков; развивать фонематический слух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57160"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ноябр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Пальчиковая гимнастика «Пальчики-солдатики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Дидактическая игра «Что предмет может рассказать о себе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           </a:t>
                      </a:r>
                      <a:r>
                        <a:rPr b="0" lang="ru-RU" sz="1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Цель: учить детей различать в предмете цвет, форму, величину, назначение; развивать связную речь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 advTm="3000">
    <p:strips dir="r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b812f"/>
            </a:gs>
            <a:gs pos="50000">
              <a:srgbClr val="f2f9ad"/>
            </a:gs>
            <a:gs pos="100000">
              <a:srgbClr val="3b812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"/>
          <p:cNvGraphicFramePr/>
          <p:nvPr/>
        </p:nvGraphicFramePr>
        <p:xfrm>
          <a:off x="468360" y="277920"/>
          <a:ext cx="8218440" cy="5640120"/>
        </p:xfrm>
        <a:graphic>
          <a:graphicData uri="http://schemas.openxmlformats.org/drawingml/2006/table">
            <a:tbl>
              <a:tblPr/>
              <a:tblGrid>
                <a:gridCol w="1079280"/>
                <a:gridCol w="7139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меся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f5f5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Содержа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f5f5f">
                        <a:alpha val="50000"/>
                      </a:srgbClr>
                    </a:solidFill>
                  </a:tcPr>
                </a:tc>
              </a:tr>
              <a:tr h="2051280"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декабр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Дыхательное упражнение «Сова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Дидактическая игра «Скажи по-другому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           </a:t>
                      </a:r>
                      <a:r>
                        <a:rPr b="0" lang="ru-RU" sz="1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Цель: учить детей подбирать синоним (слово близкое по значению), развивать умение понимать оттенки значения слов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57160"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январ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Психогимнастическое упражнение «Мельница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Словесная игра «У кого кто?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            </a:t>
                      </a:r>
                      <a:r>
                        <a:rPr b="0" lang="ru-RU" sz="1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Цель: упражнять детей в образовании детенышей животных с уменьшительными суффиксам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13800"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феврал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Дыхательное упражнение «Певец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Дидактическая игра «Шкатулка со сказками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           </a:t>
                      </a:r>
                      <a:r>
                        <a:rPr b="0" lang="ru-RU" sz="1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Цель: развивать связную речь, творческое воображение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 advTm="3000">
    <p:strips dir="r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b812f"/>
            </a:gs>
            <a:gs pos="50000">
              <a:srgbClr val="f2f9ad"/>
            </a:gs>
            <a:gs pos="100000">
              <a:srgbClr val="3b812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6" name=""/>
          <p:cNvGraphicFramePr/>
          <p:nvPr/>
        </p:nvGraphicFramePr>
        <p:xfrm>
          <a:off x="468360" y="277920"/>
          <a:ext cx="8218440" cy="5884920"/>
        </p:xfrm>
        <a:graphic>
          <a:graphicData uri="http://schemas.openxmlformats.org/drawingml/2006/table">
            <a:tbl>
              <a:tblPr/>
              <a:tblGrid>
                <a:gridCol w="1079280"/>
                <a:gridCol w="7139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меся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f5f5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Содержа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f5f5f">
                        <a:alpha val="50000"/>
                      </a:srgbClr>
                    </a:solidFill>
                  </a:tcPr>
                </a:tc>
              </a:tr>
              <a:tr h="2051280"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мар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Пальчиковое упражнение «Фонарик-шарик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Дидактическая игра «Кто как передвигается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           </a:t>
                      </a:r>
                      <a:r>
                        <a:rPr b="0" lang="ru-RU" sz="1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Цель: уточнить знания детей о способах передвижения животных и насекомых, активизировать в речи глаголы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57160"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апрел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Артикуляционное упражнение «Конфетка», «Иголочка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Дидактическая игра «Что из чего сделано?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            </a:t>
                      </a:r>
                      <a:r>
                        <a:rPr b="0" lang="ru-RU" sz="1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Цель: закреплять названия материалов, из которых сделаны предметы, обогащать и активизировать словарь детей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57160"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ма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Психогимнастическое упражнение «Колечки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Словесная игра «Дополни предложение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           </a:t>
                      </a:r>
                      <a:r>
                        <a:rPr b="0" lang="ru-RU" sz="1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Цель: развивать гибкость мышления, умение подбирать нужное слово по смыслу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 advTm="3000">
    <p:strips dir="r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674b"/>
            </a:gs>
            <a:gs pos="50000">
              <a:srgbClr val="abdea2"/>
            </a:gs>
            <a:gs pos="100000">
              <a:srgbClr val="4f674b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3"/>
          <p:cNvSpPr/>
          <p:nvPr/>
        </p:nvSpPr>
        <p:spPr>
          <a:xfrm>
            <a:off x="684360" y="2421000"/>
            <a:ext cx="8137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92929"/>
                </a:solidFill>
                <a:latin typeface="Arial"/>
              </a:rPr>
              <a:t>Использование профилактическо-коррекционных методов в режиме дня (на неделю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strips dir="r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4f674b"/>
            </a:gs>
            <a:gs pos="50000">
              <a:srgbClr val="abdea2"/>
            </a:gs>
            <a:gs pos="100000">
              <a:srgbClr val="4f674b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8" name=""/>
          <p:cNvGraphicFramePr/>
          <p:nvPr/>
        </p:nvGraphicFramePr>
        <p:xfrm>
          <a:off x="468360" y="189000"/>
          <a:ext cx="8229600" cy="5956200"/>
        </p:xfrm>
        <a:graphic>
          <a:graphicData uri="http://schemas.openxmlformats.org/drawingml/2006/table">
            <a:tbl>
              <a:tblPr/>
              <a:tblGrid>
                <a:gridCol w="730080"/>
                <a:gridCol w="2078280"/>
                <a:gridCol w="2232000"/>
                <a:gridCol w="1738080"/>
                <a:gridCol w="1451160"/>
              </a:tblGrid>
              <a:tr h="1116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нь недел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4c8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посредственно образовательная деятельно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4c8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разовательная деятельность в режимных момента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4c8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амостоятельная деятельность дете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4c8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заимодействие с родителям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4c866"/>
                    </a:solidFill>
                  </a:tcPr>
                </a:tc>
              </a:tr>
              <a:tr h="484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недельни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Тема: «Составление рассказа по сюжетным картинкам» на тему: «Зимние развлечения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водная часть: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ртикуляционное упражнение «Заборчик-трубочка»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новная часть: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альчиковая игра «Раз, два, три, четыре, пять»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/и «Скажи-наоборот»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тро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Прием и осмотр детей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Пальчиковое упражнение» «Повстречались»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см.картотеку)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Утренняя гимнастика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ыхательное упражнение «Воздушный шар»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см.картотеку)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Беседа «Чудесные снежинки»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Хороводная игра «Ой, что за народ за Морозом идет»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нести картину «Зимние забавы» - формировать умени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 advTm="3000">
    <p:strips dir="r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4f674b"/>
            </a:gs>
            <a:gs pos="50000">
              <a:srgbClr val="abdea2"/>
            </a:gs>
            <a:gs pos="100000">
              <a:srgbClr val="4f674b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9" name=""/>
          <p:cNvGraphicFramePr/>
          <p:nvPr/>
        </p:nvGraphicFramePr>
        <p:xfrm>
          <a:off x="457200" y="277920"/>
          <a:ext cx="8229600" cy="5762520"/>
        </p:xfrm>
        <a:graphic>
          <a:graphicData uri="http://schemas.openxmlformats.org/drawingml/2006/table">
            <a:tbl>
              <a:tblPr/>
              <a:tblGrid>
                <a:gridCol w="730080"/>
                <a:gridCol w="2016360"/>
                <a:gridCol w="2232000"/>
                <a:gridCol w="1800360"/>
                <a:gridCol w="1450800"/>
              </a:tblGrid>
              <a:tr h="1135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нь недел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4c8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посредственно образовательная деятельно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4c8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разовательная деятельность в режимных момента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4c8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амостоятельная деятельность дете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4c8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заимодействие с родителям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4c866"/>
                    </a:solidFill>
                  </a:tcPr>
                </a:tc>
              </a:tr>
              <a:tr h="462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ключительная часть: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сихогимнастическое упражнение: «Дед Мороз в сентябре»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см.картотеку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 Индивидуальная работа с Ульяной Г., Владом В., Настей К. – совершенствовать умение находить предметы разной геометрической формы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гулка 1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Наблюдение за снегом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ловесная игра «Какой снег»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 побудить детей назвать глаголы к слову «снег» (летает, кружиться, сверкает, тает и т.д.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ссматривать иллюстрации самостоятельно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нести лопатки, ведерки для игр со снегом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сультация для родителей «Разноцветные физкульт минутки»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 advTm="3000">
    <p:strips dir="r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4f674b"/>
            </a:gs>
            <a:gs pos="50000">
              <a:srgbClr val="abdea2"/>
            </a:gs>
            <a:gs pos="100000">
              <a:srgbClr val="4f674b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0" name=""/>
          <p:cNvGraphicFramePr/>
          <p:nvPr/>
        </p:nvGraphicFramePr>
        <p:xfrm>
          <a:off x="468360" y="189000"/>
          <a:ext cx="8229600" cy="6005520"/>
        </p:xfrm>
        <a:graphic>
          <a:graphicData uri="http://schemas.openxmlformats.org/drawingml/2006/table">
            <a:tbl>
              <a:tblPr/>
              <a:tblGrid>
                <a:gridCol w="730080"/>
                <a:gridCol w="2016360"/>
                <a:gridCol w="2232000"/>
                <a:gridCol w="1800000"/>
                <a:gridCol w="1451160"/>
              </a:tblGrid>
              <a:tr h="1125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нь недел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4c8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посредственно образовательная деятельно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4c8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разовательная деятельность в режимных момента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4c8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амостоятельная деятельность дете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4c8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заимодействие с родителям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4c866"/>
                    </a:solidFill>
                  </a:tcPr>
                </a:tc>
              </a:tr>
              <a:tr h="488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Индивидуальная работ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сихогимнастический этюд – «Заячья избушка»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см. картотеку)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Подвижная игра «Снег кружиться» (соотносить действие с текстом)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ечер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степенный подъем, гимнастика после сна с элементами  зрительной гимнастики «Смотри по сторонам»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нести конструктор «Лего»- формировать у детей усидчивость, развивать фантазию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рекомен-довать родителям Лизы М., Димы К., Андрея А.- закрепить навык лепки круглых предмет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 advTm="3000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2"/>
          <p:cNvSpPr/>
          <p:nvPr/>
        </p:nvSpPr>
        <p:spPr>
          <a:xfrm>
            <a:off x="826920" y="1484280"/>
            <a:ext cx="7848720" cy="29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словия возникновения опыт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езультаты диагностики уровня развития (на начало учебного года) вновь прибывших детей трёхлетнего возраста показали, что у большинства дошкольников слабо развита речь, нарушено звукопроизношени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 30% детей имеется диагноз: задержка речевого развития, поэтому возникла необходимость в разработке профилактико-коррекционных комплекс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strips dir="r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4f674b"/>
            </a:gs>
            <a:gs pos="50000">
              <a:srgbClr val="abdea2"/>
            </a:gs>
            <a:gs pos="100000">
              <a:srgbClr val="4f674b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1" name=""/>
          <p:cNvGraphicFramePr/>
          <p:nvPr/>
        </p:nvGraphicFramePr>
        <p:xfrm>
          <a:off x="468360" y="189000"/>
          <a:ext cx="8229600" cy="6640560"/>
        </p:xfrm>
        <a:graphic>
          <a:graphicData uri="http://schemas.openxmlformats.org/drawingml/2006/table">
            <a:tbl>
              <a:tblPr/>
              <a:tblGrid>
                <a:gridCol w="730080"/>
                <a:gridCol w="2016360"/>
                <a:gridCol w="2232000"/>
                <a:gridCol w="1800000"/>
                <a:gridCol w="1451160"/>
              </a:tblGrid>
              <a:tr h="1131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нь недел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4c8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посредственно образовательная деятельно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4c8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разовательная деятельность в режимных момента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4c8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амостоятельная деятельность дете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4c8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заимодействие с родителям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4c866"/>
                    </a:solidFill>
                  </a:tcPr>
                </a:tc>
              </a:tr>
              <a:tr h="550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дивидуальная работа с Андреем А., Ваней Е.,Ксюшей Т.- навыки самообслуживания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уд.литература: Г.Ладонщиков «Зимушка-зима»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гра – драмматизация «Зимовье зверей»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гулка 2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блюдение за птицам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дивидуальная работа с Миланой К., Сашей П., Машей О.- закрепить времена год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движная игра «Два Мороза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 advTm="3000">
    <p:strips dir="r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4f674b"/>
            </a:gs>
            <a:gs pos="100000">
              <a:srgbClr val="abdea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2" name=""/>
          <p:cNvGraphicFramePr/>
          <p:nvPr/>
        </p:nvGraphicFramePr>
        <p:xfrm>
          <a:off x="468360" y="189000"/>
          <a:ext cx="8229600" cy="5810040"/>
        </p:xfrm>
        <a:graphic>
          <a:graphicData uri="http://schemas.openxmlformats.org/drawingml/2006/table">
            <a:tbl>
              <a:tblPr/>
              <a:tblGrid>
                <a:gridCol w="730080"/>
                <a:gridCol w="2078280"/>
                <a:gridCol w="2232000"/>
                <a:gridCol w="1738080"/>
                <a:gridCol w="1451160"/>
              </a:tblGrid>
              <a:tr h="1132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нь недел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4c8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посредственно образовательная деятельно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4c8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разовательная деятельность в режимных момента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4c8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амостоятельная деятельность дете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4c8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заимодействие с родителям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4c866"/>
                    </a:solidFill>
                  </a:tcPr>
                </a:tc>
              </a:tr>
              <a:tr h="467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торни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Тема: «Геометрические фигуры, цифра 5» на тему: «Зимние развлечения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водная часть: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ыхательное упражнение «Насос»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новная часть: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/и «Четвертый - лишний»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сихогимнастическое упражнение «Снегурочка ожила».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см.картотеку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тро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Прием и осмотр детей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ртикуляционное упражнение «Чашечка»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см.картотеку)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Утренняя гимнастика с элементами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альчиковой гимнастики «Дом»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см.картотеку)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Рассмотреть картину «Зимний лес» - воспитать у детей любовь к природе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нести предметные картинки с изображениями ели, березы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 advTm="3000">
    <p:strips dir="r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4f674b"/>
            </a:gs>
            <a:gs pos="100000">
              <a:srgbClr val="abdea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3" name=""/>
          <p:cNvGraphicFramePr/>
          <p:nvPr/>
        </p:nvGraphicFramePr>
        <p:xfrm>
          <a:off x="468360" y="189000"/>
          <a:ext cx="8229600" cy="6297480"/>
        </p:xfrm>
        <a:graphic>
          <a:graphicData uri="http://schemas.openxmlformats.org/drawingml/2006/table">
            <a:tbl>
              <a:tblPr/>
              <a:tblGrid>
                <a:gridCol w="730080"/>
                <a:gridCol w="2078280"/>
                <a:gridCol w="2232000"/>
                <a:gridCol w="1738080"/>
                <a:gridCol w="1451160"/>
              </a:tblGrid>
              <a:tr h="1133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нь недел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4c8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посредственно образовательная деятельно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4c8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разовательная деятельность в режимных момента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4c8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амостоятельная деятельность дете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4c8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заимодействие с родителям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4c866"/>
                    </a:solidFill>
                  </a:tcPr>
                </a:tc>
              </a:tr>
              <a:tr h="516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идактическая игра «Сочиняем сказку»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см.картотеку) – развивать связную речь детей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 Индивидуальная работа с Тимофеем Л., Ариной Т., Кристиной Ш. – закрепить умение раскатывать комочки пластилина круговыми движениям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 Дежурство по столовой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гулка 1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Наблюдение за солнцем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нести лыжи, лопатк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рекомендовать родителям по дороге в д/с или домой обратить внимание детей на снег, его свойства, красоту. Закрепить с Д. название геометрических фигур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 advTm="3000">
    <p:strips dir="r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4f674b"/>
            </a:gs>
            <a:gs pos="100000">
              <a:srgbClr val="abdea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4" name=""/>
          <p:cNvGraphicFramePr/>
          <p:nvPr/>
        </p:nvGraphicFramePr>
        <p:xfrm>
          <a:off x="468360" y="189000"/>
          <a:ext cx="8229600" cy="6054480"/>
        </p:xfrm>
        <a:graphic>
          <a:graphicData uri="http://schemas.openxmlformats.org/drawingml/2006/table">
            <a:tbl>
              <a:tblPr/>
              <a:tblGrid>
                <a:gridCol w="730080"/>
                <a:gridCol w="2078280"/>
                <a:gridCol w="2232000"/>
                <a:gridCol w="1738080"/>
                <a:gridCol w="1451160"/>
              </a:tblGrid>
              <a:tr h="113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нь недел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4c8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посредственно образовательная деятельно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4c8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разовательная деятельность в режимных момента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4c8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амостоятельная деятельность дете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4c8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заимодействие с родителям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4c866"/>
                    </a:solidFill>
                  </a:tcPr>
                </a:tc>
              </a:tr>
              <a:tr h="492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Индивидуальная работа с Данилом К., Дашей М., Ангелиной Е. – закрепить прыжки на 2 ногах с продвижениями вперед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П/и «Мы веселые ребята» - действовать по сигналу воспитателя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ечер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степенный подъем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имнастика после сна с элементами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ыхательной гимнастики «Когда это бывает?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нести картину «Зимние забавы» - формировать умени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 advTm="3000">
    <p:strips dir="r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4f674b"/>
            </a:gs>
            <a:gs pos="100000">
              <a:srgbClr val="abdea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5" name=""/>
          <p:cNvGraphicFramePr/>
          <p:nvPr/>
        </p:nvGraphicFramePr>
        <p:xfrm>
          <a:off x="468360" y="189000"/>
          <a:ext cx="8229600" cy="5976720"/>
        </p:xfrm>
        <a:graphic>
          <a:graphicData uri="http://schemas.openxmlformats.org/drawingml/2006/table">
            <a:tbl>
              <a:tblPr/>
              <a:tblGrid>
                <a:gridCol w="730080"/>
                <a:gridCol w="2078280"/>
                <a:gridCol w="2232000"/>
                <a:gridCol w="1738080"/>
                <a:gridCol w="1451160"/>
              </a:tblGrid>
              <a:tr h="1135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нь недел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4c8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посредственно образовательная деятельно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4c8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разовательная деятельность в режимных момента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4c8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амостоятельная деятельность дете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4c8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заимодействие с родителям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4c866"/>
                    </a:solidFill>
                  </a:tcPr>
                </a:tc>
              </a:tr>
              <a:tr h="484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см.картотеку)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дивидуальная работа с Кристиной Ш., Андреем П., Ксюшей Т.- самостоятельно одеваться в определенной последовательност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/р игра «Семья» - учить Д разбивать сюжет на основе знаний, полученных при восприятии окружающего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нести атрибуты к с/р игре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 advTm="3000">
    <p:strips dir="rd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4f674b"/>
            </a:gs>
            <a:gs pos="100000">
              <a:srgbClr val="abdea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6" name=""/>
          <p:cNvGraphicFramePr/>
          <p:nvPr/>
        </p:nvGraphicFramePr>
        <p:xfrm>
          <a:off x="468360" y="189000"/>
          <a:ext cx="8229600" cy="6005520"/>
        </p:xfrm>
        <a:graphic>
          <a:graphicData uri="http://schemas.openxmlformats.org/drawingml/2006/table">
            <a:tbl>
              <a:tblPr/>
              <a:tblGrid>
                <a:gridCol w="730080"/>
                <a:gridCol w="2078280"/>
                <a:gridCol w="2232000"/>
                <a:gridCol w="1738080"/>
                <a:gridCol w="1451160"/>
              </a:tblGrid>
              <a:tr h="1135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нь недел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4c8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посредственно образовательная деятельно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4c8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разовательная деятельность в режимных момента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4c8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амостоятельная деятельность дете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4c8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заимодействие с родителям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4c866"/>
                    </a:solidFill>
                  </a:tcPr>
                </a:tc>
              </a:tr>
              <a:tr h="487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особствовать установлению в игре ролевых взаимоотношений; воспитать любовь к родным людям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гулка 2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Наблюдение за елью – формировать представление о строении ел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Индивидуальная работа с Есенией С., Усманом М., Семеном Р. Закрепить умение бросать мяч вверх и ловить его двумя рукам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нести санки, лыжи создать радостное настроение. Развивать двигательную активность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 advTm="3000">
    <p:strips dir="rd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4f674b"/>
            </a:gs>
            <a:gs pos="100000">
              <a:srgbClr val="abdea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7" name=""/>
          <p:cNvGraphicFramePr/>
          <p:nvPr/>
        </p:nvGraphicFramePr>
        <p:xfrm>
          <a:off x="468360" y="189000"/>
          <a:ext cx="8229600" cy="5976720"/>
        </p:xfrm>
        <a:graphic>
          <a:graphicData uri="http://schemas.openxmlformats.org/drawingml/2006/table">
            <a:tbl>
              <a:tblPr/>
              <a:tblGrid>
                <a:gridCol w="730080"/>
                <a:gridCol w="2078280"/>
                <a:gridCol w="2232000"/>
                <a:gridCol w="1738080"/>
                <a:gridCol w="1451160"/>
              </a:tblGrid>
              <a:tr h="1135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нь недел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4c8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посредственно образовательная деятельно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4c8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разовательная деятельность в режимных момента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4c8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амостоятельная деятельность дете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4c8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заимодействие с родителям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4c866"/>
                    </a:solidFill>
                  </a:tcPr>
                </a:tc>
              </a:tr>
              <a:tr h="484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Игры с выносным материалом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П/и «Кто дальше бросит» - упражнять в метании снежков на дальность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 advTm="3000">
    <p:strips dir="rd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4f674b"/>
            </a:gs>
            <a:gs pos="50000">
              <a:srgbClr val="abdea2"/>
            </a:gs>
            <a:gs pos="100000">
              <a:srgbClr val="4f674b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8" name=""/>
          <p:cNvGraphicFramePr/>
          <p:nvPr/>
        </p:nvGraphicFramePr>
        <p:xfrm>
          <a:off x="468360" y="189000"/>
          <a:ext cx="8229600" cy="6103800"/>
        </p:xfrm>
        <a:graphic>
          <a:graphicData uri="http://schemas.openxmlformats.org/drawingml/2006/table">
            <a:tbl>
              <a:tblPr/>
              <a:tblGrid>
                <a:gridCol w="730080"/>
                <a:gridCol w="2078280"/>
                <a:gridCol w="2232000"/>
                <a:gridCol w="1738080"/>
                <a:gridCol w="1451160"/>
              </a:tblGrid>
              <a:tr h="1135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нь недел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4c8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посредственно образовательная деятельно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4c8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разовательная деятельность в режимных момента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4c8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амостоятельная деятельность дете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4c8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заимодействие с родителям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4c866"/>
                    </a:solidFill>
                  </a:tcPr>
                </a:tc>
              </a:tr>
              <a:tr h="496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ед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Тема: «Снеговик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водная часть: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альчиковая гимнастика «Колечки»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новная часть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/и «Собери снеговика»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ключительная часть: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сихогимнастическое упражнение: «Снеговик»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см.картотеку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тро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Прием и осмотр детей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идактическая игра «Вьюга»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см.картотеку)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Утренняя гимнастика элементами зрительной гимнастики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Белые снежинки»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см.картотеку)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Заучивание стихотворения И.Сурикова «Зима» - развивать интонацию выражения реч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нести мячи, скакалки, обручи – для самостоятельной деятельност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 advTm="3000">
    <p:strips dir="rd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4f674b"/>
            </a:gs>
            <a:gs pos="50000">
              <a:srgbClr val="abdea2"/>
            </a:gs>
            <a:gs pos="100000">
              <a:srgbClr val="4f674b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9" name=""/>
          <p:cNvGraphicFramePr/>
          <p:nvPr/>
        </p:nvGraphicFramePr>
        <p:xfrm>
          <a:off x="457200" y="277920"/>
          <a:ext cx="8229600" cy="6297480"/>
        </p:xfrm>
        <a:graphic>
          <a:graphicData uri="http://schemas.openxmlformats.org/drawingml/2006/table">
            <a:tbl>
              <a:tblPr/>
              <a:tblGrid>
                <a:gridCol w="730080"/>
                <a:gridCol w="2016360"/>
                <a:gridCol w="2232000"/>
                <a:gridCol w="1800360"/>
                <a:gridCol w="1450800"/>
              </a:tblGrid>
              <a:tr h="1133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нь недел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4c8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посредственно образовательная деятельно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4c8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разовательная деятельность в режимных момента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4c8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амостоятельная деятельность дете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4c8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заимодействие с родителям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4c866"/>
                    </a:solidFill>
                  </a:tcPr>
                </a:tc>
              </a:tr>
              <a:tr h="516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Индивидуальная работа с Ариной Т, Ваней Е, Миланой К – закрепить счет до 5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 КГН во время умывания – пользоваться мылом, полотенце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гулка 1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Наблюдение за машинами – классификация, назначение машин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Индивидуальная работа с Андреем А, Ульяной Г,  Владом В – стоять на одной ноге, сохраняя равновесие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нести лопатки для разгребания снега, рули для с/р игры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дложить родителям Тимофея Л, Димы К, Лизы М поупражняться в рисовании предметов круглой формы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 advTm="3000">
    <p:strips dir="rd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4f674b"/>
            </a:gs>
            <a:gs pos="50000">
              <a:srgbClr val="abdea2"/>
            </a:gs>
            <a:gs pos="100000">
              <a:srgbClr val="4f674b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0" name=""/>
          <p:cNvGraphicFramePr/>
          <p:nvPr/>
        </p:nvGraphicFramePr>
        <p:xfrm>
          <a:off x="468360" y="189000"/>
          <a:ext cx="8229600" cy="6103800"/>
        </p:xfrm>
        <a:graphic>
          <a:graphicData uri="http://schemas.openxmlformats.org/drawingml/2006/table">
            <a:tbl>
              <a:tblPr/>
              <a:tblGrid>
                <a:gridCol w="730080"/>
                <a:gridCol w="2016360"/>
                <a:gridCol w="2232000"/>
                <a:gridCol w="1800000"/>
                <a:gridCol w="1451160"/>
              </a:tblGrid>
              <a:tr h="113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нь недел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4c8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посредственно образовательная деятельно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4c8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разовательная деятельность в режимных момента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4c8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амостоятельная деятельность дете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4c8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заимодействие с родителям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4c866"/>
                    </a:solidFill>
                  </a:tcPr>
                </a:tc>
              </a:tr>
              <a:tr h="49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С/р игра «Путешествие» - закрепить з.у.и.н по ПДД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П/и «Ловишки» - упражнять в беге в рассыпную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ечер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степенный подъем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имнастика после сна с элементами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сихогимнастики «Крошка Енот»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см.картотеку)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дивидуальная работа с Соней П, Борисом С, Кристиной Ш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 advTm="3000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2"/>
          <p:cNvSpPr/>
          <p:nvPr/>
        </p:nvSpPr>
        <p:spPr>
          <a:xfrm>
            <a:off x="468360" y="189000"/>
            <a:ext cx="8496360" cy="59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Актуальност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Состояние здоровья поколения в настоящее время вызывает особую озабоченность в государстве и в обществ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о данным НИИ гигиены и охраны здоровья детей РАМН, за последнее время число здоровых дошкольников уменьшилось в 5 раз и составляет лишь около 10% общего количества детей, поступающих в школ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 ряду функциональных отклонений здоровья детей самую многочисленную группу составляют воспитанники с нарушениями речевого развития, особенно заметен рост недостатков звукопроизношения. Эти дети составляют основную группу риска по школьной неуспеваемости. В период обучения грамоте правильное, четкое звукопроизношение имеет большое значение, так как письменная речь формируется на основе устной и её недостатки могут привести к нарушению чтения и письм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 связи с этим такие направления деятельности ДУ, как диагностико-коррекционное и профилактическо-оздоровительное, становятся приоритетны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У детей всё чаще стали выявляться признаки сочетанного нарушения речевого и психического развития. Это заставляет модифицировать привычные формы, методы и содержание профилактической и коррекционной работы, заниматься не только устранением собственно речевых нарушений, но и преодолением недостатков в развитии неязыковых функций и процессов, поиском путей укрепления детского здоровь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strips dir="rd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4f674b"/>
            </a:gs>
            <a:gs pos="50000">
              <a:srgbClr val="abdea2"/>
            </a:gs>
            <a:gs pos="100000">
              <a:srgbClr val="4f674b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1" name=""/>
          <p:cNvGraphicFramePr/>
          <p:nvPr/>
        </p:nvGraphicFramePr>
        <p:xfrm>
          <a:off x="468360" y="189000"/>
          <a:ext cx="8229600" cy="6297480"/>
        </p:xfrm>
        <a:graphic>
          <a:graphicData uri="http://schemas.openxmlformats.org/drawingml/2006/table">
            <a:tbl>
              <a:tblPr/>
              <a:tblGrid>
                <a:gridCol w="730080"/>
                <a:gridCol w="2016360"/>
                <a:gridCol w="2232000"/>
                <a:gridCol w="1800000"/>
                <a:gridCol w="1451160"/>
              </a:tblGrid>
              <a:tr h="1133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нь недел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4c8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посредственно образовательная деятельно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4c8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разовательная деятельность в режимных момента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4c8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амостоятельная деятельность дете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4c8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заимодействие с родителям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4c866"/>
                    </a:solidFill>
                  </a:tcPr>
                </a:tc>
              </a:tr>
              <a:tr h="516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buClr>
                          <a:srgbClr val="cc9900"/>
                        </a:buClr>
                        <a:buSzPct val="65000"/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крепить умение правильно застегивать сандал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cc9900"/>
                        </a:buClr>
                        <a:buSzPct val="65000"/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влечение «Поляна сказок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cc9900"/>
                        </a:buClr>
                        <a:buSzPct val="65000"/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обогащать эмоции детей, вовлекать в импровизацию, формировать умение обсуждать содержание сказки, воспитать интерес к сказкам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гулка 2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Наблюдение за ветром. Формировать умение определять наличие и направление ветр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нести вертушки для определения направления ветр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 advTm="3000">
    <p:strips dir="rd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4f674b"/>
            </a:gs>
            <a:gs pos="50000">
              <a:srgbClr val="abdea2"/>
            </a:gs>
            <a:gs pos="100000">
              <a:srgbClr val="4f674b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2" name=""/>
          <p:cNvGraphicFramePr/>
          <p:nvPr/>
        </p:nvGraphicFramePr>
        <p:xfrm>
          <a:off x="468360" y="189000"/>
          <a:ext cx="8229600" cy="4249800"/>
        </p:xfrm>
        <a:graphic>
          <a:graphicData uri="http://schemas.openxmlformats.org/drawingml/2006/table">
            <a:tbl>
              <a:tblPr/>
              <a:tblGrid>
                <a:gridCol w="730080"/>
                <a:gridCol w="2016360"/>
                <a:gridCol w="2232000"/>
                <a:gridCol w="1800000"/>
                <a:gridCol w="1451160"/>
              </a:tblGrid>
              <a:tr h="113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нь недел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4c8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посредственно образовательная деятельно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4c8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разовательная деятельность в режимных момента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4c8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амостоятельная деятельность дете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4c8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заимодействие с родителям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4c866"/>
                    </a:solidFill>
                  </a:tcPr>
                </a:tc>
              </a:tr>
              <a:tr h="311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Индивидуальная работа с Тимошей Л, Димой К, Лизой М - закрепить части суток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Игры с выносным материалом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П/и «У оленя дом большой». Закреплять умение соотносить движение с текстом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 advTm="3000">
    <p:strips dir="rd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4f674b"/>
            </a:gs>
            <a:gs pos="100000">
              <a:srgbClr val="abdea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3" name=""/>
          <p:cNvGraphicFramePr/>
          <p:nvPr/>
        </p:nvGraphicFramePr>
        <p:xfrm>
          <a:off x="468360" y="189000"/>
          <a:ext cx="8229600" cy="6054480"/>
        </p:xfrm>
        <a:graphic>
          <a:graphicData uri="http://schemas.openxmlformats.org/drawingml/2006/table">
            <a:tbl>
              <a:tblPr/>
              <a:tblGrid>
                <a:gridCol w="730080"/>
                <a:gridCol w="2078280"/>
                <a:gridCol w="2232000"/>
                <a:gridCol w="1738080"/>
                <a:gridCol w="1451160"/>
              </a:tblGrid>
              <a:tr h="1135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нь недел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4c8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посредственно образовательная деятельно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4c8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разовательная деятельность в режимных момента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4c8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амостоятельная деятельность дете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4c8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заимодействие с родителям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4c866"/>
                    </a:solidFill>
                  </a:tcPr>
                </a:tc>
              </a:tr>
              <a:tr h="491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твер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Тема: «Зимние забавы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водная часть: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ртикуляционное упражнение «Горка»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новная часть: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/и «Чего не стало?»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ключительная часть: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сихогимнастика «Снегурочка ожила»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см.картотеку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тро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Прием и осмотр детей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ртикуляционное упражнение «Индюк»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см.картотеку)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Утренняя гимнастика с элементами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сихогимнастики «Кот Васька»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см.картотеку)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Чтение р.н.с «Заюшкина избушка» - формировать умение слушать художественно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нести в группу раскраски, цветные карандаши, фломастер, листы белой бумаг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 advTm="3000">
    <p:strips dir="rd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4f674b"/>
            </a:gs>
            <a:gs pos="100000">
              <a:srgbClr val="abdea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4" name=""/>
          <p:cNvGraphicFramePr/>
          <p:nvPr/>
        </p:nvGraphicFramePr>
        <p:xfrm>
          <a:off x="468360" y="189000"/>
          <a:ext cx="8229600" cy="6249960"/>
        </p:xfrm>
        <a:graphic>
          <a:graphicData uri="http://schemas.openxmlformats.org/drawingml/2006/table">
            <a:tbl>
              <a:tblPr/>
              <a:tblGrid>
                <a:gridCol w="730080"/>
                <a:gridCol w="2078280"/>
                <a:gridCol w="2232000"/>
                <a:gridCol w="1738080"/>
                <a:gridCol w="1451160"/>
              </a:tblGrid>
              <a:tr h="1135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нь недел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4c8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посредственно образовательная деятельно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4c8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разовательная деятельность в режимных момента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4c8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амостоятельная деятельность дете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4c8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заимодействие с родителям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4c866"/>
                    </a:solidFill>
                  </a:tcPr>
                </a:tc>
              </a:tr>
              <a:tr h="511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изведение; развивать внимание, память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идактическая игра «Четвертый - лишний»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см.картотеку) – узнавать и называть лишние предметы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 Индивидуальная работа с Машей О, Даниилом К, Дариной К – пальчиковое упражнение «Ворота»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 Во время завтрака закрепить умение пользоваться салфеткой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нести лыжи, лопатк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 advTm="3000">
    <p:strips dir="rd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4f674b"/>
            </a:gs>
            <a:gs pos="100000">
              <a:srgbClr val="abdea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468360" y="189000"/>
          <a:ext cx="8229600" cy="6591240"/>
        </p:xfrm>
        <a:graphic>
          <a:graphicData uri="http://schemas.openxmlformats.org/drawingml/2006/table">
            <a:tbl>
              <a:tblPr/>
              <a:tblGrid>
                <a:gridCol w="730080"/>
                <a:gridCol w="2078280"/>
                <a:gridCol w="2232000"/>
                <a:gridCol w="1738080"/>
                <a:gridCol w="1451160"/>
              </a:tblGrid>
              <a:tr h="1135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нь недел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4c8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посредственно образовательная деятельно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4c8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разовательная деятельность в режимных момента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4c8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амостоятельная деятельность дете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4c8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заимодействие с родителям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4c866"/>
                    </a:solidFill>
                  </a:tcPr>
                </a:tc>
              </a:tr>
              <a:tr h="545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гулка 1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Наблюдение за погодой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Индивидуальная работа с Андреем А, Лизой М, Димой К – закрепить навыки хорошего отталкивания и приземления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П/и «Мороз – красный нос», «Мы веселые ребята» - формировать умение четко говорить текст в игре; соблюдать правила игры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ечер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Постепенный подъем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нести лыжи, лопатки, ведерк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нести кегли, обручи и скакалк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рекомендовать родителям обратить внимание детей на зимние деревья, понаблюдать за ними в разную погоду, высказать свои впечатления. Принести пластиковые стаканчики для конструирования снеговик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 advTm="3000">
    <p:strips dir="rd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4f674b"/>
            </a:gs>
            <a:gs pos="100000">
              <a:srgbClr val="abdea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6" name=""/>
          <p:cNvGraphicFramePr/>
          <p:nvPr/>
        </p:nvGraphicFramePr>
        <p:xfrm>
          <a:off x="468360" y="189000"/>
          <a:ext cx="8229600" cy="6200640"/>
        </p:xfrm>
        <a:graphic>
          <a:graphicData uri="http://schemas.openxmlformats.org/drawingml/2006/table">
            <a:tbl>
              <a:tblPr/>
              <a:tblGrid>
                <a:gridCol w="730080"/>
                <a:gridCol w="2078280"/>
                <a:gridCol w="2232000"/>
                <a:gridCol w="1738080"/>
                <a:gridCol w="1451160"/>
              </a:tblGrid>
              <a:tr h="1135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нь недел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4c8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посредственно образовательная деятельно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4c8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разовательная деятельность в режимных момента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4c8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амостоятельная деятельность дете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4c8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заимодействие с родителям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4c866"/>
                    </a:solidFill>
                  </a:tcPr>
                </a:tc>
              </a:tr>
              <a:tr h="50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имнастика после сна с элементами релаксации «Снеговик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Индивидуальная работа с Дашей М, Владой В, Ариной Т.- закреплять изменение выворачивать одежду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Игры детей с конструктором строительным материалом – развивать конструктивные навыки, фантазию, закрепить понятие «высота», «цвет»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 advTm="3000">
    <p:strips dir="rd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4f674b"/>
            </a:gs>
            <a:gs pos="100000">
              <a:srgbClr val="abdea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7" name=""/>
          <p:cNvGraphicFramePr/>
          <p:nvPr/>
        </p:nvGraphicFramePr>
        <p:xfrm>
          <a:off x="468360" y="189000"/>
          <a:ext cx="8229600" cy="5976720"/>
        </p:xfrm>
        <a:graphic>
          <a:graphicData uri="http://schemas.openxmlformats.org/drawingml/2006/table">
            <a:tbl>
              <a:tblPr/>
              <a:tblGrid>
                <a:gridCol w="730080"/>
                <a:gridCol w="2078280"/>
                <a:gridCol w="2232000"/>
                <a:gridCol w="1738080"/>
                <a:gridCol w="1451160"/>
              </a:tblGrid>
              <a:tr h="1135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нь недел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4c8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посредственно образовательная деятельно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4c8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разовательная деятельность в режимных момента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4c8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амостоятельная деятельность дете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4c8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заимодействие с родителям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4c866"/>
                    </a:solidFill>
                  </a:tcPr>
                </a:tc>
              </a:tr>
              <a:tr h="484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гулка 2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Наблюдение за трудом дворника – продолжать знакомство с трудом дворника, формировать желание приходить на помощь окружающим; воспитывать чувство уважения к труду взрослых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Индивидуальная работа с Миланой К, Димой К, Лизой М - закрепить умение прыгать с места и с разбег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нести клюшки, мяч для игры «Хоккей»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 advTm="3000">
    <p:strips dir="rd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4f674b"/>
            </a:gs>
            <a:gs pos="100000">
              <a:srgbClr val="abdea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8" name=""/>
          <p:cNvGraphicFramePr/>
          <p:nvPr/>
        </p:nvGraphicFramePr>
        <p:xfrm>
          <a:off x="468360" y="189000"/>
          <a:ext cx="8229600" cy="5976720"/>
        </p:xfrm>
        <a:graphic>
          <a:graphicData uri="http://schemas.openxmlformats.org/drawingml/2006/table">
            <a:tbl>
              <a:tblPr/>
              <a:tblGrid>
                <a:gridCol w="730080"/>
                <a:gridCol w="2078280"/>
                <a:gridCol w="2232000"/>
                <a:gridCol w="1738080"/>
                <a:gridCol w="1451160"/>
              </a:tblGrid>
              <a:tr h="1135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нь недел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4c8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посредственно образовательная деятельно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4c8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разовательная деятельность в режимных момента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4c8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амостоятельная деятельность дете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4c8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заимодействие с родителям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4c866"/>
                    </a:solidFill>
                  </a:tcPr>
                </a:tc>
              </a:tr>
              <a:tr h="484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Игры с выносным материалом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П/и «Метелица» - продолжать формировать умение бегать друг за другом не наталкиваясь на предметы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 advTm="3000">
    <p:strips dir="rd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4f674b"/>
            </a:gs>
            <a:gs pos="50000">
              <a:srgbClr val="abdea2"/>
            </a:gs>
            <a:gs pos="100000">
              <a:srgbClr val="4f674b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468360" y="189000"/>
          <a:ext cx="8229600" cy="6103800"/>
        </p:xfrm>
        <a:graphic>
          <a:graphicData uri="http://schemas.openxmlformats.org/drawingml/2006/table">
            <a:tbl>
              <a:tblPr/>
              <a:tblGrid>
                <a:gridCol w="730080"/>
                <a:gridCol w="2078280"/>
                <a:gridCol w="2232000"/>
                <a:gridCol w="1738080"/>
                <a:gridCol w="1451160"/>
              </a:tblGrid>
              <a:tr h="113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нь недел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4c8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посредственно образовательная деятельно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4c8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разовательная деятельность в режимных момента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4c8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амостоятельная деятельность дете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4c8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заимодействие с родителям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4c866"/>
                    </a:solidFill>
                  </a:tcPr>
                </a:tc>
              </a:tr>
              <a:tr h="49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ятниц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Тема: «Веселый снеговик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водная часть: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ртикуляционное упражнение «Заборчик-трубочка»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новная часть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/и «Скажи наоборот»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ключительная часть: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сихогимнастическое упражнение: «Снеговик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тро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Прием и осмотр детей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ыхательное упражнение «Определили место игрушки»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см.картотеку)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Утренняя гимнастика с элементами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альчиковой гимнастики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Замок»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см.картотеку)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Рассмотреть с детьми предметы, украшенные разными узорами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нести альбом с изображе-ниями разных пейзажей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 advTm="3000">
    <p:strips dir="rd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4f674b"/>
            </a:gs>
            <a:gs pos="50000">
              <a:srgbClr val="abdea2"/>
            </a:gs>
            <a:gs pos="100000">
              <a:srgbClr val="4f674b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0" name=""/>
          <p:cNvGraphicFramePr/>
          <p:nvPr/>
        </p:nvGraphicFramePr>
        <p:xfrm>
          <a:off x="457200" y="277920"/>
          <a:ext cx="8229600" cy="5956200"/>
        </p:xfrm>
        <a:graphic>
          <a:graphicData uri="http://schemas.openxmlformats.org/drawingml/2006/table">
            <a:tbl>
              <a:tblPr/>
              <a:tblGrid>
                <a:gridCol w="730080"/>
                <a:gridCol w="2016360"/>
                <a:gridCol w="2232000"/>
                <a:gridCol w="1800360"/>
                <a:gridCol w="1450800"/>
              </a:tblGrid>
              <a:tr h="1135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нь недел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4c8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посредственно образовательная деятельно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4c8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разовательная деятельность в режимных момента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4c8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амостоятельная деятельность дете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4c8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заимодействие с родителям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4c866"/>
                    </a:solidFill>
                  </a:tcPr>
                </a:tc>
              </a:tr>
              <a:tr h="482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ратить внимание на форму и цвет узоров – развивать композиционные умения, цветовое восприятие, закрепить форму (круг, квадрат, треугольник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идактическая игра «Малыши спрятались»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см.картотеку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 Индивидуальная работа с Борисом С, Кристиной Ш, Усманом М – закрепить признаки зимы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 advTm="3000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2"/>
          <p:cNvSpPr/>
          <p:nvPr/>
        </p:nvSpPr>
        <p:spPr>
          <a:xfrm>
            <a:off x="539640" y="692280"/>
            <a:ext cx="8137800" cy="32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Негативное влияние на речевое развитие ребёнка оказывает неправильная речь окружающих. Такой же негативный эффект для ребенка раннего возраста может дать постоянно включенный телевизор или радиоприёмник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Кроме того, в последнее время многие родители стали уделять меньше времени общению со своим ребёнком, часто заменяя себя компьютером или откупаясь от него дорогими, но пустыми в плане развития игрушка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Современный дошкольник отличается наслушенностью, говорит много, но плох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оэтому педагогам ДОУ крайне важно вести разъяснительную и консультативную работу с родителями по привлечению их к активному участию их в речевом развитии своего ребенк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strips dir="rd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4f674b"/>
            </a:gs>
            <a:gs pos="50000">
              <a:srgbClr val="abdea2"/>
            </a:gs>
            <a:gs pos="100000">
              <a:srgbClr val="4f674b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1" name=""/>
          <p:cNvGraphicFramePr/>
          <p:nvPr/>
        </p:nvGraphicFramePr>
        <p:xfrm>
          <a:off x="468360" y="189000"/>
          <a:ext cx="8229600" cy="6249960"/>
        </p:xfrm>
        <a:graphic>
          <a:graphicData uri="http://schemas.openxmlformats.org/drawingml/2006/table">
            <a:tbl>
              <a:tblPr/>
              <a:tblGrid>
                <a:gridCol w="730080"/>
                <a:gridCol w="2016360"/>
                <a:gridCol w="2232000"/>
                <a:gridCol w="1800000"/>
                <a:gridCol w="1451160"/>
              </a:tblGrid>
              <a:tr h="1135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нь недел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4c8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посредственно образовательная деятельно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4c8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разовательная деятельность в режимных момента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4c8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амостоятельная деятельность дете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4c8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заимодействие с родителям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4c866"/>
                    </a:solidFill>
                  </a:tcPr>
                </a:tc>
              </a:tr>
              <a:tr h="511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 Во время обеда закрепить умение правильно держать ложку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гулка 1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Наблюдение за синицей – познакомить с синицей, ее повадками, средой обитания, особенностями внешнего вид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Индивидуальная работа с Миланой К, Данилом К – закрепить умение прыгать в высоту, развивать силу, ловкость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нести кормушки и корм для птиц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дложить родителям найти картинки с изображением зимующих птиц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 advTm="3000">
    <p:strips dir="rd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4f674b"/>
            </a:gs>
            <a:gs pos="50000">
              <a:srgbClr val="abdea2"/>
            </a:gs>
            <a:gs pos="100000">
              <a:srgbClr val="4f674b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468360" y="189000"/>
          <a:ext cx="8229600" cy="6541920"/>
        </p:xfrm>
        <a:graphic>
          <a:graphicData uri="http://schemas.openxmlformats.org/drawingml/2006/table">
            <a:tbl>
              <a:tblPr/>
              <a:tblGrid>
                <a:gridCol w="730080"/>
                <a:gridCol w="2016360"/>
                <a:gridCol w="2232000"/>
                <a:gridCol w="1800000"/>
                <a:gridCol w="1451160"/>
              </a:tblGrid>
              <a:tr h="113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нь недел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4c8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посредственно образовательная деятельно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4c8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разовательная деятельность в режимных момента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4c8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амостоятельная деятельность дете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4c8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заимодействие с родителям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4c866"/>
                    </a:solidFill>
                  </a:tcPr>
                </a:tc>
              </a:tr>
              <a:tr h="540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П/и «Перелет птиц» - упражнять в лазанье, спрыгивание с лестницы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ечер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степенный подъем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имнастика после сна с элементами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рительной гимнастики «Слоник»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см.картотеку)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дивидуальная работа с Машей О, Ангелиной Е, Дариной К - закрепить умение застегивать пуговицы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нести атрибуты для сюжетно-ролевой игр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 advTm="3000">
    <p:strips dir="rd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4f674b"/>
            </a:gs>
            <a:gs pos="50000">
              <a:srgbClr val="abdea2"/>
            </a:gs>
            <a:gs pos="100000">
              <a:srgbClr val="4f674b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3" name=""/>
          <p:cNvGraphicFramePr/>
          <p:nvPr/>
        </p:nvGraphicFramePr>
        <p:xfrm>
          <a:off x="468360" y="189000"/>
          <a:ext cx="8229600" cy="6005520"/>
        </p:xfrm>
        <a:graphic>
          <a:graphicData uri="http://schemas.openxmlformats.org/drawingml/2006/table">
            <a:tbl>
              <a:tblPr/>
              <a:tblGrid>
                <a:gridCol w="730080"/>
                <a:gridCol w="2016360"/>
                <a:gridCol w="2232000"/>
                <a:gridCol w="1800000"/>
                <a:gridCol w="1451160"/>
              </a:tblGrid>
              <a:tr h="1135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нь недел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4c8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посредственно образовательная деятельно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4c8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разовательная деятельность в режимных момента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4c8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амостоятельная деятельность дете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4c8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заимодействие с родителям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4c866"/>
                    </a:solidFill>
                  </a:tcPr>
                </a:tc>
              </a:tr>
              <a:tr h="487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buClr>
                          <a:srgbClr val="cc9900"/>
                        </a:buClr>
                        <a:buSzPct val="65000"/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/р игра «Угостим гостей чаем» - способствовать развитию сюжета, формировать умение выполнять роль до конц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cc9900"/>
                        </a:buClr>
                        <a:buSzPct val="65000"/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гулка 2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Наблюдение за снегопадом – закреплять знания о сезонном явлении «Снегопаде»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Индивидуальная работа с Димой К, Настей К – упражнять в названии птиц по описанию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нести лопатки, ведерки для игры со снегом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 advTm="3000">
    <p:strips dir="rd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4f674b"/>
            </a:gs>
            <a:gs pos="50000">
              <a:srgbClr val="abdea2"/>
            </a:gs>
            <a:gs pos="100000">
              <a:srgbClr val="4f674b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4" name=""/>
          <p:cNvGraphicFramePr/>
          <p:nvPr/>
        </p:nvGraphicFramePr>
        <p:xfrm>
          <a:off x="468360" y="189000"/>
          <a:ext cx="8229600" cy="3957480"/>
        </p:xfrm>
        <a:graphic>
          <a:graphicData uri="http://schemas.openxmlformats.org/drawingml/2006/table">
            <a:tbl>
              <a:tblPr/>
              <a:tblGrid>
                <a:gridCol w="730080"/>
                <a:gridCol w="2016360"/>
                <a:gridCol w="2232000"/>
                <a:gridCol w="1800000"/>
                <a:gridCol w="1451160"/>
              </a:tblGrid>
              <a:tr h="1135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нь недел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4c8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посредственно образовательная деятельно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4c8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разовательная деятельность в режимных момента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4c8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амостоятельная деятельность дете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4c8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заимодействие с родителям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4c866"/>
                    </a:solidFill>
                  </a:tcPr>
                </a:tc>
              </a:tr>
              <a:tr h="282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Игры с выносным материалом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П/и «Дед Мороз», «Снег кружится» - продолжать формировать умение соотносить собственное действие с действием участников игр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 advTm="3000">
    <p:strips dir="rd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bc8b00"/>
            </a:gs>
            <a:gs pos="100000">
              <a:srgbClr val="49a03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2"/>
          <p:cNvSpPr/>
          <p:nvPr/>
        </p:nvSpPr>
        <p:spPr>
          <a:xfrm>
            <a:off x="611280" y="260280"/>
            <a:ext cx="8207280" cy="60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ffff"/>
                </a:solidFill>
                <a:latin typeface="Arial"/>
              </a:rPr>
              <a:t>Индивидуальная программа речевого развития ребенка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ru-RU" sz="1500" spc="-1" strike="noStrike">
                <a:solidFill>
                  <a:srgbClr val="ffffff"/>
                </a:solidFill>
                <a:latin typeface="Arial"/>
              </a:rPr>
              <a:t>. Сведения о ребенке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Arial"/>
              </a:rPr>
              <a:t>Фамилия. Имя ребенка </a:t>
            </a:r>
            <a:r>
              <a:rPr b="1" i="1" lang="ru-RU" sz="1500" spc="-1" strike="noStrike">
                <a:solidFill>
                  <a:srgbClr val="ffffff"/>
                </a:solidFill>
                <a:latin typeface="Arial"/>
              </a:rPr>
              <a:t>Трушина К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Arial"/>
              </a:rPr>
              <a:t>Дата рождения  </a:t>
            </a:r>
            <a:r>
              <a:rPr b="1" i="1" lang="ru-RU" sz="1500" spc="-1" strike="noStrike">
                <a:solidFill>
                  <a:srgbClr val="ffffff"/>
                </a:solidFill>
                <a:latin typeface="Arial"/>
              </a:rPr>
              <a:t>28.05.2009 г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Arial"/>
              </a:rPr>
              <a:t>Группа, с которой ребенок посещает детский сад  </a:t>
            </a:r>
            <a:r>
              <a:rPr b="1" i="1" lang="ru-RU" sz="1500" spc="-1" strike="noStrike">
                <a:solidFill>
                  <a:srgbClr val="ffffff"/>
                </a:solidFill>
                <a:latin typeface="Arial"/>
              </a:rPr>
              <a:t>2 младшая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Arial"/>
              </a:rPr>
              <a:t>Поведение ребенка.                                                                             Малообщительна, в контакт вступает с 2-3 детьми группы, одна играть не любит, стремится к общению. Из-за неразборчивости в речи полноценного общения не происходит.                                                                        Предпочитает лепить, рисовать, играть в куклы.                                                   Реакция на замечания воспитателя спокойная, если что-то нужно, обращается к воспитателю с просьбой. Устойчивость внимания, интереса средняя. В тихий час засыпает не сразу, после 2-4 походов в туалет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Arial"/>
              </a:rPr>
              <a:t>Обследование специалистов поликлиники при поступлении в детский сад: </a:t>
            </a:r>
            <a:r>
              <a:rPr b="1" i="1" lang="ru-RU" sz="1500" spc="-1" strike="noStrike">
                <a:solidFill>
                  <a:srgbClr val="ffffff"/>
                </a:solidFill>
                <a:latin typeface="Arial"/>
              </a:rPr>
              <a:t>ППЦНС, ЗЗР, нарушение звукопроизношения</a:t>
            </a:r>
            <a:r>
              <a:rPr b="0" lang="ru-RU" sz="15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Arial"/>
              </a:rPr>
              <a:t>Занималась с логопедом:  </a:t>
            </a:r>
            <a:r>
              <a:rPr b="1" i="1" lang="ru-RU" sz="1500" spc="-1" strike="noStrike">
                <a:solidFill>
                  <a:srgbClr val="ffffff"/>
                </a:solidFill>
                <a:latin typeface="Arial"/>
              </a:rPr>
              <a:t>не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Arial"/>
              </a:rPr>
              <a:t>Обследование логопеда детского сада: межзубный сигматизм: Р=Л, Ж=З, Л*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Arial"/>
              </a:rPr>
              <a:t>Диагностика развития речи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1500" spc="-1" strike="noStrike">
                <a:solidFill>
                  <a:srgbClr val="ffffff"/>
                </a:solidFill>
                <a:latin typeface="Arial"/>
              </a:rPr>
              <a:t>2011-2012 годы – низкий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1500" spc="-1" strike="noStrike">
                <a:solidFill>
                  <a:srgbClr val="ffffff"/>
                </a:solidFill>
                <a:latin typeface="Arial"/>
              </a:rPr>
              <a:t>2012-2013 годы – ниже среднег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1500" spc="-1" strike="noStrike">
                <a:solidFill>
                  <a:srgbClr val="ffffff"/>
                </a:solidFill>
                <a:latin typeface="Arial"/>
              </a:rPr>
              <a:t>2013-2014 годы - средний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strips dir="rd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c8b00"/>
            </a:gs>
            <a:gs pos="100000">
              <a:srgbClr val="49a03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2"/>
          <p:cNvSpPr/>
          <p:nvPr/>
        </p:nvSpPr>
        <p:spPr>
          <a:xfrm>
            <a:off x="611280" y="765000"/>
            <a:ext cx="8207280" cy="313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Цель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: организовать эффективную систематическую работу по освоению норм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русского языка в области фонетик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Задачи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- совершенствование работы артикуляционного аппарат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- развитие мелкой моторик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- развитие диафрагмального и речевого дыхани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- развитие мимической мускулатуры, обучение ощущению своих эмоци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- коррекция дефектного звукопроизношения: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[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р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]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[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л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]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[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ж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]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[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з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]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strips dir="rd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2"/>
          <p:cNvSpPr/>
          <p:nvPr/>
        </p:nvSpPr>
        <p:spPr>
          <a:xfrm>
            <a:off x="468360" y="2492280"/>
            <a:ext cx="82072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66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ffff66"/>
                </a:solidFill>
                <a:latin typeface="Arial"/>
              </a:rPr>
              <a:t>Цикл мероприят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strips dir="rd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"/>
          <p:cNvSpPr/>
          <p:nvPr/>
        </p:nvSpPr>
        <p:spPr>
          <a:xfrm>
            <a:off x="395280" y="0"/>
            <a:ext cx="820728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66"/>
                </a:solidFill>
                <a:latin typeface="Arial"/>
              </a:rPr>
              <a:t>Комплекс коррекционно-профилактических упражнений (2 младшая группа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66"/>
                </a:solidFill>
                <a:latin typeface="Arial"/>
              </a:rPr>
              <a:t>2011 – 2012 учебный го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468360" y="692280"/>
          <a:ext cx="8229600" cy="6083280"/>
        </p:xfrm>
        <a:graphic>
          <a:graphicData uri="http://schemas.openxmlformats.org/drawingml/2006/table">
            <a:tbl>
              <a:tblPr/>
              <a:tblGrid>
                <a:gridCol w="1942920"/>
                <a:gridCol w="1297080"/>
                <a:gridCol w="1584360"/>
                <a:gridCol w="1871640"/>
                <a:gridCol w="1533600"/>
              </a:tblGrid>
              <a:tr h="1554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Артикуляцион-ные упражнения (упражнения проводятся последовате-льно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b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Пальчико-вая гимнасти-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b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Дыхатель-ные упражн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b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Психогимнастические упражн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b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Дидактические игр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bd">
                        <a:alpha val="50000"/>
                      </a:srgbClr>
                    </a:solidFill>
                  </a:tcPr>
                </a:tc>
              </a:tr>
              <a:tr h="454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1. Упражнения для челюсти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Бегемоти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Улыбается щено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Хомячо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Пароход гуди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Лягуш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Повтор 1-го упр-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2. Упражнения для губ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Улыбается щено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Дудоч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Бубли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Хобото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Лягушка-Хобото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b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Собач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Кошеч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Петушо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Куроч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Гус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Коз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Лошад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Лис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До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Воро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Замо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Ел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Птич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Улит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b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Бабочка лети!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Чья птичка дальше улетит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Пускание кораблик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Птицеферм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Чей пароход лучше гудит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Когда это бывает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Определи место игруш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Ныряльщи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b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Этюд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Осенние листья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Маму я не разбужу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Угощение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Жадный пе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Промочил ног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Крапив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Медвежонок боится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Щенок потерялся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Новая кукл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Фокус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Весенний снеговик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b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Угадай по звуку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Ящик ощущений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Угадай, кто сказал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Скажи, какой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Вьюг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Малыши спрятались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Почтальон принес открытк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Кто, что умеет делать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bd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p:transition spd="slow" advTm="3000">
    <p:strips dir="rd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2"/>
          <p:cNvSpPr/>
          <p:nvPr/>
        </p:nvSpPr>
        <p:spPr>
          <a:xfrm>
            <a:off x="395280" y="0"/>
            <a:ext cx="820728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66"/>
                </a:solidFill>
                <a:latin typeface="Arial"/>
              </a:rPr>
              <a:t>Комплекс коррекционно-профилактических упражнений (2 младшая группа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66"/>
                </a:solidFill>
                <a:latin typeface="Arial"/>
              </a:rPr>
              <a:t>2011 – 2012 учебный го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468360" y="692280"/>
          <a:ext cx="8229600" cy="5499000"/>
        </p:xfrm>
        <a:graphic>
          <a:graphicData uri="http://schemas.openxmlformats.org/drawingml/2006/table">
            <a:tbl>
              <a:tblPr/>
              <a:tblGrid>
                <a:gridCol w="1942920"/>
                <a:gridCol w="1297080"/>
                <a:gridCol w="1584360"/>
                <a:gridCol w="1871640"/>
                <a:gridCol w="1533600"/>
              </a:tblGrid>
              <a:tr h="1554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Артикуляцион-ные упражнения (упражнения проводятся последовате-льно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b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Пальчико-вая гимнасти-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b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Дыхатель-ные упражн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b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Психогимнастические упражн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b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Дидактические игр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bd">
                        <a:alpha val="50000"/>
                      </a:srgbClr>
                    </a:solidFill>
                  </a:tcPr>
                </a:tc>
              </a:tr>
              <a:tr h="395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3. Упражнения для языка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Чаш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Качел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Чистим зубки (верхние и нижние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Ореше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Блинчик (Лопатка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Котенок лакает молок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Иголоч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Чашеч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Барабанщи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b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Две собач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Заиграли мы на скрипк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Поиграем язычко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Дожди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b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Кто лучше надует игрушку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b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Крошка енот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Кот Васьк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Соленый чай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Новая девочк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Кто съел варенье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Кислое яблоко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Шалтай-болтай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b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bd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p:transition spd="slow" advTm="3000">
    <p:strips dir="rd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2"/>
          <p:cNvSpPr/>
          <p:nvPr/>
        </p:nvSpPr>
        <p:spPr>
          <a:xfrm>
            <a:off x="611280" y="404640"/>
            <a:ext cx="8136000" cy="52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идактические игр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Цель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: отрабатывать произношение звука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в тексте, в предложениях, в словах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бучать интонационной выразительнос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гра «Злой комар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гра «Угостим куклу Зину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гра «Кому что надо?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гра «Назови картинку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Цель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: отрабатывать правильное, длительно, громкое произношение звука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ледить за изменением интонации в речи детей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гра «Жук жужжит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гра «Жуки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гра «Пчелки собирают мед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гра «Мухи в паутине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гра «Медведь и пчелы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2"/>
          <p:cNvSpPr/>
          <p:nvPr/>
        </p:nvSpPr>
        <p:spPr>
          <a:xfrm>
            <a:off x="719280" y="620640"/>
            <a:ext cx="8424720" cy="50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Цель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организовать эффективную систематическую работу по освоению норм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русского языка в области фонетик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Задачи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:  - совершенствовать работу артикуляционного аппарат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- развивать мелкую моторику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- развивать диафрагмальное и речевое дыхание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- развивать мимическую мускулатуру, обучать ощущению своих эмоци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- корректировать дефектное звукопроизношение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а) закреплять правильное произношение гласных и согласных звуков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отрабатывать произношение свистящих, шипящих и сонорных (р,л) звуков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б) продолжать работу над дикцией: совершенствовать отчётливо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роизнесение слов и словосочетани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) развивать фонематический слух: учить различать на слух и называть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слова, начинающиеся на определенный звук, определять место звука в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слове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г) совершенствовать интонационную выразительность реч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strips dir="rd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2"/>
          <p:cNvSpPr/>
          <p:nvPr/>
        </p:nvSpPr>
        <p:spPr>
          <a:xfrm>
            <a:off x="468360" y="476280"/>
            <a:ext cx="813744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Цель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: отрабатывать правильное произношение звука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л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изолированно,  в слогах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предложениях; научить определять положение языка при произнесени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этого звук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гра «Самолет гудит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гра «Пароход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гра «Угадай, на какой балалайке играем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гра «Лошадки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гра «Пила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Цель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: отрабатывать правильное произношение звука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изолировано, в словах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учить определять правильное положение язы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гра «Тигр рычит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гра «Лошадки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гра «Угадай на какой трубе играем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гра «Буря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гра «Будильник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гра «Вороны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strips dir="rd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2"/>
          <p:cNvSpPr/>
          <p:nvPr/>
        </p:nvSpPr>
        <p:spPr>
          <a:xfrm>
            <a:off x="611280" y="189000"/>
            <a:ext cx="8353440" cy="57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Дидактические игры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«Определи первый звук в слове» (развивать умение выделять (длительно произносить) первый звук в слове)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«Цепочка слов» (формировать умение определять и интонационно выделять первый и последний звук в словах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Подбери слово к схеме (развивать умение соотносить слово с его схематическим изображением формировать умение на слух определять место расположения звука в слове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«Кто в домике живет?» (закреплять умение подбирать слова с определенным звуком)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«Кто быстрее соберет вещи» (развивать дифференцировать звуки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ш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«Собери букет» (развивать умение различать заданный звук в словах)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«Найди пару» (вырабатывать умение подбирать слова, отличающиеся друг от друга одним звуком, развивать фонематический слух)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«Построим пирамиду» (развивать умение определять количество звуков в словах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«Цветочный магазин» (формировать умение делить слова на слоги: закреплять в словарном запасе названия цветов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«Поезд» (формировать умение различать на слух твердые и мягкие согласные звуки, определять и изолированно произносить первый  звук в слове, называть слова с заданным звуком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strips dir="rd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2"/>
          <p:cNvSpPr/>
          <p:nvPr/>
        </p:nvSpPr>
        <p:spPr>
          <a:xfrm>
            <a:off x="611280" y="404640"/>
            <a:ext cx="8136000" cy="465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езультаты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 девочки повысился интерес к процессу обуче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на стала более четко, чисто, дифференцированно произносить звуки, в том числе проблемные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л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; различать на слух твердые и мягкие согласные звуки; выделять первый звук в слове, называть слова с заданным звуком, определять первый звук в слов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евочка стала более уверена в своих знаниях, научилась рассуждать, сравнивать. Обогатился словарный запас, повысился уровень коммуникативных способносте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евочка научилась отвечать на вопросы, составлять небольшие рассказы по картинке, вступать в диало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езультаты диагностик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1 - 2012 учебный год низк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2 – 2013 учебный год ниже среднег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3 – 2014 учебный год средн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strips dir="rd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2"/>
          <p:cNvSpPr/>
          <p:nvPr/>
        </p:nvSpPr>
        <p:spPr>
          <a:xfrm>
            <a:off x="468360" y="2492280"/>
            <a:ext cx="820728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66"/>
                </a:solidFill>
                <a:latin typeface="Arial"/>
              </a:rPr>
              <a:t>Комплексы методов для детей дошкольного возраста (от 3 до 6 лет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strips dir="rd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2"/>
          <p:cNvSpPr/>
          <p:nvPr/>
        </p:nvSpPr>
        <p:spPr>
          <a:xfrm>
            <a:off x="395280" y="0"/>
            <a:ext cx="820728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66"/>
                </a:solidFill>
                <a:latin typeface="Arial"/>
              </a:rPr>
              <a:t>Комплекс коррекционно-профилактических упражнени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66"/>
                </a:solidFill>
                <a:latin typeface="Arial"/>
              </a:rPr>
              <a:t>для 2 младшей групп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468360" y="692280"/>
          <a:ext cx="8229600" cy="6083280"/>
        </p:xfrm>
        <a:graphic>
          <a:graphicData uri="http://schemas.openxmlformats.org/drawingml/2006/table">
            <a:tbl>
              <a:tblPr/>
              <a:tblGrid>
                <a:gridCol w="1942920"/>
                <a:gridCol w="1297080"/>
                <a:gridCol w="1584360"/>
                <a:gridCol w="1871640"/>
                <a:gridCol w="1533600"/>
              </a:tblGrid>
              <a:tr h="1554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Артикуляцион-ные упражнения (упражнения проводятся последовате-льно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b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Пальчико-вая гимнасти-ка (2 упр.в месяц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b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Дыхатель-ные упражнения (1 упр.в месяц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b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Психогимнастические упражнения (2 упр.в месяц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b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Дидактические игры (1 упр.в месяц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bd">
                        <a:alpha val="50000"/>
                      </a:srgbClr>
                    </a:solidFill>
                  </a:tcPr>
                </a:tc>
              </a:tr>
              <a:tr h="454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1. Упражнения для челюсти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Бегемоти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Улыбается щено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Хомячо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Пароход гуди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Лягуш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Повтор 1-го упр-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2. Упражнения для губ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Улыбается щено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Дудоч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Бубли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Хобото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Лягушка-Хобото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b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Собач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Кошеч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Петушо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Куроч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Гус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Коз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Лошад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Лис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До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Воро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Замо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Ел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Птич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Улит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b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Бабочка лети!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Чья птичка дальше улетит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Пускание кораблик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Птицеферм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Чей пароход лучше гудит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Когда это бывает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Определи место игруш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Ныряльщи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b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Этюд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Осенние листья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Маму я не разбужу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Угощение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Жадный пе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Промочил ног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Крапив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Медвежонок боится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Щенок потерялся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Новая кукл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Фокус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Весенний снеговик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b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Угадай по звуку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Ящик ощущений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Угадай, кто сказал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Скажи, какой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Вьюг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Малыши спрятались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Почтальон принес открытк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Кто, что умеет делать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bd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p:transition spd="slow" advTm="3000">
    <p:strips dir="rd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2"/>
          <p:cNvSpPr/>
          <p:nvPr/>
        </p:nvSpPr>
        <p:spPr>
          <a:xfrm>
            <a:off x="395280" y="0"/>
            <a:ext cx="820728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66"/>
                </a:solidFill>
                <a:latin typeface="Arial"/>
              </a:rPr>
              <a:t>Комплекс коррекционно-профилактических упражнени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66"/>
                </a:solidFill>
                <a:latin typeface="Arial"/>
              </a:rPr>
              <a:t>для 2 младшей групп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468360" y="692280"/>
          <a:ext cx="8229600" cy="5499000"/>
        </p:xfrm>
        <a:graphic>
          <a:graphicData uri="http://schemas.openxmlformats.org/drawingml/2006/table">
            <a:tbl>
              <a:tblPr/>
              <a:tblGrid>
                <a:gridCol w="1942920"/>
                <a:gridCol w="1297080"/>
                <a:gridCol w="1584360"/>
                <a:gridCol w="1871640"/>
                <a:gridCol w="1533600"/>
              </a:tblGrid>
              <a:tr h="1554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Артикуляцион-ные упражнения (упражнения проводятся последовате-льно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b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Пальчико-вая гимнасти-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b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Дыхатель-ные упражн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b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Психогимнастические упражн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b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Дидактические игр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bd">
                        <a:alpha val="50000"/>
                      </a:srgbClr>
                    </a:solidFill>
                  </a:tcPr>
                </a:tc>
              </a:tr>
              <a:tr h="395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3. Упражнения для языка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Часи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Качел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Чистим зубки (верхние и нижние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Ореше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Блинчик (Лопатка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Котенок лакает молок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Иголоч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Чашеч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Барабанщи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b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Две собач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Заиграли мы на скрипк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Поиграем язычко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Дожди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b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Кто лучше надует игрушку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b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Крошка енот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Кот Васьк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Соленый чай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Новая девочк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Кто съел варенье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Кислое яблоко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Удод и ёж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b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bd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p:transition spd="slow" advTm="3000">
    <p:strips dir="rd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2"/>
          <p:cNvSpPr/>
          <p:nvPr/>
        </p:nvSpPr>
        <p:spPr>
          <a:xfrm>
            <a:off x="395280" y="0"/>
            <a:ext cx="820728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66"/>
                </a:solidFill>
                <a:latin typeface="Arial"/>
              </a:rPr>
              <a:t>Комплекс коррекционно-профилактических упражнени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66"/>
                </a:solidFill>
                <a:latin typeface="Arial"/>
              </a:rPr>
              <a:t>для средней групп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468360" y="692280"/>
          <a:ext cx="8229600" cy="6181560"/>
        </p:xfrm>
        <a:graphic>
          <a:graphicData uri="http://schemas.openxmlformats.org/drawingml/2006/table">
            <a:tbl>
              <a:tblPr/>
              <a:tblGrid>
                <a:gridCol w="1942920"/>
                <a:gridCol w="1297080"/>
                <a:gridCol w="1584360"/>
                <a:gridCol w="1871640"/>
                <a:gridCol w="1533600"/>
              </a:tblGrid>
              <a:tr h="1554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Артикуляцион-ные упражнения (упражнения проводятся последовате-льно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b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Пальчико-вая гимнасти-ка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b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Дыхатель-ные упражн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b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Психогимнастические упражн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b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Дидактические игры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bd">
                        <a:alpha val="50000"/>
                      </a:srgbClr>
                    </a:solidFill>
                  </a:tcPr>
                </a:tc>
              </a:tr>
              <a:tr h="463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1. Упражнения для челюсти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Окошк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Заборчи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Трубоч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Толстячки-Худышки (надувание и втягивание щек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Заборчик-трубоч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Окошк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2. Упражнения для языка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Любопытный язычо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b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Самомассаж кистей и пальцев ру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Липкие пальчи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Уле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Трудолюбивые пальчи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Доми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Капус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Пять пальце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Замо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Повстречалис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b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Послушаем свое дыха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Подыши одной ноздрей (правой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Насо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Дышим тихо, спокойно и плавн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Ежи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Планета Сат-Нам отзовись!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Подыши одной ноздрей (левой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b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Этюд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Лицо клоу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Дед Мороз (в сентябре!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Пушистый котено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Мы в цирк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Какое у меня настро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Лисичка подслушива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Любимая игруш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Мед медведь в лесу наше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Соба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b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Определим первый звук в слове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Чье? Чеё? Моё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Чего не стало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Сочиняем сказку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Четвертый лишний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Цепочка слов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Похвалялись звер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Поезд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Угадай-к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bd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p:transition spd="slow" advTm="3000">
    <p:strips dir="rd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2"/>
          <p:cNvSpPr/>
          <p:nvPr/>
        </p:nvSpPr>
        <p:spPr>
          <a:xfrm>
            <a:off x="395280" y="0"/>
            <a:ext cx="820728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66"/>
                </a:solidFill>
                <a:latin typeface="Arial"/>
              </a:rPr>
              <a:t>Комплекс коррекционно-профилактических упражнений для средней групп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468360" y="476280"/>
          <a:ext cx="8229600" cy="6229440"/>
        </p:xfrm>
        <a:graphic>
          <a:graphicData uri="http://schemas.openxmlformats.org/drawingml/2006/table">
            <a:tbl>
              <a:tblPr/>
              <a:tblGrid>
                <a:gridCol w="1942920"/>
                <a:gridCol w="1297080"/>
                <a:gridCol w="1584360"/>
                <a:gridCol w="1871640"/>
                <a:gridCol w="1533600"/>
              </a:tblGrid>
              <a:tr h="1554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Артикуляцион-ные упражнения (упражнения проводятся последовате-льно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b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Пальчико-вая гимнасти-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b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Дыхатель-ные упражн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b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Психогимнастические упражн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b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Дидактические игр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bd">
                        <a:alpha val="50000"/>
                      </a:srgbClr>
                    </a:solidFill>
                  </a:tcPr>
                </a:tc>
              </a:tr>
              <a:tr h="468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Маля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Загони мяч в ворота (Орешек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Лопатка (Блинчик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Дуем на лопатк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Пару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Грибоче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Накажем непослушный язычо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Чашеч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Гор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Ветерок дует с гор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Чашеч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Молото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b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Раз, два, три, четыре, пя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Лодоч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Мизинчи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Десять птичек – стай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В гос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Гноми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Четыре стих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Стульчи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Крокоди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Колечко (рмпс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b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Губы «трубкой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Дышим тихо, спокойно и плавн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b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Заячья избуш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Поссорились-помирилис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Кошкин до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Маша из сказ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Три медвед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Гуси-лебед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Два жадных медвежон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Шалтай-Болта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Попал в страну чуде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b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bd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p:transition spd="slow" advTm="3000">
    <p:strips dir="rd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2"/>
          <p:cNvSpPr/>
          <p:nvPr/>
        </p:nvSpPr>
        <p:spPr>
          <a:xfrm>
            <a:off x="395280" y="0"/>
            <a:ext cx="820728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66"/>
                </a:solidFill>
                <a:latin typeface="Arial"/>
              </a:rPr>
              <a:t>Комплекс коррекционно-профилактических упражнений для старшей групп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468360" y="476280"/>
          <a:ext cx="8229600" cy="6278400"/>
        </p:xfrm>
        <a:graphic>
          <a:graphicData uri="http://schemas.openxmlformats.org/drawingml/2006/table">
            <a:tbl>
              <a:tblPr/>
              <a:tblGrid>
                <a:gridCol w="1942920"/>
                <a:gridCol w="1440000"/>
                <a:gridCol w="1441440"/>
                <a:gridCol w="1871640"/>
                <a:gridCol w="1533600"/>
              </a:tblGrid>
              <a:tr h="1554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Артикуляцион-ные упражнения (упражнения проводятся последовате-льно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b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Пальчико-вая гимнасти-ка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b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Дыхатель-ные упражн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b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Психогимнастические упражн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b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Дидактические игры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bd">
                        <a:alpha val="50000"/>
                      </a:srgbClr>
                    </a:solidFill>
                  </a:tcPr>
                </a:tc>
              </a:tr>
              <a:tr h="473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1. Упражнения для челюсти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Окошечко в домике открыт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Улыбочка-дудоч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Любопытный язычо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Лягуш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Зайчи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Окошечко в домике открыт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2. Упражнения для языка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Конфет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Иголоч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качел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b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Пальчики-солдати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Фонарик-шари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Апельси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Пчела (с карандашом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Флажок (со счет.палочками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Человеч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Осьминож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Кулак-ребро-ладонь(р.м.о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b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Со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Певе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Жу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Самоле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Хомяч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Певе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Воздушный ша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Уш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Пузыр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Воздушный шар поднимается ввер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Пускаем мыльные пузыр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b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Считалочка-бармоталоч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Колыбельн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Мельниц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Колеч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Связующая ни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Художни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Шалтай-Болта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Фотогра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Живые зву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b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Что, кому нужн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Кто лучше слушает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Что предмет может рассказать о себе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Скажи по-другому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У кого, кто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Шкатулка со сказкам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Кто, как передвигается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bd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p:transition spd="slow" advTm="3000">
    <p:strips dir="rd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2"/>
          <p:cNvSpPr/>
          <p:nvPr/>
        </p:nvSpPr>
        <p:spPr>
          <a:xfrm>
            <a:off x="395280" y="0"/>
            <a:ext cx="820728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66"/>
                </a:solidFill>
                <a:latin typeface="Arial"/>
              </a:rPr>
              <a:t>Комплекс коррекционно-профилактических упражнений для старшей групп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468360" y="476280"/>
          <a:ext cx="8229600" cy="6229440"/>
        </p:xfrm>
        <a:graphic>
          <a:graphicData uri="http://schemas.openxmlformats.org/drawingml/2006/table">
            <a:tbl>
              <a:tblPr/>
              <a:tblGrid>
                <a:gridCol w="1942920"/>
                <a:gridCol w="1656000"/>
                <a:gridCol w="1368360"/>
                <a:gridCol w="1873080"/>
                <a:gridCol w="1389240"/>
              </a:tblGrid>
              <a:tr h="1554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Артикуляцион-ные упражнения (упражнения проводятся последовате-льно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b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Пальчиковая гимнасти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b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Дыхатель-ные упражн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b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Психогимнастические упражн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b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Дидактические игр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bd">
                        <a:alpha val="50000"/>
                      </a:srgbClr>
                    </a:solidFill>
                  </a:tcPr>
                </a:tc>
              </a:tr>
              <a:tr h="468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Поехали на лошадк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Язычок здоровается с подбородко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Парашю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Вкусный ме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Гармош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Покусаем язычо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Молото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Комари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Трубоч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b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Каждую бусинку на свою нитк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Пальчики поздоровалис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Раскрась обла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Цепоч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Повстречал ежонка еж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Бисерограф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Разве это пальчи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Жу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Игра с горошко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стрекоз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b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Горячая монет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Вете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Язык «трубкой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Радуга, обними мен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b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b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Кто, как передвигается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Что из чего сделано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bd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p:transition spd="slow" advTm="3000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2"/>
          <p:cNvSpPr/>
          <p:nvPr/>
        </p:nvSpPr>
        <p:spPr>
          <a:xfrm>
            <a:off x="719280" y="620640"/>
            <a:ext cx="8424720" cy="50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Этапы реализаци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.  Организационны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Диагностика уровня развития речи детей, изучение личностных, речевых (звукопроизношение) и психологических особенностей дете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Изучение и обобщение данных, полученных в ходе изучения детей, обработка результатов диагностик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Отбор методов, пополнение картотеки упражнени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I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.  Основно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ерспективное планирование, календарно тематическое планирование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Разработка индивидуальных карт работы с детьми, имеющими отклонения в речевом развит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II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.  Заключительны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овторная диагностика. Сравнительный анализ. Оценка результатов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Коррективы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ерспективы на будуще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strips dir="rd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2"/>
          <p:cNvSpPr/>
          <p:nvPr/>
        </p:nvSpPr>
        <p:spPr>
          <a:xfrm>
            <a:off x="395280" y="260280"/>
            <a:ext cx="835200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оррекционно-профилактическая рабо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539640" y="692280"/>
          <a:ext cx="8353440" cy="5992560"/>
        </p:xfrm>
        <a:graphic>
          <a:graphicData uri="http://schemas.openxmlformats.org/drawingml/2006/table">
            <a:tbl>
              <a:tblPr/>
              <a:tblGrid>
                <a:gridCol w="1944720"/>
                <a:gridCol w="3240000"/>
                <a:gridCol w="316872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тод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ремя проведения, возраст дете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обенности методики провед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альчиковая гимнасти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 младшего возраста индивидуально, с подгруппой и всей группой ежедневно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комендуется всем детям, особенно с речевыми проблемами. Проводится в любое удобное время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ыхательная гимнасти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разных формах физкультурно-оздоровительной работы, начиная с младшего возраст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ветривание помещения и обязательная гигиена носа перед проведением процедур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ловесная дидактическая игр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 младшего возраста индивидуально и с подгруппой детей во время НОД и в режиме дня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комендуется всем детям для обучения, развития, совершенствования, закрепления знаний, умения и навыков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ртикуляционные упражн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к часть занятий по введению в грамоту, начиная со 2 младшей группы. Продолжительность – 5 минут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ель – фонематическая грамотная речь без движений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сихогимнастические упражн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дин раз в неделю. Старший дошкольный возраст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 методике Е.А.Алябьевой, М.И.Чистяковой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 advTm="3000">
    <p:strips dir="rd"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afbf39"/>
            </a:gs>
            <a:gs pos="100000">
              <a:srgbClr val="49a03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2"/>
          <p:cNvSpPr/>
          <p:nvPr/>
        </p:nvSpPr>
        <p:spPr>
          <a:xfrm>
            <a:off x="900000" y="549360"/>
            <a:ext cx="417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пособствуют выработке движений речевых органов, необходимых для правильного произношения звук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3"/>
          <p:cNvSpPr/>
          <p:nvPr/>
        </p:nvSpPr>
        <p:spPr>
          <a:xfrm>
            <a:off x="4427640" y="2492280"/>
            <a:ext cx="4537080" cy="161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пособствуют активизации, обогащению словаря, совершенствуют, закрепляют все стороны речи: звуковую, лексическую, грамматическую, связную; развивает мышление, внимание, памят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4"/>
          <p:cNvSpPr/>
          <p:nvPr/>
        </p:nvSpPr>
        <p:spPr>
          <a:xfrm>
            <a:off x="900000" y="5013360"/>
            <a:ext cx="38880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Является физиологической основой речи. Способствуют выработке правильного вдоха и выдох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5" descr="2"/>
          <p:cNvPicPr/>
          <p:nvPr/>
        </p:nvPicPr>
        <p:blipFill>
          <a:blip r:embed="rId1"/>
          <a:stretch/>
        </p:blipFill>
        <p:spPr>
          <a:xfrm>
            <a:off x="5003640" y="-15840"/>
            <a:ext cx="3456000" cy="246060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6" descr="3"/>
          <p:cNvPicPr/>
          <p:nvPr/>
        </p:nvPicPr>
        <p:blipFill>
          <a:blip r:embed="rId2"/>
          <a:stretch/>
        </p:blipFill>
        <p:spPr>
          <a:xfrm>
            <a:off x="684360" y="2133720"/>
            <a:ext cx="3527280" cy="26463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7" descr="4"/>
          <p:cNvPicPr/>
          <p:nvPr/>
        </p:nvPicPr>
        <p:blipFill>
          <a:blip r:embed="rId3"/>
          <a:stretch/>
        </p:blipFill>
        <p:spPr>
          <a:xfrm>
            <a:off x="4643280" y="4264200"/>
            <a:ext cx="3673800" cy="25938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strips dir="rd"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afbf39"/>
            </a:gs>
            <a:gs pos="100000">
              <a:srgbClr val="49a03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 Box 2"/>
          <p:cNvSpPr/>
          <p:nvPr/>
        </p:nvSpPr>
        <p:spPr>
          <a:xfrm>
            <a:off x="900000" y="549360"/>
            <a:ext cx="403236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пособствуют развитию мелкой моторики, учит вслушиваться и понимать смысл речи, позволяет повысить речевую активность ребенка, сделать речь более четкой, ритмичной, ярко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3"/>
          <p:cNvSpPr/>
          <p:nvPr/>
        </p:nvSpPr>
        <p:spPr>
          <a:xfrm>
            <a:off x="1332000" y="3357720"/>
            <a:ext cx="61196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пособствуют развитию мимической мускулатуры, артистичности, ощущению своих эмоци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8" descr="5"/>
          <p:cNvPicPr/>
          <p:nvPr/>
        </p:nvPicPr>
        <p:blipFill>
          <a:blip r:embed="rId1"/>
          <a:stretch/>
        </p:blipFill>
        <p:spPr>
          <a:xfrm>
            <a:off x="4859280" y="0"/>
            <a:ext cx="3889440" cy="29178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9" descr="6"/>
          <p:cNvPicPr/>
          <p:nvPr/>
        </p:nvPicPr>
        <p:blipFill>
          <a:blip r:embed="rId2"/>
          <a:stretch/>
        </p:blipFill>
        <p:spPr>
          <a:xfrm>
            <a:off x="684360" y="4221000"/>
            <a:ext cx="3220920" cy="241632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0" descr="6а"/>
          <p:cNvPicPr/>
          <p:nvPr/>
        </p:nvPicPr>
        <p:blipFill>
          <a:blip r:embed="rId3"/>
          <a:stretch/>
        </p:blipFill>
        <p:spPr>
          <a:xfrm>
            <a:off x="4788000" y="4221000"/>
            <a:ext cx="3168720" cy="237672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strips dir="rd"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afbf39"/>
            </a:gs>
            <a:gs pos="100000">
              <a:srgbClr val="49a03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 Box 2"/>
          <p:cNvSpPr/>
          <p:nvPr/>
        </p:nvSpPr>
        <p:spPr>
          <a:xfrm>
            <a:off x="2700360" y="0"/>
            <a:ext cx="403236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ормы рабо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3"/>
          <p:cNvSpPr/>
          <p:nvPr/>
        </p:nvSpPr>
        <p:spPr>
          <a:xfrm>
            <a:off x="1042920" y="692280"/>
            <a:ext cx="2160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Фронталь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7"/>
          <p:cNvSpPr/>
          <p:nvPr/>
        </p:nvSpPr>
        <p:spPr>
          <a:xfrm>
            <a:off x="5651640" y="765000"/>
            <a:ext cx="2160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Группов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8"/>
          <p:cNvSpPr/>
          <p:nvPr/>
        </p:nvSpPr>
        <p:spPr>
          <a:xfrm>
            <a:off x="755640" y="4941720"/>
            <a:ext cx="2521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Индивидуаль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9" descr="7"/>
          <p:cNvPicPr/>
          <p:nvPr/>
        </p:nvPicPr>
        <p:blipFill>
          <a:blip r:embed="rId1"/>
          <a:stretch/>
        </p:blipFill>
        <p:spPr>
          <a:xfrm>
            <a:off x="395280" y="1195560"/>
            <a:ext cx="3456000" cy="259380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10" descr="8"/>
          <p:cNvPicPr/>
          <p:nvPr/>
        </p:nvPicPr>
        <p:blipFill>
          <a:blip r:embed="rId2"/>
          <a:stretch/>
        </p:blipFill>
        <p:spPr>
          <a:xfrm>
            <a:off x="5076720" y="1251000"/>
            <a:ext cx="3456000" cy="259092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11" descr="9"/>
          <p:cNvPicPr/>
          <p:nvPr/>
        </p:nvPicPr>
        <p:blipFill>
          <a:blip r:embed="rId3"/>
          <a:stretch/>
        </p:blipFill>
        <p:spPr>
          <a:xfrm>
            <a:off x="3276720" y="4211640"/>
            <a:ext cx="3528720" cy="264636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strips dir="rd"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b812f"/>
            </a:gs>
            <a:gs pos="50000">
              <a:srgbClr val="f2f9ad"/>
            </a:gs>
            <a:gs pos="100000">
              <a:srgbClr val="3b812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7"/>
          <p:cNvSpPr/>
          <p:nvPr/>
        </p:nvSpPr>
        <p:spPr>
          <a:xfrm>
            <a:off x="539640" y="765000"/>
            <a:ext cx="8137800" cy="465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a50021"/>
                </a:solidFill>
                <a:latin typeface="Arial"/>
              </a:rPr>
              <a:t>Результативность</a:t>
            </a:r>
            <a:r>
              <a:rPr b="0" lang="ru-RU" sz="1600" spc="-1" strike="noStrike">
                <a:solidFill>
                  <a:srgbClr val="a50021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a50021"/>
                </a:solidFill>
                <a:latin typeface="Arial"/>
              </a:rPr>
              <a:t>2011-2012 учебный год – В.у – 3, С.у – 9, Н.у – 8 (20 детей)  в – 15, с – 45, н – 4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a50021"/>
                </a:solidFill>
                <a:latin typeface="Arial"/>
              </a:rPr>
              <a:t>2012-2013 учебный год – В.у – 4, С.у – 13, Н.у – 3 (20 детей)  в – 20, с – 65, н – 1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a50021"/>
                </a:solidFill>
                <a:latin typeface="Arial"/>
              </a:rPr>
              <a:t>2013-2014 учебный год – В.у – 6, С.у – 14, Н.у – 0 (20 детей)  в – 30, с – 70, н –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a50021"/>
                </a:solidFill>
                <a:latin typeface="Arial"/>
              </a:rPr>
              <a:t>У детей повысился интерес к процессу обуче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a50021"/>
                </a:solidFill>
                <a:latin typeface="Arial"/>
              </a:rPr>
              <a:t>Речь детей стала более четкой, правильной, выразительно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a50021"/>
                </a:solidFill>
                <a:latin typeface="Arial"/>
              </a:rPr>
              <a:t>Улучшилось качество произношения гласных и согласных звуков, а также свистящих, шипящих и сонорных (р.л.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a50021"/>
                </a:solidFill>
                <a:latin typeface="Arial"/>
              </a:rPr>
              <a:t>Слова и словосочетания стали звучать отчетливе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a50021"/>
                </a:solidFill>
                <a:latin typeface="Arial"/>
              </a:rPr>
              <a:t>Обогатился словарный запас, ребята научились различать на слух и называть слова, начинающиеся на определенный звук, определять место звука в слов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a50021"/>
                </a:solidFill>
                <a:latin typeface="Arial"/>
              </a:rPr>
              <a:t>Детям стало проще отвечать на вопросы, составлять небольшие рассказы по картинке, вступать в диало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strips dir="rd"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b812f"/>
            </a:gs>
            <a:gs pos="50000">
              <a:srgbClr val="f2f9ad"/>
            </a:gs>
            <a:gs pos="100000">
              <a:srgbClr val="3b812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2"/>
          <p:cNvSpPr/>
          <p:nvPr/>
        </p:nvSpPr>
        <p:spPr>
          <a:xfrm>
            <a:off x="539640" y="765000"/>
            <a:ext cx="813780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a50021"/>
                </a:solidFill>
                <a:latin typeface="Arial"/>
              </a:rPr>
              <a:t>Перспективы на будущее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a50021"/>
                </a:solidFill>
                <a:latin typeface="Arial"/>
              </a:rPr>
              <a:t>Планирую продолжать работу по данной теме с учетом недостатков своей работы по результатам самоанализ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a50021"/>
                </a:solidFill>
                <a:latin typeface="Arial"/>
              </a:rPr>
              <a:t>Хочу улучшить качество своей работы путем изменения некоторых методов и приемов, пополнению картотеки коррекционно-профилактических упражнений, изучением современных методов коррекции и профилактики звуковой стороны речи дошкольник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a50021"/>
                </a:solidFill>
                <a:latin typeface="Arial"/>
              </a:rPr>
              <a:t>Целью моего дальнейшего профессионального развития является повышение уровня квалификации, самообразование, пополнения предметно-развивающей среды группы для речевого развития детей с учетом требований ФГОС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strips dir="rd"/>
  </p:transition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b812f"/>
            </a:gs>
            <a:gs pos="50000">
              <a:srgbClr val="f2f9ad"/>
            </a:gs>
            <a:gs pos="100000">
              <a:srgbClr val="3b812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ext Box 2"/>
          <p:cNvSpPr/>
          <p:nvPr/>
        </p:nvSpPr>
        <p:spPr>
          <a:xfrm>
            <a:off x="611280" y="1413000"/>
            <a:ext cx="8137440" cy="31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3300"/>
                </a:solidFill>
                <a:latin typeface="Arial"/>
              </a:rPr>
              <a:t>СПАСИБО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3300"/>
                </a:solidFill>
                <a:latin typeface="Arial"/>
              </a:rPr>
              <a:t>ЗА ВНИМАНИЕ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3"/>
          <p:cNvSpPr/>
          <p:nvPr/>
        </p:nvSpPr>
        <p:spPr>
          <a:xfrm>
            <a:off x="468360" y="549360"/>
            <a:ext cx="820728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66"/>
                </a:solidFill>
                <a:latin typeface="Arial"/>
              </a:rPr>
              <a:t>   </a:t>
            </a:r>
            <a:r>
              <a:rPr b="0" lang="ru-RU" sz="1600" spc="-1" strike="noStrike">
                <a:solidFill>
                  <a:srgbClr val="ffff66"/>
                </a:solidFill>
                <a:latin typeface="Arial"/>
              </a:rPr>
              <a:t>Речь – самый простой и самый сложный способ самоутверждения. Пользоваться ею – серьезная наука и немалое искусство. Одной из наиболее важных проблем воспитания является развитие речи детей. Правильная, хорошо сформированная речь – непременное условие успешности ребенк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66"/>
                </a:solidFill>
                <a:latin typeface="Arial"/>
              </a:rPr>
              <a:t>   </a:t>
            </a:r>
            <a:r>
              <a:rPr b="0" lang="ru-RU" sz="1600" spc="-1" strike="noStrike">
                <a:solidFill>
                  <a:srgbClr val="ffff66"/>
                </a:solidFill>
                <a:latin typeface="Arial"/>
              </a:rPr>
              <a:t>Хорошая речь – важнейшее условие всестороннего полноценного развития детей. Чем богаче и правильнее речь ребенка, тем легче ему высказывать свои мысли тем шире его возможности в познании окружающей действительности, содержательнее и полноценнее отношения со сверстниками и взрослыми, тем активнее осуществляется его психическое развити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66"/>
                </a:solidFill>
                <a:latin typeface="Arial"/>
              </a:rPr>
              <a:t>   </a:t>
            </a:r>
            <a:r>
              <a:rPr b="0" lang="ru-RU" sz="1600" spc="-1" strike="noStrike">
                <a:solidFill>
                  <a:srgbClr val="ffff66"/>
                </a:solidFill>
                <a:latin typeface="Arial"/>
              </a:rPr>
              <a:t>Ведь если у ребенка есть какие-то нарушения в речи могут возникнуть проблемы в общении с детьми, со взрослыми. Не умея выразить свою мысль словами, некоторые ребята замыкаются в себе, другие злятся, проявляют агрессию по отношению к сверстникам и взрослы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66"/>
                </a:solidFill>
                <a:latin typeface="Arial"/>
              </a:rPr>
              <a:t>   </a:t>
            </a:r>
            <a:r>
              <a:rPr b="0" lang="ru-RU" sz="1600" spc="-1" strike="noStrike">
                <a:solidFill>
                  <a:srgbClr val="ffff66"/>
                </a:solidFill>
                <a:latin typeface="Arial"/>
              </a:rPr>
              <a:t>Поэтому так важно заботиться о своевременном формирование речи детей, о ее чистоте и правильности, предупреждая и исправляя различные нарушения, которыми считаются любые отклонения от общепринятых норм родного язык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2"/>
          <p:cNvSpPr/>
          <p:nvPr/>
        </p:nvSpPr>
        <p:spPr>
          <a:xfrm>
            <a:off x="468360" y="549360"/>
            <a:ext cx="8136000" cy="465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66"/>
                </a:solidFill>
                <a:latin typeface="Arial"/>
              </a:rPr>
              <a:t>   </a:t>
            </a:r>
            <a:r>
              <a:rPr b="0" lang="ru-RU" sz="1600" spc="-1" strike="noStrike">
                <a:solidFill>
                  <a:srgbClr val="ffff66"/>
                </a:solidFill>
                <a:latin typeface="Arial"/>
              </a:rPr>
              <a:t>Выделяются основные задачи педагогической работы по развитию, каждой из которых соответствует определенный комплекс частных образовательных задач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66"/>
                </a:solidFill>
                <a:latin typeface="Arial"/>
              </a:rPr>
              <a:t>   </a:t>
            </a:r>
            <a:r>
              <a:rPr b="0" lang="ru-RU" sz="1600" spc="-1" strike="noStrike">
                <a:solidFill>
                  <a:srgbClr val="ffff66"/>
                </a:solidFill>
                <a:latin typeface="Arial"/>
              </a:rPr>
              <a:t>К числу первых принадлежат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66"/>
                </a:solidFill>
                <a:latin typeface="Arial"/>
              </a:rPr>
              <a:t>Развитие связной реч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66"/>
                </a:solidFill>
                <a:latin typeface="Arial"/>
              </a:rPr>
              <a:t>Развитие лексической стороны реч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66"/>
                </a:solidFill>
                <a:latin typeface="Arial"/>
              </a:rPr>
              <a:t>Формирование грамматического строя реч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66"/>
                </a:solidFill>
                <a:latin typeface="Arial"/>
              </a:rPr>
              <a:t>Развитие звуковой стороны реч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66"/>
                </a:solidFill>
                <a:latin typeface="Arial"/>
              </a:rPr>
              <a:t>Развитие образной реч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66"/>
                </a:solidFill>
                <a:latin typeface="Arial"/>
              </a:rPr>
              <a:t>   </a:t>
            </a:r>
            <a:r>
              <a:rPr b="0" lang="ru-RU" sz="1600" spc="-1" strike="noStrike">
                <a:solidFill>
                  <a:srgbClr val="ffff66"/>
                </a:solidFill>
                <a:latin typeface="Arial"/>
              </a:rPr>
              <a:t>Как организм ребенка представляет собой единое целое, так и задачи развития речи связаны между собой и имеют влияние одна на другую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66"/>
                </a:solidFill>
                <a:latin typeface="Arial"/>
              </a:rPr>
              <a:t>   </a:t>
            </a:r>
            <a:r>
              <a:rPr b="0" lang="ru-RU" sz="1600" spc="-1" strike="noStrike">
                <a:solidFill>
                  <a:srgbClr val="ffff66"/>
                </a:solidFill>
                <a:latin typeface="Arial"/>
              </a:rPr>
              <a:t>Поэтому работая над одной из задач мы невольно затрагиваем и други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66"/>
                </a:solidFill>
                <a:latin typeface="Arial"/>
              </a:rPr>
              <a:t>   </a:t>
            </a:r>
            <a:r>
              <a:rPr b="0" lang="ru-RU" sz="1600" spc="-1" strike="noStrike">
                <a:solidFill>
                  <a:srgbClr val="ffff66"/>
                </a:solidFill>
                <a:latin typeface="Arial"/>
              </a:rPr>
              <a:t>Но в этой взаимосвязи можно выделить ведущую линию речи детей определенного возраст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05T03:58:52Z</dcterms:created>
  <dc:creator>Admin</dc:creator>
  <dc:description/>
  <dc:language>en-US</dc:language>
  <cp:lastModifiedBy>PL-SAD</cp:lastModifiedBy>
  <dcterms:modified xsi:type="dcterms:W3CDTF">2014-12-08T08:25:21Z</dcterms:modified>
  <cp:revision>35</cp:revision>
  <dc:subject/>
  <dc:title>Слайд 1</dc:title>
</cp:coreProperties>
</file>